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6060-5C54-4E00-BDAA-E489B59C1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2A6-F157-49F4-B41E-7D1273D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AA6-BF11-45BC-AD69-471B6F7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C90-C3A7-4CE9-8018-1E38568F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153-9AB7-421E-AB5A-065D109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DB8-1C26-4108-AC72-CA77688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417-FC34-41FB-9523-643FB544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1B6-E158-4BA6-852C-962BE911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2E1-8B1D-496B-B207-D62DDFFC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F9D-2C0C-49F0-AEE7-8221AE93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0F8-F5FB-4B0E-B2B6-28D84D99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161-93F7-428B-93E2-36CD93A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0315-0F66-4E84-B180-744CCEAADF4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Toshiba\Pictures\197_exam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/>
          <p:cNvSpPr/>
          <p:nvPr/>
        </p:nvSpPr>
        <p:spPr>
          <a:xfrm>
            <a:off x="870840" y="1989000"/>
            <a:ext cx="753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10253f"/>
                </a:solidFill>
                <a:latin typeface="Calibri"/>
              </a:rPr>
              <a:t> إثبات تخمر السكريات بواسطة الخمير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617920" y="274320"/>
            <a:ext cx="606888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</a:t>
            </a: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إثبات تخمر السكريات بواسطة الخميرة</a:t>
            </a:r>
            <a:br>
              <a:rPr sz="2400"/>
            </a:br>
            <a:r>
              <a:rPr b="0" i="1" lang="ar-SA" sz="2400" spc="-1" strike="noStrike">
                <a:solidFill>
                  <a:srgbClr val="10253f"/>
                </a:solidFill>
                <a:latin typeface="Calibri"/>
              </a:rPr>
              <a:t>                          تجربة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095640" y="1963800"/>
            <a:ext cx="5724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عند توفر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- المادة الغذائية (السكرية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لماء, تحتاج الخمائر الى كميات لا بأس بها من الماء أكثر مما تحتاجه فطريات العفن, ولكنها أقل احتياجا من خلايا البكتيريا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درجة الحرارة المناسبة حيث تنمو الخمائر جيدا بدرجات حرارة معتدلة تتراوح بين (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2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). وهذا لايمنع من نمو بعض الأنواع الأخرى بدرجات حرارة متفاوتة تتراوح بين الصفر و درجة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37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ar-AE" sz="2400" spc="-1" strike="noStrike">
                <a:solidFill>
                  <a:srgbClr val="000000"/>
                </a:solidFill>
                <a:latin typeface="Calibri"/>
              </a:rPr>
              <a:t>تتم عملية التخمر في الخميرة وفقاً وفقاً للمعادلة السابق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5580000" y="1569960"/>
            <a:ext cx="299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58ed5"/>
                </a:solidFill>
                <a:latin typeface="Calibri"/>
              </a:rPr>
              <a:t>معادلة التخم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مربع نص 1"/>
          <p:cNvSpPr/>
          <p:nvPr/>
        </p:nvSpPr>
        <p:spPr>
          <a:xfrm>
            <a:off x="2617920" y="1916280"/>
            <a:ext cx="5924520" cy="7038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                               2CO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+2C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H+ 2AT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Calibri"/>
              </a:rPr>
              <a:t>طاقة     إيثانول                                        جلوك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Straight Arrow Connector 8"/>
          <p:cNvCxnSpPr/>
          <p:nvPr/>
        </p:nvCxnSpPr>
        <p:spPr>
          <a:xfrm>
            <a:off x="4571640" y="2133360"/>
            <a:ext cx="1369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4"/>
          <p:cNvSpPr/>
          <p:nvPr/>
        </p:nvSpPr>
        <p:spPr>
          <a:xfrm>
            <a:off x="3059280" y="1773360"/>
            <a:ext cx="583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ينتج عن عملية التخمر الحادثه بواسطة الخميره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ذي يلاحظ أثناء التجربه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انتفاخ البالون دليل على حدوث عملية التخمر حيث يمتلئ البالون ب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متكون من تخمر السكر بواسطة الخمير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 يزداد حجم البالون بزيادة كمية المادة السكرية نظرا لزيادة سرعة التخمر بزيادة كمية السكر وبالتالي زيادة في كمية غاز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 الناتج من عملية التخمر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01920" y="274320"/>
            <a:ext cx="634680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286000" cy="688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5940360" y="836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5580000" y="2924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2484360" y="260280"/>
            <a:ext cx="635472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C:\Users\Toshiba\Pictures\Erlenmeyer_flask.gif"/>
          <p:cNvPicPr/>
          <p:nvPr/>
        </p:nvPicPr>
        <p:blipFill>
          <a:blip r:embed="rId2"/>
          <a:stretch/>
        </p:blipFill>
        <p:spPr>
          <a:xfrm>
            <a:off x="7385040" y="4869000"/>
            <a:ext cx="1454040" cy="171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Toshiba\Pictures\images.jpg"/>
          <p:cNvPicPr/>
          <p:nvPr/>
        </p:nvPicPr>
        <p:blipFill>
          <a:blip r:embed="rId3"/>
          <a:stretch/>
        </p:blipFill>
        <p:spPr>
          <a:xfrm>
            <a:off x="2454120" y="156384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Toshiba\Pictures\imagesCANXWPEK.jpg"/>
          <p:cNvPicPr/>
          <p:nvPr/>
        </p:nvPicPr>
        <p:blipFill>
          <a:blip r:embed="rId4"/>
          <a:stretch/>
        </p:blipFill>
        <p:spPr>
          <a:xfrm>
            <a:off x="4284720" y="3162240"/>
            <a:ext cx="2311200" cy="1779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Toshiba\Pictures\imagesCAN4O2DA.jpg"/>
          <p:cNvPicPr/>
          <p:nvPr/>
        </p:nvPicPr>
        <p:blipFill>
          <a:blip r:embed="rId5"/>
          <a:stretch/>
        </p:blipFill>
        <p:spPr>
          <a:xfrm>
            <a:off x="4851360" y="4795920"/>
            <a:ext cx="1481040" cy="1784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Users\Toshiba\Pictures\imagesCAA007GN.jpg"/>
          <p:cNvPicPr/>
          <p:nvPr/>
        </p:nvPicPr>
        <p:blipFill>
          <a:blip r:embed="rId6"/>
          <a:stretch/>
        </p:blipFill>
        <p:spPr>
          <a:xfrm>
            <a:off x="7658280" y="1789200"/>
            <a:ext cx="1180800" cy="1495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7"/>
          <a:stretch/>
        </p:blipFill>
        <p:spPr>
          <a:xfrm>
            <a:off x="4795920" y="1521000"/>
            <a:ext cx="2089080" cy="177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8"/>
          <a:stretch/>
        </p:blipFill>
        <p:spPr>
          <a:xfrm>
            <a:off x="2484360" y="4890960"/>
            <a:ext cx="12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C:\Users\Toshiba\Pictures\197_example.jpg"/>
          <p:cNvPicPr/>
          <p:nvPr/>
        </p:nvPicPr>
        <p:blipFill>
          <a:blip r:embed="rId1"/>
          <a:stretch/>
        </p:blipFill>
        <p:spPr>
          <a:xfrm>
            <a:off x="-36360" y="0"/>
            <a:ext cx="2857320" cy="6885000"/>
          </a:xfrm>
          <a:prstGeom prst="rect">
            <a:avLst/>
          </a:prstGeom>
          <a:ln w="0">
            <a:noFill/>
          </a:ln>
        </p:spPr>
      </p:pic>
      <p:sp>
        <p:nvSpPr>
          <p:cNvPr id="68" name="Title 1"/>
          <p:cNvSpPr/>
          <p:nvPr/>
        </p:nvSpPr>
        <p:spPr>
          <a:xfrm>
            <a:off x="2895480" y="274680"/>
            <a:ext cx="6069240" cy="1143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                                تجربة البالون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635280" y="1557360"/>
            <a:ext cx="5184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953735"/>
                </a:solidFill>
                <a:latin typeface="Calibri"/>
              </a:rPr>
              <a:t>النتيجه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حجم البالو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882880" y="3789360"/>
          <a:ext cx="6095880" cy="1854360"/>
        </p:xfrm>
        <a:graphic>
          <a:graphicData uri="http://schemas.openxmlformats.org/drawingml/2006/table">
            <a:tbl>
              <a:tblPr/>
              <a:tblGrid>
                <a:gridCol w="1022400"/>
                <a:gridCol w="719280"/>
                <a:gridCol w="869760"/>
                <a:gridCol w="871560"/>
                <a:gridCol w="870120"/>
                <a:gridCol w="871200"/>
                <a:gridCol w="8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5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09:43:51Z</dcterms:created>
  <dc:creator>Toshiba</dc:creator>
  <dc:description/>
  <dc:language>en-US</dc:language>
  <cp:lastModifiedBy>for me</cp:lastModifiedBy>
  <dcterms:modified xsi:type="dcterms:W3CDTF">2011-10-14T14:59:2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8264C251EE0AE449B2D92C9C7EA38C1</vt:lpwstr>
  </property>
</Properties>
</file>