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305-32B4-4E16-ABCD-953667D0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B6B-AD6F-437D-9576-CED8C419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524-49AF-4345-8CA8-B03BEC7F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F43-AC00-4363-8559-4C4EC593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D63-7FB2-4224-88B7-DC18F02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14E-C53D-4E61-B698-78FB51B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C2B-EA25-42AC-BB3A-439AB87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1CA-FA15-4974-AA7F-2E75265E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D8D-9EFE-466A-B0F9-E44D26CF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810-2244-4FE3-9230-307A368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A59-7397-40EA-92D1-28C1F59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E7A-3E85-43E0-906A-012FBC0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B123-DAA8-482B-BEA0-6115509533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Toshiba\Pictures\197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870840" y="198900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10253f"/>
                </a:solidFill>
                <a:latin typeface="Calibri"/>
              </a:rPr>
              <a:t> إثبات تخمر السكريات بواسطة الخمي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17920" y="274320"/>
            <a:ext cx="606888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إثبات تخمر السكريات بواسطة الخميرة</a:t>
            </a:r>
            <a:br>
              <a:rPr sz="2400"/>
            </a:b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                          تجربة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095640" y="1963800"/>
            <a:ext cx="57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عند توفر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- المادة الغذائية (السك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لماء, تحتاج الخمائر الى كميات لا بأس بها من الماء أكثر مما تحتاجه فطريات العفن, ولكنها أقل احتياجا من خلايا البكتيريا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درجة الحرارة المناسبة حيث تنمو الخمائر جيدا بدرجات حرارة معتدلة تتراوح بين 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). وهذا لايمنع من نمو بعض الأنواع الأخرى بدرجات حرارة متفاوتة تتراوح بين الصفر و درج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م عملية التخمر في الخميرة وفقاً وفقاً للمعادلة ال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580000" y="1569960"/>
            <a:ext cx="299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Calibri"/>
              </a:rPr>
              <a:t>معادلة التخ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ربع نص 1"/>
          <p:cNvSpPr/>
          <p:nvPr/>
        </p:nvSpPr>
        <p:spPr>
          <a:xfrm>
            <a:off x="2617920" y="1916280"/>
            <a:ext cx="59245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                         2C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+2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H+ 2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Calibri"/>
              </a:rPr>
              <a:t>طاقة     إيثانول                                        جلوك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8"/>
          <p:cNvCxnSpPr/>
          <p:nvPr/>
        </p:nvCxnSpPr>
        <p:spPr>
          <a:xfrm>
            <a:off x="4571640" y="2133360"/>
            <a:ext cx="1369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59280" y="1773360"/>
            <a:ext cx="58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تج عن عملية التخمر الحادثه بواسطة الخميره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ذي يلاحظ أثناء التجرب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نتفاخ البالون دليل على حدوث عملية التخمر حيث يمتلئ البالون ب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متكون من تخمر السكر بواسطة الخمي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يزداد حجم البالون بزيادة كمية المادة السكرية نظرا لزيادة سرعة التخمر بزيادة كمية السكر وبالتالي زيادة في كمية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ناتج من عملية التخم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1920" y="274320"/>
            <a:ext cx="63468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940360" y="83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580000" y="2924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2484360" y="260280"/>
            <a:ext cx="63547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oshiba\Pictures\Erlenmeyer_flask.gif"/>
          <p:cNvPicPr/>
          <p:nvPr/>
        </p:nvPicPr>
        <p:blipFill>
          <a:blip r:embed="rId2"/>
          <a:stretch/>
        </p:blipFill>
        <p:spPr>
          <a:xfrm>
            <a:off x="7385040" y="4869000"/>
            <a:ext cx="1454040" cy="17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Toshiba\Pictures\images.jpg"/>
          <p:cNvPicPr/>
          <p:nvPr/>
        </p:nvPicPr>
        <p:blipFill>
          <a:blip r:embed="rId3"/>
          <a:stretch/>
        </p:blipFill>
        <p:spPr>
          <a:xfrm>
            <a:off x="2454120" y="156384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Toshiba\Pictures\imagesCANXWPEK.jpg"/>
          <p:cNvPicPr/>
          <p:nvPr/>
        </p:nvPicPr>
        <p:blipFill>
          <a:blip r:embed="rId4"/>
          <a:stretch/>
        </p:blipFill>
        <p:spPr>
          <a:xfrm>
            <a:off x="4284720" y="3162240"/>
            <a:ext cx="2311200" cy="177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Toshiba\Pictures\imagesCAN4O2DA.jpg"/>
          <p:cNvPicPr/>
          <p:nvPr/>
        </p:nvPicPr>
        <p:blipFill>
          <a:blip r:embed="rId5"/>
          <a:stretch/>
        </p:blipFill>
        <p:spPr>
          <a:xfrm>
            <a:off x="4851360" y="4795920"/>
            <a:ext cx="148104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Toshiba\Pictures\imagesCAA007GN.jpg"/>
          <p:cNvPicPr/>
          <p:nvPr/>
        </p:nvPicPr>
        <p:blipFill>
          <a:blip r:embed="rId6"/>
          <a:stretch/>
        </p:blipFill>
        <p:spPr>
          <a:xfrm>
            <a:off x="7658280" y="1789200"/>
            <a:ext cx="1180800" cy="149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tretch/>
        </p:blipFill>
        <p:spPr>
          <a:xfrm>
            <a:off x="4795920" y="1521000"/>
            <a:ext cx="2089080" cy="177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8"/>
          <a:stretch/>
        </p:blipFill>
        <p:spPr>
          <a:xfrm>
            <a:off x="2484360" y="4890960"/>
            <a:ext cx="12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85732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895480" y="274680"/>
            <a:ext cx="60692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635280" y="1557360"/>
            <a:ext cx="518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53735"/>
                </a:solidFill>
                <a:latin typeface="Calibri"/>
              </a:rPr>
              <a:t>النتيج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جم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82880" y="3789360"/>
          <a:ext cx="6095880" cy="1854360"/>
        </p:xfrm>
        <a:graphic>
          <a:graphicData uri="http://schemas.openxmlformats.org/drawingml/2006/table">
            <a:tbl>
              <a:tblPr/>
              <a:tblGrid>
                <a:gridCol w="1022400"/>
                <a:gridCol w="719280"/>
                <a:gridCol w="869760"/>
                <a:gridCol w="871560"/>
                <a:gridCol w="870120"/>
                <a:gridCol w="871200"/>
                <a:gridCol w="8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9:43:51Z</dcterms:created>
  <dc:creator>Toshiba</dc:creator>
  <dc:description/>
  <dc:language>en-US</dc:language>
  <cp:lastModifiedBy>for me</cp:lastModifiedBy>
  <dcterms:modified xsi:type="dcterms:W3CDTF">2011-10-14T14:59:2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264C251EE0AE449B2D92C9C7EA38C1</vt:lpwstr>
  </property>
</Properties>
</file>