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74377-F03A-4115-8F36-A1C6C6FEE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C923A-5088-42DA-AD84-35D8421A0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7E1B74-161A-46C4-9BBC-6E5C0B3F59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F04A9C-2DE7-4415-9740-4AB5745ED8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ED24DA-6F73-4DAD-B228-D1AE268B62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D3FF3E-0BAB-4D39-A1A1-1018555EE6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DDB58-301F-46BC-B916-6B1657B051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27F016-5E56-4824-9B13-678A43F13B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965A17-3783-4C3A-AB59-CE1378138E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F09882-3E3D-4156-95FD-B858EE4168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1079E4-05BB-467A-9CB4-2C87219F6A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D4BAC8-E328-4D5F-9954-E0AA00BA42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033E5-3FC0-4222-9C4C-9E5FAFCBA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AB5C61-FA88-4918-845E-2C95312066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03EE7E-D03E-4029-801F-73E05CABCB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1A409F-BB55-475F-9DDE-6426041831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1E0BFB-41C3-4BE8-A4B1-272E9C51EB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1A7A4A-C052-475B-8F8F-8B4B0CA3CC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4990D4-99D6-4680-A911-8A51F1A3DD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390EBB-0341-4518-9C96-429FD70EFF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3EB778-1B50-41E3-AA77-4ECF80BC20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51B124-53AF-45F6-B849-F0BFF05501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2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CF96CA-AA93-4E30-9A0E-39DA134F1C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8B707-B9C2-4B93-925F-84D7596CF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3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D81BF1-44DE-47CD-80E4-E5E9B7AF2F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7F9C67-972E-4CD6-9F99-95E76EC6B3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937A32-005E-45D0-803F-EDD99501B5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81C221-3B20-4F56-8993-32B280AFAF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4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28FD68-69DD-403B-B84A-D21212265F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CCD4FE-4FFA-4F05-81B9-3E24A93293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BAE051-64B8-4A01-AEEF-06DDF274EB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806ED4-AC25-4B49-97A6-24C78F7A3D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5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3FF9C5-5352-4300-84E8-6B67AD48DC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F04A87-64C6-4F4C-A0EF-8313A4A3D4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118E7-50CA-4BC7-9BF9-68A50D41E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E1A41F-D440-452F-897C-4765F829B9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6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81EDF8-F363-4442-BCDA-06B90A80E4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7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763638-B084-4439-A0A2-70EAEEC663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BA49FD-6B21-4949-B5C8-8A4E7A49B49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8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E90039-EA69-479E-A2AD-133ED42F76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DFC8D8-27EE-4C9F-95D5-3D7CD8B7CD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331743-E308-443C-8FC2-1B69C31211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88F9F2-D5E5-4C9B-859D-2D81A71E2B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536039-13F1-4F58-A3DD-43629E4204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49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F8E421-2388-432A-A7B1-1E8CECACFA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FB538-E0DD-4F5D-819D-E526F2684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AD566A-81FB-4BB6-A4FD-E973FC0F80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A74E50-2EF2-44D7-8EB7-C3FBD2D34B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033394-3D7C-4B48-89C7-48B8F70B20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90AD15-5333-4634-9DFF-BD4C120078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653688-A4ED-4E41-9047-CAAE47F2CC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AC95F76-6449-4012-A79A-97961D7A141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8776C9-AADB-40ED-988F-BAD73F0E91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5131EF-A5B9-4C88-990E-A1900D1670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774DAD-0225-48EB-835F-523D13BAA6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D265B3-6DBA-47E3-AE56-A0E9AF7AB5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DCABC-905D-4FAA-9ED8-BB2524431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C33B86-7031-49E3-BEB2-4747B16183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43CEFA-1A7A-4DF0-97ED-531BAA7102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F4625E-41A8-48C1-AC0C-E4F9B3972F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A24015-C8B8-4B64-B2EE-E775E2E625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C4515C-E9E7-471E-A38E-5B6D19A9255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D0E2100-5C83-47E6-967D-4D5D7C2134C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6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5BDE3A3-0056-4C26-8D83-7FC5ECD2D82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539BEEB-FB15-409A-A99F-3DF93FE18B0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8BDC3F9-E0B1-4EA1-981B-77B1AB2899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4A1530-51F2-4B7A-AE66-CDF4073D26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347EB-A023-4E75-B1EC-A8A575475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D3D1A6-0E80-4A21-A271-BD4B6E25C1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63093F-4583-4E33-99A3-95BEA1F4FA7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78A940-7FB8-43FA-9CE7-588B905C2A9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8ADFB5-910F-4CD7-B7FE-4EC0DA0874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622562-282D-457F-BFA5-E8F50CE895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AB7871-87B2-4D4C-B3D9-6B46CA87FA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C856C9-EC04-47AB-9190-35CA7A124F6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265651B-0C54-487E-85DA-5B8C88AB507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ABB493C-541B-4C0A-B3E2-8D5571BE502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BC8D366-AB87-45A0-A0E6-1100005082E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C4524-CE47-42D9-B931-D51D59669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BD8DEB0-7122-4ACE-A26C-DE440D0CE8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60A9F3E-E9FB-4232-BB9A-DBFFE2B3A8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D3BB5B2-FF15-49B6-9BAA-49728A9DE6A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BB18332-C56B-4E25-BFD6-171847338DF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CD3331C-FEF6-4646-844B-333B39D3E8B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C5EECC-A95A-40A5-A327-538F6920F79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2B703B2-295B-43BC-AAA8-6EF7A4C3308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51F8D6-5AAA-4624-88B6-DBAF090298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2D02BC-EC68-4530-BCB6-03D68FC3D68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F1E1772-2539-448D-9C9C-18ED90E4F9E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9EB3B-2E5A-49A6-ACEB-F60C08787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5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D362913-7F73-4AD4-BF08-182F9BE9CC7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2DEC03C-3E54-417C-8AA5-99F634C20F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F646CE8-A5BB-495C-92A0-3D9EB5F830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AAF2961-A2A9-4204-B8EF-F6D425B9140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9FA9032-CC21-46F0-A43F-0DA1A57381D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501304D-AD4A-4118-9675-94D7DD6780B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7B3DD72-3B85-497E-ACFF-1E66BAB2EDE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6B3B37-4635-4FA1-809D-A3FB1C371A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EBD940-99F7-415D-BB37-AF3F1203262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87168D-29B7-45C1-A28E-AC44854579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95BD5-3F34-4292-B53C-B8BD68899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CE62F69-1A72-4A90-B90B-2BFB080A61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AEF6D26-B2CB-4837-9C7C-AB8E4C2B697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9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89E2734-7864-4F02-B2BA-D780A757EAA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9FFBACA-ABE0-4F53-A829-4BD52236A39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42BE1D9-4B7C-4A9C-94E7-30D39163637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B09A16C-4A27-4F31-A8AD-4A8BDC21F2E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0C60126-39F8-409C-AD4C-249499CAEF4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0FE08F6-9158-4305-A59E-9CE5965B4B4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35448BA-069B-4C98-B98B-AD562430DE5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34E949B-39F3-4BD7-B4E3-4A900A46A90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B0ED1-3ACC-430E-9E91-74BC43D0E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F4A41-F73A-4A1E-859D-F8C078B72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CFAC06-1976-4F5E-8C71-2D56CF684A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9BB4C0C-68F2-4DA3-BD41-027CF3E8B3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9A33D15-BC60-488D-852B-3630EDF4F02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FFE49CA-8C22-4E01-BA5E-740D306F88C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3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F06A9E5-9E35-4859-9F78-98E1D31003B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8AB3BFF-DA1D-4A89-A129-732BA8093BD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5C51633-A154-472E-98F7-D42311C1131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0AE6974-258B-4A4E-9A4D-172F899BDA1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B6177D1-A399-4198-916A-8327A72F4AC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2C46343-C71B-422A-BD49-359859238B8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134B9-A159-4E3A-8CA0-F291201E1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B4BA37B-C272-4AF7-9FC2-66F55D02959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E70D5C2-8186-4550-8BE8-C13A29838C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76A19C6-FBA3-40C3-994C-14F9FDD459A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30889A9-50DC-479E-ABF9-3324CAC7A9A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D9B60CA-8F39-4E3D-A49C-3BBC03140CD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FF224FF-3964-44D6-A83A-09AB455B77B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AB748EC-E38E-49B9-9746-F75708D6FD2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EDDDD8B-FF57-41A5-A211-10549F8D000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2A9C9DA-08D0-43A9-A6B4-10242EC4BFF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73F5E27-09F3-4326-BD46-5365E3D17BA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CDC78-D518-436E-B3B4-BFA3AF06A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B5F71CC-94F0-4A96-B05D-2A8BF607394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259DA91-48A4-45DA-A639-453655D732A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777F635-CD0D-42DE-9516-EDEEB2264B5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8EB6B03-92FD-4F00-8D15-DC439F1694D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E78BFC5-3F53-45DA-92F0-639E9865D91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0EBC8C9-2C1D-46B6-B69D-6F972F59754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962B7D8-B659-4032-9693-0BC0543386D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1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00A81CC-F420-4511-8896-B3602B39354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E408A68-BDD9-4F68-9778-FF833B8033C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1B0305A-C05A-4F2B-BB05-68775FC4DAC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7EBB0-72C7-41A6-89EA-6060C9C2F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95E0DFE-119B-41F3-AE0D-6EB1DBB515A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53C71BF-0811-46F2-A6C5-BD10EEACEC5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ED9009E-B93E-44AD-9FE7-809069704C7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11CD425-B611-402E-8EFE-07F94E49F2D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185D392-3BF4-4203-B42B-00538FBF31F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20E1878-1D19-414F-B086-D487132D148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888DD4E-041D-4ECC-8C0E-D750D81EB2F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59A4E78-2224-4D45-8F6F-C108C393D1A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F73B430-2EF5-42CC-B445-FBAEFC4B4FF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0C36E8A-A22B-4AD6-BFB4-E1A316E2916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5627B-176D-4414-9E5E-3B419151D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6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9AEC581-043F-450B-A9BC-CC9EC5730B2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D04E5EC-967F-4EA7-975E-8C75EEB61D6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E5CF15B-9233-4C5D-827F-643F06D9B60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C159277-4E06-4D6E-8D57-B3FBCBEB1DF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8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DFCADBE-3965-4F69-8267-45FD0ED8BF5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B04F16C-B36C-4BEC-9623-3A4334500FB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84F1E3D-214F-4E41-9BA8-5B2D3AA6D10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1DECF49-DCA1-416C-A6DD-F011C191EF3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71A2C58-B3F7-4784-B35C-EAF21079518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6557023-2568-4789-8CE0-B6D754B06E5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3B49FC-BFED-47DD-BD4E-7FB064240C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96A6DEB-30A2-4A71-95B1-C71D9102980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0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7A9F6A7-92D3-42A3-A968-90D97F32448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FB33A8E-F08F-4EEB-B995-935178B7497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DF621BF-5E61-44BC-9B33-DC73E224E5B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1C9E4C0-0C9C-4D43-9AD8-17B7888434E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510A4BA-9F43-463A-8158-72549EF0C61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B8A3273-0EB9-48E2-A728-2590027422F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A0B2859-9BA0-4CE2-A8BC-6016F2841A1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F82008B-340F-4626-95DB-E148FE9BD97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1453B58-3C5B-44AE-BC36-4454099B019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8996C4-EE42-440A-BFA8-422177A41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CA65410-DA38-4C39-9C01-D10B01E029C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D759BE4-1B73-4F8A-8F96-5EC796EA559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75FB405-A088-4CD7-8311-94E9E5665A2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2D977E1-6B4F-4003-BAD3-A8B8C76AC61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5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657ED59-0B3C-4024-9202-FD520BC2E2D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1F6FDAD-6CCA-43E2-91AC-FA45423D193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E146271-3718-4730-9E48-1FE8A2945EC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EB48030-712E-458F-91D7-E876075EF50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0532952-9EEA-4A84-A088-482F92D29E9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1616BCE-844C-4295-971E-DAAB90DCBFD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68F6A9-F238-4661-819C-8CAB6B33DC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686E8CB-D39E-4B80-8E2F-E5BE4210364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6B05203-66F8-4800-B8E6-059C16C3874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DB9F66A-16A3-4349-A920-BB125AC1216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8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136CDA9-8CB7-4875-82DC-FEDA61E2A2D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2588051-5194-46D4-BF3F-982BE3DEC7D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AB5302D-8413-476D-A18F-0878BFA46BA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99E6033-700E-4E9B-A1BF-A0E519616FC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B0CFB88-A9FE-44F8-841F-F28D7C3CA73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29BF804-E363-4E5B-B7CC-29A28751ECE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AF17CDE-D839-41F2-AC25-9F149AF2C21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EBE5EE-2FC1-4E38-928F-FF92B55028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3EB2249-F109-4557-A252-14F32CD0009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D7BFBFC-8442-4B19-BBB7-1CF87E509AD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6C96357-820F-4455-A99A-471AB189679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0DA0CDD-6379-49EB-8A52-F6C153623FF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2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88057F7-9D44-4E61-928C-2276BE1F7E0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464A4AC-2F05-4F91-84CB-646605232C7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61B3BFD-BF53-4E86-BDD7-626F0267A68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A33359C-CB6F-4592-9165-3BEB6E3D05C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C407EBF-65B7-4342-88F4-C965C5FE98C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3D39168-73F9-4C1D-B834-137C36B3F66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1E736-6FDA-4614-9097-410D50869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AA1BBD4-2EBB-4FA5-87CB-34E72376DD1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3A7C7E8-1CDD-4473-A3A8-CCB65A0B322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8A426FD-CD66-4C0C-B7E0-6AE775B0E38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678326A-5DF5-401E-AF61-03CAB3AB7E9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E9E1AA5-190E-4052-A438-598497FA776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53D685B-4F9A-4DED-92F4-B5A3C191640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B805333-5CA0-4AE1-9214-5383CCD9172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558DD9B-D306-4D62-BA03-1BD4385EEA5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BB71B00-0EA0-4CE9-A2AD-3EDBE53DC62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44A0639-E81E-46EC-8F37-953C1461F83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873EB-C22D-4DF9-8729-BD1543748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5DADEC-AC93-4E7D-B97D-5A965FB61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56454EB-870D-496E-A7D0-E324C8AE4A0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777A701D-A57A-4AF1-AB6C-B77DFBC45FA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253E1A9-207B-405D-9188-8B4B649512F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B0EF2FF-A8AA-4F5C-955F-064C00F48A3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1FC62F4-3389-4341-A2BA-06F0E0B966C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7810A35-F76B-4C23-91B3-B1CC8C6D0F8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BC2B786-4257-4BC6-9BC1-73ACC307ED5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5FC3DA6-6BD3-4D69-8948-91BC0BE2484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D8DA7F9-6CEA-4BAC-A8A4-33B579C70BE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3C874EF-0D51-4395-B24C-EA9F4E65FB8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24361C-131D-4F88-BA7F-78836E08D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BC6665F-3D10-4DE1-99DD-2075F4FF1A2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2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78C5F38-D0FF-4547-BACB-4E83D06A4DF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A4B89EC-95E7-470E-B165-82A2B44C9BD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3DF13-AAD4-4E6E-906D-ED1B4E96E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C375A9-765F-41E7-A7E7-5DDFC43A6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47D683-90F1-4116-9334-D53D2BD09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F5CB49-C38E-4C66-B0DC-F080395829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F9C546-AD4D-4CB2-AEAD-4675418F25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CB1E1C-A93F-4CD4-B9D0-EC19E3DCA5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726F4-DBAD-4CA7-842E-4FBB1AA3A0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1AE8E7-1C98-402F-89ED-6BBABD9C8B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61B82-CE7C-4739-B110-28E77E0F1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A8CB87-531C-4D69-9192-33C8C4385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FC5585-033E-4111-A528-56A23BC841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D18941-64AD-4B77-BC03-7AFF492B9C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F31128-3D29-4A51-9731-37228F54F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32A62-F5F1-4FB8-AD7F-81229D2CF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A0906-9E92-4623-8E3E-4AAC46A42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591586-0BBB-4C27-A7BF-D51BC7687E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0E5E3A-9611-445D-94A5-0D7049FEC4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83C282-2D4A-4F53-BC11-E8891850CB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910D94-6140-4561-8216-5B6F53FBF5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9B5C5-8E04-4D9D-AB33-6E72A9B1F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D64299-3731-4FE9-A7C5-0209A9501F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937E17-89FE-4011-881C-2EED7F86A2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309D7-D12F-4034-B367-4E06829D1F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3964C2-AA43-4B2B-8498-16723DD0D9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A552D8-C50B-414E-A05C-868C63FDC0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A556B-DC75-4856-8570-25AAAC3C5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1C1C8-6773-4DB8-9DEC-8451ED7D6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9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1A72FC-6938-4370-8251-2A70F8940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86F514-B815-4E95-828A-EE6157E794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0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D22D85-B977-4554-9D67-7ACDB370A4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C6B04-EE4A-46AC-94D4-F4177E703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1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52FD9C-4CEE-42A0-AC3C-060C3DB2F8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ADC75B-AA25-4830-A044-A8BE9C2C89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5"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DBE453-2493-42D0-A09E-547020BC32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047407-6204-46A3-B837-8F435FCBAA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9"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5966FC-7BAC-4A83-8086-43304724FE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4A8808-A76C-42EC-85A8-22C102B692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9B77F2-1F42-4FEC-A785-FF2D2117FF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32F5F2-D18C-4149-AC77-8051607FB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3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3A355-D770-4364-8384-9A8F0E914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4D43DA-36BC-48E9-BE7E-BCC187BC36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A4871-6FD7-44ED-A9B5-E3C522A29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6"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7D9E21-03BF-4F04-BA90-3AEAE90AD3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4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09BBAB-777C-462A-B2A3-BAB9E1C9D7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54"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345148-2E1C-47A0-B823-C655E38988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65A929-0835-4122-9B7E-6332601FBC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675420-6D0B-416A-B76A-419AF6012F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4B9AD6-3407-4A30-A558-3C655B4A5F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444BEA-6F33-436B-AC78-F997F76707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7085FA-53BA-48B1-A1DD-26FA9D07FC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4D6CF4-158D-4F11-A80D-A827D6F86C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F0AA3E-DDAF-4D7B-AFC4-5801CBB0A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01E16-FB77-409C-83D8-A6A477F26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02AA11-6168-4EA9-87C6-DCE4673A0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A82A7-C326-4D72-B73C-90AFE94BC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E37BA7-B380-4328-B1CA-DBC1B7B659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59CA0F-5FC9-430F-AA32-6B7EFE347F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A25B27-C917-4A97-A03E-BFDD4928BE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123FE1-F84F-41FD-960B-659BE065B4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3"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FB9172-2136-406A-B9AC-9474FBB49E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B54CF6-C460-4C25-9C13-E23040CB80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1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626B9F-B303-4AC9-AEEF-A67FE4ABDE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89AD2D-1464-4D54-B037-B74DA67FAA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99DFD-1D89-4F45-8CAC-E2B4A6666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A2E3DE-77A9-446C-81C3-D28E753AA0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2"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58EC0-CD6A-48BA-BA9F-D6368B97A0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781E7B-41FA-4445-B2B3-460303A595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4F3F73-B4E5-4450-9E36-65710974A3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4"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B7DFDE-E03F-4913-A88C-9ACF683FF2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CBA720-72F2-4545-9C5D-BAAC529C07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42"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B2B546-F6DB-476C-96A2-2F96F0D417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7C219C-41B6-4A35-B53D-8E047F0719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9C6B3B-5F6D-4E05-877A-99A5887480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BB61E2-D82F-45BC-A0BE-138FEC0B3FD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9984-8983-49DC-A0F8-D47E8D77BAE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2" name="Group 2"/>
          <p:cNvGrpSpPr/>
          <p:nvPr/>
        </p:nvGrpSpPr>
        <p:grpSpPr>
          <a:xfrm>
            <a:off x="0" y="0"/>
            <a:ext cx="2666880" cy="6858000"/>
            <a:chOff x="0" y="0"/>
            <a:chExt cx="2666880" cy="6858000"/>
          </a:xfrm>
        </p:grpSpPr>
        <p:sp>
          <p:nvSpPr>
            <p:cNvPr id="39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4" descr="slidemaster_med3"/>
            <p:cNvPicPr/>
            <p:nvPr/>
          </p:nvPicPr>
          <p:blipFill>
            <a:blip r:embed="rId2"/>
            <a:stretch/>
          </p:blipFill>
          <p:spPr>
            <a:xfrm>
              <a:off x="0" y="0"/>
              <a:ext cx="2139840" cy="6858000"/>
            </a:xfrm>
            <a:prstGeom prst="rect">
              <a:avLst/>
            </a:prstGeom>
            <a:ln w="0">
              <a:noFill/>
            </a:ln>
          </p:spPr>
        </p:pic>
      </p:grpSp>
      <p:sp>
        <p:nvSpPr>
          <p:cNvPr id="3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9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7" name="PlaceHolder 3"/>
          <p:cNvSpPr>
            <a:spLocks noGrp="1"/>
          </p:cNvSpPr>
          <p:nvPr>
            <p:ph type="dt" idx="28"/>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30"/>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63EF-4F8D-4739-8B52-B0F00112C25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Group 2"/>
          <p:cNvGrpSpPr/>
          <p:nvPr/>
        </p:nvGrpSpPr>
        <p:grpSpPr>
          <a:xfrm>
            <a:off x="0" y="0"/>
            <a:ext cx="2666880" cy="6858000"/>
            <a:chOff x="0" y="0"/>
            <a:chExt cx="2666880" cy="6858000"/>
          </a:xfrm>
        </p:grpSpPr>
        <p:sp>
          <p:nvSpPr>
            <p:cNvPr id="43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4" descr="slidemaster_med3"/>
            <p:cNvPicPr/>
            <p:nvPr/>
          </p:nvPicPr>
          <p:blipFill>
            <a:blip r:embed="rId2"/>
            <a:stretch/>
          </p:blipFill>
          <p:spPr>
            <a:xfrm>
              <a:off x="0" y="0"/>
              <a:ext cx="2139840" cy="6858000"/>
            </a:xfrm>
            <a:prstGeom prst="rect">
              <a:avLst/>
            </a:prstGeom>
            <a:ln w="0">
              <a:noFill/>
            </a:ln>
          </p:spPr>
        </p:pic>
      </p:grpSp>
      <p:sp>
        <p:nvSpPr>
          <p:cNvPr id="4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4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1" name="PlaceHolder 3"/>
          <p:cNvSpPr>
            <a:spLocks noGrp="1"/>
          </p:cNvSpPr>
          <p:nvPr>
            <p:ph type="dt" idx="3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5"/>
          <p:cNvSpPr>
            <a:spLocks noGrp="1"/>
          </p:cNvSpPr>
          <p:nvPr>
            <p:ph type="sldNum" idx="33"/>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8777-C1F5-42D6-9644-7E094D90513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Group 2"/>
          <p:cNvGrpSpPr/>
          <p:nvPr/>
        </p:nvGrpSpPr>
        <p:grpSpPr>
          <a:xfrm>
            <a:off x="0" y="0"/>
            <a:ext cx="2666880" cy="6858000"/>
            <a:chOff x="0" y="0"/>
            <a:chExt cx="2666880" cy="6858000"/>
          </a:xfrm>
        </p:grpSpPr>
        <p:sp>
          <p:nvSpPr>
            <p:cNvPr id="48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2" name="Picture 4" descr="slidemaster_med3"/>
            <p:cNvPicPr/>
            <p:nvPr/>
          </p:nvPicPr>
          <p:blipFill>
            <a:blip r:embed="rId2"/>
            <a:stretch/>
          </p:blipFill>
          <p:spPr>
            <a:xfrm>
              <a:off x="0" y="0"/>
              <a:ext cx="2139840" cy="6858000"/>
            </a:xfrm>
            <a:prstGeom prst="rect">
              <a:avLst/>
            </a:prstGeom>
            <a:ln w="0">
              <a:noFill/>
            </a:ln>
          </p:spPr>
        </p:pic>
      </p:grpSp>
      <p:sp>
        <p:nvSpPr>
          <p:cNvPr id="48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8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3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5"/>
          <p:cNvSpPr>
            <a:spLocks noGrp="1"/>
          </p:cNvSpPr>
          <p:nvPr>
            <p:ph type="sldNum" idx="36"/>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3D79-A315-48A0-A2B7-EBFE764D1C0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4" name="Group 2"/>
          <p:cNvGrpSpPr/>
          <p:nvPr/>
        </p:nvGrpSpPr>
        <p:grpSpPr>
          <a:xfrm>
            <a:off x="0" y="0"/>
            <a:ext cx="2666880" cy="6858000"/>
            <a:chOff x="0" y="0"/>
            <a:chExt cx="2666880" cy="6858000"/>
          </a:xfrm>
        </p:grpSpPr>
        <p:sp>
          <p:nvSpPr>
            <p:cNvPr id="52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6" name="Picture 4" descr="slidemaster_med3"/>
            <p:cNvPicPr/>
            <p:nvPr/>
          </p:nvPicPr>
          <p:blipFill>
            <a:blip r:embed="rId2"/>
            <a:stretch/>
          </p:blipFill>
          <p:spPr>
            <a:xfrm>
              <a:off x="0" y="0"/>
              <a:ext cx="2139840" cy="6858000"/>
            </a:xfrm>
            <a:prstGeom prst="rect">
              <a:avLst/>
            </a:prstGeom>
            <a:ln w="0">
              <a:noFill/>
            </a:ln>
          </p:spPr>
        </p:pic>
      </p:grpSp>
      <p:sp>
        <p:nvSpPr>
          <p:cNvPr id="5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52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9"/>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AB50-7467-48A7-96F5-9B6758F78F9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8" name="Group 2"/>
          <p:cNvGrpSpPr/>
          <p:nvPr/>
        </p:nvGrpSpPr>
        <p:grpSpPr>
          <a:xfrm>
            <a:off x="0" y="0"/>
            <a:ext cx="2666880" cy="6858000"/>
            <a:chOff x="0" y="0"/>
            <a:chExt cx="2666880" cy="6858000"/>
          </a:xfrm>
        </p:grpSpPr>
        <p:sp>
          <p:nvSpPr>
            <p:cNvPr id="56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4" descr="slidemaster_med3"/>
            <p:cNvPicPr/>
            <p:nvPr/>
          </p:nvPicPr>
          <p:blipFill>
            <a:blip r:embed="rId2"/>
            <a:stretch/>
          </p:blipFill>
          <p:spPr>
            <a:xfrm>
              <a:off x="0" y="0"/>
              <a:ext cx="2139840" cy="6858000"/>
            </a:xfrm>
            <a:prstGeom prst="rect">
              <a:avLst/>
            </a:prstGeom>
            <a:ln w="0">
              <a:noFill/>
            </a:ln>
          </p:spPr>
        </p:pic>
      </p:grpSp>
      <p:sp>
        <p:nvSpPr>
          <p:cNvPr id="5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57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3" name="PlaceHolder 3"/>
          <p:cNvSpPr>
            <a:spLocks noGrp="1"/>
          </p:cNvSpPr>
          <p:nvPr>
            <p:ph type="dt" idx="40"/>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5"/>
          <p:cNvSpPr>
            <a:spLocks noGrp="1"/>
          </p:cNvSpPr>
          <p:nvPr>
            <p:ph type="sldNum" idx="42"/>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9EF8-CDDB-47CB-BD82-AC8B1C69A2E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2" name="Group 2"/>
          <p:cNvGrpSpPr/>
          <p:nvPr/>
        </p:nvGrpSpPr>
        <p:grpSpPr>
          <a:xfrm>
            <a:off x="0" y="0"/>
            <a:ext cx="2666880" cy="6858000"/>
            <a:chOff x="0" y="0"/>
            <a:chExt cx="2666880" cy="6858000"/>
          </a:xfrm>
        </p:grpSpPr>
        <p:sp>
          <p:nvSpPr>
            <p:cNvPr id="61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4" descr="slidemaster_med3"/>
            <p:cNvPicPr/>
            <p:nvPr/>
          </p:nvPicPr>
          <p:blipFill>
            <a:blip r:embed="rId2"/>
            <a:stretch/>
          </p:blipFill>
          <p:spPr>
            <a:xfrm>
              <a:off x="0" y="0"/>
              <a:ext cx="2139840" cy="6858000"/>
            </a:xfrm>
            <a:prstGeom prst="rect">
              <a:avLst/>
            </a:prstGeom>
            <a:ln w="0">
              <a:noFill/>
            </a:ln>
          </p:spPr>
        </p:pic>
      </p:grpSp>
      <p:sp>
        <p:nvSpPr>
          <p:cNvPr id="6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1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5"/>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8FC7-CE76-406C-8C9B-46B60E2E96B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2" descr="titlemaster_med"/>
          <p:cNvPicPr/>
          <p:nvPr/>
        </p:nvPicPr>
        <p:blipFill>
          <a:blip r:embed="rId2"/>
          <a:stretch/>
        </p:blipFill>
        <p:spPr>
          <a:xfrm>
            <a:off x="0" y="0"/>
            <a:ext cx="9144000" cy="6862680"/>
          </a:xfrm>
          <a:prstGeom prst="rect">
            <a:avLst/>
          </a:prstGeom>
          <a:ln w="0">
            <a:noFill/>
          </a:ln>
        </p:spPr>
      </p:pic>
      <p:sp>
        <p:nvSpPr>
          <p:cNvPr id="6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5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9" name="PlaceHolder 3"/>
          <p:cNvSpPr>
            <a:spLocks noGrp="1"/>
          </p:cNvSpPr>
          <p:nvPr>
            <p:ph type="dt" idx="46"/>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5"/>
          <p:cNvSpPr>
            <a:spLocks noGrp="1"/>
          </p:cNvSpPr>
          <p:nvPr>
            <p:ph type="sldNum" idx="48"/>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AF46-5B15-4F69-9F42-85AE87C8A9C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8" name="Group 2"/>
          <p:cNvGrpSpPr/>
          <p:nvPr/>
        </p:nvGrpSpPr>
        <p:grpSpPr>
          <a:xfrm>
            <a:off x="0" y="0"/>
            <a:ext cx="2666880" cy="6858000"/>
            <a:chOff x="0" y="0"/>
            <a:chExt cx="2666880" cy="6858000"/>
          </a:xfrm>
        </p:grpSpPr>
        <p:sp>
          <p:nvSpPr>
            <p:cNvPr id="69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0" name="Picture 4" descr="slidemaster_med3"/>
            <p:cNvPicPr/>
            <p:nvPr/>
          </p:nvPicPr>
          <p:blipFill>
            <a:blip r:embed="rId2"/>
            <a:stretch/>
          </p:blipFill>
          <p:spPr>
            <a:xfrm>
              <a:off x="0" y="0"/>
              <a:ext cx="2139840" cy="6858000"/>
            </a:xfrm>
            <a:prstGeom prst="rect">
              <a:avLst/>
            </a:prstGeom>
            <a:ln w="0">
              <a:noFill/>
            </a:ln>
          </p:spPr>
        </p:pic>
      </p:grpSp>
      <p:sp>
        <p:nvSpPr>
          <p:cNvPr id="70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0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3" name="PlaceHolder 3"/>
          <p:cNvSpPr>
            <a:spLocks noGrp="1"/>
          </p:cNvSpPr>
          <p:nvPr>
            <p:ph type="dt" idx="49"/>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5"/>
          <p:cNvSpPr>
            <a:spLocks noGrp="1"/>
          </p:cNvSpPr>
          <p:nvPr>
            <p:ph type="sldNum" idx="51"/>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7FD8-B088-46EA-B4D3-AE84818FF14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2" name="Group 2"/>
          <p:cNvGrpSpPr/>
          <p:nvPr/>
        </p:nvGrpSpPr>
        <p:grpSpPr>
          <a:xfrm>
            <a:off x="0" y="0"/>
            <a:ext cx="2666880" cy="6858000"/>
            <a:chOff x="0" y="0"/>
            <a:chExt cx="2666880" cy="6858000"/>
          </a:xfrm>
        </p:grpSpPr>
        <p:sp>
          <p:nvSpPr>
            <p:cNvPr id="74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4" name="Picture 4" descr="slidemaster_med3"/>
            <p:cNvPicPr/>
            <p:nvPr/>
          </p:nvPicPr>
          <p:blipFill>
            <a:blip r:embed="rId2"/>
            <a:stretch/>
          </p:blipFill>
          <p:spPr>
            <a:xfrm>
              <a:off x="0" y="0"/>
              <a:ext cx="2139840" cy="6858000"/>
            </a:xfrm>
            <a:prstGeom prst="rect">
              <a:avLst/>
            </a:prstGeom>
            <a:ln w="0">
              <a:noFill/>
            </a:ln>
          </p:spPr>
        </p:pic>
      </p:grpSp>
      <p:sp>
        <p:nvSpPr>
          <p:cNvPr id="7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7" name="PlaceHolder 3"/>
          <p:cNvSpPr>
            <a:spLocks noGrp="1"/>
          </p:cNvSpPr>
          <p:nvPr>
            <p:ph type="dt" idx="52"/>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5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4655-F542-4C38-954B-9165DEC1BA8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6" name="Group 2"/>
          <p:cNvGrpSpPr/>
          <p:nvPr/>
        </p:nvGrpSpPr>
        <p:grpSpPr>
          <a:xfrm>
            <a:off x="0" y="0"/>
            <a:ext cx="2666880" cy="6858000"/>
            <a:chOff x="0" y="0"/>
            <a:chExt cx="2666880" cy="6858000"/>
          </a:xfrm>
        </p:grpSpPr>
        <p:sp>
          <p:nvSpPr>
            <p:cNvPr id="78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4" descr="slidemaster_med3"/>
            <p:cNvPicPr/>
            <p:nvPr/>
          </p:nvPicPr>
          <p:blipFill>
            <a:blip r:embed="rId2"/>
            <a:stretch/>
          </p:blipFill>
          <p:spPr>
            <a:xfrm>
              <a:off x="0" y="0"/>
              <a:ext cx="2139840" cy="6858000"/>
            </a:xfrm>
            <a:prstGeom prst="rect">
              <a:avLst/>
            </a:prstGeom>
            <a:ln w="0">
              <a:noFill/>
            </a:ln>
          </p:spPr>
        </p:pic>
      </p:grpSp>
      <p:sp>
        <p:nvSpPr>
          <p:cNvPr id="7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9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1" name="PlaceHolder 3"/>
          <p:cNvSpPr>
            <a:spLocks noGrp="1"/>
          </p:cNvSpPr>
          <p:nvPr>
            <p:ph type="dt" idx="55"/>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5"/>
          <p:cNvSpPr>
            <a:spLocks noGrp="1"/>
          </p:cNvSpPr>
          <p:nvPr>
            <p:ph type="sldNum" idx="57"/>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0996-9EAC-4FE6-BCDE-78E1B16C3EA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2666880" cy="6858000"/>
            <a:chOff x="0" y="0"/>
            <a:chExt cx="2666880" cy="6858000"/>
          </a:xfrm>
        </p:grpSpPr>
        <p:sp>
          <p:nvSpPr>
            <p:cNvPr id="4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4" descr="slidemaster_med3"/>
            <p:cNvPicPr/>
            <p:nvPr/>
          </p:nvPicPr>
          <p:blipFill>
            <a:blip r:embed="rId2"/>
            <a:stretch/>
          </p:blipFill>
          <p:spPr>
            <a:xfrm>
              <a:off x="0" y="0"/>
              <a:ext cx="2139840" cy="6858000"/>
            </a:xfrm>
            <a:prstGeom prst="rect">
              <a:avLst/>
            </a:prstGeom>
            <a:ln w="0">
              <a:noFill/>
            </a:ln>
          </p:spPr>
        </p:pic>
      </p:grpSp>
      <p:sp>
        <p:nvSpPr>
          <p:cNvPr id="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BCA8-4DCF-4559-94BA-9644914214E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Group 2"/>
          <p:cNvGrpSpPr/>
          <p:nvPr/>
        </p:nvGrpSpPr>
        <p:grpSpPr>
          <a:xfrm>
            <a:off x="0" y="0"/>
            <a:ext cx="2666880" cy="6858000"/>
            <a:chOff x="0" y="0"/>
            <a:chExt cx="2666880" cy="6858000"/>
          </a:xfrm>
        </p:grpSpPr>
        <p:sp>
          <p:nvSpPr>
            <p:cNvPr id="83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4" descr="slidemaster_med3"/>
            <p:cNvPicPr/>
            <p:nvPr/>
          </p:nvPicPr>
          <p:blipFill>
            <a:blip r:embed="rId2"/>
            <a:stretch/>
          </p:blipFill>
          <p:spPr>
            <a:xfrm>
              <a:off x="0" y="0"/>
              <a:ext cx="2139840" cy="6858000"/>
            </a:xfrm>
            <a:prstGeom prst="rect">
              <a:avLst/>
            </a:prstGeom>
            <a:ln w="0">
              <a:noFill/>
            </a:ln>
          </p:spPr>
        </p:pic>
      </p:grpSp>
      <p:sp>
        <p:nvSpPr>
          <p:cNvPr id="8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3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5" name="PlaceHolder 3"/>
          <p:cNvSpPr>
            <a:spLocks noGrp="1"/>
          </p:cNvSpPr>
          <p:nvPr>
            <p:ph type="dt" idx="58"/>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PlaceHolder 5"/>
          <p:cNvSpPr>
            <a:spLocks noGrp="1"/>
          </p:cNvSpPr>
          <p:nvPr>
            <p:ph type="sldNum" idx="60"/>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8391-F279-4369-899F-52A406F9677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4" name="Group 2"/>
          <p:cNvGrpSpPr/>
          <p:nvPr/>
        </p:nvGrpSpPr>
        <p:grpSpPr>
          <a:xfrm>
            <a:off x="0" y="0"/>
            <a:ext cx="2666880" cy="6858000"/>
            <a:chOff x="0" y="0"/>
            <a:chExt cx="2666880" cy="6858000"/>
          </a:xfrm>
        </p:grpSpPr>
        <p:sp>
          <p:nvSpPr>
            <p:cNvPr id="87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4" descr="slidemaster_med3"/>
            <p:cNvPicPr/>
            <p:nvPr/>
          </p:nvPicPr>
          <p:blipFill>
            <a:blip r:embed="rId2"/>
            <a:stretch/>
          </p:blipFill>
          <p:spPr>
            <a:xfrm>
              <a:off x="0" y="0"/>
              <a:ext cx="2139840" cy="6858000"/>
            </a:xfrm>
            <a:prstGeom prst="rect">
              <a:avLst/>
            </a:prstGeom>
            <a:ln w="0">
              <a:noFill/>
            </a:ln>
          </p:spPr>
        </p:pic>
      </p:grpSp>
      <p:sp>
        <p:nvSpPr>
          <p:cNvPr id="8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9" name="PlaceHolder 3"/>
          <p:cNvSpPr>
            <a:spLocks noGrp="1"/>
          </p:cNvSpPr>
          <p:nvPr>
            <p:ph type="dt" idx="6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PlaceHolder 5"/>
          <p:cNvSpPr>
            <a:spLocks noGrp="1"/>
          </p:cNvSpPr>
          <p:nvPr>
            <p:ph type="sldNum" idx="63"/>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3880-BED6-49F3-89ED-647D8C3BC06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Group 2"/>
          <p:cNvGrpSpPr/>
          <p:nvPr/>
        </p:nvGrpSpPr>
        <p:grpSpPr>
          <a:xfrm>
            <a:off x="0" y="0"/>
            <a:ext cx="2666880" cy="6858000"/>
            <a:chOff x="0" y="0"/>
            <a:chExt cx="2666880" cy="6858000"/>
          </a:xfrm>
        </p:grpSpPr>
        <p:sp>
          <p:nvSpPr>
            <p:cNvPr id="91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0" name="Picture 4" descr="slidemaster_med3"/>
            <p:cNvPicPr/>
            <p:nvPr/>
          </p:nvPicPr>
          <p:blipFill>
            <a:blip r:embed="rId2"/>
            <a:stretch/>
          </p:blipFill>
          <p:spPr>
            <a:xfrm>
              <a:off x="0" y="0"/>
              <a:ext cx="2139840" cy="6858000"/>
            </a:xfrm>
            <a:prstGeom prst="rect">
              <a:avLst/>
            </a:prstGeom>
            <a:ln w="0">
              <a:noFill/>
            </a:ln>
          </p:spPr>
        </p:pic>
      </p:grpSp>
      <p:sp>
        <p:nvSpPr>
          <p:cNvPr id="9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2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3" name="PlaceHolder 3"/>
          <p:cNvSpPr>
            <a:spLocks noGrp="1"/>
          </p:cNvSpPr>
          <p:nvPr>
            <p:ph type="dt" idx="6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5"/>
          <p:cNvSpPr>
            <a:spLocks noGrp="1"/>
          </p:cNvSpPr>
          <p:nvPr>
            <p:ph type="sldNum" idx="66"/>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7366-EEC1-4C0E-A55A-2F71B18604A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2" name="Group 2"/>
          <p:cNvGrpSpPr/>
          <p:nvPr/>
        </p:nvGrpSpPr>
        <p:grpSpPr>
          <a:xfrm>
            <a:off x="0" y="0"/>
            <a:ext cx="2666880" cy="6858000"/>
            <a:chOff x="0" y="0"/>
            <a:chExt cx="2666880" cy="6858000"/>
          </a:xfrm>
        </p:grpSpPr>
        <p:sp>
          <p:nvSpPr>
            <p:cNvPr id="963"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4" name="Picture 4" descr="slidemaster_med3"/>
            <p:cNvPicPr/>
            <p:nvPr/>
          </p:nvPicPr>
          <p:blipFill>
            <a:blip r:embed="rId2"/>
            <a:stretch/>
          </p:blipFill>
          <p:spPr>
            <a:xfrm>
              <a:off x="0" y="0"/>
              <a:ext cx="2139840" cy="6858000"/>
            </a:xfrm>
            <a:prstGeom prst="rect">
              <a:avLst/>
            </a:prstGeom>
            <a:ln w="0">
              <a:noFill/>
            </a:ln>
          </p:spPr>
        </p:pic>
      </p:grpSp>
      <p:sp>
        <p:nvSpPr>
          <p:cNvPr id="9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6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7" name="PlaceHolder 3"/>
          <p:cNvSpPr>
            <a:spLocks noGrp="1"/>
          </p:cNvSpPr>
          <p:nvPr>
            <p:ph type="dt" idx="6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PlaceHolder 5"/>
          <p:cNvSpPr>
            <a:spLocks noGrp="1"/>
          </p:cNvSpPr>
          <p:nvPr>
            <p:ph type="sldNum" idx="69"/>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A001-5D74-4005-9968-379BB268A39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6" name="Group 2"/>
          <p:cNvGrpSpPr/>
          <p:nvPr/>
        </p:nvGrpSpPr>
        <p:grpSpPr>
          <a:xfrm>
            <a:off x="0" y="0"/>
            <a:ext cx="2666880" cy="6858000"/>
            <a:chOff x="0" y="0"/>
            <a:chExt cx="2666880" cy="6858000"/>
          </a:xfrm>
        </p:grpSpPr>
        <p:sp>
          <p:nvSpPr>
            <p:cNvPr id="100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8" name="Picture 4" descr="slidemaster_med3"/>
            <p:cNvPicPr/>
            <p:nvPr/>
          </p:nvPicPr>
          <p:blipFill>
            <a:blip r:embed="rId2"/>
            <a:stretch/>
          </p:blipFill>
          <p:spPr>
            <a:xfrm>
              <a:off x="0" y="0"/>
              <a:ext cx="2139840" cy="6858000"/>
            </a:xfrm>
            <a:prstGeom prst="rect">
              <a:avLst/>
            </a:prstGeom>
            <a:ln w="0">
              <a:noFill/>
            </a:ln>
          </p:spPr>
        </p:pic>
      </p:grpSp>
      <p:sp>
        <p:nvSpPr>
          <p:cNvPr id="10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1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1" name="PlaceHolder 3"/>
          <p:cNvSpPr>
            <a:spLocks noGrp="1"/>
          </p:cNvSpPr>
          <p:nvPr>
            <p:ph type="dt" idx="70"/>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PlaceHolder 5"/>
          <p:cNvSpPr>
            <a:spLocks noGrp="1"/>
          </p:cNvSpPr>
          <p:nvPr>
            <p:ph type="sldNum" idx="72"/>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DE88-B5CE-485F-BFDD-F0712351A63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Group 2"/>
          <p:cNvGrpSpPr/>
          <p:nvPr/>
        </p:nvGrpSpPr>
        <p:grpSpPr>
          <a:xfrm>
            <a:off x="0" y="0"/>
            <a:ext cx="2666880" cy="6858000"/>
            <a:chOff x="0" y="0"/>
            <a:chExt cx="2666880" cy="6858000"/>
          </a:xfrm>
        </p:grpSpPr>
        <p:sp>
          <p:nvSpPr>
            <p:cNvPr id="105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2" name="Picture 4" descr="slidemaster_med3"/>
            <p:cNvPicPr/>
            <p:nvPr/>
          </p:nvPicPr>
          <p:blipFill>
            <a:blip r:embed="rId2"/>
            <a:stretch/>
          </p:blipFill>
          <p:spPr>
            <a:xfrm>
              <a:off x="0" y="0"/>
              <a:ext cx="2139840" cy="6858000"/>
            </a:xfrm>
            <a:prstGeom prst="rect">
              <a:avLst/>
            </a:prstGeom>
            <a:ln w="0">
              <a:noFill/>
            </a:ln>
          </p:spPr>
        </p:pic>
      </p:grpSp>
      <p:sp>
        <p:nvSpPr>
          <p:cNvPr id="10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5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5" name="PlaceHolder 3"/>
          <p:cNvSpPr>
            <a:spLocks noGrp="1"/>
          </p:cNvSpPr>
          <p:nvPr>
            <p:ph type="dt" idx="7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5"/>
          <p:cNvSpPr>
            <a:spLocks noGrp="1"/>
          </p:cNvSpPr>
          <p:nvPr>
            <p:ph type="sldNum" idx="75"/>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39E1-AA9D-42BB-9AC1-BE112DCAD86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4" name="Group 2"/>
          <p:cNvGrpSpPr/>
          <p:nvPr/>
        </p:nvGrpSpPr>
        <p:grpSpPr>
          <a:xfrm>
            <a:off x="0" y="0"/>
            <a:ext cx="2666880" cy="6858000"/>
            <a:chOff x="0" y="0"/>
            <a:chExt cx="2666880" cy="6858000"/>
          </a:xfrm>
        </p:grpSpPr>
        <p:sp>
          <p:nvSpPr>
            <p:cNvPr id="109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6" name="Picture 4" descr="slidemaster_med3"/>
            <p:cNvPicPr/>
            <p:nvPr/>
          </p:nvPicPr>
          <p:blipFill>
            <a:blip r:embed="rId2"/>
            <a:stretch/>
          </p:blipFill>
          <p:spPr>
            <a:xfrm>
              <a:off x="0" y="0"/>
              <a:ext cx="2139840" cy="6858000"/>
            </a:xfrm>
            <a:prstGeom prst="rect">
              <a:avLst/>
            </a:prstGeom>
            <a:ln w="0">
              <a:noFill/>
            </a:ln>
          </p:spPr>
        </p:pic>
      </p:grpSp>
      <p:sp>
        <p:nvSpPr>
          <p:cNvPr id="10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9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9" name="PlaceHolder 3"/>
          <p:cNvSpPr>
            <a:spLocks noGrp="1"/>
          </p:cNvSpPr>
          <p:nvPr>
            <p:ph type="dt" idx="76"/>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5"/>
          <p:cNvSpPr>
            <a:spLocks noGrp="1"/>
          </p:cNvSpPr>
          <p:nvPr>
            <p:ph type="sldNum" idx="78"/>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382E-E24B-4E9E-BC79-32C65A843DA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0" y="0"/>
            <a:ext cx="2666880" cy="6858000"/>
            <a:chOff x="0" y="0"/>
            <a:chExt cx="2666880" cy="6858000"/>
          </a:xfrm>
        </p:grpSpPr>
        <p:sp>
          <p:nvSpPr>
            <p:cNvPr id="8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slidemaster_med3"/>
            <p:cNvPicPr/>
            <p:nvPr/>
          </p:nvPicPr>
          <p:blipFill>
            <a:blip r:embed="rId2"/>
            <a:stretch/>
          </p:blipFill>
          <p:spPr>
            <a:xfrm>
              <a:off x="0" y="0"/>
              <a:ext cx="2139840" cy="6858000"/>
            </a:xfrm>
            <a:prstGeom prst="rect">
              <a:avLst/>
            </a:prstGeom>
            <a:ln w="0">
              <a:noFill/>
            </a:ln>
          </p:spPr>
        </p:pic>
      </p:grpSp>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037B-FBE5-44EE-9DA0-6F39823E098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titlemaster_med"/>
          <p:cNvPicPr/>
          <p:nvPr/>
        </p:nvPicPr>
        <p:blipFill>
          <a:blip r:embed="rId2"/>
          <a:stretch/>
        </p:blipFill>
        <p:spPr>
          <a:xfrm>
            <a:off x="0" y="0"/>
            <a:ext cx="9144000" cy="6862680"/>
          </a:xfrm>
          <a:prstGeom prst="rect">
            <a:avLst/>
          </a:prstGeom>
          <a:ln w="0">
            <a:noFill/>
          </a:ln>
        </p:spPr>
      </p:pic>
      <p:sp>
        <p:nvSpPr>
          <p:cNvPr id="1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3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F1A9-31D6-4613-BFBB-F41E5DEA3C2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titlemaster_med"/>
          <p:cNvPicPr/>
          <p:nvPr/>
        </p:nvPicPr>
        <p:blipFill>
          <a:blip r:embed="rId2"/>
          <a:stretch/>
        </p:blipFill>
        <p:spPr>
          <a:xfrm>
            <a:off x="0" y="0"/>
            <a:ext cx="9144000" cy="6862680"/>
          </a:xfrm>
          <a:prstGeom prst="rect">
            <a:avLst/>
          </a:prstGeom>
          <a:ln w="0">
            <a:noFill/>
          </a:ln>
        </p:spPr>
      </p:pic>
      <p:sp>
        <p:nvSpPr>
          <p:cNvPr id="17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7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 name="PlaceHolder 3"/>
          <p:cNvSpPr>
            <a:spLocks noGrp="1"/>
          </p:cNvSpPr>
          <p:nvPr>
            <p:ph type="dt" idx="13"/>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F59C-0440-46A2-A380-522209F7595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2"/>
          <p:cNvGrpSpPr/>
          <p:nvPr/>
        </p:nvGrpSpPr>
        <p:grpSpPr>
          <a:xfrm>
            <a:off x="0" y="0"/>
            <a:ext cx="2666880" cy="6858000"/>
            <a:chOff x="0" y="0"/>
            <a:chExt cx="2666880" cy="6858000"/>
          </a:xfrm>
        </p:grpSpPr>
        <p:sp>
          <p:nvSpPr>
            <p:cNvPr id="217"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4" descr="slidemaster_med3"/>
            <p:cNvPicPr/>
            <p:nvPr/>
          </p:nvPicPr>
          <p:blipFill>
            <a:blip r:embed="rId2"/>
            <a:stretch/>
          </p:blipFill>
          <p:spPr>
            <a:xfrm>
              <a:off x="0" y="0"/>
              <a:ext cx="2139840" cy="6858000"/>
            </a:xfrm>
            <a:prstGeom prst="rect">
              <a:avLst/>
            </a:prstGeom>
            <a:ln w="0">
              <a:noFill/>
            </a:ln>
          </p:spPr>
        </p:pic>
      </p:grpSp>
      <p:sp>
        <p:nvSpPr>
          <p:cNvPr id="21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20"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PlaceHolder 3"/>
          <p:cNvSpPr>
            <a:spLocks noGrp="1"/>
          </p:cNvSpPr>
          <p:nvPr>
            <p:ph type="dt" idx="16"/>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EDF1-EE99-48CC-A823-6FFAB52A782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2"/>
          <p:cNvGrpSpPr/>
          <p:nvPr/>
        </p:nvGrpSpPr>
        <p:grpSpPr>
          <a:xfrm>
            <a:off x="0" y="0"/>
            <a:ext cx="2666880" cy="6858000"/>
            <a:chOff x="0" y="0"/>
            <a:chExt cx="2666880" cy="6858000"/>
          </a:xfrm>
        </p:grpSpPr>
        <p:sp>
          <p:nvSpPr>
            <p:cNvPr id="26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4" descr="slidemaster_med3"/>
            <p:cNvPicPr/>
            <p:nvPr/>
          </p:nvPicPr>
          <p:blipFill>
            <a:blip r:embed="rId2"/>
            <a:stretch/>
          </p:blipFill>
          <p:spPr>
            <a:xfrm>
              <a:off x="0" y="0"/>
              <a:ext cx="2139840" cy="6858000"/>
            </a:xfrm>
            <a:prstGeom prst="rect">
              <a:avLst/>
            </a:prstGeom>
            <a:ln w="0">
              <a:noFill/>
            </a:ln>
          </p:spPr>
        </p:pic>
      </p:grpSp>
      <p:sp>
        <p:nvSpPr>
          <p:cNvPr id="2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6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9"/>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A5B0-0B7F-44E3-9C5E-839573787F4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4" name="Group 2"/>
          <p:cNvGrpSpPr/>
          <p:nvPr/>
        </p:nvGrpSpPr>
        <p:grpSpPr>
          <a:xfrm>
            <a:off x="0" y="0"/>
            <a:ext cx="2666880" cy="6858000"/>
            <a:chOff x="0" y="0"/>
            <a:chExt cx="2666880" cy="6858000"/>
          </a:xfrm>
        </p:grpSpPr>
        <p:sp>
          <p:nvSpPr>
            <p:cNvPr id="305"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Picture 4" descr="slidemaster_med3"/>
            <p:cNvPicPr/>
            <p:nvPr/>
          </p:nvPicPr>
          <p:blipFill>
            <a:blip r:embed="rId2"/>
            <a:stretch/>
          </p:blipFill>
          <p:spPr>
            <a:xfrm>
              <a:off x="0" y="0"/>
              <a:ext cx="2139840" cy="6858000"/>
            </a:xfrm>
            <a:prstGeom prst="rect">
              <a:avLst/>
            </a:prstGeom>
            <a:ln w="0">
              <a:noFill/>
            </a:ln>
          </p:spPr>
        </p:pic>
      </p:grpSp>
      <p:sp>
        <p:nvSpPr>
          <p:cNvPr id="30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0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22"/>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5"/>
          <p:cNvSpPr>
            <a:spLocks noGrp="1"/>
          </p:cNvSpPr>
          <p:nvPr>
            <p:ph type="sldNum" idx="24"/>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1F15-042E-423C-AE89-2673E6ED660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Group 2"/>
          <p:cNvGrpSpPr/>
          <p:nvPr/>
        </p:nvGrpSpPr>
        <p:grpSpPr>
          <a:xfrm>
            <a:off x="0" y="0"/>
            <a:ext cx="2666880" cy="6858000"/>
            <a:chOff x="0" y="0"/>
            <a:chExt cx="2666880" cy="6858000"/>
          </a:xfrm>
        </p:grpSpPr>
        <p:sp>
          <p:nvSpPr>
            <p:cNvPr id="349"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4" descr="slidemaster_med3"/>
            <p:cNvPicPr/>
            <p:nvPr/>
          </p:nvPicPr>
          <p:blipFill>
            <a:blip r:embed="rId2"/>
            <a:stretch/>
          </p:blipFill>
          <p:spPr>
            <a:xfrm>
              <a:off x="0" y="0"/>
              <a:ext cx="2139840" cy="6858000"/>
            </a:xfrm>
            <a:prstGeom prst="rect">
              <a:avLst/>
            </a:prstGeom>
            <a:ln w="0">
              <a:noFill/>
            </a:ln>
          </p:spPr>
        </p:pic>
      </p:grpSp>
      <p:sp>
        <p:nvSpPr>
          <p:cNvPr id="3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52"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3" name="PlaceHolder 3"/>
          <p:cNvSpPr>
            <a:spLocks noGrp="1"/>
          </p:cNvSpPr>
          <p:nvPr>
            <p:ph type="dt" idx="25"/>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5"/>
          <p:cNvSpPr>
            <a:spLocks noGrp="1"/>
          </p:cNvSpPr>
          <p:nvPr>
            <p:ph type="sldNum" idx="27"/>
          </p:nvPr>
        </p:nvSpPr>
        <p:spPr>
          <a:xfrm>
            <a:off x="69339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7375-3ACA-4A1A-AE3B-123556042B8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95280" y="1341360"/>
            <a:ext cx="8569440" cy="3456000"/>
          </a:xfrm>
          <a:prstGeom prst="rect">
            <a:avLst/>
          </a:prstGeom>
          <a:solidFill>
            <a:srgbClr val="ffffff">
              <a:alpha val="50000"/>
            </a:srgbClr>
          </a:solidFill>
          <a:ln w="7632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000000"/>
                </a:solidFill>
                <a:uFillTx/>
                <a:latin typeface="Arial"/>
              </a:rPr>
              <a:t>مفهوم القياس</a:t>
            </a:r>
            <a:br>
              <a:rPr sz="6600"/>
            </a:br>
            <a:r>
              <a:rPr b="1" lang="ar-SA" sz="6600" spc="-1" strike="noStrike" u="sng">
                <a:solidFill>
                  <a:srgbClr val="000000"/>
                </a:solidFill>
                <a:uFillTx/>
                <a:latin typeface="Arial"/>
              </a:rPr>
              <a:t>مفهوم الزمن </a:t>
            </a:r>
            <a:endParaRPr b="0" lang="en-US" sz="6600" spc="-1" strike="noStrike">
              <a:solidFill>
                <a:srgbClr val="8c003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1150" name="PlaceHolder 2"/>
          <p:cNvSpPr>
            <a:spLocks noGrp="1"/>
          </p:cNvSpPr>
          <p:nvPr>
            <p:ph/>
          </p:nvPr>
        </p:nvSpPr>
        <p:spPr>
          <a:xfrm>
            <a:off x="2438280" y="1599840"/>
            <a:ext cx="6400800" cy="4708440"/>
          </a:xfrm>
          <a:prstGeom prst="rect">
            <a:avLst/>
          </a:prstGeom>
          <a:noFill/>
          <a:ln w="0">
            <a:noFill/>
          </a:ln>
        </p:spPr>
        <p:txBody>
          <a:bodyPr anchor="t">
            <a:normAutofit fontScale="82000"/>
          </a:bodyPr>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مستوى رياض الاطفال الوقت يدور حول الصباح والليل. ايام الاسبوع، تسلسل الاحداث والاوقات...</a:t>
            </a:r>
            <a:endParaRPr b="0" lang="en-US" sz="3200" spc="-1" strike="noStrike">
              <a:solidFill>
                <a:srgbClr val="000000"/>
              </a:solidFill>
              <a:latin typeface="Arial"/>
            </a:endParaRPr>
          </a:p>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ت مفهوم مجرد، الاطفال يدركون ان بعض الاشياء تستغرق وقتا اطول مقارنة ببعض الاشياء الاخرى،  مثلا وقت اعداد الكيك اطول من وقت اعداد العصير.</a:t>
            </a:r>
            <a:endParaRPr b="0" lang="en-US" sz="3200" spc="-1" strike="noStrike">
              <a:solidFill>
                <a:srgbClr val="000000"/>
              </a:solidFill>
              <a:latin typeface="Arial"/>
            </a:endParaRPr>
          </a:p>
          <a:p>
            <a:pPr marL="281160" indent="-28116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ذه الافكار الاساسية تعد مفتاحا لفهم الساعات والدقائق.</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الزمن </a:t>
            </a:r>
            <a:endParaRPr b="0" lang="en-US" sz="3600" spc="-1" strike="noStrike">
              <a:solidFill>
                <a:srgbClr val="8c0039"/>
              </a:solidFill>
              <a:latin typeface="Arial"/>
            </a:endParaRPr>
          </a:p>
        </p:txBody>
      </p:sp>
      <p:sp>
        <p:nvSpPr>
          <p:cNvPr id="1152" name="PlaceHolder 2"/>
          <p:cNvSpPr>
            <a:spLocks noGrp="1"/>
          </p:cNvSpPr>
          <p:nvPr>
            <p:ph/>
          </p:nvPr>
        </p:nvSpPr>
        <p:spPr>
          <a:xfrm>
            <a:off x="2484360" y="1484280"/>
            <a:ext cx="6400800" cy="4495680"/>
          </a:xfrm>
          <a:prstGeom prst="rect">
            <a:avLst/>
          </a:prstGeom>
          <a:noFill/>
          <a:ln w="0">
            <a:noFill/>
          </a:ln>
        </p:spPr>
        <p:txBody>
          <a:bodyPr anchor="t">
            <a:normAutofit fontScale="83000"/>
          </a:bodyPr>
          <a:p>
            <a:pPr marL="284400" indent="-284400" algn="r" rtl="1">
              <a:lnSpc>
                <a:spcPct val="15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مرحلة الاولى: لا يستطيع الطفل اقامة تسلسل للأحداث المتتابعة عبر الزمن ولكن يلاحظ ان تسلسل الاحداث اليومية تساعده على وعي الزمن. (النوم– الاستيقاظ –الاغتسال - ارتداء الملابس – تناول الطعام)</a:t>
            </a:r>
            <a:endParaRPr b="0" lang="en-US" sz="3200" spc="-1" strike="noStrike">
              <a:solidFill>
                <a:srgbClr val="000000"/>
              </a:solidFill>
              <a:latin typeface="Arial"/>
            </a:endParaRPr>
          </a:p>
          <a:p>
            <a:pPr marL="284400" indent="-284400" algn="r" rtl="1">
              <a:lnSpc>
                <a:spcPct val="15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رحلة الثانية: ما قبل المفاهيم يدرك ان الاسبوع أطول من اليوم ولكن لا يدرك مداه. </a:t>
            </a:r>
            <a:endParaRPr b="0" lang="en-US" sz="3200" spc="-1" strike="noStrike">
              <a:solidFill>
                <a:srgbClr val="000000"/>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 </a:t>
            </a:r>
            <a:r>
              <a:rPr b="0" lang="ar-SA" sz="3600" spc="-1" strike="noStrike">
                <a:solidFill>
                  <a:srgbClr val="8c0039"/>
                </a:solidFill>
                <a:latin typeface="Arial"/>
              </a:rPr>
              <a:t>تقديم مفهوم الزمن في مرحلة رياض الاطفال:</a:t>
            </a:r>
            <a:endParaRPr b="0" lang="en-US" sz="3600" spc="-1" strike="noStrike">
              <a:solidFill>
                <a:srgbClr val="8c0039"/>
              </a:solidFill>
              <a:latin typeface="Arial"/>
            </a:endParaRPr>
          </a:p>
        </p:txBody>
      </p:sp>
      <p:sp>
        <p:nvSpPr>
          <p:cNvPr id="1154" name="PlaceHolder 2"/>
          <p:cNvSpPr>
            <a:spLocks noGrp="1"/>
          </p:cNvSpPr>
          <p:nvPr>
            <p:ph/>
          </p:nvPr>
        </p:nvSpPr>
        <p:spPr>
          <a:xfrm>
            <a:off x="2195640" y="1484280"/>
            <a:ext cx="6400800" cy="449568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طفل بين </a:t>
            </a:r>
            <a:r>
              <a:rPr b="0" lang="ar-SA" sz="3200" spc="-1" strike="noStrike">
                <a:solidFill>
                  <a:srgbClr val="000000"/>
                </a:solidFill>
                <a:latin typeface="Arial"/>
              </a:rPr>
              <a:t>4</a:t>
            </a:r>
            <a:r>
              <a:rPr b="0" lang="ar-SA" sz="3200" spc="-1" strike="noStrike">
                <a:solidFill>
                  <a:srgbClr val="000000"/>
                </a:solidFill>
                <a:latin typeface="Arial"/>
              </a:rPr>
              <a:t>-</a:t>
            </a:r>
            <a:r>
              <a:rPr b="0" lang="ar-SA" sz="3200" spc="-1" strike="noStrike">
                <a:solidFill>
                  <a:srgbClr val="000000"/>
                </a:solidFill>
                <a:latin typeface="Arial"/>
              </a:rPr>
              <a:t>7</a:t>
            </a:r>
            <a:r>
              <a:rPr b="0" lang="ar-SA" sz="3200" spc="-1" strike="noStrike">
                <a:solidFill>
                  <a:srgbClr val="000000"/>
                </a:solidFill>
                <a:latin typeface="Arial"/>
              </a:rPr>
              <a:t>سنوات يستطيع:</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قامة تسلسل لأحداث يقوم بها.</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رتيب صور مجالات نمو النبات والحيوانات.</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لاحظة حالة الطقس.</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رد انشطة يقوم بها الطفل من الصباح وحتى المساء.</a:t>
            </a:r>
            <a:endParaRPr b="0" lang="en-US" sz="3200" spc="-1" strike="noStrike">
              <a:solidFill>
                <a:srgbClr val="000000"/>
              </a:solidFill>
              <a:latin typeface="Arial"/>
            </a:endParaRPr>
          </a:p>
          <a:p>
            <a:pPr marL="305280" indent="-3052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خدام مصطلحات الزمن </a:t>
            </a:r>
            <a:r>
              <a:rPr b="0" lang="ar-SA" sz="3200" spc="-1" strike="noStrike">
                <a:solidFill>
                  <a:srgbClr val="000000"/>
                </a:solidFill>
                <a:latin typeface="Arial"/>
              </a:rPr>
              <a:t>(وقت طويل- وقت قصير)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2438280" y="1600200"/>
            <a:ext cx="6400800" cy="4495680"/>
          </a:xfrm>
          <a:prstGeom prst="rect">
            <a:avLst/>
          </a:prstGeom>
          <a:noFill/>
          <a:ln w="0">
            <a:noFill/>
          </a:ln>
        </p:spPr>
        <p:txBody>
          <a:bodyPr anchor="t">
            <a:normAutofit fontScale="95000"/>
          </a:bodyPr>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اقشة الاطفال حول اوقات الاحداث اليومية، ويمكن استخدام التقريب (قبل الثالثة بقليل- بعد السادسة بقليل..)</a:t>
            </a:r>
            <a:endParaRPr b="0" lang="en-US" sz="3200" spc="-1" strike="noStrike">
              <a:solidFill>
                <a:srgbClr val="000000"/>
              </a:solidFill>
              <a:latin typeface="Arial"/>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مناقشة الطفل: لماذا نحتاج ان نعرف الوقت: </a:t>
            </a:r>
            <a:r>
              <a:rPr b="0" lang="ar-SA" sz="3200" spc="-1" strike="noStrike">
                <a:solidFill>
                  <a:srgbClr val="000000"/>
                </a:solidFill>
                <a:latin typeface="Arial"/>
              </a:rPr>
              <a:t>لمعرفة : وقت السفر- وقت الحضور للروضة- وقت حضور حفلة - تاريخ الاجازة-تاريخ العيد.....</a:t>
            </a:r>
            <a:endParaRPr b="0" lang="en-US" sz="3200" spc="-1" strike="noStrike">
              <a:solidFill>
                <a:srgbClr val="000000"/>
              </a:solidFill>
              <a:latin typeface="Arial"/>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
          <p:cNvSpPr txBox="1"/>
          <p:nvPr/>
        </p:nvSpPr>
        <p:spPr>
          <a:xfrm>
            <a:off x="2411280" y="620280"/>
            <a:ext cx="6400800" cy="4496040"/>
          </a:xfrm>
          <a:prstGeom prst="rect">
            <a:avLst/>
          </a:prstGeom>
          <a:noFill/>
          <a:ln w="0">
            <a:noFill/>
          </a:ln>
        </p:spPr>
        <p:txBody>
          <a:bodyPr anchor="t">
            <a:normAutofit fontScale="84000"/>
          </a:bodyPr>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بعد ان يتعلم الطفل النهار والليل ننتقل الى الاوقات الاخرى: الظهيرة- منتصف الليل......</a:t>
            </a:r>
            <a:endParaRPr b="0" lang="en-US" sz="3200" spc="-1" strike="noStrike">
              <a:solidFill>
                <a:srgbClr val="000000"/>
              </a:solidFill>
              <a:latin typeface="Arial"/>
            </a:endParaRPr>
          </a:p>
          <a:p>
            <a:pPr marL="288000" indent="-2880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نشاط لوحة التقويم وايام الاسبوع:</a:t>
            </a:r>
            <a:r>
              <a:rPr b="0" lang="ar-SA" sz="3200" spc="-1" strike="noStrike">
                <a:solidFill>
                  <a:srgbClr val="000000"/>
                </a:solidFill>
                <a:latin typeface="Arial"/>
              </a:rPr>
              <a:t> كل يوم في الروضة تقوم المعلمة مع الاطفال بتسمية اليوم والشهر، وفي اليوم التالي تذكر باليوم السابق (أمس كان يوم الاثنين ، اذن اليوم هو ....)، ويحرك الطفل العلامة على التقويم ووضعها في اليوم والتاريخ والشهر المناسب مثلا (الاثنين </a:t>
            </a:r>
            <a:r>
              <a:rPr b="0" lang="ar-SA" sz="3200" spc="-1" strike="noStrike">
                <a:solidFill>
                  <a:srgbClr val="000000"/>
                </a:solidFill>
                <a:latin typeface="Arial"/>
              </a:rPr>
              <a:t>9</a:t>
            </a:r>
            <a:r>
              <a:rPr b="0" lang="ar-SA" sz="3200" spc="-1" strike="noStrike">
                <a:solidFill>
                  <a:srgbClr val="000000"/>
                </a:solidFill>
                <a:latin typeface="Arial"/>
              </a:rPr>
              <a:t> محرم)</a:t>
            </a:r>
            <a:endParaRPr b="0" lang="en-US" sz="32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txBox="1"/>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شودة ايام الاسبوع.</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غة الوقت غدا امس احيانا...</a:t>
            </a: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علم المناسبات الخاصة: عيد الفطر, عيد الاضحى, اسماء الشهور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شروع القياس والزمن</a:t>
            </a:r>
            <a:endParaRPr b="0" lang="en-US" sz="3600" spc="-1" strike="noStrike">
              <a:solidFill>
                <a:srgbClr val="8c0039"/>
              </a:solidFill>
              <a:latin typeface="Arial"/>
            </a:endParaRPr>
          </a:p>
        </p:txBody>
      </p:sp>
      <p:sp>
        <p:nvSpPr>
          <p:cNvPr id="1159" name=""/>
          <p:cNvSpPr txBox="1"/>
          <p:nvPr/>
        </p:nvSpPr>
        <p:spPr>
          <a:xfrm>
            <a:off x="2111400" y="1484280"/>
            <a:ext cx="7020000" cy="4495680"/>
          </a:xfrm>
          <a:prstGeom prst="rect">
            <a:avLst/>
          </a:prstGeom>
          <a:noFill/>
          <a:ln w="0">
            <a:noFill/>
          </a:ln>
        </p:spPr>
        <p:txBody>
          <a:bodyPr anchor="t">
            <a:normAutofit fontScale="83000"/>
          </a:bodyPr>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صمم الطالبة وسيلة او لعبة او تجربة تكون ممتعة للطفل وفكرتها مبتكرة  ويقوم الطفل فيها باستخدام  المقاييس غير المقننة مع احضار ادواتها.</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صمم الطالبة ورقة عمل لمفهوم الزمن ويكون هدفها احد الاهداف التالية (ترتيب زمني اولا, ثانيا, الاخير– يحدد الامور التي تستغرق وقت طويل والامور التي تستغرق وقت قصير- يحدد النشاطات التي تحدث في النهار والنشاطات التي تحدث في الليل)</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شروط ورقة العمل (ملونة - فيها مكان لكتابة اسم الطفل - موضح فيها المطلوب بجملة قصيرة)</a:t>
            </a:r>
            <a:endParaRPr b="0" lang="en-US" sz="2400" spc="-1" strike="noStrike">
              <a:solidFill>
                <a:srgbClr val="000000"/>
              </a:solidFill>
              <a:latin typeface="Arial"/>
            </a:endParaRPr>
          </a:p>
          <a:p>
            <a:pPr marL="284400" indent="-284400" algn="r" rtl="1">
              <a:lnSpc>
                <a:spcPct val="115000"/>
              </a:lnSpc>
              <a:spcBef>
                <a:spcPts val="601"/>
              </a:spcBef>
              <a:spcAft>
                <a:spcPts val="1001"/>
              </a:spcAft>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دم الطالبة تحضير لنشاط.</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د القياس من أكثر المهارات الرياضية نفعاً وتوظيفاً في حياتنا اليومية،  والقياس يتضمن توظيف الأعداد والعد للأشياء بحيث يمكن مقارنتها لخواصها مثل: الحجم ، الوزن، الطول ، الحرارة...الخ.</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p:nvPr>
        </p:nvSpPr>
        <p:spPr>
          <a:xfrm>
            <a:off x="2438280" y="1600200"/>
            <a:ext cx="6400800" cy="4495680"/>
          </a:xfrm>
          <a:prstGeom prst="rect">
            <a:avLst/>
          </a:prstGeom>
          <a:noFill/>
          <a:ln w="0">
            <a:noFill/>
          </a:ln>
        </p:spPr>
        <p:txBody>
          <a:bodyPr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فل يتعامل مع مهارات القياس في الحياة اليومية مثل يشرب كوب حليب مساء، يشاهد امه تشتري كيلو جرام من الدقيق، يقيس الطفل وزنه أو طوله في العيادة، وتقاس له درجة الحرارة... الخ.</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مراحل نمو مفاهيم القياس:</a:t>
            </a:r>
            <a:endParaRPr b="0" lang="en-US" sz="3600" spc="-1" strike="noStrike">
              <a:solidFill>
                <a:srgbClr val="8c0039"/>
              </a:solidFill>
              <a:latin typeface="Arial"/>
            </a:endParaRPr>
          </a:p>
        </p:txBody>
      </p:sp>
      <p:sp>
        <p:nvSpPr>
          <p:cNvPr id="1142" name="PlaceHolder 2"/>
          <p:cNvSpPr>
            <a:spLocks noGrp="1"/>
          </p:cNvSpPr>
          <p:nvPr>
            <p:ph/>
          </p:nvPr>
        </p:nvSpPr>
        <p:spPr>
          <a:xfrm>
            <a:off x="2438280" y="1600200"/>
            <a:ext cx="6400800" cy="4495680"/>
          </a:xfrm>
          <a:prstGeom prst="rect">
            <a:avLst/>
          </a:prstGeom>
          <a:noFill/>
          <a:ln w="0">
            <a:noFill/>
          </a:ln>
        </p:spPr>
        <p:txBody>
          <a:bodyPr anchor="t">
            <a:normAutofit fontScale="83000"/>
          </a:bodyPr>
          <a:p>
            <a:pPr marL="284400" indent="-28440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رحلة الأولى: </a:t>
            </a:r>
            <a:r>
              <a:rPr b="1" lang="ar-SA" sz="2800" spc="-1" strike="noStrike">
                <a:solidFill>
                  <a:srgbClr val="000000"/>
                </a:solidFill>
                <a:latin typeface="Arial"/>
              </a:rPr>
              <a:t>(مرحلة اللعب)، وفيها يقلد الطفل الأطفال الاكبر سنا والبالغين، فيلعب بمسطرة القياس،  ويقوم بالقياس بالأكواب او الميزان مثلما يشاهد الآخرين، حيث يقوم بسكب الرمل والحبوب من وعاء الى آخر مستكشفاً خواص الحجم، ويرفع الأشياء مستكشفاً خواص الوزن، كما أنه يلاحظ ان ذراعه قصيرة لا يمكن ان تصل الى مكان معين وان اخيه الأكبر ذراعه أطول، كما يبدأ باستيعاب مفهوم  الحرارة فهو يحب الاستحمام بالماء البارد، ويحب الطعام ساخناً وهكذا.</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p:nvPr>
        </p:nvSpPr>
        <p:spPr>
          <a:xfrm>
            <a:off x="2438280" y="1600200"/>
            <a:ext cx="6400800" cy="4495680"/>
          </a:xfrm>
          <a:prstGeom prst="rect">
            <a:avLst/>
          </a:prstGeom>
          <a:noFill/>
          <a:ln w="0">
            <a:noFill/>
          </a:ln>
        </p:spPr>
        <p:txBody>
          <a:bodyPr anchor="t">
            <a:normAutofit fontScale="96000"/>
          </a:bodyPr>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ثانية: </a:t>
            </a:r>
            <a:r>
              <a:rPr b="1" lang="ar-SA" sz="3200" spc="-1" strike="noStrike">
                <a:solidFill>
                  <a:srgbClr val="000000"/>
                </a:solidFill>
                <a:latin typeface="Arial"/>
              </a:rPr>
              <a:t>تتضمن هذه المرحلة القيام </a:t>
            </a:r>
            <a:r>
              <a:rPr b="1" lang="ar-SA" sz="3200" spc="-1" strike="noStrike">
                <a:solidFill>
                  <a:srgbClr val="ff0000"/>
                </a:solidFill>
                <a:latin typeface="Arial"/>
              </a:rPr>
              <a:t>بإجراء مقارنات</a:t>
            </a:r>
            <a:r>
              <a:rPr b="1" lang="ar-SA" sz="3200" spc="-1" strike="noStrike">
                <a:solidFill>
                  <a:srgbClr val="000000"/>
                </a:solidFill>
                <a:latin typeface="Arial"/>
              </a:rPr>
              <a:t>، حيث يدرك الطفل عادة مفاهيم المقارنة مثل، أكبر من / اقل من / اثقل من / اخف من / اطول من / اقصر من / اكثر حرارة / اكثر برودة...... وهكذا يستطيع الطفل توظيف علاقات المقارنة في مواقف يومية.</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p:nvPr>
        </p:nvSpPr>
        <p:spPr>
          <a:xfrm>
            <a:off x="2484360" y="260280"/>
            <a:ext cx="6400800" cy="4711680"/>
          </a:xfrm>
          <a:prstGeom prst="rect">
            <a:avLst/>
          </a:prstGeom>
          <a:noFill/>
          <a:ln w="0">
            <a:noFill/>
          </a:ln>
        </p:spPr>
        <p:txBody>
          <a:bodyPr anchor="t">
            <a:normAutofit fontScale="71000"/>
          </a:bodyPr>
          <a:p>
            <a:pPr marL="243360" indent="-243360" algn="r" rtl="1">
              <a:lnSpc>
                <a:spcPct val="15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رحلة الثالثة: </a:t>
            </a:r>
            <a:r>
              <a:rPr b="1" lang="ar-SA" sz="2800" spc="-1" strike="noStrike">
                <a:solidFill>
                  <a:srgbClr val="000000"/>
                </a:solidFill>
                <a:latin typeface="Arial"/>
              </a:rPr>
              <a:t>تبدأ في نهاية مرحلة ما قبل العمليات وفي بداية مرحلة العمليات المحسوسة، وفيها يتعلم الطفل استخدام وحدات القياس غير المقننة بمعنى شيء يمتكله الطفل ويمكن ان يستخدم كوحدة قياس، مثل ان يحاول الطفل ايجاد كم عدد فناجين الرمل التي تملأ علبة حليب فارغة، كم فرشة اسنان تمثل طول قدمه، وبنمو استخدام الطفل للوحدات غير المقننة يتعلم مفاهيم وعلاقات جديدة يحتاج فهمها الى استخدام الطفل وحدات القياس المقننة.</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p:nvPr>
        </p:nvSpPr>
        <p:spPr>
          <a:xfrm>
            <a:off x="2438280" y="1600200"/>
            <a:ext cx="6400800" cy="4495680"/>
          </a:xfrm>
          <a:prstGeom prst="rect">
            <a:avLst/>
          </a:prstGeom>
          <a:noFill/>
          <a:ln w="0">
            <a:noFill/>
          </a:ln>
        </p:spPr>
        <p:txBody>
          <a:bodyPr anchor="t">
            <a:normAutofit fontScale="86000"/>
          </a:bodyPr>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رابعة: </a:t>
            </a:r>
            <a:r>
              <a:rPr b="1" lang="ar-SA" sz="3200" spc="-1" strike="noStrike">
                <a:solidFill>
                  <a:srgbClr val="000000"/>
                </a:solidFill>
                <a:latin typeface="Arial"/>
              </a:rPr>
              <a:t>عندما يدخل الطفل مرحلة العمليات الحسية تبدأ الحاجة لديه باستخدام وحدات قياس مقنن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مرحلة الخامسة: </a:t>
            </a:r>
            <a:r>
              <a:rPr b="1" lang="ar-SA" sz="3200" spc="-1" strike="noStrike">
                <a:solidFill>
                  <a:srgbClr val="000000"/>
                </a:solidFill>
                <a:latin typeface="Arial"/>
              </a:rPr>
              <a:t>وهي تبدأ في مرحلة العمليات وفيها يفهم الطفل ويستخدم الوحدات المقننة للقياس مثل السنتيمتر والمتر واللتر</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p:nvPr>
        </p:nvSpPr>
        <p:spPr>
          <a:xfrm>
            <a:off x="2340000" y="907560"/>
            <a:ext cx="6400800" cy="4496040"/>
          </a:xfrm>
          <a:prstGeom prst="rect">
            <a:avLst/>
          </a:prstGeom>
          <a:noFill/>
          <a:ln w="0">
            <a:noFill/>
          </a:ln>
        </p:spPr>
        <p:txBody>
          <a:bodyPr anchor="t">
            <a:normAutofit fontScale="76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17b"/>
                </a:solidFill>
                <a:latin typeface="Arial"/>
              </a:rPr>
              <a:t>كيف يفكر الطفل حول القياس</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جارب بياجية مثل تجربة أوعية الماء تثبت ان الأطفال لا زال تفكيرهم حدسي، ولا يستطيعون الاحتفاظ بالصورة في مخيلتهم، وبذلك لا يستطيعون الاحتفاظ بثبات الكم ،،،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أطفال تفكيرهم حدسي مثلا لو احضرت كرتين كرة مطاط وكرة تنس وسألت الطفل ايهما اثقل فالطفل سيتأثر بالحجم فسيختار الكرة ذات الحجم الاكبر ويقول انها اثقل بغض النظر عن الوزن.</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rPr>
              <a:t>الأنشطة:</a:t>
            </a:r>
            <a:endParaRPr b="0" lang="en-US" sz="3600" spc="-1" strike="noStrike">
              <a:solidFill>
                <a:srgbClr val="8c0039"/>
              </a:solidFill>
              <a:latin typeface="Arial"/>
            </a:endParaRPr>
          </a:p>
        </p:txBody>
      </p:sp>
      <p:sp>
        <p:nvSpPr>
          <p:cNvPr id="1148" name="PlaceHolder 2"/>
          <p:cNvSpPr>
            <a:spLocks noGrp="1"/>
          </p:cNvSpPr>
          <p:nvPr>
            <p:ph/>
          </p:nvPr>
        </p:nvSpPr>
        <p:spPr>
          <a:xfrm>
            <a:off x="2556000" y="1267920"/>
            <a:ext cx="6400800" cy="4496040"/>
          </a:xfrm>
          <a:prstGeom prst="rect">
            <a:avLst/>
          </a:prstGeom>
          <a:noFill/>
          <a:ln w="0">
            <a:noFill/>
          </a:ln>
        </p:spPr>
        <p:txBody>
          <a:bodyPr anchor="t">
            <a:normAutofit fontScale="78000"/>
          </a:bodyPr>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شطة المقارنات: اكبر اصغر- اخف اثقل اطول قصر..الخ- مثلا: اطلب من الطفل تمرير الكرة الكبيرة او التقاط المربع الصغير وتمييز الأحجام باللمس.</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مفاهيم الاساسية للقياس:</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مفاهيم الحجم (كبير وصغير)</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ثانياُ: مفاهيم الطول (طويل وقصير)</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ثالثاُ: مفاهيم العرض (واسع وضيق)</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ابعا: مفاهيم السمك (سميك و رقيق (نحيف) </a:t>
            </a:r>
            <a:endParaRPr b="0" lang="en-US" sz="2400" spc="-1" strike="noStrike">
              <a:solidFill>
                <a:srgbClr val="000000"/>
              </a:solidFill>
              <a:latin typeface="Arial"/>
            </a:endParaRPr>
          </a:p>
          <a:p>
            <a:pPr marL="267480" indent="-267480" algn="r" rtl="1">
              <a:lnSpc>
                <a:spcPct val="15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خامساَ: مفاهيم السعة (مليان فارغ)</a:t>
            </a:r>
            <a:endParaRPr b="0" lang="en-US" sz="2400" spc="-1" strike="noStrike">
              <a:solidFill>
                <a:srgbClr val="000000"/>
              </a:solidFill>
              <a:latin typeface="Arial"/>
            </a:endParaRPr>
          </a:p>
          <a:p>
            <a:pPr marL="267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20:46:36Z</dcterms:created>
  <dc:creator>Hala</dc:creator>
  <dc:description/>
  <dc:language>en-US</dc:language>
  <cp:lastModifiedBy>Lama Aljathlan</cp:lastModifiedBy>
  <dcterms:modified xsi:type="dcterms:W3CDTF">2016-12-13T09:27:46Z</dcterms:modified>
  <cp:revision>32</cp:revision>
  <dc:subject/>
  <dc:title>مفهوم القياس</dc:title>
</cp:coreProperties>
</file>