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2B3CC-EDAD-4143-8015-1D750C071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0E62F-CAE7-4B0D-9309-75031F876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D49D06-21F8-4D54-A339-798CF002C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9BBB3E-628D-4FA4-AB3C-44B5FAA212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F2B34B-1254-4FA4-A51E-7F9952BCA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6E8D2-27E6-4F2B-9784-09CC35CF6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24665-8607-412E-BD87-C08C7469D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F1F8C-3F66-435E-BF0F-52429B48B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00C04-FD2A-4495-A641-9FB74B2628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FE890A-31D4-4835-9246-9B527A8B76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5EBC59-03BC-4496-B78D-D63002513E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6D5495-D95F-4DD0-B9F4-ABAC0E4830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FBBD2-8241-46C1-B88D-84E83795E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2B86AD-019E-4764-A912-A059AD8F49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CE302F-2513-4138-A535-F704F74061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54979A-A488-4CEB-AA44-4E8B7476C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1C70C3-2555-48C1-82AF-F966709D4A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93142C-1479-4CEF-9CC4-622125ACF5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9790C3-B833-414F-9A9F-B75A779246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103E09-C8B7-4068-BE3E-94AF8047AA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D3BF9-7772-4F08-93E0-D9F718AF0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904619-EC85-448A-83A5-47208869D9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9EEC9B-8DFA-45B6-A3FD-417D592602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001B2-B481-4A34-8E08-4750338BE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CE2621-06EC-4E0D-905B-A73076335F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E20D30-AD02-450E-96BE-51632B8719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3273D7-AE87-42E8-8588-26B565211A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936980-FB4A-4C63-8E1B-63F8C80F05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2EBD85-2B4A-4A82-BA5D-74A3CEC3F1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F0E609-FAC3-4B62-8A92-AEB2FABA3C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99D01F-7D13-4E37-BE3D-41C8BEF702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17CBD7-246C-4B24-B4A2-00A791B64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8AAA0-C89B-4E6B-883F-691C8248B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F4FD86-F524-4FD4-927D-35ACA8163D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779E2-A8B7-4FD4-A44F-C355B771B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DC4497-B7C5-4F8E-B33B-F9AE5A5F89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195B1B-E5CC-4865-96AC-095F16891D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5A94F9-80DB-4D94-A553-0566EF74ED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AA168E-1F80-4028-A51C-A52B9C3A17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D10488-04C8-4A9A-ABD2-2D668E3468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65D3BE-5DB8-4869-AAF5-9CCD028988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800673-C939-4D00-AD9E-3ADAC65F5C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99EB77-1900-44FC-B6F3-0053BE5B4C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A086FB-6EFC-416C-BD5A-100B59A26F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B3E93A-3502-4CE0-BCCC-67FF7186B1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A4AB6-A4E3-4267-A8FE-4A5C18ED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B1C287-50F3-491F-BC69-C32A78EA5E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8EDC4E-095A-4A12-841C-6B9E2DAABB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5F9888-FD82-466A-A7B0-598E0EC36A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C266CA-E12B-48AD-83EA-3719200670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5719A0-496D-44D2-A116-93C0E67E7D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78BFB4-02E6-4EB6-96D4-28E0C47276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A7CA2D-38BD-43C3-8158-39AD65AC5A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589AD2-3DCF-4040-926F-88CDEB7F67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3C5996-2747-4ABA-9DD3-D3248CD48B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EEA3ED-2981-4EF7-9808-A2EEC2A00B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05766-EA05-4286-97CF-97679A70C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4461C7-5987-470F-8C15-975ABA0C47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153DBA-D03F-4CBE-A32B-BF5E57AB39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D7EC91-E152-485B-8F53-3A7CB97196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F9A847-0D52-4744-AEE6-344CD6B9BF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1E4C87-456B-4ECA-A04A-3FA1E57029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FCF60D-F592-4C41-8855-50DB46647D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6E1411-7FB2-4831-8E42-5CD81EB1CF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0F67BE6-AB61-408C-B748-C132DD846B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47053E-B712-4FEC-9627-EFD8157C18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D5F0F8-51F9-4224-AB86-4D835BE18A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DB29-5169-4A12-92AF-59F98B0BC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3F456C-CD47-492C-87C0-96E1C37111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4EC3E9-6398-4F11-9B3C-37A4B63C77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B5E80A-0707-4900-9ED5-B75E90D71E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D34CEB-58BB-482C-9753-7D596C2464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EC7BEA-A01F-4703-B1C7-5922FEC607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0E1984-C37A-4F83-99F6-5D201A9751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B3D930-EBED-4903-8A1F-68BD78CEEF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9E6CFE-CEA3-45A9-9AA8-4DE4660A4A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375035-7A79-4134-B15A-061A20D667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BD7717-93A8-46E6-A7D6-53FB5CE003C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D38C6-86EA-4500-97D7-98DAD8AB6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F5D591-28A9-42C0-A9D5-10D3973299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99BE1D-B72C-4EBD-8E12-C87030C8EA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853060-5A34-47E3-A741-AECE3E532F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E1CF61-63AA-4825-A23C-CAD122108C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63784C-21CE-4E60-A10B-E5D69A597B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E0D8BC-A9E3-4909-9B46-9D2F0B50DA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083536-FC92-4168-BC99-CE2E4E4DFF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8C2C41-37FA-46C2-A8D4-CF4BC69628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771718-D5B3-4B62-B002-8A64B2B3EC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58F4CC-6D5C-4CCA-8D97-E4E6610B3EA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6B322-98B8-40F5-B547-15AF38011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00A7E3D-89B3-4C4E-AA44-9A1E265D452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B4D197E-39F4-4B40-8EEF-8F9A5189F09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CE7459-8F2E-4B24-A1F6-5BB29E8DCB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4AB08D-44EC-4589-8F46-E2A6ED47F6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A27D6A-9FA4-4BB5-82D1-7897A95657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0E28EA-BF32-4603-A543-D18DB02B79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A6C69F-484C-4BD0-941D-C2082E9EA8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C8ADAE-3C1E-4A7B-8A09-D6EFCC1C59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1ABB65-CA21-445B-9236-355F8BAD1F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5FB1EA-D40F-40AE-BBD7-5A48C22E20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BCDD5-8947-47DA-92C1-129959C06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693F39-68BF-43BC-8EC3-E19137BD4AD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0BE6F8F-9F7F-4507-81BC-2FBF35300F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AA80B2-33FF-4A1F-85C9-49CF729B91A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95CE15-67AB-44F2-A7B3-3D4ACB4803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605602F-68DE-4DF3-B5AF-93127B44346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5519E42-7D62-48AC-A951-F450837535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6E284C5-1725-48F2-BF1E-A23D008A20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486DC8-489C-47FA-B775-772292D157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9D5899-D4DF-48D7-9198-959FFF6111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23C242-20BE-4EFA-878E-469234B130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BD78-D110-4523-83FB-0A5EBDC9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BEB8-BF37-42B9-B385-A931E1CA0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E3B9DE-A7D3-4EFD-868A-579D80FE0C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536575-F341-4C61-9541-36D965E674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135437-48C3-4419-A6FF-D618A0E565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B98FF2D-4956-4D69-89E1-4E34B7ADCE3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6AADE70-65BE-448D-8232-536589F41B4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AB625C3-E64C-4D09-8F45-7096382255B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E203C91-5E6E-47B0-AFF8-7586EDA57C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B43BFB-99AB-412C-868D-4868A3BCD1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7190BE3-39AB-4AE7-A1BC-3923054A90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598D6F-19A1-4771-AF55-FD578D511D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03987-3593-49E3-AE62-69EECDC43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D6FC5B-6F48-4DF6-A7BA-CCD5567E94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7F4BFA-5425-429C-A999-CB405EFA0F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0509F8-3CE1-4241-A8B6-3E64F5E0C9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1690B8-2BF3-487F-84B0-D1779E5EFB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D326C75-C0CA-4827-ABEE-60AA38FCC8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43C9487-3417-475B-9B16-B05DAB870FE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BBB3755-E9F5-4AE9-9EA7-26143BF2E1D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EE72673-758E-4A8E-89CB-73A74F98EB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641324C-D9F9-44B3-A727-FB0E34D141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224AE58-B4F8-48D2-BE97-E70D1574F0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F5EED-4736-4B4A-A676-B878A767C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C3C7AD-5010-415F-B1EF-834FAEBF87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2823981-AD82-45F7-A8CB-C474300C4B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09AA616-30CB-4AC2-8855-BB647E9AD75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872034-9919-4DCA-B73D-0951D96D87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55BF9A-A56F-4CE6-8D3F-AD3E8A4081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5F2B108-05EC-42E0-948A-66AB870F3D3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CFCD7B0-B954-42AB-873E-D263D8CDA0D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D325000-AF15-4463-BC38-14B7F15567B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CD3D563-F8C8-463D-93F3-CA6F86C8C5E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FA379D8-51C9-4E9A-A9D4-E7D617F292C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2B3E8-D1B7-4366-8D65-8750B08D1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82207C-2EA7-40BD-BEE1-64D7BA938DF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674FFE-79DC-4DE7-AA57-33CD67AB9B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CA75D6-C642-4DFA-A5A8-CAA76909DAC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9630E6B-399F-4087-A770-C89EE29403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B781265-0684-416A-9AE0-220A092853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AC0C28-B840-4DF7-8380-D43E063E76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8A426D-49F0-4728-AFB4-6757C50584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027DBA5-3DEF-4A38-8221-36963BB215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0F956A8-C7BD-47B4-96F9-C22353DE72A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72533B3-7726-4F84-8397-5F4F7D16294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9C4A1-B2F5-4B60-88D3-61255310E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4CBB25D-1147-41C0-AEE0-9319F30698F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5F1EC71-2223-4BE9-A883-E431FFCB332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F03CD7-E279-47F3-A6AC-0C940CCB955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F292A0-25A5-4D97-ABE1-4608E838C8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7FFFF8-E400-490D-8281-A2C9638A9E6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969858C-39B3-4D1A-9CC7-58CE3EBCC40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57719D-E3A3-467F-818F-ECD310F8A0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60CD33-8DA2-4F1C-8118-E876DDCE1E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54D960-0FFD-4804-9593-48F2417DF3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373E01-71AA-4AC0-AF58-5DB00ADCCD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51807-54F7-4D13-8B18-DFADA4828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36E25B-9708-4CDB-A886-BAE2914998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DEEA1F1-ADD6-4A96-B1A1-92154007F30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081A8FB-9DEC-4894-9B1D-398D2A634D3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8F64571-2B22-4BDA-B72E-88C2C403269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DBFD41-EDDD-4D1B-8E8B-110A93143D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F43190F-BE44-497F-B738-CE4870B3C8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8E7216D-60D7-46FC-94D3-61E53599F88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10F7CB1-FCEA-41C4-87C4-B762DCBB44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2DABD60-A1FF-499E-A9EF-D06CDC4DB5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A9A0D0D-BA5C-4853-AB01-43F4654609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3EBC4-3D88-4A35-8FDF-BF0A7169A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5791B6-F522-49B1-ABC5-C23EF346DA4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E43112-1460-4241-B06A-3EB96A45C1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C55974E-72CA-4E4F-A7C4-FAED814B423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51AD062-C8BD-4A99-B76B-C0CBEC55A7E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F80EF04-840A-4F32-A246-27448064B8C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CC7B615-548C-4971-9FED-4310136F766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0581275-10A4-4A52-8C0F-2763FF3BBD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BDCB97D-C720-4BE1-9ABF-3BFE9528510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EA8FE4-89EF-47F6-A42C-BB734EB1A7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568174-6801-4035-B8E9-B3EDFADBAAF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AA2EA-32C2-4424-9B3C-521B8918C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0062D73-BCCD-453C-AF75-3D13B307B23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449D236-5BAA-4568-A406-0BB4ABFF372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261658-805F-4F26-BD97-96C91183DD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20F37E9-C429-4EBC-9C34-3F69C1F1A06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B2F1E02-F28C-4BEE-A802-B2B0A8A81F7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1090C86-23DD-4B11-80BD-8F8EA1F7915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4C75C5A-5442-42B1-98B5-2AA9B8B2C03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B9C036B-7489-4EB7-B1E7-19049153266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84C4C58-D69B-4340-8477-1CAD0722E72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FF4F95-682E-48C8-955C-A5ADA69825E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52C3C-C3EB-40B8-A31A-6FEB7172C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253D35D-8940-4B2D-B5C0-7F962E705AE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A774AF-B925-49B4-A019-12E99C10446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1A398AB-34AF-43E8-B835-A81F53B112D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5170003-7DE2-4320-B905-4C6755DE8F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CE68C2-0085-4556-8EEF-0C51C5DC9B5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338263A-ECF8-435D-933F-271398E039A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4DC156B-825C-40D1-B59F-7CBCE7A446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A86D14B-0430-4DBD-A7B8-9ABE2C6CFB8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6F256C3-72EB-4181-A3D4-ADD0D521A6F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C2CC29A-B584-40AA-A873-08ECA357913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1EBFD-E8FE-49AE-BF3F-003334616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4B2FEE0-C89C-4FB0-8801-E9EF9B5A875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F6E5A71-D5F0-4D7E-A101-6C6E0C5CBCE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C46788F-5B8D-48D3-8D58-292F2FE4CF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333A914-3E7D-4CB7-86B6-31D7C25BCE6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E9210D-6F79-4EE8-90EA-E3F174009DB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80ACEDF-06F1-4203-A23F-7A104628649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55DA404-D83D-444C-9048-607219D372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66D5D0-C2BC-4F5F-BCC9-F5DFC985EFA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7589C94-F4A1-421B-AE50-FD4A3B6504D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9E06CA5-F9B3-4483-8DE4-825411D6FAA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72D11-582B-4765-857C-E8C1F59E3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68189-2944-439D-BEC7-1FD4B4489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E76EF20-A091-45D7-B9BE-60A5A8CDA32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A31D778-C445-4B04-8582-15BE77AFF57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F28317D-B670-4133-8BBB-9E4347248DE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58574BE-33F7-4241-8BF7-0BAF53BF084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6C3DBB2-1B7F-4587-9759-51FE8413208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D43CF50-8B39-4790-A337-2991A49E0D5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4258A0-64E4-4BBB-BA4B-B3413A373D4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664AD0-5419-4D26-ABAB-A3DB23EB05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25FAF82-01A1-40E3-81B0-A94EC4E74A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62D788A-34D6-4229-B9AC-18580C8FADB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C8470-6BAB-4AC7-AA56-98B95B9E3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C0BF6D5-E3DC-47DD-AFCE-87CB78E6FC7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3FFE75D-7721-481E-8A6D-FB81415600F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E40E95A-7F9F-4862-96BA-9F22527A130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6F1E1-00B6-4D6E-AD26-874F7F5F9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99E93-DDA8-4A06-BCD7-32AFE5FA1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6CDAC-A3F0-4B8C-A8F4-A450BB064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22E16-6AB5-493B-B321-D2204DEAC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196B3-7803-42D4-BE74-1AA5DA969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5879A-31E9-45BD-B668-8161539D6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4D8E7-476C-41CF-81F6-D32F08021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A9340-B5FA-4ED9-9F36-E0B04B500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3238-6C38-4A57-8266-D6D209AF8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5741A-EEF8-4BDF-8711-9CDB735F3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5C07D-D31C-4ADC-A366-000AE4DC8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41970-1CEC-4FBF-9E12-870EA906A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6382A-6C56-4307-875D-0A5C1499C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65B08-1C33-4C0F-8DF9-D20A35617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6F342-85BD-4004-8C61-D56DDA63A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C4877-A58B-4238-AEBA-7972AB690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207B82-0EB1-4B2C-B1E1-07ECF91CF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23974D-4733-456A-AA41-448E41DD7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C465D-491A-4712-A543-57D6B82EF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53B9-4759-4144-9C2B-FB23F9C2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D4E8D-9279-4B16-948C-FE21ED461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4697E-E640-40D3-9B12-49C76FC6D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243DC-D7C2-45AB-8A12-FD2C9664C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64946-1134-4526-9BF8-6127376B0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4C56E8-D1B4-450A-8B22-2E6A302A1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F7E83-7954-42D8-B1A3-1535CCBCB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67DD0-346C-4025-BD53-85A7B951B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E317D-BE0E-47F3-A808-259FCBE81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1846B-665C-4FF3-8317-5C2F433BD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72E918-4BAA-48ED-96DD-315163E5B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87F0-27A8-49E9-8DC3-C5999092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495E18-C715-4BC1-B80D-5E68415EB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CAED96-867F-4618-B772-D1EFB0A433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DAE57-D85B-4A60-AE9B-8EC11D619F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CE19D-2C77-416E-8272-88663089DA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2C536-B81F-48B6-96E2-D61BD0C253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B88A4-B105-448E-A6D4-D583DAD91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5EBA9-7B28-42EE-8B5D-88387E9E8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FD9CA-4044-4801-B5FA-D7DF87434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8D882-E997-4A0E-98C3-924EC6F66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D1CC8D-9AB3-4D09-8601-D5287BE1F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B847-C965-4C6D-80B8-B666384E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FBD47-A644-46ED-BBBF-71254B92A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C61538-0A1F-4509-93BA-9E836961C1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1C15DB-F863-4CC5-8F11-6050FBE420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60A74-11EB-402C-96DB-BB2CB72BDA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9651B-DF76-4173-B9CC-A4823E374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36981-B17A-4CD5-B004-C3F967F73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AA89DF-FF28-48B2-BAC3-A092A4458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184FF-33BA-4734-88E6-3D4FB210C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A54A3-E22B-4622-8C32-10463B17D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20C3C-3625-4AD6-9197-DF1602A2D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062C-7980-4FCA-8975-E63F7635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14165-1CEF-4D27-AC9A-D39937A2A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9B6329-B8C3-4D89-99CC-EB1C24155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56121-83A4-4D0E-944E-961B57B21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254F1-D1F8-4920-96DB-6D80614F1E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D622B-AFC7-4A22-B51F-EFC20E4F61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8441D1-5462-4234-AE47-BA59F80CF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D1AB1-AE91-4313-8552-CC49AD3B0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06E43-3120-45AD-A04E-1620E2800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1945EE-6FFA-4A30-8FA8-A340C7AEB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58A0B-11EC-4DAD-A1B1-AE06FA1E7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6080-18ED-47A2-8A07-6F17DEBE4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5C1DB7-20AD-4E4D-8F32-3BF9175B5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72A5F-0938-49EE-B7D1-3504CD844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1BDE7-2D17-49F2-B0CF-7A47FE887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B211F5-5F4A-4F03-9C42-27CC9CD11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666C5-CF7C-4A0E-AB9A-674A348CD7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795A45-E77A-4E3F-94AB-01E32BA9C5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FE513F-9A8D-42F1-9E9F-DD59B0391E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BF003C-A87B-4AAA-BDFA-4F34A8CAD9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CFB933-3829-4389-B63D-94AD46F295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D5F5B1-058B-488B-84AF-6994B47648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022C-B2F9-431A-ACF7-8AD4FB2A68E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3FD1-F980-4476-A3CB-31D90971995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156E-FD0C-495E-9D69-0756ADCF1E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0ACA-3F74-44E3-A307-7822B76B3CD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D5E2-662D-4B34-9FA5-BD5B7916E2E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9543-4C6B-4ECE-B570-99330F02495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37FF-E863-4DD1-805F-B0C943CB906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FF9B-01A0-4D2B-891A-C654203F36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9524-44F2-4A19-B248-60E8BA86DDD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330A-B61B-49C2-9225-CD9F84E666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9D3C-95B7-4943-BC74-F9DA78CC1FB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0C8F-FEA9-47F8-8DD4-73B807D79B2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735B-4C41-4A2F-A6C9-2FCC21CB874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2317-341A-483E-A2EC-FEFD34B37FA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2783-29BA-4299-B6C4-290479C5A25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E65A-8532-435F-80E2-FEC25D841CC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D55E-631E-4FC8-A44A-705DE1A82AD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4A15-B1B2-4A95-824A-656F3E1B058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4D60-0F5C-48F8-8CDA-5E9109A7BD0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02D0-4FBF-410A-900D-D6DBAB8A51C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6926-AA47-4930-941E-F7812C3F0A4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1EED-6666-48DD-90EC-4F5F2F2E4E9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2549-FD96-487E-9A12-B1B2BE73B52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0312-9334-4DF5-A6BC-325A32F3E90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69C0-713F-4277-A426-B570251BE5D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F9EB-5751-4378-B059-2AC1D08B738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ت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6-12-13T09:27:46Z</dcterms:modified>
  <cp:revision>32</cp:revision>
  <dc:subject/>
  <dc:title>مفهوم القياس</dc:title>
</cp:coreProperties>
</file>