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69372-9378-49AA-A1B3-EFF58E378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774D-DAD1-4AA0-AF1B-1D50B7E55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6735-00FD-499B-9C91-87B088874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9213-3247-4131-BB75-D7C4EDEA7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5FD79-CB81-4DBA-B29C-50C27E3A2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72DE-FFAF-4707-9816-21CA59E83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BD66-1348-4508-B03F-FDD20A707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93CC-EB42-4BF4-80C6-367ADA3C0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1CADC-A9D9-4D3C-B5C8-C7800514B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F347-B066-4341-8798-3861DECF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1AC0-80DB-46CB-A9CB-470E836F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40DB-C003-40D8-A60B-9523FEAAD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65E3-20B6-4798-89A6-36A27FF719BB}"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83" name="PlaceHolder 2"/>
          <p:cNvSpPr>
            <a:spLocks noGrp="1"/>
          </p:cNvSpPr>
          <p:nvPr>
            <p:ph type="subTitle"/>
          </p:nvPr>
        </p:nvSpPr>
        <p:spPr>
          <a:xfrm>
            <a:off x="899640" y="2924280"/>
            <a:ext cx="7417080" cy="266544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أ. الاتزان الثابت:- ويقصد به القدرة التي تسمح للطفل بالاحتفاظ بثبات الجسم دون سقوط أو اهتزاز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عند اتخاذ أوضاع معينة.</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ب. الاتزان الحركي:- ويقصد به القدرة التي تسمح للطفل بالتوازن أثناء أداء حركي معين،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تشمل مهارات ثبات واتزان الجسم مهارات كالثني، والمد، والمرجحة، واللف، والدوران، والدحرجة،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الاتزان المقلوب، والاتزان عل قدم واحدة، والمشي على عارضة التوازن.</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بيلي" </a:t>
            </a:r>
            <a:r>
              <a:rPr b="1" lang="en-US" sz="2000" spc="-1" strike="noStrike">
                <a:solidFill>
                  <a:srgbClr val="595959"/>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كريتي " </a:t>
            </a:r>
            <a:r>
              <a:rPr b="1" lang="en-US" sz="2000" spc="-1" strike="noStrike">
                <a:solidFill>
                  <a:srgbClr val="595959"/>
                </a:solidFill>
                <a:latin typeface="Arial Narrow"/>
              </a:rPr>
              <a:t>Creaty</a:t>
            </a:r>
            <a:r>
              <a:rPr b="1" lang="ar-SA" sz="2000" spc="-1" strike="noStrike">
                <a:solidFill>
                  <a:srgbClr val="595959"/>
                </a:solidFill>
                <a:latin typeface="Arial Narrow"/>
              </a:rPr>
              <a:t> 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85"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87"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ama Aljathlan</cp:lastModifiedBy>
  <dcterms:modified xsi:type="dcterms:W3CDTF">2016-04-07T06:24:51Z</dcterms:modified>
  <cp:revision>10</cp:revision>
  <dc:subject/>
  <dc:title>الشريحة 1</dc:title>
</cp:coreProperties>
</file>