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9DE-E322-4A61-B59B-1EBFCD04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395-04C0-4BA3-8536-9FDCBA0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79DCC-CA36-478C-893E-7F0681EF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9E148-0D5E-4EA6-AF60-2EA2C60C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0722F-C2C6-4DC1-B113-B722762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336F9-735D-4AE9-9A2D-F2540D7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B8A8-2902-443B-B1DC-B8E414F5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A74DD-0E90-4580-8918-787D1D1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E305D-BD4C-4DBE-9223-8AA2725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9A75A-211C-48C5-BE70-58C6B409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8AE8C-FC7A-4C54-93A2-BFE46B4D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2E45-3A30-49E3-900B-E003DFBC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1FC-1F6E-454C-814A-0D9C29E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F1118-17F9-47F4-A71E-98A7BCEA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1D0CE-C763-43E9-B4C2-7309E309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94B72-05FB-4594-96D2-EF7826B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2BD7D-C02E-41E3-950F-6495BFC4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21E5A-52BB-4FFB-A30A-0A99E32A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43CBC-0E43-4A49-A60A-8B0968A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FAED1-D7F3-4062-8A3F-71C137E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2651-D7AC-43FA-8803-66EC0BA0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54C00-6151-4F95-9C2F-D08ED73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69282-E775-4CDD-A7C8-ED54108A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523-CCD6-4237-B524-AC6A65B3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DD54-7C1E-4F0B-B592-FE265DB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64CD-6B97-465B-AA72-A4C69D15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339C7-D89F-4196-82CF-708F3FE5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4ED4-C4B3-47B4-98FB-347B34B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8BD07-AA56-4429-A664-99726AA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13213-2652-45FF-B494-14ECABF1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C6F2C-6359-4E0D-9C52-2BD349A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B558E-9736-42B2-9876-9B68027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CCD30-4AD8-4959-8C07-29E4772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9883B-6F13-4552-932F-4F5D6BDD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FC6-CF46-4B8B-B810-656695DA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4F6E-3B20-473F-8E73-BA14587F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2A2E-554B-4392-B1DF-6B864DFB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5AC05-A99F-427F-A7D6-12B62E4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27827-ACB4-49A3-BAD8-EFD1252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FCECB-183E-4A72-96D3-40F89CE1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5D4B-18B5-405B-867E-4F753512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63E1F-B85A-4714-8F63-7EE7A6CF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8E175-A461-4FE6-9624-EB83B86E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45D5E-5862-45C1-9868-DDD9D9D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AD144-E14C-43B3-BA65-12572EF7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38A-0646-479C-AA7E-59C556C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EF0C3-5AD7-4883-9E67-0830781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A03E7-C420-49B7-A91B-549CB29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9652A-9361-4DB9-88C3-33D4813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7E2EF-6F6A-4B1F-BA8A-F959BB09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E3808-379E-42C3-A777-2ACD525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008-8A45-46D5-B49D-B13B54A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B98-BB30-45FB-8704-14EF39C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62DF-21FA-422E-82DD-966C502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9DF9-9FFE-429B-936C-ECA9F53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900-CE97-423B-B829-B2BA001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B3E-B2E7-45B4-9562-F2FEC41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839B-C1B5-4E89-8F86-910BFC3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5C0C-5519-49BB-827A-2B2FD55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0FE-D91F-42F4-8BC4-2B55FFF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F45D-D927-4F80-B08D-B1168AA3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B0A-4B97-4056-820B-A28ECAA9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91FF-5AE2-480A-944E-ABE34D01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0D24-4C96-45AB-AF42-9F347FBE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4E28-20EA-4876-9C7A-8358178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3671-2BD3-493A-A544-FF6F4B3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7130-24D9-4B32-9FFE-B930F00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BA-F713-40D4-BE35-4F4E941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28A2-B899-49F6-A53C-CB83969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0821-FE90-4E12-82EE-37BD1BF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F07F-9B6C-4FE2-BBEC-836F95E1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DB74-1F6C-40EE-A5A4-C70702C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367E-C1C1-4518-8897-DD2D5BC8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E0A4-E468-482F-9C47-395A988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58EA-7AC9-41C8-8E1E-308BA26A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CFD64-E7EB-482D-8327-9C29D808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C785-DC7B-4EAE-80DC-47696D9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D83E-DB9A-4616-BC76-BCA8D94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7F-5BC8-49BD-8CD7-BE371794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ECA9-5C14-470C-AA8B-EE8E767E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0B8B-BE3E-42E6-AC5F-1493DA2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A7A6-D5A9-4EE7-8119-2E9DA32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279F-AB6B-433C-9E76-D7A3499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E489-07EA-4131-BBEF-3EBA350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1409-D803-4414-8B44-83980B2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635C-8F72-44EE-B5E2-5CE1D39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9CE3-83DE-4840-B349-39FF07CF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EE6F-4D38-4384-A370-868F49A0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DD45-971F-47C4-805C-0EDE7439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03F-A643-4E55-9CCA-1E8408B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5F90-68DE-4F35-8431-852B5E8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52A4-36BA-4F88-B3AD-62415FA1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44B77-8A77-4B26-ACAF-194C7D8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1CC16-F968-4D5F-B550-17EA096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91936-58C0-40B0-ADED-BA8D5C3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BC7A-F2E4-4449-AB78-4247E4A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EC8D-7669-4FA1-B5D8-16E61B2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73D3-0D77-4E2C-9894-A244F94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0712-F4B4-4601-A073-2857B89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E8A1-2939-47EF-AF05-063FD799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9C7-2A70-4223-B5CE-CFD758E7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8D54-1DC4-450D-9A07-1A2D0ED4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7408-2941-4432-B0E9-63CC427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FA5E8-F9EE-475A-98A9-57FF81C9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2D483-56AF-4733-96CE-393DC1C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AB59-C51D-482E-B8D6-E9C4CC4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6D93-1B55-404E-8E6C-B73A68F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55AA-BDF7-44F5-99C5-574D02F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59FF-F700-4470-89D9-1E21AF4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8E29-54F7-4F18-927F-49272BD8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B8A3-5AA6-4E0B-867B-8E1AFB4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4D5-8FE4-45EF-9E44-30B1D859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D84B-86A2-412E-BC6E-F8F1AF2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12BEF-28BA-40CD-8C5D-DAED4AEF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2DFC-5F4B-4C17-8795-2C7430BE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BC62-63CD-4307-971B-466F068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6F74B-0402-4995-A1A0-4E8D906B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CB440-3B52-45F6-A920-38BCA6C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BE51E-C38E-4C47-B06F-6F77B04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E871-AFBE-4CF2-B90E-F95392D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999BD-2379-48E9-9C71-DE98AD0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59D2-49E7-42B5-8C52-2DA9B63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6B6-E56A-49E7-AB8F-09B0A14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2405B-24B1-4446-80C6-FB5ED23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365A-8709-4725-96CF-18BDD5D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3B49-135C-4B7A-83C8-E29D9A97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9C05-569C-406A-BE27-776589A0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A761-EF34-4CB9-B3E2-7AE1BA63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9E52-7520-4793-9505-35C375BA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17F5B-1B93-41FC-9048-18A952C2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FF395-6654-435A-A282-70BB928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DA6D-FF8A-4F72-AB45-F63887F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8E92-20B2-41D4-9E2A-DA02B54C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037-816B-4AF4-99E1-C37F249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4E4C-6A66-4367-9BF1-8842DC82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E8CE-F649-4AC7-B29D-52FE3C9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64BE7-73EF-4A24-B11F-677242A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A1BD-FD27-456A-AFB1-266B0F6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7EC3F-E9CE-448B-9CBA-9D193F0F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EB4F-024D-4CB2-A541-2F450C0F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9145-2562-4AC8-B277-64E9FA8B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184D6-B089-4CA5-9627-0FFA8C0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3EC90-46E2-42E4-A41B-812CDF9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174D-C8AC-4890-9405-43FF345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068-7742-4059-AC3D-79E0BB5361F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CBC-7266-4877-BBFB-6F0A600F88E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F11-1AF8-4A8B-9465-F0284D7BD82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6DD-A5E6-4396-93CA-B625A3B3454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F26C-6426-4425-A28B-EDD587D7D0E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7711-1749-4365-8BE8-94F3B6E83B4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2E92-B54D-4140-B8DA-AB6DB101C77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E12-0AE6-4232-9D04-0D1778A6C8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DA6-7EEC-4C1B-B307-D3D8C7A4D82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04A-FF65-4E21-85A7-37DB159BABD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8F1-0402-4137-92D8-C9CE89106DF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4A8-A253-41DC-BAFA-AE6C8B31A61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ffffff"/>
                </a:solidFill>
                <a:latin typeface="Franklin Gothic Book"/>
              </a:rPr>
              <a:t>مفهوم القياس والزمن</a:t>
            </a:r>
            <a:r>
              <a:rPr b="1" lang="ar-SA" sz="59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5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39640" y="115920"/>
            <a:ext cx="8460000" cy="65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Perpetua"/>
              </a:rPr>
              <a:t>كيف يفكر الطفل حول القياس؟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جارب بياجية مثل تجربة أوعية الماء تثبت ان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 الأطفال لا زال تفكيرهم حدسي، ولا يستطيعون الاحتفاظ بالصورة في مخيلتهم، وبذلك لا يستطيعون الاحتفاظ بثبات الكم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ثلا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لو احضرت كرتين كرة مطاط وكرة تنس، وسألت الطفل ايهما اثقل فالطفل سيتأثر بالحجم فسيختار الكرة ذات الحجم الاكبر ويقول انها اثقل بغض النظر عن الوزن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-1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الأنشطة</a:t>
            </a: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000" y="1267920"/>
            <a:ext cx="827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نشطة المقارنات: اكبر اصغر- اخف اثقل اطول قصر..الخ- مثلا: اطلب من الطفل تمرير الكرة الكبيرة او التقاط المربع الصغير وتمييز الأحجام باللمس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Perpetua"/>
              </a:rPr>
              <a:t>المفاهيم الاساسية للقياس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ولا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حجم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كبير وصغير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ثانياُ: مفاهيم ا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لطول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طويل وقصير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ثالثاُ: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عرض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واسع وضيق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رابعا: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سمك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سميك و رقيق (نحيف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خامساَ: مفاهيم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 السعة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مليان فارغ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6464"/>
                </a:solidFill>
                <a:latin typeface="Franklin Gothic Book"/>
              </a:rPr>
              <a:t>https://kgoo.blogspot.com/2014/05/blog-post.html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4" name="Picture 2" descr="https://1.bp.blogspot.com/-Op3CrXmOtbU/U4Q9LWMibdI/AAAAAAAAG6I/bqPzvVe4DF8/s1600/%D9%83%D9%8A%D9%84%D9%88-%D8%AC%D8%B1%D8%A7%D9%85_%D8%AD%D8%AC%D8%A7%D8%B1%D8%A9_%D9%85%D9%8A%D8%B2%D8%A7%D9%86_%D8%B7%D9%81%D9%84_%D9%83%D9%86%D8%B2_%D9%88%D8%AD%D8%AF%D8%A7%D8%AA_%D8%A7%D9%84%D9%82%D9%8A%D8%A7%D8%B3_%D8%AA%D8%B9%D9%84%D9%8A%D9%85_%D8%A7%D9%84%D8%A7%D8%B7%D9%81%D8%A7%D9%84_%D8%B5%D9%88%D8%B1_%D8%A7%D9%84%D8%A7%D9%88%D8%B2%D8%A7%D9%86_%D8%B1%D9%8A%D8%A7%D8%B6+%D8%A7%D8%B7%D9%81%D8%A7%D9%84_%D9%85%D9%88%D8%B6%D9%88%D8%B9_%D9%88%D8%AD%D8%AF%D8%A7%D8%AA_%D9%85%D9%8A%D8%B2%D8%A7%D9%86.png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6" name="Picture 2" descr="https://1.bp.blogspot.com/-mLkBJz3wF28/U4Q-cSjaNSI/AAAAAAAAG6Q/GmLYtqU6Q9Q/s1600/%D8%B4%D9%8A%D8%AA-%D9%83%D9%8A%D9%84%D9%88-%D8%AC%D8%B1%D8%A7%D9%85_%D8%AD%D8%AC%D8%A7%D8%B1%D8%A9_%D9%85%D9%8A%D8%B2%D8%A7%D9%86_%D8%B7%D9%81%D9%84_%D9%83%D9%86%D8%B2_%D9%88%D8%AD%D8%AF%D8%A7%D8%AA_%D8%A7%D9%84%D9%82%D9%8A%D8%A7%D8%B3_%D8%AA%D8%B9%D9%84%D9%8A%D9%85_%D8%A7%D9%84%D8%A7%D8%B7%D9%81%D8%A7%D9%84_%D8%B5%D9%88%D8%B1_%D8%A7%D9%84%D8%A7%D9%88%D8%B2%D8%A7%D9%86_%D8%B1%D9%8A%D8%A7%D8%B6+%D8%A7%D8%B7%D9%81%D8%A7%D9%84_%D9%85%D9%88%D8%B6%D9%88%D8%B9_%D9%88%D8%AD%D8%AF%D8%A7%D8%AA_%D9%85%D9%8A%D8%B2%D8%A7%D9%86.png"/>
          <p:cNvPicPr/>
          <p:nvPr/>
        </p:nvPicPr>
        <p:blipFill>
          <a:blip r:embed="rId1"/>
          <a:stretch/>
        </p:blipFill>
        <p:spPr>
          <a:xfrm>
            <a:off x="2627280" y="-7920"/>
            <a:ext cx="44658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9" name="Picture 2" descr="http://www.mathworksheets4kids.com/heavy-light/cut-paste-large.png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24000" y="201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96464"/>
                </a:solidFill>
                <a:latin typeface="Franklin Gothic Book"/>
              </a:rPr>
              <a:t>الزمن</a:t>
            </a:r>
            <a:r>
              <a:rPr b="1" lang="ar-SA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في مستوى رياض الأطفال الوقت يدورحول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 الصباح والليل. ايام الاسبوع، تسلسل الاحداث والاوقات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وقت مفهوم مجرد، الأطفال يدركون أن بعض الاشياء تستغرق وقتاً أطول مقارنة ببعض الاشياء الأخرى،  مثلا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وقت اعداد الكيك اطول من وقت اعداد العصير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وهذه الافكار الاساسية تعد مفتاحا لفهم الساعات والدقائ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11280" y="31320"/>
            <a:ext cx="6400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الــزمــن</a:t>
            </a: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9640" y="907560"/>
            <a:ext cx="806472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في المرحلة الاولى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لا يستطيع الطفل اقامة تسلسل للأحداث المتتابعة عبر الزمن، ولكن يلاحظ ان تسلسل الاحداث اليومية تساعده على وعي الزمن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9240c"/>
                </a:solidFill>
                <a:latin typeface="Perpetua"/>
              </a:rPr>
              <a:t>( الروتين اليومي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9240c"/>
                </a:solidFill>
                <a:latin typeface="Perpetua"/>
              </a:rPr>
              <a:t>(النوم– الاستيقاظ –الاغتسال - ارتداء الملابس – تناول الطعام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المرحلة الثانية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ا قبل المفاهيم يدرك ان الأسبوع أطول من اليوم ولكن لا يدرك مداه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620120" cy="205740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Franklin Gothic Book"/>
              </a:rPr>
              <a:t>كيف يمكن تقديم مفهوم الزمن لطفل الروضة؟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1" lang="ar-SA" sz="3200" spc="-1" strike="noStrike">
                <a:solidFill>
                  <a:srgbClr val="8c0039"/>
                </a:solidFill>
                <a:latin typeface="Franklin Gothic Book"/>
              </a:rPr>
              <a:t>تقديم مفهوم الزمن للأطفال</a:t>
            </a:r>
            <a:r>
              <a:rPr b="1" lang="ar-SA" sz="3200" spc="-1" strike="noStrike">
                <a:solidFill>
                  <a:srgbClr val="8c0039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1092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الطفل بين 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4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-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7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سنوات يستطيع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قامة تسلسل لأحداث يقوم بها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رتيب صور مجالات نمو النبات والحيوانات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لاحظة حالة الطقس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سرد انشطة يقوم بها الطفل من الصباح وحتى المساء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ستخدام مصطلحات الزمن (وقت طويل- وقت قصير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23640" y="836280"/>
            <a:ext cx="85201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 مناقشة الاطفال حول اوقات الاحداث اليومية، ويمكن استخدام التقريب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(قبل الثالثة بقليل- بعد السادسة بقليل..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 مناقشة الطفل: </a:t>
            </a: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لماذا نحتاج ان نعرف الوقت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لمعرفة : وقت السفر- وقت الحضور للروضة- وقت حضور حفلة - تاريخ الاجازة-تاريخ العيد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Franklin Gothic Book"/>
              </a:rPr>
              <a:t>المحاور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763640" y="1600200"/>
            <a:ext cx="707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مراحل نمو مفاهيم القيا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6a1a1"/>
                </a:solidFill>
                <a:latin typeface="Perpetua"/>
              </a:rPr>
              <a:t>كيف يفكر الطفل حول القياس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6a1a1"/>
                </a:solidFill>
                <a:latin typeface="Perpetua"/>
              </a:rPr>
              <a:t>مراحل نمو مفهوم الزم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كيف يمكن تقديم مفهوم الزمن لطفل الروضة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684000" y="620280"/>
            <a:ext cx="812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. بعد ان يتعلم الطفل النهار والليل ننتقل الى الاوقات الاخرى: </a:t>
            </a: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الظهيرة- منتصف الليل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. نشاط لوحة التقويم وايام الاسبوع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كل يوم في الروضة تقوم المعلمة مع الاطفال بتسمية اليوم والشهر، وفي اليوم التالي تذكر باليوم السابق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Perpetua"/>
              </a:rPr>
              <a:t>(أمس كان يوم الاثنين ، اذن اليوم هو ....)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ويحرك الطفل العلامة على التقويم ووضعها في اليوم والتاريخ والشهر المناسب مثلا (الاثنين 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 محرم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60" name="Picture 2" descr="http://3.bp.blogspot.com/-z2Xpd7oRh7k/UkSmwsiRpgI/AAAAAAAAC_w/TU6RXAYzG7A/s1600/%D8%B5%D9%88%D8%B1-%D9%84%D9%88%D8%AD%D8%A7%D8%AA-%D8%A3%D9%86%D8%B4%D8%B7%D9%87-%D8%B1%D9%8A%D8%A7%D8%B6+%D8%A7%D8%B7%D9%81%D8%A7%D9%84-%D8%AF%D9%8A%D9%83%D9%88%D8%B1-%D8%BA%D8%B1%D8%A8-%D8%A7%D9%81%D8%B6%D9%84-%D8%B1%D9%8A%D8%A7%D8%B6+%D8%A7%D8%B7%D9%81%D8%A7%D9%84-%D9%85%D8%AF%D9%88%D9%86%D8%A9+%D8%A7%D9%84%D8%AD%D8%B6%D8%A7%D9%86%D9%871.JPG"/>
          <p:cNvPicPr/>
          <p:nvPr/>
        </p:nvPicPr>
        <p:blipFill>
          <a:blip r:embed="rId1"/>
          <a:stretch/>
        </p:blipFill>
        <p:spPr>
          <a:xfrm>
            <a:off x="1042920" y="1052640"/>
            <a:ext cx="6877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لأناشيد : انشودة ايام الاسبوع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ستخدام لغة الوقت: غدا امس احياناً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من خلالل المناسبات الخاصة: عيد الفطر, عيد الاضحى, رمضان، حفلة المدرس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Franklin Gothic Book"/>
              </a:rPr>
              <a:t>المشـــروع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مشروع القياس والزمن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79280" y="1483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صمم الطالبة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سيلة او لعبة او تجربة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كون ممتعة للطفل وفكرتها مبتكرة لتوصي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Perpetua"/>
              </a:rPr>
              <a:t>مفهوم القياس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صمم الطالبة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رقة عم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Perpetua"/>
              </a:rPr>
              <a:t>لمفهوم الزمن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كون هدفها احد الاهداف التالية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ترتيب زمني اولا, ثانيا, الاخير– يحدد الامور التي تستغرق وقت طويل والامور التي تستغرق وقت قصير- يحدد النشاطات التي تحدث في النهار والنشاطات التي تحدث في الليل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6a1a1"/>
                </a:solidFill>
                <a:uFillTx/>
                <a:latin typeface="Perpetua"/>
              </a:rPr>
              <a:t>تقدم الطالبة تحضير لنشاط القياس فقط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763280" y="1341000"/>
            <a:ext cx="676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عد </a:t>
            </a: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القياس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من أكثر المهارات الرياضية نفعاً وتوظيفاً في حياتنا اليومية،  والقياس يتضمن توظيف الأعداد والعد للأشياء بحيث يمكن مقارنتها لخواصها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مثل: الحجم ، الوزن، الطول ، الحرارة...الخ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258560" y="333000"/>
            <a:ext cx="705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الطفل يتعامل مع مهارات القياس في الحياة اليومي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6a1a1"/>
                </a:solidFill>
                <a:latin typeface="Perpetua"/>
              </a:rPr>
              <a:t>مثل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شرب كوب حليب مساء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شاهد أمه تشتري كيلو جرام من الدقيق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قيس الطفل وزنه أو طوله في العياد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وتقاس له درجة الحرار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8676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696464"/>
                </a:solidFill>
                <a:latin typeface="Franklin Gothic Book"/>
              </a:rPr>
              <a:t>مراحل نمو مفاهيم القياس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4560" y="333360"/>
            <a:ext cx="8891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المرحلة الأولى: </a:t>
            </a: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(مرحلة اللعب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فيها يقلد الطفل الأطفال الأكبر سناً والبالغين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فيلعب بالمسطرة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قوم بالقياس بالأكواب أو الميزان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يسكب الرمل والحبوب من وعاء الى آخر مستكشفاً خواص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 الحجم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رفع الأشياء مستكشفاً خواص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الوز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ا أنه يلاحظ ان ذراعه قصيرة لا يمكن ان تصل الى مكان معين وان اخيه الأكبر ذراعه أطول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ا يبدأ باستيعاب مفهوم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الحرارة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فهو يحب الاستحمام بالماء البارد، ويحب الطعام ساخناً وهكذا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250560" y="475920"/>
            <a:ext cx="8561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ثاني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مقارنات «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تتضمن هذه المرحلة القيام </a:t>
            </a: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بإجراء مقارنات</a:t>
            </a: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، حيث يدرك الطفل عادة مفاهيم المقارن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مثل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أكبر من / اقل من / اثقل من / اخف من / اطول من / اقصر من / اكثر حرارة / اكثر برودة..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وهكذا يستطيع الطفل توظيف علاقات المقارنة في مواقف يوم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260280"/>
            <a:ext cx="8591400" cy="67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ثالث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قياس غير المقنن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تبدأ بنهاية المرحلة الحسية الحركية وبداية مرحلة العمليات المحسوسة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تعلم الطفل استخدام وحدات القياس </a:t>
            </a: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غير المقننة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بمعنى شيء يمتكله الطفل ويمكن ان يستخدم كوحدة قياس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e3611"/>
                </a:solidFill>
                <a:uFillTx/>
                <a:latin typeface="Perpetua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ن يحاول الطفل إيجاد كم عدد فناجين الرمل التي تملأ علبة حليب فارغة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 فرشة أسنان مثل طول قدمه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0" y="907920"/>
            <a:ext cx="89568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رابع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قياس المقنن»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عندما يدخل الطفل مرحلة العمليات الحسية تبدأ الحاجة لديه باستخدام وحدات قياس مقنن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(مسطرة – متر – ميزان .. الخ 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خامس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وهي تبدأ في </a:t>
            </a:r>
            <a:r>
              <a:rPr b="1" lang="ar-SA" sz="2600" spc="-1" strike="noStrike">
                <a:solidFill>
                  <a:srgbClr val="9e3611"/>
                </a:solidFill>
                <a:latin typeface="Perpetua"/>
              </a:rPr>
              <a:t>مرحلة العمليات </a:t>
            </a: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وفيها يفهم الطفل ويستخدم الوحدات المقننة للقياس مثل السنتيمتر والمتر واللت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20:46:36Z</dcterms:created>
  <dc:creator>Hala</dc:creator>
  <dc:description/>
  <dc:language>en-US</dc:language>
  <cp:lastModifiedBy>Maha</cp:lastModifiedBy>
  <dcterms:modified xsi:type="dcterms:W3CDTF">2016-12-19T06:29:13Z</dcterms:modified>
  <cp:revision>52</cp:revision>
  <dc:subject/>
  <dc:title>مفهوم القياس</dc:title>
</cp:coreProperties>
</file>