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6931-B48D-4D12-9D9E-C80BC517A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990C-EB7F-4350-8B3D-5602C7B5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88D0F-F9CA-4D0D-BD6B-7044C9D4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F16BA-CE35-4C8A-BE6B-33CA2C5E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7922C-7FF3-4087-A715-36F59A8B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1E735-703C-41CD-8338-638C54AE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8C5E5-7D0A-473D-BE9C-433A0618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8A9F0-B183-4A9B-B6AF-1A2CC927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C983D-E3B6-4432-BA10-23F1C627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61EC4-11E7-4247-889B-A8A519561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A910D-BC43-4103-A247-637C297FF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97179-2615-4D1D-AF77-26814055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4A1D-34F1-4EC2-BF84-A40E3EF3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3BC8F-7733-4E3C-87AF-B8002DCC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B0AA05-5372-490D-A2B7-E2674BFC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06581-54C4-4098-8FB5-42F5E5AC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8C8D6-887F-4D77-ADBA-8E40761F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769382-2DE5-49EF-8473-A7F49425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A4740-AC2B-4FE1-A864-8F5514F5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0F02E-A0CA-412B-82F4-A87BA48B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0D6321-6690-462A-A4CD-3979CEF5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01D8E-697D-4CAF-87C5-8EF34CDC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E4F415-9EF1-4764-B7EC-7EF5FE4F6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8336-AE88-4309-9E41-AC9AF8840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EC49A-A5B2-4423-B41A-86F286CFE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36AD7-A17F-4034-A289-BFB939E2B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2D32B-E362-4A1B-8190-475039E9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3ACD4-0340-48A8-B2B8-7CADD106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84621-71BF-4867-A506-1D831C46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FACAD-D3E4-4AB7-9889-1025F0D4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A98B0-626D-40D6-A8A5-1DAEC268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6C66F-2C5E-47BA-8263-C74BDEBB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41007-B234-4F3A-9907-3F23384C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7779D-626D-4B46-9EF8-BBD6D1E8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6787-4935-4810-B339-040577692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4079B-3E52-4921-A323-9142A01B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F4429-F3BD-4FB5-AFF2-1F7760C7E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13E5C-1E9F-4C93-9B04-283BC84FE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C14D2-CFA1-4742-AD32-E91F103C6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9B15DE-196E-4C36-A477-0289CF4E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4BC4B-D630-4321-BDE1-1D69744F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93C606-6FFC-4976-984D-BD798AF3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222FAB-5B89-4571-862C-6E021979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DCF3AF-9986-4530-8C75-7DF1F52A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DB883-468C-4FEB-9D57-06780265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A87E-CD34-44A2-AED7-BD83B3A5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7A7E76-B1E6-40C5-9B8F-FB4E85E2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704A5-2A40-4B7D-BDA3-8BBBDBF5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B3641E-8897-428A-A19A-951D072C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29DD86-D0C4-4BF6-B0BC-DB5EDE78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15DCA5-31F6-453D-9D46-4537793F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A769-2963-4F69-9310-A67A84FD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B32E-81E0-4122-8F2D-D10903E4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A4E0-866E-4A66-8EF4-BAF6BC15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6234-F273-4C12-BBD2-3634A61E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2DE4-D7C8-43E5-B028-5BFF3EFD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DF12-4E60-4291-877C-88BAB4BE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BCDA-7853-4D1A-80DE-B8AAFC5C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9E64-12D0-407A-B35C-8718DA33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13AA-03CB-4D44-B18E-693BC563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BA30-C3A6-4B8F-BA08-17E04D847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48E5-DEEA-4652-95D1-427762EE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3B1F4-2628-4360-85B9-B35D4729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30B75-4C45-4AD1-A52E-05E06A92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6CECC-CE6D-4B5C-B23C-DE5D7E30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F3E89-7903-4E3E-861B-E41FA7A5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7740B-33E6-468B-AC45-92D6F5FA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7E05-B747-46B6-9122-02440CF9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30F4B-7D9C-485D-BD67-27E443FC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27328-9A2F-4E11-9FC6-0351EB0D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9FD5E-FB27-47E9-93A0-A20490B9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35E02-FAC6-4104-854C-BB0840DE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60493-7708-4E5C-90F9-1ED637CE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1349D-EBC5-406B-836D-F2E681AE8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B2DC2-4B17-4E77-9D38-616AE0E4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0038A-98D0-40EF-A0B1-BCF71C73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12D29-F191-4C95-B3BC-1923BAEC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8909A-795B-42F8-AA24-40B8D983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0E09-3F63-4D9A-9464-867CE6EE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E8EE4-FA8F-4436-A6DA-2E5ABC00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1B6E0-1EE7-4E52-9626-E534E293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A5B22-7D22-492A-85E8-A6191840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743F3-3D40-4277-B694-468EDC55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81D15-1613-4308-8988-0E013581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426A2-BE31-452C-ABEA-ACE403A7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A393A-32CF-4EC2-A85E-F1DE10DB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5D111-EC47-4C8A-A13B-1147AF1D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94623-5AB9-4A66-98B8-F879F4995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4FE72-1F03-4EB7-B94B-48D3A881E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1ABE-410E-43A8-92BE-5C4DB5DE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5C3B8-A5D4-488B-8C2E-64925096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20019-B333-4507-AABC-865170FB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ED2D0-FA63-496A-A314-3C2EBA0D2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807DF-CF16-4809-B49D-2FF2098F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4818D-9107-4BC6-8146-33D53CB7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D2346-6A8E-4C69-86C6-01E68F52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3764F-0982-4189-94EA-3F76373C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2ABA5-60E2-43CC-89D2-787E53E5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81A18-9781-48E2-834B-6C1AFB84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C6274-4166-4875-92CC-621A3012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0B1B-63C0-4D8D-921F-197BA256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0A5E0-ABB8-4F59-8303-93F46156A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1FAEE-4A0A-4E6D-87A6-B11F25A7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4C3A8-A97D-447A-96B9-09C1C181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01617-6557-498C-A085-31AA6AEB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EAA08-2B9C-4700-A9E6-0A4F4BD6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7B802-3FAE-49B0-8CEC-BF48CDF7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8AC1D-1A44-4005-8ED9-6D752A58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EC57E-1221-4495-A2ED-383B319B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BA4F3-9AEA-49B0-80ED-E2FD77D1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C0D6F-730A-4109-B8C0-57CF86DE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CC69-9775-4661-8FC0-30022009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B6C9F-2A9B-4DB2-B415-264E5B43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B96F2-EB74-4FFC-88FD-E64EFA0DA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A72AC-1E8E-43F4-8091-591A36DC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2BADD-8637-4B85-84CC-30FC2F8C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156B3-AA1A-497C-84E2-47E773C5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9AE26-2407-4677-B301-34C16AB7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ED93C-CA7B-4D50-B0B9-DAF3BBBA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83F10-6629-49D5-B398-9D72F63E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E8A5C-A5B3-40FD-8948-D01E110E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1DB93-4856-4B24-93D2-3CECEDBE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692F-F914-4723-8E76-99A1DAF4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F184D-F754-495B-A529-334DCC8A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5DFAE-2F3F-4D90-B397-3939F280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1472A-8772-47FE-86A3-D8755663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6CFA5-1296-4288-AF33-78938E685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3533A-5B41-4334-8796-4A9C7D00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7A074-4F71-4F79-BCB7-AB03B7CB9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AE229-8D02-48F3-801B-79604D69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3DCF7-3021-458A-B0E8-4575C94D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3CF2A-A066-4E07-A5B7-B938F96A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1B497-DF05-499A-BC9C-AEE5A36A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11A2-082A-4AA5-AD1D-3C634FB3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76009-EDF9-4F2C-AE5A-0032E9FE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2A13B-1D1D-47FC-A78C-195A835E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8459A-1F08-4230-92AD-2FFB6A78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DAAE1-F251-4888-8D15-D764E1F1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B703F-5C3C-4CDF-9684-D9AF1ED7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51C9F-9C10-4B61-A598-601BDFB27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C9FC6-DE0C-472D-B278-DB7C7038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2BE159-B794-4C36-A7FF-F1A4B4750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97350-A016-4FEE-BEDA-4BD62C78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F2AC2-006D-40A2-B86A-DEE68126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E7D3-5A3F-4310-9A9B-D39C764FE784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973F-655E-428B-B32B-E9C189F1334C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3F7E-BCDF-4C81-9C4A-C047030D6CC5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E861-0F50-4482-9553-738710A16B3B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3DBE-6F87-4B16-BA61-3BDE5D5DADE1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8BAE-3AB5-4C05-9C71-ABC716647E52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134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1BFD-C6F5-4148-975D-752EE13B3BCA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7368-751C-48E9-B41A-D8D666F80FD7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CC70-5004-4223-8E48-B92BBF315CB8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96DA-47E2-41DE-80E8-048809AB2817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F514-A900-48E1-8B89-36865198A295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AD48-BD86-489F-920F-39E328CE73D0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900" spc="-1" strike="noStrike">
                <a:solidFill>
                  <a:srgbClr val="ffffff"/>
                </a:solidFill>
                <a:latin typeface="Franklin Gothic Book"/>
              </a:rPr>
              <a:t>مفهوم القياس والزمن</a:t>
            </a:r>
            <a:r>
              <a:rPr b="1" lang="ar-SA" sz="59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59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539640" y="115920"/>
            <a:ext cx="8460000" cy="65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Perpetua"/>
              </a:rPr>
              <a:t>كيف يفكر الطفل حول القياس؟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تجارب بياجية مثل تجربة أوعية الماء تثبت ان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e3611"/>
                </a:solidFill>
                <a:latin typeface="Perpetua"/>
              </a:rPr>
              <a:t> الأطفال لا زال تفكيرهم حدسي، ولا يستطيعون الاحتفاظ بالصورة في مخيلتهم، وبذلك لا يستطيعون الاحتفاظ بثبات الكم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مثلا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 لو احضرت كرتين كرة مطاط وكرة تنس، وسألت الطفل ايهما اثقل فالطفل سيتأثر بالحجم فسيختار الكرة ذات الحجم الاكبر ويقول انها اثقل بغض النظر عن الوزن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-11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96464"/>
                </a:solidFill>
                <a:latin typeface="Franklin Gothic Book"/>
              </a:rPr>
              <a:t>الأنشطة</a:t>
            </a:r>
            <a:r>
              <a:rPr b="1" lang="ar-SA" sz="4000" spc="-1" strike="noStrike">
                <a:solidFill>
                  <a:srgbClr val="696464"/>
                </a:solidFill>
                <a:latin typeface="Franklin Gothic Book"/>
              </a:rPr>
              <a:t>: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68000" y="1267920"/>
            <a:ext cx="8272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أنشطة المقارنات: اكبر اصغر- اخف اثقل اطول قصر..الخ- مثلا: اطلب من الطفل تمرير الكرة الكبيرة او التقاط المربع الصغير وتمييز الأحجام باللمس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Perpetua"/>
              </a:rPr>
              <a:t>المفاهيم الاساسية للقياس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أولا مفاهيم </a:t>
            </a:r>
            <a:r>
              <a:rPr b="1" lang="ar-SA" sz="2400" spc="-1" strike="noStrike">
                <a:solidFill>
                  <a:srgbClr val="0070c0"/>
                </a:solidFill>
                <a:latin typeface="Perpetua"/>
              </a:rPr>
              <a:t>الحجم</a:t>
            </a: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 (كبير وصغير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ثانياُ: مفاهيم ا</a:t>
            </a:r>
            <a:r>
              <a:rPr b="1" lang="ar-SA" sz="2400" spc="-1" strike="noStrike">
                <a:solidFill>
                  <a:srgbClr val="0070c0"/>
                </a:solidFill>
                <a:latin typeface="Perpetua"/>
              </a:rPr>
              <a:t>لطول</a:t>
            </a: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 (طويل وقصير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ثالثاُ: مفاهيم </a:t>
            </a:r>
            <a:r>
              <a:rPr b="1" lang="ar-SA" sz="2400" spc="-1" strike="noStrike">
                <a:solidFill>
                  <a:srgbClr val="0070c0"/>
                </a:solidFill>
                <a:latin typeface="Perpetua"/>
              </a:rPr>
              <a:t>العرض</a:t>
            </a: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 (واسع وضيق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رابعا: مفاهيم </a:t>
            </a:r>
            <a:r>
              <a:rPr b="1" lang="ar-SA" sz="2400" spc="-1" strike="noStrike">
                <a:solidFill>
                  <a:srgbClr val="0070c0"/>
                </a:solidFill>
                <a:latin typeface="Perpetua"/>
              </a:rPr>
              <a:t>السمك </a:t>
            </a: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(سميك و رقيق (نحيف)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خامساَ: مفاهيم</a:t>
            </a:r>
            <a:r>
              <a:rPr b="1" lang="ar-SA" sz="2400" spc="-1" strike="noStrike">
                <a:solidFill>
                  <a:srgbClr val="0070c0"/>
                </a:solidFill>
                <a:latin typeface="Perpetua"/>
              </a:rPr>
              <a:t> السعة </a:t>
            </a: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(مليان فارغ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 algn="r" rtl="1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96464"/>
                </a:solidFill>
                <a:latin typeface="Franklin Gothic Book"/>
              </a:rPr>
              <a:t>https://kgoo.blogspot.com/2014/05/blog-post.html</a:t>
            </a:r>
            <a:endParaRPr b="0" lang="en-US" sz="24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544" name="Picture 2" descr="https://1.bp.blogspot.com/-Op3CrXmOtbU/U4Q9LWMibdI/AAAAAAAAG6I/bqPzvVe4DF8/s1600/%D9%83%D9%8A%D9%84%D9%88-%D8%AC%D8%B1%D8%A7%D9%85_%D8%AD%D8%AC%D8%A7%D8%B1%D8%A9_%D9%85%D9%8A%D8%B2%D8%A7%D9%86_%D8%B7%D9%81%D9%84_%D9%83%D9%86%D8%B2_%D9%88%D8%AD%D8%AF%D8%A7%D8%AA_%D8%A7%D9%84%D9%82%D9%8A%D8%A7%D8%B3_%D8%AA%D8%B9%D9%84%D9%8A%D9%85_%D8%A7%D9%84%D8%A7%D8%B7%D9%81%D8%A7%D9%84_%D8%B5%D9%88%D8%B1_%D8%A7%D9%84%D8%A7%D9%88%D8%B2%D8%A7%D9%86_%D8%B1%D9%8A%D8%A7%D8%B6+%D8%A7%D8%B7%D9%81%D8%A7%D9%84_%D9%85%D9%88%D8%B6%D9%88%D8%B9_%D9%88%D8%AD%D8%AF%D8%A7%D8%AA_%D9%85%D9%8A%D8%B2%D8%A7%D9%86.png"/>
          <p:cNvPicPr/>
          <p:nvPr/>
        </p:nvPicPr>
        <p:blipFill>
          <a:blip r:embed="rId1"/>
          <a:stretch/>
        </p:blipFill>
        <p:spPr>
          <a:xfrm>
            <a:off x="1332000" y="1557360"/>
            <a:ext cx="633564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546" name="Picture 2" descr="https://1.bp.blogspot.com/-mLkBJz3wF28/U4Q-cSjaNSI/AAAAAAAAG6Q/GmLYtqU6Q9Q/s1600/%D8%B4%D9%8A%D8%AA-%D9%83%D9%8A%D9%84%D9%88-%D8%AC%D8%B1%D8%A7%D9%85_%D8%AD%D8%AC%D8%A7%D8%B1%D8%A9_%D9%85%D9%8A%D8%B2%D8%A7%D9%86_%D8%B7%D9%81%D9%84_%D9%83%D9%86%D8%B2_%D9%88%D8%AD%D8%AF%D8%A7%D8%AA_%D8%A7%D9%84%D9%82%D9%8A%D8%A7%D8%B3_%D8%AA%D8%B9%D9%84%D9%8A%D9%85_%D8%A7%D9%84%D8%A7%D8%B7%D9%81%D8%A7%D9%84_%D8%B5%D9%88%D8%B1_%D8%A7%D9%84%D8%A7%D9%88%D8%B2%D8%A7%D9%86_%D8%B1%D9%8A%D8%A7%D8%B6+%D8%A7%D8%B7%D9%81%D8%A7%D9%84_%D9%85%D9%88%D8%B6%D9%88%D8%B9_%D9%88%D8%AD%D8%AF%D8%A7%D8%AA_%D9%85%D9%8A%D8%B2%D8%A7%D9%86.png"/>
          <p:cNvPicPr/>
          <p:nvPr/>
        </p:nvPicPr>
        <p:blipFill>
          <a:blip r:embed="rId1"/>
          <a:stretch/>
        </p:blipFill>
        <p:spPr>
          <a:xfrm>
            <a:off x="2627280" y="-7920"/>
            <a:ext cx="4465800" cy="67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549" name="Picture 2" descr="http://www.mathworksheets4kids.com/heavy-light/cut-paste-large.png"/>
          <p:cNvPicPr/>
          <p:nvPr/>
        </p:nvPicPr>
        <p:blipFill>
          <a:blip r:embed="rId1"/>
          <a:stretch/>
        </p:blipFill>
        <p:spPr>
          <a:xfrm>
            <a:off x="2340000" y="333360"/>
            <a:ext cx="439272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124000" y="201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96464"/>
                </a:solidFill>
                <a:latin typeface="Franklin Gothic Book"/>
              </a:rPr>
              <a:t>الزمن</a:t>
            </a:r>
            <a:r>
              <a:rPr b="1" lang="ar-SA" sz="44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539280" y="1341000"/>
            <a:ext cx="8209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31840" indent="-23184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في مستوى رياض الأطفال الوقت يدورحول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Perpetua"/>
              </a:rPr>
              <a:t> الصباح والليل. ايام الاسبوع، تسلسل الاحداث والاوقات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الوقت مفهوم مجرد، الأطفال يدركون أن بعض الاشياء تستغرق وقتاً أطول مقارنة ببعض الاشياء الأخرى،  مثلا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Perpetua"/>
              </a:rPr>
              <a:t>وقت اعداد الكيك اطول من وقت اعداد العصير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وهذه الافكار الاساسية تعد مفتاحا لفهم الساعات والدقائق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411280" y="31320"/>
            <a:ext cx="64008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96464"/>
                </a:solidFill>
                <a:latin typeface="Franklin Gothic Book"/>
              </a:rPr>
              <a:t>الــزمــن</a:t>
            </a:r>
            <a:r>
              <a:rPr b="1" lang="ar-SA" sz="40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539640" y="907560"/>
            <a:ext cx="8064720" cy="518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07360" indent="-20736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6a1a1"/>
                </a:solidFill>
                <a:latin typeface="Perpetua"/>
              </a:rPr>
              <a:t>في المرحلة الاولى: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07360" indent="-20736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لا يستطيع الطفل اقامة تسلسل للأحداث المتتابعة عبر الزمن، ولكن يلاحظ ان تسلسل الاحداث اليومية تساعده على وعي الزمن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07360" indent="-20736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9240c"/>
                </a:solidFill>
                <a:latin typeface="Perpetua"/>
              </a:rPr>
              <a:t>( الروتين اليومي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07360" indent="-20736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9240c"/>
                </a:solidFill>
                <a:latin typeface="Perpetua"/>
              </a:rPr>
              <a:t>(النوم– الاستيقاظ –الاغتسال - ارتداء الملابس – تناول الطعام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07360" indent="-20736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6a1a1"/>
                </a:solidFill>
                <a:latin typeface="Perpetua"/>
              </a:rPr>
              <a:t>المرحلة الثانية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07360" indent="-20736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ما قبل المفاهيم يدرك ان الأسبوع أطول من اليوم ولكن لا يدرك مداه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07360" indent="-20736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55280" y="1267920"/>
            <a:ext cx="7620120" cy="2057400"/>
          </a:xfrm>
          <a:prstGeom prst="rect">
            <a:avLst/>
          </a:prstGeom>
          <a:solidFill>
            <a:srgbClr val="7f7f7f">
              <a:alpha val="50000"/>
            </a:srgbClr>
          </a:solidFill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Franklin Gothic Book"/>
              </a:rPr>
              <a:t>كيف يمكن تقديم مفهوم الزمن لطفل الروضة؟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96464"/>
                </a:solidFill>
                <a:latin typeface="Franklin Gothic Book"/>
              </a:rPr>
              <a:t> </a:t>
            </a:r>
            <a:r>
              <a:rPr b="1" lang="ar-SA" sz="3200" spc="-1" strike="noStrike">
                <a:solidFill>
                  <a:srgbClr val="8c0039"/>
                </a:solidFill>
                <a:latin typeface="Franklin Gothic Book"/>
              </a:rPr>
              <a:t>تقديم مفهوم الزمن للأطفال</a:t>
            </a:r>
            <a:r>
              <a:rPr b="1" lang="ar-SA" sz="3200" spc="-1" strike="noStrike">
                <a:solidFill>
                  <a:srgbClr val="8c0039"/>
                </a:solidFill>
                <a:latin typeface="Franklin Gothic Book"/>
              </a:rPr>
              <a:t>: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10920" y="155700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70c0"/>
                </a:solidFill>
                <a:uFillTx/>
                <a:latin typeface="Perpetua"/>
              </a:rPr>
              <a:t>الطفل بين </a:t>
            </a:r>
            <a:r>
              <a:rPr b="1" lang="ar-SA" sz="2800" spc="-1" strike="noStrike" u="sng">
                <a:solidFill>
                  <a:srgbClr val="0070c0"/>
                </a:solidFill>
                <a:uFillTx/>
                <a:latin typeface="Perpetua"/>
              </a:rPr>
              <a:t>4</a:t>
            </a:r>
            <a:r>
              <a:rPr b="1" lang="ar-SA" sz="2800" spc="-1" strike="noStrike" u="sng">
                <a:solidFill>
                  <a:srgbClr val="0070c0"/>
                </a:solidFill>
                <a:uFillTx/>
                <a:latin typeface="Perpetua"/>
              </a:rPr>
              <a:t>-</a:t>
            </a:r>
            <a:r>
              <a:rPr b="1" lang="ar-SA" sz="2800" spc="-1" strike="noStrike" u="sng">
                <a:solidFill>
                  <a:srgbClr val="0070c0"/>
                </a:solidFill>
                <a:uFillTx/>
                <a:latin typeface="Perpetua"/>
              </a:rPr>
              <a:t>7</a:t>
            </a:r>
            <a:r>
              <a:rPr b="1" lang="ar-SA" sz="2800" spc="-1" strike="noStrike" u="sng">
                <a:solidFill>
                  <a:srgbClr val="0070c0"/>
                </a:solidFill>
                <a:uFillTx/>
                <a:latin typeface="Perpetua"/>
              </a:rPr>
              <a:t>سنوات يستطيع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اقامة تسلسل لأحداث يقوم بها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ترتيب صور مجالات نمو النبات والحيوانات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ملاحظة حالة الطقس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سرد انشطة يقوم بها الطفل من الصباح وحتى المساء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استخدام مصطلحات الزمن (وقت طويل- وقت قصير)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323640" y="836280"/>
            <a:ext cx="852012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. مناقشة الاطفال حول اوقات الاحداث اليومية، ويمكن استخدام التقريب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(قبل الثالثة بقليل- بعد السادسة بقليل..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. مناقشة الطفل: </a:t>
            </a:r>
            <a:r>
              <a:rPr b="1" lang="ar-SA" sz="2800" spc="-1" strike="noStrike">
                <a:solidFill>
                  <a:srgbClr val="ff0000"/>
                </a:solidFill>
                <a:latin typeface="Perpetua"/>
              </a:rPr>
              <a:t>لماذا نحتاج ان نعرف الوقت؟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Perpetua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لمعرفة : وقت السفر- وقت الحضور للروضة- وقت حضور حفلة - تاريخ الاجازة-تاريخ العيد.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96464"/>
                </a:solidFill>
                <a:latin typeface="Franklin Gothic Book"/>
              </a:rPr>
              <a:t>المحاور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763640" y="1600200"/>
            <a:ext cx="707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Perpetua"/>
              </a:rPr>
              <a:t>مراحل نمو مفاهيم القياس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a6a1a1"/>
                </a:solidFill>
                <a:latin typeface="Perpetua"/>
              </a:rPr>
              <a:t>كيف يفكر الطفل حول القياس؟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a6a1a1"/>
                </a:solidFill>
                <a:latin typeface="Perpetua"/>
              </a:rPr>
              <a:t>مراحل نمو مفهوم الزمن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Perpetua"/>
              </a:rPr>
              <a:t>كيف يمكن تقديم مفهوم الزمن لطفل الروضة؟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684000" y="620280"/>
            <a:ext cx="8127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Perpetua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Perpetua"/>
              </a:rPr>
              <a:t>. بعد ان يتعلم الطفل النهار والليل ننتقل الى الاوقات الاخرى: </a:t>
            </a:r>
            <a:r>
              <a:rPr b="1" lang="ar-SA" sz="3200" spc="-1" strike="noStrike">
                <a:solidFill>
                  <a:srgbClr val="ff0000"/>
                </a:solidFill>
                <a:latin typeface="Perpetua"/>
              </a:rPr>
              <a:t>الظهيرة- منتصف الليل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Perpetua"/>
              </a:rPr>
              <a:t>4</a:t>
            </a:r>
            <a:r>
              <a:rPr b="1" lang="ar-SA" sz="3200" spc="-1" strike="noStrike">
                <a:solidFill>
                  <a:srgbClr val="ff0000"/>
                </a:solidFill>
                <a:latin typeface="Perpetua"/>
              </a:rPr>
              <a:t>. نشاط لوحة التقويم وايام الاسبوع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Perpetua"/>
              </a:rPr>
              <a:t>كل يوم في الروضة تقوم المعلمة مع الاطفال بتسمية اليوم والشهر، وفي اليوم التالي تذكر باليوم السابق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Perpetua"/>
              </a:rPr>
              <a:t>(أمس كان يوم الاثنين ، اذن اليوم هو ....)،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Perpetua"/>
              </a:rPr>
              <a:t>ويحرك الطفل العلامة على التقويم ووضعها في اليوم والتاريخ والشهر المناسب مثلا (الاثنين </a:t>
            </a:r>
            <a:r>
              <a:rPr b="1" lang="ar-SA" sz="3200" spc="-1" strike="noStrike">
                <a:solidFill>
                  <a:srgbClr val="000000"/>
                </a:solidFill>
                <a:latin typeface="Perpetua"/>
              </a:rPr>
              <a:t>9</a:t>
            </a:r>
            <a:r>
              <a:rPr b="1" lang="ar-SA" sz="3200" spc="-1" strike="noStrike">
                <a:solidFill>
                  <a:srgbClr val="000000"/>
                </a:solidFill>
                <a:latin typeface="Perpetua"/>
              </a:rPr>
              <a:t> محرم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560" name="Picture 2" descr="http://3.bp.blogspot.com/-z2Xpd7oRh7k/UkSmwsiRpgI/AAAAAAAAC_w/TU6RXAYzG7A/s1600/%D8%B5%D9%88%D8%B1-%D9%84%D9%88%D8%AD%D8%A7%D8%AA-%D8%A3%D9%86%D8%B4%D8%B7%D9%87-%D8%B1%D9%8A%D8%A7%D8%B6+%D8%A7%D8%B7%D9%81%D8%A7%D9%84-%D8%AF%D9%8A%D9%83%D9%88%D8%B1-%D8%BA%D8%B1%D8%A8-%D8%A7%D9%81%D8%B6%D9%84-%D8%B1%D9%8A%D8%A7%D8%B6+%D8%A7%D8%B7%D9%81%D8%A7%D9%84-%D9%85%D8%AF%D9%88%D9%86%D8%A9+%D8%A7%D9%84%D8%AD%D8%B6%D8%A7%D9%86%D9%871.JPG"/>
          <p:cNvPicPr/>
          <p:nvPr/>
        </p:nvPicPr>
        <p:blipFill>
          <a:blip r:embed="rId1"/>
          <a:stretch/>
        </p:blipFill>
        <p:spPr>
          <a:xfrm>
            <a:off x="1042920" y="1052640"/>
            <a:ext cx="6877080" cy="51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Perpetua"/>
              </a:rPr>
              <a:t>الأناشيد : انشودة ايام الاسبوع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Perpetua"/>
              </a:rPr>
              <a:t>استخدام لغة الوقت: غدا امس احياناً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Perpetua"/>
              </a:rPr>
              <a:t> من خلالل المناسبات الخاصة: عيد الفطر, عيد الاضحى, رمضان، حفلة المدرسة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71640" y="1052280"/>
            <a:ext cx="76197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Franklin Gothic Book"/>
              </a:rPr>
              <a:t>المشـــروع</a:t>
            </a:r>
            <a:endParaRPr b="0" lang="en-US" sz="66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696464"/>
                </a:solidFill>
                <a:latin typeface="Franklin Gothic Book"/>
              </a:rPr>
              <a:t>مشروع القياس والزمن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179280" y="1483920"/>
            <a:ext cx="8785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lnSpc>
                <a:spcPct val="115000"/>
              </a:lnSpc>
              <a:spcBef>
                <a:spcPts val="575"/>
              </a:spcBef>
              <a:spcAft>
                <a:spcPts val="1001"/>
              </a:spcAft>
              <a:buClr>
                <a:srgbClr val="d34817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تصمم الطالبة </a:t>
            </a:r>
            <a:r>
              <a:rPr b="1" lang="ar-SA" sz="2400" spc="-1" strike="noStrike">
                <a:solidFill>
                  <a:srgbClr val="9e3611"/>
                </a:solidFill>
                <a:latin typeface="Perpetua"/>
              </a:rPr>
              <a:t>وسيلة او لعبة او تجربة </a:t>
            </a: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تكون ممتعة للطفل وفكرتها مبتكرة لتوصيل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Perpetua"/>
              </a:rPr>
              <a:t>مفهوم القياس </a:t>
            </a: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15000"/>
              </a:lnSpc>
              <a:spcBef>
                <a:spcPts val="575"/>
              </a:spcBef>
              <a:spcAft>
                <a:spcPts val="1001"/>
              </a:spcAft>
              <a:buClr>
                <a:srgbClr val="d34817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تصمم الطالبة </a:t>
            </a:r>
            <a:r>
              <a:rPr b="1" lang="ar-SA" sz="2400" spc="-1" strike="noStrike">
                <a:solidFill>
                  <a:srgbClr val="9e3611"/>
                </a:solidFill>
                <a:latin typeface="Perpetua"/>
              </a:rPr>
              <a:t>ورقة عمل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Perpetua"/>
              </a:rPr>
              <a:t>لمفهوم الزمن </a:t>
            </a: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ويكون هدفها احد الاهداف التالية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15000"/>
              </a:lnSpc>
              <a:spcBef>
                <a:spcPts val="575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(ترتيب زمني اولا, ثانيا, الاخير– يحدد الامور التي تستغرق وقت طويل والامور التي تستغرق وقت قصير- يحدد النشاطات التي تحدث في النهار والنشاطات التي تحدث في الليل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15000"/>
              </a:lnSpc>
              <a:spcBef>
                <a:spcPts val="575"/>
              </a:spcBef>
              <a:spcAft>
                <a:spcPts val="1001"/>
              </a:spcAft>
              <a:buClr>
                <a:srgbClr val="d34817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a6a1a1"/>
                </a:solidFill>
                <a:uFillTx/>
                <a:latin typeface="Perpetua"/>
              </a:rPr>
              <a:t>تقدم الطالبة تحضير لنشاط القياس فقط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1763280" y="1341000"/>
            <a:ext cx="6769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يعد </a:t>
            </a:r>
            <a:r>
              <a:rPr b="1" lang="ar-SA" sz="2800" spc="-1" strike="noStrike">
                <a:solidFill>
                  <a:srgbClr val="9e3611"/>
                </a:solidFill>
                <a:latin typeface="Perpetua"/>
              </a:rPr>
              <a:t>القياس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 من أكثر المهارات الرياضية نفعاً وتوظيفاً في حياتنا اليومية،  والقياس يتضمن توظيف الأعداد والعد للأشياء بحيث يمكن مقارنتها لخواصها،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4600" indent="-26460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ar-SA" sz="2800" spc="-1" strike="noStrike">
                <a:solidFill>
                  <a:srgbClr val="a6a1a1"/>
                </a:solidFill>
                <a:latin typeface="Perpetua"/>
              </a:rPr>
              <a:t>مثل: الحجم ، الوزن، الطول ، الحرارة...الخ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1258560" y="333000"/>
            <a:ext cx="7056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Perpetua"/>
              </a:rPr>
              <a:t>الطفل يتعامل مع مهارات القياس في الحياة اليومية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a6a1a1"/>
                </a:solidFill>
                <a:latin typeface="Perpetua"/>
              </a:rPr>
              <a:t>مثل: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Perpetua"/>
              </a:rPr>
              <a:t>يشرب كوب حليب مساء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Perpetua"/>
              </a:rPr>
              <a:t>يشاهد أمه تشتري كيلو جرام من الدقيق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Perpetua"/>
              </a:rPr>
              <a:t>يقيس الطفل وزنه أو طوله في العيادة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Perpetua"/>
              </a:rPr>
              <a:t>وتقاس له درجة الحرارة.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771280" y="981000"/>
            <a:ext cx="586764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900" spc="-1" strike="noStrike">
                <a:solidFill>
                  <a:srgbClr val="696464"/>
                </a:solidFill>
                <a:latin typeface="Franklin Gothic Book"/>
              </a:rPr>
              <a:t>مراحل نمو مفاهيم القياس</a:t>
            </a:r>
            <a:endParaRPr b="0" lang="en-US" sz="49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34560" y="333360"/>
            <a:ext cx="88916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Perpetua"/>
              </a:rPr>
              <a:t>المرحلة الأولى: </a:t>
            </a:r>
            <a:r>
              <a:rPr b="1" lang="ar-SA" sz="2800" spc="-1" strike="noStrike">
                <a:solidFill>
                  <a:srgbClr val="0070c0"/>
                </a:solidFill>
                <a:latin typeface="Perpetua"/>
              </a:rPr>
              <a:t>(مرحلة اللعب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e3611"/>
                </a:solidFill>
                <a:latin typeface="Perpetua"/>
              </a:rPr>
              <a:t>وفيها يقلد الطفل الأطفال الأكبر سناً والبالغين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فيلعب بالمسطرة 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ويقوم بالقياس بالأكواب أو الميزان 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يسكب الرمل والحبوب من وعاء الى آخر مستكشفاً خواص</a:t>
            </a:r>
            <a:r>
              <a:rPr b="1" lang="ar-SA" sz="2400" spc="-1" strike="noStrike">
                <a:solidFill>
                  <a:srgbClr val="9e3611"/>
                </a:solidFill>
                <a:latin typeface="Perpetua"/>
              </a:rPr>
              <a:t> الحجم</a:t>
            </a: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ويرفع الأشياء مستكشفاً خواص </a:t>
            </a:r>
            <a:r>
              <a:rPr b="1" lang="ar-SA" sz="2400" spc="-1" strike="noStrike">
                <a:solidFill>
                  <a:srgbClr val="9e3611"/>
                </a:solidFill>
                <a:latin typeface="Perpetua"/>
              </a:rPr>
              <a:t>الوزن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كما أنه يلاحظ ان ذراعه قصيرة لا يمكن ان تصل الى مكان معين وان اخيه الأكبر ذراعه أطول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كما يبدأ باستيعاب مفهوم </a:t>
            </a:r>
            <a:r>
              <a:rPr b="1" lang="ar-SA" sz="2400" spc="-1" strike="noStrike">
                <a:solidFill>
                  <a:srgbClr val="9e3611"/>
                </a:solidFill>
                <a:latin typeface="Perpetua"/>
              </a:rPr>
              <a:t>الحرارة</a:t>
            </a: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 فهو يحب الاستحمام بالماء البارد، ويحب الطعام ساخناً وهكذا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250560" y="475920"/>
            <a:ext cx="85611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0000"/>
                </a:solidFill>
                <a:latin typeface="Perpetua"/>
              </a:rPr>
              <a:t>المرحلة الثانية: </a:t>
            </a:r>
            <a:r>
              <a:rPr b="1" lang="ar-SA" sz="2600" spc="-1" strike="noStrike">
                <a:solidFill>
                  <a:srgbClr val="0070c0"/>
                </a:solidFill>
                <a:latin typeface="Perpetua"/>
              </a:rPr>
              <a:t>« المقارنات «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Perpetua"/>
              </a:rPr>
              <a:t>تتضمن هذه المرحلة القيام </a:t>
            </a:r>
            <a:r>
              <a:rPr b="1" lang="ar-SA" sz="2600" spc="-1" strike="noStrike">
                <a:solidFill>
                  <a:srgbClr val="ff0000"/>
                </a:solidFill>
                <a:latin typeface="Perpetua"/>
              </a:rPr>
              <a:t>بإجراء مقارنات</a:t>
            </a:r>
            <a:r>
              <a:rPr b="1" lang="ar-SA" sz="2600" spc="-1" strike="noStrike">
                <a:solidFill>
                  <a:srgbClr val="000000"/>
                </a:solidFill>
                <a:latin typeface="Perpetua"/>
              </a:rPr>
              <a:t>، حيث يدرك الطفل عادة مفاهيم المقارنة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Perpetua"/>
              </a:rPr>
              <a:t>مثل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Perpetua"/>
              </a:rPr>
              <a:t> أكبر من / اقل من / اثقل من / اخف من / اطول من / اقصر من / اكثر حرارة / اكثر برودة.....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Perpetua"/>
              </a:rPr>
              <a:t> وهكذا يستطيع الطفل توظيف علاقات المقارنة في مواقف يومية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250560" y="260280"/>
            <a:ext cx="8591400" cy="674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0000"/>
                </a:solidFill>
                <a:latin typeface="Perpetua"/>
              </a:rPr>
              <a:t>المرحلة الثالثة: </a:t>
            </a:r>
            <a:r>
              <a:rPr b="1" lang="ar-SA" sz="2600" spc="-1" strike="noStrike">
                <a:solidFill>
                  <a:srgbClr val="0070c0"/>
                </a:solidFill>
                <a:latin typeface="Perpetua"/>
              </a:rPr>
              <a:t>« القياس غير المقنن»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e3611"/>
                </a:solidFill>
                <a:latin typeface="Perpetua"/>
              </a:rPr>
              <a:t>تبدأ بنهاية المرحلة الحسية الحركية وبداية مرحلة العمليات المحسوسة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يتعلم الطفل استخدام وحدات القياس </a:t>
            </a:r>
            <a:r>
              <a:rPr b="1" lang="ar-SA" sz="2800" spc="-1" strike="noStrike">
                <a:solidFill>
                  <a:srgbClr val="0070c0"/>
                </a:solidFill>
                <a:latin typeface="Perpetua"/>
              </a:rPr>
              <a:t>غير المقننة </a:t>
            </a: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بمعنى شيء يمتكله الطفل ويمكن ان يستخدم كوحدة قياس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9e3611"/>
                </a:solidFill>
                <a:uFillTx/>
                <a:latin typeface="Perpetua"/>
              </a:rPr>
              <a:t>مثل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أن يحاول الطفل إيجاد كم عدد فناجين الرمل التي تملأ علبة حليب فارغة؟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Perpetua"/>
              </a:rPr>
              <a:t>كم فرشة أسنان مثل طول قدمه؟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0" y="907920"/>
            <a:ext cx="895680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0000"/>
                </a:solidFill>
                <a:latin typeface="Perpetua"/>
              </a:rPr>
              <a:t>المرحلة الرابعة: </a:t>
            </a:r>
            <a:r>
              <a:rPr b="1" lang="ar-SA" sz="2600" spc="-1" strike="noStrike">
                <a:solidFill>
                  <a:srgbClr val="0070c0"/>
                </a:solidFill>
                <a:latin typeface="Perpetua"/>
              </a:rPr>
              <a:t>« القياس المقنن»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Perpetua"/>
              </a:rPr>
              <a:t>عندما يدخل الطفل مرحلة العمليات الحسية تبدأ الحاجة لديه باستخدام وحدات قياس مقننة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Perpetua"/>
              </a:rPr>
              <a:t>(مسطرة – متر – ميزان .. الخ 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0000"/>
                </a:solidFill>
                <a:latin typeface="Perpetua"/>
              </a:rPr>
              <a:t>المرحلة الخامسة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Perpetua"/>
              </a:rPr>
              <a:t>وهي تبدأ في </a:t>
            </a:r>
            <a:r>
              <a:rPr b="1" lang="ar-SA" sz="2600" spc="-1" strike="noStrike">
                <a:solidFill>
                  <a:srgbClr val="9e3611"/>
                </a:solidFill>
                <a:latin typeface="Perpetua"/>
              </a:rPr>
              <a:t>مرحلة العمليات </a:t>
            </a:r>
            <a:r>
              <a:rPr b="1" lang="ar-SA" sz="2600" spc="-1" strike="noStrike">
                <a:solidFill>
                  <a:srgbClr val="000000"/>
                </a:solidFill>
                <a:latin typeface="Perpetua"/>
              </a:rPr>
              <a:t>وفيها يفهم الطفل ويستخدم الوحدات المقننة للقياس مثل السنتيمتر والمتر واللتر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9T20:46:36Z</dcterms:created>
  <dc:creator>Hala</dc:creator>
  <dc:description/>
  <dc:language>en-US</dc:language>
  <cp:lastModifiedBy>Maha</cp:lastModifiedBy>
  <dcterms:modified xsi:type="dcterms:W3CDTF">2016-12-19T06:29:13Z</dcterms:modified>
  <cp:revision>52</cp:revision>
  <dc:subject/>
  <dc:title>مفهوم القياس</dc:title>
</cp:coreProperties>
</file>