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0526-5E17-423B-B943-5F1AA899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1179-D056-498D-AA28-5DB8A57C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DF5F-AAC6-479E-AA5F-871464B59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0A6E-D1ED-4CCF-9496-C687339F3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314E-1D05-41ED-946C-18DB96E5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E8C1-73A1-4C37-8AF4-C9BAD17C3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49DE-45B1-449C-B172-5B97A0FE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F095-3F69-457D-9C58-9014BE971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E7B1-89E7-4E9F-973C-B55117560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6366-5289-471E-ABDF-350E3C7E4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A17-D289-407A-A41C-EBE6CC5D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8B78-C49D-4E32-8025-C97039C8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ACE9-AC2D-48FA-BC01-6A526EABC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46A-4923-4487-BC1D-CC887638A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85D0-FC84-4BBB-A426-D6EB0B60C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858E-4ED4-4F28-A177-C1EF901F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DA2-8539-44EC-9965-D99FD2BE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E7C-5EC4-4CFC-8F71-8D1D0216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7EC-FF94-4887-BC5C-3B70A72F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754-5A8E-46F3-A963-24F65490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AD5CF-FFAC-4F9C-805C-71D1F47FF3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634CA-F162-447D-BA46-92E3A71F62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84AFF-4F23-45F5-BEE6-F2144ED89E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27173-EB8B-4630-BEEF-DB0EE3BC7F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F62FB-562E-4A07-A1E6-0955A4CE1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0A886-6659-421C-AD6B-F9EE062D9C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9BFE7-818B-4AA4-AE76-B3B538AD7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556-752D-4B2E-BFB9-4824350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07D40-63B6-474A-BB35-C0160BA500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A5E9B-6BD5-4E12-948D-1D22A26546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C46AB-E7AD-4AAF-B9AA-8764A25A57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014DF-7945-4BF8-B103-B8246DC77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F0E3E-3798-4E61-BA37-17BED2ACA9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A60254-356A-4C63-AEA8-3CD659CE79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79823-CA20-4506-BB5B-F2EAF1F096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CDA7A-B9DE-4523-A49C-DC6718229F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A4970-1E71-4938-A752-DAEF0305B6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EC4C3-CECB-4AE5-B64D-F4C9CD92D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E1F-9711-47C9-804D-CD9B2427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1A401-1132-4771-946C-7E5CE15527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07DD4-F325-447C-9312-8E796E4CDD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DD4BE-F939-4BD0-9607-0D6B3B5EC8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68522-4F7A-476B-BC8E-4B5A49A9AC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495D7-8862-40C4-990D-4A8A2FBCAB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A74FB-B4D5-4891-8229-8065BB7A9F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26FAC-0416-4E9C-BA4F-DCE1FE7940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EDC2-F512-45DD-AA43-5BDF65CFFA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0957-57E3-4F5C-BDEF-5D3AF42C8F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6060-938C-4E91-9A40-E070E1776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1B0-BA38-4253-ABEF-A8CEC44D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D16A-796C-491B-8F8D-AAF1044054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57D0-0588-485C-9E80-F4902EBCDC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900C-D1CA-4F38-9E3D-866FAF4B0E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4852-8C8B-4352-A2AE-55FB6B3FB5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25CF-B533-4035-9EA3-1B8780E971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67AA-BBD6-438F-B181-0DC059CA73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2EDF-96CB-4CE4-A669-4C32B8FA5E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3363-25ED-4764-83D6-6AE00142CF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5A13-9ACD-46EE-99E9-EA5CB37F41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3D9AC-2127-4E55-89F5-B6E1B3E9B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14C-561B-4851-9434-32948070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D1061-2E0B-4D71-8906-5957165FB8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BE8A5-5CA7-446A-8609-3C052B5A88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3F46B-10DD-48BA-A02C-CAD574585D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6AF2E-07A7-479B-A2AF-B3950FB008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ECE83-08DB-48B3-A97A-1D40673388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EAE8B-3D7B-4E4C-835E-0A90EBAE02B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98612-6EE2-45B4-88FB-BCEC9199065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E4A5D-26DB-4B5B-88B2-9255CA14460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4AABA-CA4B-4D79-A4AA-EC329234BB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13FAB-A524-4128-A918-5A2394348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173-092B-45F5-850B-03C9610F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DA047-1CA0-4EFD-8DF7-5C389AE01D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CA8EC5-B222-47BB-B42B-1F10282174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B5433A-C2F1-4910-A61B-5C57DFC622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6E1AD-6EED-4070-8A47-1D5179116D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8258AB-AF96-4217-92A4-112D7A4F752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D92DC-4C92-4C2A-8246-D973E75D2F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743612-14FC-4037-BC1E-7F13B049DE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FAD32-9B7D-48D2-B178-0FF30D6D42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4C3102-528C-4E21-A7B0-B93C03AA81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6961F-1FB1-41AF-854D-A83A0F7D9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66A-AED6-4065-84F8-7ADB36B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1DB20-FCA2-46E9-8CDD-85033B0515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4F33E2-5637-460A-9D1A-73C9653756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D9B4A9-3A6F-4F64-AE5B-6A0826D4748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ACDA-F1A0-4D38-95C6-2B02214EE83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0A9A-FCD5-4532-8CEC-BCAEDD36F2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D00F-80F9-4142-8315-46214139B4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42606-2D47-4783-85E0-E2176EF03A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A712D-65A7-4894-BA6F-49C94AECE5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94392-1B69-4BCA-B16C-B5EC41C893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32F6-AFCB-4D95-B838-40A581D9F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21E-1CAE-4064-90E6-45E3A511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60570-4695-4B95-AEB4-A49A3BFB33E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7051-70FC-4484-AB78-53ADFF5C9C3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FDCD-10B3-4993-8E68-C14B35102F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1F1E0-783B-4D10-BDC2-1013AE5973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9700F-A490-40B1-B114-D341CDC79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88B-E171-4053-8B8B-28DA280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CC69-052C-4D91-B356-303D6B5D085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6D93-DDF2-461B-A35F-82AA8A00F8C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5B57-5707-476E-81AE-165AC1D9552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50E-F3E8-4C82-B64F-AB22A1AAA05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B83-868B-45F5-A707-28628BFE403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B12B-A626-439A-839B-931F17AD831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DF52-FD3D-473F-A5D5-AD64B8BA7D1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82BE-3F65-4F76-93BF-C0A97136C9E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3AEB-FF99-4254-9CF0-64F23B8D420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312C-21C8-49AF-96C8-EB43DB0F0F8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Fundamentals &amp; Ethics of Information Systems-IS 201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09120" y="2743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E-commerce,TPS and ER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7200" y="210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is E-Commerc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0840" y="1522440"/>
            <a:ext cx="80773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ng business activities electronically over comput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activities that are strong candidates for conversion to e-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venient for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s of e-commerce: B2B, B2C, C2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B612-45D0-4091-9414-770936E4BC2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-to-Business (B2B) 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t of e-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rticipants are organ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 tool for connecting business partners in a virtual supply chain to cut resupply times and reduce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9103-A7E6-4B63-A417-71303FB888B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-to-Consumer (B2C) 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of e-commerce in which customers deal directly with an organization and avoid intermedi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intermedi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imination of intermediate organizations between the producer and the consum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94C8-F554-4500-ABA9-A66A02E1ABD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sumer-to-Consumer (C2C) 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112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t of e-commerce that involves consumers selling directly to other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r si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zcom, Craigslist, eBid, Kij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er, Ibidfree, Ubid, and Tra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sy is a C2C Web site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s in the buying and selling of handmade and antique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sales worth more than $10 to $13 million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A88A-A484-4B36-B205-9FBDEA64B0E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5E39-ED40-4DD3-B683-5E896C3BA06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196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-Govern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676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f information and communications technology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sharing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formerly paper-base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relationship between citizen an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s of e-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-to-consumer (G2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-to-business (G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-to-government (G2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6C43-207C-447C-8A1E-2C3C6DA4E36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bile Commer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commerce (m-commerc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es on the use of wireless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et Corporation for Assigned Names and Numbers (ICANN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 .mobi domain to help attract mobile users to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47EA-D715-4D8B-93D6-E04BD890076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-Commerce in Perspect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rket for m-commerce in North Americ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ing much later than in Western Europe and Jap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-commerce spending in the United Sta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w from $369 million in sales in 2008 to $1.2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-commerce will succeed only if it provides users with real benef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0CB4-CC2B-4AC7-BF96-2966CD9D972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 and M-Commerce Applic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B2B, B2C, C2C, and m-commerce applications are being used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and whole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and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nd e-bou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C896-55FF-4E97-B1F2-0129EF7FB18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-commerce in manufa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73C6-1E7C-421F-96CE-73C6F051568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3352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and mobile commerce are evolving, providing new ways of conducting business that present both potential benefits and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urrent status of various forms of e-commerce, including B2B, B2C, C2C, and m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e-commerce and m-commerc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advantages associated with the use of e-commerce and m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9656-0B05-4198-A941-FAB82B29E549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A926-A9EA-43B1-AF23-15E471DEEB6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vantages of E- and M-Commer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E3AD-2263-40D3-8DEE-00AF2A04B95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52280" y="1554120"/>
            <a:ext cx="8839440" cy="4314960"/>
          </a:xfrm>
          <a:prstGeom prst="rect">
            <a:avLst/>
          </a:prstGeom>
          <a:ln w="0">
            <a:noFill/>
          </a:ln>
        </p:spPr>
      </p:pic>
      <p:sp>
        <p:nvSpPr>
          <p:cNvPr id="34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DDAE-02C2-4E02-BD5A-3495851F1F6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- and M-Commerce Technology Infra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4A49-17C4-4C39-B0CD-3944B71435F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eb Server Hard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e-commerce infrastructure ingredi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 hardware platform complete with the appropriate web server 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decision facing new e-commerce compan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host their own Web site or to let someone else do it (cloud comp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7926-D19C-4A2C-8567-6090A7F5131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0C37-8A61-4816-87AC-70AB623CE7C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eb Server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-commerce Web site must have Web server software to perform fundamental servi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nd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al and sending of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1B93-931B-4BBD-996F-589CA7FD82D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4144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-Commerce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41440" y="1142640"/>
            <a:ext cx="822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e and install e-commerce software to support five core 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og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nd update the product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configu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customers select the necessary components an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pping ca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ies to track the items selected for pur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traffic data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details to adjust the operations of the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4534-F7CC-4723-AC12-C2F4289A482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-Commerce Hardware and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-commerce to work effective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face between the wireless, handheld device and its user must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ryption can provide secure trans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reless Application Protocol (WAP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set of specifications for Internet applications that run on handheld, wireless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C4DB-7A9F-4595-A5A0-CA9F482E9C7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lectronic Paymen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cas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ount of money that is computerized, stored, and used as cash for e-commerc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, charge, debit, purchase p-, and smart car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dit card-sized device with an embedded microchip to provide electronic memory and processing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4669-9E68-46B6-AF82-A0BF71FE170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A9A-87AF-4BAD-83AE-E94F7B0E1E8D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lectronic Payment Systems (cont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475-2CBA-46DA-B3D1-1A822E75146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150920" y="1523880"/>
            <a:ext cx="7315200" cy="4480200"/>
          </a:xfrm>
          <a:prstGeom prst="rect">
            <a:avLst/>
          </a:prstGeom>
          <a:ln w="0">
            <a:noFill/>
          </a:ln>
        </p:spPr>
      </p:pic>
      <p:sp>
        <p:nvSpPr>
          <p:cNvPr id="37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81E6-A78E-4B6C-861F-9279FC3D3918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lectronic Payment Systems (cont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-Car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card used to streamline (simplify) the traditional purchase order and invoice payme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yments using cell ph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ments linked to your bank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ments added to your phone b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FC33-FC8E-4483-BEDE-9DFE64E18D8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E726-DBA5-4D17-A458-B8559682D30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nsaction Processing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systems (TPS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and pro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data necessary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reco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busines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order entry, inventory control, payroll, accounts payable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سابات دائن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ccounts receivable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سابات مدين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eneral ledger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فتر الحسابا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mployees with data to help them achieve thei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D456-7301-49E8-8674-DC1D3736492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Information Systems Essentials, Sixth Editi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ommerce and m-commerce require the careful planning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gration of a number of technology infrastructure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key components of technology infrastructure that must be in place for e-commerce and m-commerc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key features of the electronic payment systems needed to support e-commerce and m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2577-A9FF-4B3F-BE01-F41E0C40191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285040" cy="3733560"/>
          </a:xfrm>
          <a:prstGeom prst="rect">
            <a:avLst/>
          </a:prstGeom>
          <a:ln w="0">
            <a:noFill/>
          </a:ln>
        </p:spPr>
      </p:pic>
      <p:sp>
        <p:nvSpPr>
          <p:cNvPr id="383" name="Shape 445441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nsaction Processing Systems (cont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BC3E-4DC8-4FF7-B0EE-10B960CC0EF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BB6E-5F4A-4C80-BE09-32D09CDA89A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ditional Transaction Processing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ethods and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tch processing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ing in which business transaction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mulated over a period of ti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d for processing as a single unit or b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transaction processing (OLTP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ing in which each transaction is process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44D2-3A13-4A45-BEFA-E3230180CF5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457200" y="365040"/>
            <a:ext cx="6705720" cy="5578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2"/>
          <a:stretch/>
        </p:blipFill>
        <p:spPr>
          <a:xfrm>
            <a:off x="7238880" y="2057400"/>
            <a:ext cx="185436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64AB-3F24-471C-8A94-1403AEAEDFF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BFAE-843A-4950-ABF4-7336EB74038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152280" y="701640"/>
            <a:ext cx="6521400" cy="5089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6781680" y="5257800"/>
            <a:ext cx="2273400" cy="63972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EF2E-120D-464D-B462-0B635499546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342F-2A17-4CFE-9D17-C6576062C96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action Processing Activi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P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and process data that describes fundamental business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 variety of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cyc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data collection, data editing, data correction, data manipulation, data storage, and document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6A90-DF37-41F9-8E45-F95AB80530F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5029200" cy="5121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6781680" y="2225520"/>
            <a:ext cx="2092320" cy="109728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1CF-856B-4CDC-A648-1A0EDABB70A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PS Activi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A02F-35E1-40AB-81A4-64995029625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62680" cy="4022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0" y="4784760"/>
            <a:ext cx="2060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Colle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turing and gathering all data necessary to complete the processing of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collection can b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via special input devic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hould b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a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accurately, in a timely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68A-77D8-4728-B494-023B4669069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50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Editing (double-check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ing data for validity and completeness to detect any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and cost data must be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must be alphab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06B9-2F20-40BF-81AC-CCC7DA8EC90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Corre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entering data that was not typed or scanned proper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messages must specify the problem so proper corrections can be m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6048-09B4-4692-AC17-FC66CA96CE6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organization must have information systems that support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e, day-to-day activit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occur in the normal cours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help a company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 valu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its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activities and business objectives common to all transaction processing systems (T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F429-EA7C-4F4A-B482-D634197F129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Manipul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ing calculations and other data transformations related to business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nclude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data into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ing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FB55-900E-49FD-BD97-16DB7C786E5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Stora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ing data in the organization’s database for furth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ing one or more databases with new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being updated, this data can be further processed and manipulated by othe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34B-1C6E-4666-B45D-D60B3B93735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cument Production and Report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ng output records, documents, and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-copy paper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 on computer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from one TPS can be inputs to another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972A-7DB7-4EAA-8A73-24B8281D8E4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PS For Small and Medium-Size Enterprises (SMEs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827-11E7-4119-B1FA-B07940AD7B6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28600" y="1525680"/>
            <a:ext cx="7696080" cy="4206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7010280" y="5442120"/>
            <a:ext cx="20448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nterprise Resource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P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to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information can be shared across all business functions (organization’s un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 a central database of key operational and planning data that can be shared by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6422-9235-4BF4-8C32-859007B85F0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16D-064F-474E-B92C-C3CFEFA8F625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1752480" y="838080"/>
            <a:ext cx="556272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1905120" y="1752480"/>
            <a:ext cx="1523880" cy="1371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 En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3809880" y="1752480"/>
            <a:ext cx="152424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15000" y="1752480"/>
            <a:ext cx="1447920" cy="1371600"/>
          </a:xfrm>
          <a:prstGeom prst="rect">
            <a:avLst/>
          </a:prstGeom>
          <a:solidFill>
            <a:srgbClr val="fcd1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1981080" y="3581280"/>
            <a:ext cx="1143000" cy="1143000"/>
          </a:xfrm>
          <a:prstGeom prst="flowChartMagneticDisk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ount R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4114800" y="3581280"/>
            <a:ext cx="1143000" cy="11430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6019920" y="3581280"/>
            <a:ext cx="1143000" cy="1143000"/>
          </a:xfrm>
          <a:prstGeom prst="flowChartMagneticDisk">
            <a:avLst/>
          </a:prstGeom>
          <a:solidFill>
            <a:srgbClr val="fcd1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ts P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752480" y="47242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4114800" y="47242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in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6019920" y="4724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urement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3352680" y="380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nterpr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0" y="2133720"/>
            <a:ext cx="990720" cy="838080"/>
          </a:xfrm>
          <a:prstGeom prst="rect">
            <a:avLst/>
          </a:prstGeom>
          <a:solidFill>
            <a:srgbClr val="a3f2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8153280" y="2057400"/>
            <a:ext cx="990720" cy="838080"/>
          </a:xfrm>
          <a:prstGeom prst="rect">
            <a:avLst/>
          </a:prstGeom>
          <a:solidFill>
            <a:srgbClr val="a3f2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6" name="AutoShape 15"/>
          <p:cNvCxnSpPr/>
          <p:nvPr/>
        </p:nvCxnSpPr>
        <p:spPr>
          <a:xfrm rot="5400000">
            <a:off x="2152080" y="-96120"/>
            <a:ext cx="381960" cy="4077360"/>
          </a:xfrm>
          <a:prstGeom prst="bentConnector3">
            <a:avLst>
              <a:gd name="adj1" fmla="val -6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Text Box 16"/>
          <p:cNvSpPr/>
          <p:nvPr/>
        </p:nvSpPr>
        <p:spPr>
          <a:xfrm>
            <a:off x="685800" y="1219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17"/>
          <p:cNvSpPr/>
          <p:nvPr/>
        </p:nvSpPr>
        <p:spPr>
          <a:xfrm>
            <a:off x="99072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1430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21"/>
          <p:cNvSpPr/>
          <p:nvPr/>
        </p:nvSpPr>
        <p:spPr>
          <a:xfrm>
            <a:off x="2514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Line 22"/>
          <p:cNvSpPr/>
          <p:nvPr/>
        </p:nvSpPr>
        <p:spPr>
          <a:xfrm>
            <a:off x="46483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23"/>
          <p:cNvSpPr/>
          <p:nvPr/>
        </p:nvSpPr>
        <p:spPr>
          <a:xfrm>
            <a:off x="65530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7315200" y="22096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716292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5" name="AutoShape 26"/>
          <p:cNvCxnSpPr/>
          <p:nvPr/>
        </p:nvCxnSpPr>
        <p:spPr>
          <a:xfrm flipV="1" rot="16200000">
            <a:off x="6609600" y="-134280"/>
            <a:ext cx="305640" cy="4077720"/>
          </a:xfrm>
          <a:prstGeom prst="bentConnector3">
            <a:avLst>
              <a:gd name="adj1" fmla="val 175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Text Box 27"/>
          <p:cNvSpPr/>
          <p:nvPr/>
        </p:nvSpPr>
        <p:spPr>
          <a:xfrm>
            <a:off x="7620120" y="1219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28"/>
          <p:cNvSpPr/>
          <p:nvPr/>
        </p:nvSpPr>
        <p:spPr>
          <a:xfrm>
            <a:off x="1562040" y="5381640"/>
            <a:ext cx="5943600" cy="3070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ditional Information System with Closed Database Archite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0B1E-051D-4B83-BBED-27C1B4BB624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9" name="Straight Arrow Connector 2"/>
          <p:cNvCxnSpPr>
            <a:stCxn id="434" idx="3"/>
            <a:endCxn id="435" idx="1"/>
          </p:cNvCxnSpPr>
          <p:nvPr/>
        </p:nvCxnSpPr>
        <p:spPr>
          <a:xfrm>
            <a:off x="3429000" y="2437920"/>
            <a:ext cx="38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Straight Arrow Connector 29"/>
          <p:cNvCxnSpPr/>
          <p:nvPr/>
        </p:nvCxnSpPr>
        <p:spPr>
          <a:xfrm>
            <a:off x="5334120" y="2488680"/>
            <a:ext cx="38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nterprise Resource Planning (cont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7603-D176-4B82-8D16-2B783953589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124840" cy="30574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3809880" y="5105520"/>
            <a:ext cx="2184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vantages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d access to data for operational decision 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ing integration and flexi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err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d speed and efficien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ous involvement and commitment of the to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A36A-2048-4513-87C3-C5EADFB9387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advantages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nsive (can costs 100 thousands to millions of dollar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-consuming (can take months to years) to imp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y integrating with othe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y in loading data into new ERP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s in using one ven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 of implementation fail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stance for acceptance with the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773D-63F0-48FF-9EEC-6E44663423B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Small and Medium-Size Enterprises (SMEs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SMEs elect to implement open-source ERP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open-source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see and modify the source code to customize it to meet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E can use ERP based on cloud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2BE2-260A-4C59-816D-9705E135BD9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83F-F385-4999-A909-6873027B8CD7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any that implements an enterprise resource planning (ERP) system is creat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ly integrated set of syst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can lead to many business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advantages and disadvantages associated with the implementation of an enterprise resource plan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2AE0-FCC1-44FC-A223-9E7796E44C9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Component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A5F6-7D0F-4D51-B947-FA8CE5A6D35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CA8E-7047-4100-964F-0B2747514FC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Content Placeholder 6" descr="erp.jpg"/>
          <p:cNvPicPr/>
          <p:nvPr/>
        </p:nvPicPr>
        <p:blipFill>
          <a:blip r:embed="rId1"/>
          <a:stretch/>
        </p:blipFill>
        <p:spPr>
          <a:xfrm>
            <a:off x="2413080" y="1676520"/>
            <a:ext cx="4140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SCM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ystem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aw materials to finished products and warehousing and delivering finished product to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executing, and controlling all activities involv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material sou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79B-81C0-4A7D-AA39-45B984CE1E0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C769-1371-4DCF-A8F7-14D4FCADAA5D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C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484" name="Content Placeholder 5" descr=""/>
          <p:cNvPicPr/>
          <p:nvPr/>
        </p:nvPicPr>
        <p:blipFill>
          <a:blip r:embed="rId1"/>
          <a:stretch/>
        </p:blipFill>
        <p:spPr>
          <a:xfrm>
            <a:off x="885960" y="1371600"/>
            <a:ext cx="7372080" cy="4572000"/>
          </a:xfrm>
          <a:prstGeom prst="rect">
            <a:avLst/>
          </a:prstGeom>
          <a:ln w="0">
            <a:noFill/>
          </a:ln>
        </p:spPr>
      </p:pic>
      <p:sp>
        <p:nvSpPr>
          <p:cNvPr id="4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0AC6-AF85-4A81-A97D-D37B673BFFA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232-B2F0-44A0-A4CD-A653CFFF88F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  <a:ea typeface="Arial"/>
              </a:rPr>
              <a:t>Customer Relationship Management (CRM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8080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nformation system that manages the day-to-day interactions with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8762-C92E-4EC9-8918-1769AD5E762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6" descr="Fig14-13.gif"/>
          <p:cNvPicPr/>
          <p:nvPr/>
        </p:nvPicPr>
        <p:blipFill>
          <a:blip r:embed="rId1"/>
          <a:stretch/>
        </p:blipFill>
        <p:spPr>
          <a:xfrm>
            <a:off x="2971800" y="2565360"/>
            <a:ext cx="4772160" cy="360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ustomer Relationship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features of a CRM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by smart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conta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4C1-092C-4360-9EED-0CCEAC1E932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M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137D-D139-42E8-AA44-74FDCD00EFB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0520" y="160020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Resource Plan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S that helps monitor and control processes related to production includes software that helps in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4266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Marketing Information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008-1759-49D1-86F7-01B08465816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Rounded Rectangle 4"/>
          <p:cNvGrpSpPr/>
          <p:nvPr/>
        </p:nvGrpSpPr>
        <p:grpSpPr>
          <a:xfrm>
            <a:off x="249120" y="1279440"/>
            <a:ext cx="8645760" cy="1171800"/>
            <a:chOff x="249120" y="1279440"/>
            <a:chExt cx="8645760" cy="1171800"/>
          </a:xfrm>
        </p:grpSpPr>
        <p:pic>
          <p:nvPicPr>
            <p:cNvPr id="50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249120" y="1279440"/>
              <a:ext cx="864576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62080" y="1295280"/>
              <a:ext cx="861984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156240" tIns="156240" bIns="15624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marketing information system serves as a central repository for the tasks of a marketing department and analyzes data gathered from survey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2" name="Picture 12" descr="fig14_11"/>
          <p:cNvPicPr/>
          <p:nvPr/>
        </p:nvPicPr>
        <p:blipFill>
          <a:blip r:embed="rId2"/>
          <a:stretch/>
        </p:blipFill>
        <p:spPr>
          <a:xfrm>
            <a:off x="2666880" y="2651040"/>
            <a:ext cx="4496040" cy="338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Human Resource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0520" y="1476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anages one or more human resource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Relationship Management Systems (ERMS) manage communication between employees and th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Content Placeholder 9" descr="Fig14-08.gif"/>
          <p:cNvPicPr/>
          <p:nvPr/>
        </p:nvPicPr>
        <p:blipFill>
          <a:blip r:embed="rId1"/>
          <a:stretch/>
        </p:blipFill>
        <p:spPr>
          <a:xfrm>
            <a:off x="4572000" y="2057400"/>
            <a:ext cx="4319640" cy="3465360"/>
          </a:xfrm>
          <a:prstGeom prst="rect">
            <a:avLst/>
          </a:prstGeom>
          <a:ln w="0">
            <a:noFill/>
          </a:ln>
        </p:spPr>
      </p:pic>
      <p:sp>
        <p:nvSpPr>
          <p:cNvPr id="5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C673-344C-4581-9D1E-C65275007E9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Accounting and Finance 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software manages everyday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ng software helps the company join purchases with customer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oftware helps managers budget, forecast, and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96F3-A8D9-4042-9ACF-4A7E81B628E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Accounting and finance 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BD3-6FAB-4665-932C-6931107AEAD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Picture 5" descr="Fig14-07.gif"/>
          <p:cNvPicPr/>
          <p:nvPr/>
        </p:nvPicPr>
        <p:blipFill>
          <a:blip r:embed="rId1"/>
          <a:stretch/>
        </p:blipFill>
        <p:spPr>
          <a:xfrm>
            <a:off x="555480" y="2057400"/>
            <a:ext cx="802332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any that implements a customer relationship management (CRM) system is build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urce of information about customer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can improve sales, marketing, and customer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objective of a customer relationship management system and describe several of its bas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9CE3-47ED-4152-AAC4-0F04A57B6FE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sted Software Model for SM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business application software vend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ushing the use of the hosted software model for SMEs such as cloud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hosted software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e small business firm does not need to employ a full-time IT person to maintain key busines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DA9C-2E79-4BB0-810E-F1106721975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8001000" cy="2505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2251080" cy="914400"/>
          </a:xfrm>
          <a:prstGeom prst="rect">
            <a:avLst/>
          </a:prstGeom>
          <a:ln w="0">
            <a:noFill/>
          </a:ln>
        </p:spPr>
      </p:pic>
      <p:sp>
        <p:nvSpPr>
          <p:cNvPr id="518" name="Shape 575489"/>
          <p:cNvSpPr/>
          <p:nvPr/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sted Software Model for SME (cont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180E-014D-4389-907E-B23F379A20B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7033-08AA-40BA-A5CA-627593D34FC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ernational Issues Associated with Enterprise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 that must be met by an enterprise system of a multinational company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anguages and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arities in I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laws and customs 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6911-54EC-407E-8EA0-F48A276CE68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commerce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ng business activities electronically over comput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wireless devices such as cell phones and smartphones to facilitate the sale of goods or services—anytime,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payment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 of the e-commerce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AF8-FC7B-4351-B395-21185415F65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System (T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prise resource planning (ERP)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efficient operation of business process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M, CRM, MIS, HRM, M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7567-0E22-4EB7-8402-6998444DF54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potential international issues associated with the operation of enterprise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llenges that multinational corporations face in planning, building, and operating their enterpri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CE1E-B572-4D56-937D-EACAF91B011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-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pa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Systems (T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P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, Accounting and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0C5C-782C-4447-9901-4293DA421D6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Learn About E- and M-Commer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and mobile 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ransformed many areas of our lives and car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undamental change has be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ner in which companies interact with their suppliers, customers, government agencies, and other business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9C6-7E9E-4BD8-8CA8-49CB1F342F5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56:32Z</dcterms:created>
  <dc:creator/>
  <dc:description/>
  <dc:language>en-US</dc:language>
  <cp:lastModifiedBy>Zuair</cp:lastModifiedBy>
  <dcterms:modified xsi:type="dcterms:W3CDTF">2016-12-01T06:02:28Z</dcterms:modified>
  <cp:revision>501</cp:revision>
  <dc:subject/>
  <dc:title> Principles of Information Systems, Ninth Ed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AC5209A-17D5-4454-81E6-4371FB162C07</vt:lpwstr>
  </property>
  <property fmtid="{D5CDD505-2E9C-101B-9397-08002B2CF9AE}" pid="3" name="ArticulatePath">
    <vt:lpwstr>7 Ecomerce and ERP Systems</vt:lpwstr>
  </property>
</Properties>
</file>