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7CC1-DB33-4EA1-A920-4D2F339BB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03735-ED39-4874-B7FB-A3EC209D7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0533-0EF1-4BC1-A86C-7E937FE00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48B4-14AD-4A86-B8F9-D838E49E9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0B0E-72F4-4F7E-ADF7-5E92F38C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F77C-5DE1-4CF2-A060-0962D695A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1D8A-B1E7-4EEF-8675-010EA6C31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DDA-B8BA-4767-81E7-A1B70688F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6754-8DCE-4969-8F7B-4DFA7A6C6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00A1-9F32-42A6-B02F-A2FB3A0A3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E224-952A-4E88-B1F5-3FEBBA422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0C82-53AE-4EBE-9F43-BEF01CCFA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3298-64FE-4E15-88EB-BAA3515EA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96DC-B242-47A9-90EF-D7021158D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0AC96-C1D4-4659-99F8-D1C616B73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8529-5264-4370-A2E3-9460AC7FA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EF1-17C9-488A-93F0-11273680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7DA-3D64-4F75-A148-D18A343A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BBCE-A656-4891-B79B-E67DD6A22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CD7B-0F66-4952-8324-B2BA34153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92B2A-35EA-46F8-8EEB-B2FF0909D0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9B989-9515-433E-B180-4EDB3F69971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00DA7-11C3-4BAA-9C48-E74A3510D6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61928B-3C51-49B1-9587-FD9AD69EBE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B2C5B-5962-4367-9359-E1692DEA4C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DDCA5-AEDB-4A53-8A13-09B92B9777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419FD-E977-4074-8493-4CB0AE29C4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011E-D563-42D5-989B-3FD475BC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95D70-FDE9-4B79-8263-61403C0E69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64E7A5-F641-4CE4-B426-6A8F30CC0A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05101-100F-444C-B1F8-2AF7109140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537D6-BDF1-4CAB-A95A-EC404B7EB9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309A5-1E7C-4E7F-B7A0-9F81EFE4807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957372-9B28-42C7-8B5B-7E866DA0D74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237847-B9D5-4500-BB8E-E67F099986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E8CF8-45AF-4EE9-9754-3853162C1D7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81C51-A390-4FA5-A288-578FF5C4B54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AAD878-2860-4E45-A376-36F89BEB74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D9D6-05AF-4CDE-899F-4DC6B296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81C935-2133-4B39-AB8B-17B7269D69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1F4B2-D5F9-46A5-A791-B37F5945BE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C51E8-6278-4D46-9635-77C8798670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2D5F98-F062-4AB9-AF80-CA77A984986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6CDCD1-EC7C-47C9-A93D-4CA5617214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D599F3-EA6A-41EF-9E8E-9B3E0CFC44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307FFF-074D-44B0-9319-E0A5593FCB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7186C-6DC7-49F0-BD90-537DA91D434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3ECAB-8573-45BF-84BD-9CA5193284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32709-7127-4C4E-A9C6-05CA990870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96EA-1D20-4EFD-8489-EFDB7863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32E49-0632-403E-80F8-BCF1ACF574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530D-6FAB-4B80-9653-787B197A562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AB532-D20D-4CC5-914B-1699226923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DC1C0-7CFF-4F79-BF5F-4D2427A6260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371FD-CD4C-4EC8-8906-D4FECB2DF6B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4A3E6-6F7B-4FED-922C-9A6B84E1318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F6205-73B3-4361-BE55-2CEF089BF07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53B56-95B4-4015-B378-B7A7978EAC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F7620-0389-4D5D-AE57-B020C39C853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B96E5F-AB47-4719-A1E4-692995F9F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455-6B21-4FC7-9B74-2EF10DEC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E852D5-0B0A-4429-BAE7-C2E46BCE74F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93DAF9-5647-4100-BB3F-05C3C5D4C6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74023-53F2-4040-B138-58545FDC19C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30663C-258A-41C3-841F-015422A7EDE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3F1017-500D-4430-88EC-4CCB0417F4B3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8200A8-0032-42DC-B8DA-0976A13DB80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549D3D-A94F-4EAD-9314-E2F5B4D23C6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6E4BF6-7A97-4BAB-9602-CD77B25BD88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A3204-C1CB-4FD8-8046-35653FC4AA0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4FF018-6150-444B-AF54-CB7AA572A3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5E84-7D5B-4285-8153-F3873DF2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7D06E-ED81-4CE4-A619-667B9315F3A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43692D-B78E-4A05-9E9E-8B4A0DF4998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391BCA-314C-4346-AADC-E2FD7BD1BCF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3EADCB-05F5-4E84-828D-DF45D8AA746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3BAD31-75FC-4CE9-ABE5-B53FAD5B92A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E3EC26-3681-4BDF-9A64-17A115788D7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EB6947-5492-4491-9D58-3EE5325CE78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355B13-444D-4C21-8DBB-4B701C1C8CC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E4A911-954D-4A6B-91E5-6EC5CDEF41A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C4CB23-7386-46A1-AE54-7BE2D341E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CE5-BF4B-4B41-BFF7-E339BF51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E0A436-CC8E-4B6D-B53B-4FA5635FD6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D73F9-096A-4DCE-8825-A0CD8BEED78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27BAE7-AE40-42EF-A24A-A7E4B35CEF5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2392E-F58A-48B1-A4F6-2261A34D49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580F5-1500-4386-9114-94365B1874D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CB994-1F34-467F-9ED6-2A294C00A3B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50FFD-96B2-4F38-BA8B-68F83C6FEFC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53EFD-38A7-4B15-99E4-C2D92750E48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4F545-0DFB-448F-9323-39E355828EA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56CEA-2B98-44D2-924A-44ACE25EF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279-6F2D-414F-89D1-058FDA49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0119F-BE6D-4531-AAE4-D2D2EB6C6AA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1E84A-7502-4DD3-B6E3-E52A69BF040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5356F-FA49-4832-8313-15C7329FF59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5F8EB-7185-4711-9213-4F6A0000A0E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09790-B8D6-4654-99A9-3A6774648B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E6C-8D4F-4346-9AC7-BBD3DCD4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56E9-8274-4F43-A27C-A11D731DE03F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AFCE-80D0-4B55-896E-8EAD63CF63B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3DE4-2017-470B-BCCD-3A691BA4AB8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274284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hapter 1 Enterprise Comp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7786-031D-40DE-8381-7E3E416DF88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274284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hapter 1 Enterprise Comp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C553-76BE-4A69-B852-F31B70D7B40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274284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hapter 1 Enterprise Comp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7876-EF63-47EB-B646-C4967B229C8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ftr" idx="12"/>
          </p:nvPr>
        </p:nvSpPr>
        <p:spPr>
          <a:xfrm>
            <a:off x="274284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hapter 1 Enterprise Comp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E8D1-185C-43C7-94F8-CEB7F0020FC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14"/>
          </p:nvPr>
        </p:nvSpPr>
        <p:spPr>
          <a:xfrm>
            <a:off x="2742840" y="64008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Chapter 1 Enterprise Comput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C651-83DA-4452-8389-C5F1545D4A8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8257-2391-47E3-8E4A-9661599294B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2C62-585B-46CB-A131-A51FE2F84A4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2222"/>
                </a:solidFill>
                <a:latin typeface="Arial"/>
              </a:rPr>
              <a:t>Fundamentals &amp; Ethics of Information Systems-IS 201</a:t>
            </a:r>
            <a:endParaRPr b="0" lang="en-US" sz="44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609120" y="2743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E-commerce,TPS and ER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47200" y="21060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at is E-Commerce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0840" y="1522440"/>
            <a:ext cx="80773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Commer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ng business activities electronically over comput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activities that are strong candidates for conversion to e-commer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venient for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s of e-commerce: B2B, B2C, C2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97F2-A2F8-4626-BDAC-601376E0E73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-to-Business (B2B) </a:t>
            </a:r>
            <a:br>
              <a:rPr sz="3600"/>
            </a:b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et of e-comme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participants are organiz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ful tool for connecting business partners in a virtual supply chain to cut resupply times and reduce cos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2C84-D4F0-4A51-8007-3E9E2FFF488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Business-to-Consumer (B2C) </a:t>
            </a:r>
            <a:br>
              <a:rPr sz="3600"/>
            </a:b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 of e-commerce in which customers deal directly with an organization and avoid intermedi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intermedi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imination of intermediate organizations between the producer and the consum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031C-68E7-46E4-80E1-8A8EA72AE16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nsumer-to-Consumer (C2C) </a:t>
            </a:r>
            <a:br>
              <a:rPr sz="3600"/>
            </a:b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112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et of e-commerce that involves consumers selling directly to other consu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ular si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zcom, Craigslist, eBid, Kij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er, Ibidfree, Ubid, and Tra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tsy is a C2C Web site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s in the buying and selling of handmade and antique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s sales worth more than $10 to $13 million each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3FBE-CE60-4D5A-84EF-49F656A5190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B537-2E5F-4F9A-B321-73FA286C6B5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196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-Govern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66760" y="13716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f information and communications technology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y the sharing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formerly paper-base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the relationship between citizen and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s of e-Gover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-to-consumer (G2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-to-business (G2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-to-government (G2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9E13-DB0D-4A55-8EB5-02BE46070B0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bile Commer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commerce (m-commerce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es on the use of wireless de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net Corporation for Assigned Names and Numbers (ICANN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a .mobi domain to help attract mobile users to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EF3B-DB17-4E14-ABE8-403632013FA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-Commerce in Perspecti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rket for m-commerce in North America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uring much later than in Western Europe and Jap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-commerce spending in the United Stat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w from $369 million in sales in 2008 to $1.2 billion in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-commerce will succeed only if it provides users with real benefi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5F85-7D65-4C04-8381-F6E3FEFC559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- and M-Commerce Applic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B2B, B2C, C2C, and m-commerce applications are being used i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l and wholes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and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nd e-bou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3353-DE35-4B87-B819-2EE463766F1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324480" cy="4842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-commerce in manufa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0ACB-C8FF-409A-ACE8-42864E0B93D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533520" y="13716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and mobile commerce are evolving, providing new ways of conducting business that present both potential benefits and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urrent status of various forms of e-commerce, including B2B, B2C, C2C, and m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e-commerce and m-commerc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several advantages associated with the use of e-commerce and m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2A39-A128-48A8-A150-DC256F59D1EE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F77A-66EE-4AE8-8BDE-1B819498069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vantages of E- and M-Commer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4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362A-5866-4E09-8249-1EC620B4E6E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2" descr=""/>
          <p:cNvPicPr/>
          <p:nvPr/>
        </p:nvPicPr>
        <p:blipFill>
          <a:blip r:embed="rId1"/>
          <a:stretch/>
        </p:blipFill>
        <p:spPr>
          <a:xfrm>
            <a:off x="152280" y="1554120"/>
            <a:ext cx="8839440" cy="4314960"/>
          </a:xfrm>
          <a:prstGeom prst="rect">
            <a:avLst/>
          </a:prstGeom>
          <a:ln w="0">
            <a:noFill/>
          </a:ln>
        </p:spPr>
      </p:pic>
      <p:sp>
        <p:nvSpPr>
          <p:cNvPr id="34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92A4-20E6-4BCC-B997-0CD221D92A8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- and M-Commerce Technology Infrastructu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444D-F6F0-4FAB-9155-760E0C195C5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6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4864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eb Server Hard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e-commerce infrastructure ingredi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er hardware platform complete with the appropriate web server 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decision facing new e-commerce compani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host their own Web site or to let someone else do it (cloud comp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7ECC-81C1-45DE-80EA-84BB23241C5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DD39-8F03-4663-992E-DF375F84A07D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eb Server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e-commerce Web site must have Web server software to perform fundamental servi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and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rieval and sending of 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ite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it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pa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DD8E-A910-4CDC-969E-57F0BFDAD19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4144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-Commerce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41440" y="1142640"/>
            <a:ext cx="8221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e and install e-commerce software to support five core task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alog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reate and update the product c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t configu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customers select the necessary components and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pping ca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ies to track the items selected for purc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traffic data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details to adjust the operations of the Web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2F4D-75B0-46FE-834F-D7571491F57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-Commerce Hardware and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-commerce to work effectivel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terface between the wireless, handheld device and its user must be impr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cryption can provide secure transmi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reless Application Protocol (WAP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set of specifications for Internet applications that run on handheld, wireless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661E-175E-4634-A6D6-DD5DB15A08E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lectronic Paymen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cash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ount of money that is computerized, stored, and used as cash for e-commerc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dit, charge, debit, purchase p-, and smart card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c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dit card-sized device with an embedded microchip to provide electronic memory and processing cap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757B-50CC-4F15-A521-6FA0B4D0D9B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BF41-F08A-463E-A31C-43941160D56E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lectronic Payment Systems (cont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1910E-C0DD-402B-96E4-5B584D7D5F3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1150920" y="1523880"/>
            <a:ext cx="7315200" cy="4480200"/>
          </a:xfrm>
          <a:prstGeom prst="rect">
            <a:avLst/>
          </a:prstGeom>
          <a:ln w="0">
            <a:noFill/>
          </a:ln>
        </p:spPr>
      </p:pic>
      <p:sp>
        <p:nvSpPr>
          <p:cNvPr id="373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EC52-9D2E-47D0-B032-47E0C5A439E6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lectronic Payment Systems (cont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-Car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card used to streamline (simplify) the traditional purchase order and invoice paymen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yments using cell ph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ments linked to your bank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ments added to your phone b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BC0C-56EE-45CB-BBDC-D93EE1E388B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9357-C63C-415D-A84C-A86E6603E9D8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nsaction Processing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 systems (TPS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ture and proc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ailed data necessary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recor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busines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order entry, inventory control, payroll, accounts payable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سابات دائن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ccounts receivable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حسابات مدين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eneral ledger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دفتر الحسابات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mployees with data to help them achieve their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5717-7483-4D9C-B673-60878FFB674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533520" y="6324480"/>
            <a:ext cx="5867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2222"/>
                </a:solidFill>
                <a:latin typeface="Arial"/>
              </a:rPr>
              <a:t>Information Systems Essentials, Sixth Edition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commerce and m-commerce require the careful planning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gration of a number of technology infrastructure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key components of technology infrastructure that must be in place for e-commerce and m-commerce to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key features of the electronic payment systems needed to support e-commerce and m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6513-A1ED-460B-8AA2-21C790D8C8D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6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285040" cy="3733560"/>
          </a:xfrm>
          <a:prstGeom prst="rect">
            <a:avLst/>
          </a:prstGeom>
          <a:ln w="0">
            <a:noFill/>
          </a:ln>
        </p:spPr>
      </p:pic>
      <p:sp>
        <p:nvSpPr>
          <p:cNvPr id="383" name="Shape 445441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nsaction Processing Systems (cont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98C2-47B2-497C-883C-C90E771941B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A3FF-7BC0-4934-8017-60CD1C27E9B8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raditional Transaction Processing </a:t>
            </a: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ethods and 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tch processing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cessing in which business transactions a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cumulated over a period of ti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d for processing as a single unit or bat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ine transaction processing (OLTP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cessing in which each transaction is processed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AD10D-000D-4255-ABBD-E5E6F7243D9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"/>
          <p:cNvPicPr/>
          <p:nvPr/>
        </p:nvPicPr>
        <p:blipFill>
          <a:blip r:embed="rId1"/>
          <a:stretch/>
        </p:blipFill>
        <p:spPr>
          <a:xfrm>
            <a:off x="457200" y="365040"/>
            <a:ext cx="6705720" cy="55785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"/>
          <p:cNvPicPr/>
          <p:nvPr/>
        </p:nvPicPr>
        <p:blipFill>
          <a:blip r:embed="rId2"/>
          <a:stretch/>
        </p:blipFill>
        <p:spPr>
          <a:xfrm>
            <a:off x="7238880" y="2057400"/>
            <a:ext cx="1854360" cy="1371600"/>
          </a:xfrm>
          <a:prstGeom prst="rect">
            <a:avLst/>
          </a:prstGeom>
          <a:ln w="0">
            <a:noFill/>
          </a:ln>
        </p:spPr>
      </p:pic>
      <p:sp>
        <p:nvSpPr>
          <p:cNvPr id="39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554D-1C6B-4D9A-B5DA-B01FAEB8537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21AD-E1A1-4725-B777-A5D863BF7FE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152280" y="701640"/>
            <a:ext cx="6521400" cy="50896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6781680" y="5257800"/>
            <a:ext cx="2273400" cy="63972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6AC0-0F82-486E-AFBA-E28464D9748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F221-7817-4C33-A30D-6D1E2DBFFB5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action Processing Activit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P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and process data that describes fundamental business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a variety of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 cycl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cess of data collection, data editing, data correction, data manipulation, data storage, and document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C7E8-69C8-4EBF-AEED-0A81A96B492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5029200" cy="5121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6781680" y="2225520"/>
            <a:ext cx="2092320" cy="1097280"/>
          </a:xfrm>
          <a:prstGeom prst="rect">
            <a:avLst/>
          </a:prstGeom>
          <a:ln w="0">
            <a:noFill/>
          </a:ln>
        </p:spPr>
      </p:pic>
      <p:sp>
        <p:nvSpPr>
          <p:cNvPr id="40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77E4-C55E-4CAA-9713-0E6CBF18828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PS Activiti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0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22D8-FC3B-401E-928B-03EA09B0730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62680" cy="40226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0" y="4784760"/>
            <a:ext cx="20606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Colle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pturing and gathering all data necessary to complete the processing of trans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collection can b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ed via special input devic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hould b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ed a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ed accurately, in a timely fash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63FE-A4D3-4C96-9EBF-7465F8CF02E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50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Editing (double-check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ing data for validity and completeness to detect any probl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ity and cost data must be 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must be alphab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49CD-CA82-4FC5-AC69-F6D820015D8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Correc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entering data that was not typed or scanned proper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messages must specify the problem so proper corrections can be m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533E-61EC-48AD-A277-10246CB8272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organization must have information systems that support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outine, day-to-day activit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occur in the normal course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help a company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 valu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its products and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asic activities and business objectives common to all transaction processing systems (T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097E-8CAC-411A-A90E-3BC4A8DB756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Manipula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ing calculations and other data transformations related to business trans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include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y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rting data into categ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ing calc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iz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99C9-8CA7-4D72-B0D6-0583163470E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Storag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ing data in the organization’s database for furth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pdating one or more databases with new transa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being updated, this data can be further processed and manipulated by other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9F305-62AC-4535-B9F8-BB8D649AC74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ocument Production and Report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ng output records, documents, and repo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-copy paper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lays on computer scre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from one TPS can be inputs to another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6F0A-5521-4A1E-AE9E-1A774831623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PS For Small and Medium-Size Enterprises (SMEs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AE35-DF55-48ED-ADC9-1CFEFB77174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7" name="Picture 2" descr=""/>
          <p:cNvPicPr/>
          <p:nvPr/>
        </p:nvPicPr>
        <p:blipFill>
          <a:blip r:embed="rId1"/>
          <a:stretch/>
        </p:blipFill>
        <p:spPr>
          <a:xfrm>
            <a:off x="228600" y="1525680"/>
            <a:ext cx="7696080" cy="4206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2"/>
          <a:stretch/>
        </p:blipFill>
        <p:spPr>
          <a:xfrm>
            <a:off x="7010280" y="5442120"/>
            <a:ext cx="20448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nterprise Resource Plann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P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to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information can be shared across all business functions (organization’s un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 a central database of key operational and planning data that can be shared by 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33BD-3D76-4677-9348-89BAEC21447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07EE-A7A4-49B3-A819-6E924F1B92C0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1752480" y="838080"/>
            <a:ext cx="556272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1905120" y="1752480"/>
            <a:ext cx="1523880" cy="1371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 Ent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3809880" y="1752480"/>
            <a:ext cx="1524240" cy="1371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ufactur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5715000" y="1752480"/>
            <a:ext cx="1447920" cy="1371600"/>
          </a:xfrm>
          <a:prstGeom prst="rect">
            <a:avLst/>
          </a:prstGeom>
          <a:solidFill>
            <a:srgbClr val="fcd1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AutoShape 6"/>
          <p:cNvSpPr/>
          <p:nvPr/>
        </p:nvSpPr>
        <p:spPr>
          <a:xfrm>
            <a:off x="1981080" y="3581280"/>
            <a:ext cx="1143000" cy="1143000"/>
          </a:xfrm>
          <a:prstGeom prst="flowChartMagneticDisk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ount R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AutoShape 7"/>
          <p:cNvSpPr/>
          <p:nvPr/>
        </p:nvSpPr>
        <p:spPr>
          <a:xfrm>
            <a:off x="4114800" y="3581280"/>
            <a:ext cx="1143000" cy="1143000"/>
          </a:xfrm>
          <a:prstGeom prst="flowChartMagneticDisk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ipp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AutoShape 8"/>
          <p:cNvSpPr/>
          <p:nvPr/>
        </p:nvSpPr>
        <p:spPr>
          <a:xfrm>
            <a:off x="6019920" y="3581280"/>
            <a:ext cx="1143000" cy="1143000"/>
          </a:xfrm>
          <a:prstGeom prst="flowChartMagneticDisk">
            <a:avLst/>
          </a:prstGeom>
          <a:solidFill>
            <a:srgbClr val="fcd1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d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ts P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vento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1752480" y="472428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4114800" y="47242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ufacturin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6019920" y="47242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urement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3352680" y="3808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iness Enterpri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13"/>
          <p:cNvSpPr/>
          <p:nvPr/>
        </p:nvSpPr>
        <p:spPr>
          <a:xfrm>
            <a:off x="0" y="2133720"/>
            <a:ext cx="990720" cy="838080"/>
          </a:xfrm>
          <a:prstGeom prst="rect">
            <a:avLst/>
          </a:prstGeom>
          <a:solidFill>
            <a:srgbClr val="a3f2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14"/>
          <p:cNvSpPr/>
          <p:nvPr/>
        </p:nvSpPr>
        <p:spPr>
          <a:xfrm>
            <a:off x="8153280" y="2057400"/>
            <a:ext cx="990720" cy="838080"/>
          </a:xfrm>
          <a:prstGeom prst="rect">
            <a:avLst/>
          </a:prstGeom>
          <a:solidFill>
            <a:srgbClr val="a3f2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46" name="AutoShape 15"/>
          <p:cNvCxnSpPr/>
          <p:nvPr/>
        </p:nvCxnSpPr>
        <p:spPr>
          <a:xfrm rot="5400000">
            <a:off x="2152080" y="-96120"/>
            <a:ext cx="381960" cy="4077360"/>
          </a:xfrm>
          <a:prstGeom prst="bentConnector3">
            <a:avLst>
              <a:gd name="adj1" fmla="val -6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7" name="Text Box 16"/>
          <p:cNvSpPr/>
          <p:nvPr/>
        </p:nvSpPr>
        <p:spPr>
          <a:xfrm>
            <a:off x="685800" y="12193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17"/>
          <p:cNvSpPr/>
          <p:nvPr/>
        </p:nvSpPr>
        <p:spPr>
          <a:xfrm>
            <a:off x="99072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11430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Line 21"/>
          <p:cNvSpPr/>
          <p:nvPr/>
        </p:nvSpPr>
        <p:spPr>
          <a:xfrm>
            <a:off x="2514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Line 22"/>
          <p:cNvSpPr/>
          <p:nvPr/>
        </p:nvSpPr>
        <p:spPr>
          <a:xfrm>
            <a:off x="46483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23"/>
          <p:cNvSpPr/>
          <p:nvPr/>
        </p:nvSpPr>
        <p:spPr>
          <a:xfrm>
            <a:off x="65530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7315200" y="22096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ch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Line 25"/>
          <p:cNvSpPr/>
          <p:nvPr/>
        </p:nvSpPr>
        <p:spPr>
          <a:xfrm>
            <a:off x="7162920" y="2514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5" name="AutoShape 26"/>
          <p:cNvCxnSpPr/>
          <p:nvPr/>
        </p:nvCxnSpPr>
        <p:spPr>
          <a:xfrm flipV="1" rot="16200000">
            <a:off x="6609600" y="-134280"/>
            <a:ext cx="305640" cy="4077720"/>
          </a:xfrm>
          <a:prstGeom prst="bentConnector3">
            <a:avLst>
              <a:gd name="adj1" fmla="val 175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6" name="Text Box 27"/>
          <p:cNvSpPr/>
          <p:nvPr/>
        </p:nvSpPr>
        <p:spPr>
          <a:xfrm>
            <a:off x="7620120" y="12193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eria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Text Box 28"/>
          <p:cNvSpPr/>
          <p:nvPr/>
        </p:nvSpPr>
        <p:spPr>
          <a:xfrm>
            <a:off x="1562040" y="5381640"/>
            <a:ext cx="5943600" cy="3070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ditional Information System with Closed Database Architec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E12E-2C57-4032-870A-9D2575A6F21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59" name="Straight Arrow Connector 2"/>
          <p:cNvCxnSpPr>
            <a:stCxn id="434" idx="3"/>
            <a:endCxn id="435" idx="1"/>
          </p:cNvCxnSpPr>
          <p:nvPr/>
        </p:nvCxnSpPr>
        <p:spPr>
          <a:xfrm>
            <a:off x="3429000" y="2437920"/>
            <a:ext cx="38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Straight Arrow Connector 29"/>
          <p:cNvCxnSpPr/>
          <p:nvPr/>
        </p:nvCxnSpPr>
        <p:spPr>
          <a:xfrm>
            <a:off x="5334120" y="2488680"/>
            <a:ext cx="38160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nterprise Resource Planning (cont.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A057-62F6-4A9E-8A30-4F5CBDECD3A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8124840" cy="30574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tretch/>
        </p:blipFill>
        <p:spPr>
          <a:xfrm>
            <a:off x="3809880" y="5105520"/>
            <a:ext cx="21844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dvantages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d access to data for operational decision m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ing integration and flexibil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wer erro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d speed and efficienc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ous involvement and commitment of the to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E0CD-DDEA-4FAD-B316-921227D23E2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sadvantages of E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nsive (can costs 100 thousands to millions of dollars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-consuming (can take months to years) to imp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y integrating with other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y in loading data into new ERP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s in using one vend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isk of implementation fail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stance for acceptance with the compan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3E32-E8FC-4B37-A430-6DD3AE7F180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for Small and Medium-Size Enterprises (SMEs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SMEs elect to implement open-source ERP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open-source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see and modify the source code to customize it to meet thei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ME can use ERP based on cloud comp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5B1C-2015-4BFE-B954-7790E6151DF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928D-7627-4ED4-881C-C365E0FC63A2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any that implements an enterprise resource planning (ERP) system is creat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ighly integrated set of syst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can lead to many business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advantages and disadvantages associated with the implementation of an enterprise resource plann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DDD8-9E4B-4791-B212-9FA5CB524F9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RP Component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7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3953-C8FA-41F3-8108-16D68A7BE5D1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EE0EF-6F91-49C2-9E97-65EE2CC5E64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8" name="Content Placeholder 6" descr="erp.jpg"/>
          <p:cNvPicPr/>
          <p:nvPr/>
        </p:nvPicPr>
        <p:blipFill>
          <a:blip r:embed="rId1"/>
          <a:stretch/>
        </p:blipFill>
        <p:spPr>
          <a:xfrm>
            <a:off x="2413080" y="1676520"/>
            <a:ext cx="414000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pply Chain Management (SCM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ystem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aw materials to finished products and warehousing and delivering finished product to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, executing, and controlling all activities involved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material sou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oc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4B8A-1ACE-4E53-B357-A7E60123132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A7B5-5739-49C4-800F-165ECA0F6829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C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484" name="Content Placeholder 5" descr=""/>
          <p:cNvPicPr/>
          <p:nvPr/>
        </p:nvPicPr>
        <p:blipFill>
          <a:blip r:embed="rId1"/>
          <a:stretch/>
        </p:blipFill>
        <p:spPr>
          <a:xfrm>
            <a:off x="885960" y="1371600"/>
            <a:ext cx="7372080" cy="4572000"/>
          </a:xfrm>
          <a:prstGeom prst="rect">
            <a:avLst/>
          </a:prstGeom>
          <a:ln w="0">
            <a:noFill/>
          </a:ln>
        </p:spPr>
      </p:pic>
      <p:sp>
        <p:nvSpPr>
          <p:cNvPr id="485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70B9-D550-483B-8AC8-0502F3085382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CF42-1653-4C7C-9582-B9A2A6ED125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  <a:ea typeface="Arial"/>
              </a:rPr>
              <a:t>Customer Relationship Management (CRM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28080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nformation system that manages the day-to-day interactions with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B64B-2584-4F2D-820D-2B47AC55DDE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0" name="Picture 6" descr="Fig14-13.gif"/>
          <p:cNvPicPr/>
          <p:nvPr/>
        </p:nvPicPr>
        <p:blipFill>
          <a:blip r:embed="rId1"/>
          <a:stretch/>
        </p:blipFill>
        <p:spPr>
          <a:xfrm>
            <a:off x="2971800" y="2565360"/>
            <a:ext cx="4772160" cy="360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ustomer Relationship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features of a CRM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uto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by smartph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 contac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D337-2869-4CA2-B170-52EF79037E3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  <a:ea typeface="Arial"/>
              </a:rPr>
              <a:t>MRP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F55F-BC4B-48DA-8B05-B5CFEFFBE7D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0520" y="1600200"/>
            <a:ext cx="861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ufacturing Resource Plann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S that helps monitor and control processes related to production includes software that helps in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4266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  <a:ea typeface="Arial"/>
              </a:rPr>
              <a:t>Marketing Information System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39F3-D628-477E-9998-272A435FDFD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9" name="Rounded Rectangle 4"/>
          <p:cNvGrpSpPr/>
          <p:nvPr/>
        </p:nvGrpSpPr>
        <p:grpSpPr>
          <a:xfrm>
            <a:off x="249120" y="1279440"/>
            <a:ext cx="8645760" cy="1171800"/>
            <a:chOff x="249120" y="1279440"/>
            <a:chExt cx="8645760" cy="1171800"/>
          </a:xfrm>
        </p:grpSpPr>
        <p:pic>
          <p:nvPicPr>
            <p:cNvPr id="50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249120" y="1279440"/>
              <a:ext cx="8645760" cy="11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62080" y="1295280"/>
              <a:ext cx="8619840" cy="114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6240" rIns="156240" tIns="156240" bIns="156240" anchor="ctr">
              <a:noAutofit/>
            </a:bodyPr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 marketing information system serves as a central repository for the tasks of a marketing department and analyzes data gathered from survey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822320"/>
                  <a:tab algn="l" pos="3645000"/>
                  <a:tab algn="l" pos="5467320"/>
                  <a:tab algn="l" pos="7289640"/>
                  <a:tab algn="l" pos="9112320"/>
                  <a:tab algn="l" pos="1093464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502" name="Picture 12" descr="fig14_11"/>
          <p:cNvPicPr/>
          <p:nvPr/>
        </p:nvPicPr>
        <p:blipFill>
          <a:blip r:embed="rId2"/>
          <a:stretch/>
        </p:blipFill>
        <p:spPr>
          <a:xfrm>
            <a:off x="2666880" y="2651040"/>
            <a:ext cx="4496040" cy="3382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fad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  <a:ea typeface="Arial"/>
              </a:rPr>
              <a:t>Human Resource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0520" y="1476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s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anages one or more human resource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Relationship Management Systems (ERMS) manage communication between employees and th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Content Placeholder 9" descr="Fig14-08.gif"/>
          <p:cNvPicPr/>
          <p:nvPr/>
        </p:nvPicPr>
        <p:blipFill>
          <a:blip r:embed="rId1"/>
          <a:stretch/>
        </p:blipFill>
        <p:spPr>
          <a:xfrm>
            <a:off x="4572000" y="2057400"/>
            <a:ext cx="4319640" cy="3465360"/>
          </a:xfrm>
          <a:prstGeom prst="rect">
            <a:avLst/>
          </a:prstGeom>
          <a:ln w="0">
            <a:noFill/>
          </a:ln>
        </p:spPr>
      </p:pic>
      <p:sp>
        <p:nvSpPr>
          <p:cNvPr id="5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32E30-069D-479D-A78C-874DA582E72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  <a:ea typeface="Arial"/>
              </a:rPr>
              <a:t>Accounting and Finance 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152280" y="16002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ing software manages everyday trans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ng software helps the company join purchases with customer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oftware helps managers budget, forecast, and analy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9E35-E05B-4A31-8F52-3795471FB28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  <a:ea typeface="Arial"/>
              </a:rPr>
              <a:t>Accounting and finance 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11C4-CE0C-4F28-85AC-94A6AEC5EA4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2" name="Picture 5" descr="Fig14-07.gif"/>
          <p:cNvPicPr/>
          <p:nvPr/>
        </p:nvPicPr>
        <p:blipFill>
          <a:blip r:embed="rId1"/>
          <a:stretch/>
        </p:blipFill>
        <p:spPr>
          <a:xfrm>
            <a:off x="555480" y="2057400"/>
            <a:ext cx="802332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pany that implements a customer relationship management (CRM) system is building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urce of information about customer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at can improve sales, marketing, and customer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objective of a customer relationship management system and describe several of its bas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1407-57A2-418D-A806-7CDAC3BE9CB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sted Software Model for SM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business application software vendo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pushing the use of the hosted software model for SMEs such as cloud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hosted software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he small business firm does not need to employ a full-time IT person to maintain key business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C374-9ADB-47FD-9DD2-8E7045322A5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7" descr=""/>
          <p:cNvPicPr/>
          <p:nvPr/>
        </p:nvPicPr>
        <p:blipFill>
          <a:blip r:embed="rId1"/>
          <a:stretch/>
        </p:blipFill>
        <p:spPr>
          <a:xfrm>
            <a:off x="647640" y="1752480"/>
            <a:ext cx="8001000" cy="250524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2" descr=""/>
          <p:cNvPicPr/>
          <p:nvPr/>
        </p:nvPicPr>
        <p:blipFill>
          <a:blip r:embed="rId2"/>
          <a:stretch/>
        </p:blipFill>
        <p:spPr>
          <a:xfrm>
            <a:off x="3352680" y="4800600"/>
            <a:ext cx="2251080" cy="914400"/>
          </a:xfrm>
          <a:prstGeom prst="rect">
            <a:avLst/>
          </a:prstGeom>
          <a:ln w="0">
            <a:noFill/>
          </a:ln>
        </p:spPr>
      </p:pic>
      <p:sp>
        <p:nvSpPr>
          <p:cNvPr id="518" name="Shape 575489"/>
          <p:cNvSpPr/>
          <p:nvPr/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Hosted Software Model for SME (cont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9E0F-1423-4CBA-9223-512B393CFC4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Date Placeholder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BFD4-A6CE-4585-A4DD-FF4CFEAC6B3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ernational Issues Associated with Enterprise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llenges that must be met by an enterprise system of a multinational company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languages and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arities in IS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ing laws and customs ru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urr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A8CA-4284-49B5-88B9-D21FD83D11D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commerce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ng business activities electronically over computer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bile commer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wireless devices such as cell phones and smartphones to facilitate the sale of goods or services—anytime,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payment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mponent of the e-commerce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3B71-CB31-4410-AAF4-3C1E99BC823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 System (T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prise resource planning (ERP)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the efficient operation of business process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M, CRM, MIS, HRM, M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A21CF-BF8A-4DE6-B36A-CA59E85A8A0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potential international issues associated with the operation of enterprise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challenges that multinational corporations face in planning, building, and operating their enterpri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56C1-EC50-42D7-B6A2-754B56A2E3F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-comme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pa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action Processing Systems (T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P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, Accounting and 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64B0-456A-4A97-8000-3C1434EBC9D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Learn About E- and M-Commer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ctronic and mobile commer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transformed many areas of our lives and car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fundamental change has be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nner in which companies interact with their suppliers, customers, government agencies, and other business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C777-3F39-40DB-A205-E28B8C6990A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5:56:32Z</dcterms:created>
  <dc:creator/>
  <dc:description/>
  <dc:language>en-US</dc:language>
  <cp:lastModifiedBy>Zuair</cp:lastModifiedBy>
  <dcterms:modified xsi:type="dcterms:W3CDTF">2016-12-01T06:02:28Z</dcterms:modified>
  <cp:revision>501</cp:revision>
  <dc:subject/>
  <dc:title> Principles of Information Systems, Ninth Edi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9AC5209A-17D5-4454-81E6-4371FB162C07</vt:lpwstr>
  </property>
  <property fmtid="{D5CDD505-2E9C-101B-9397-08002B2CF9AE}" pid="3" name="ArticulatePath">
    <vt:lpwstr>7 Ecomerce and ERP Systems</vt:lpwstr>
  </property>
</Properties>
</file>