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0D3-3FE4-4ABD-8E26-A58AEBFB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F60-28FF-4372-BE26-5EE12BC6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AE6-9F68-49B2-8262-49D80C46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C64-CAB6-497A-BE6E-85FA9238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9E9-4EA6-4996-8E65-24083174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CD3-4687-4E49-A4EF-303EB5E6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7FA-7AB8-4CCE-B5BF-1B643DC1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A98-7A2D-4B13-94AB-413EC5A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9E9-F713-4C2B-8740-C7569B0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CFAE-6D3D-41BF-86F7-0DBD44AC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947-245D-4D4E-A889-CF44686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50C-1222-4F2F-A64E-DA567BC5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F792-6102-4CAF-8731-978A7F7146E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Tahoma"/>
                <a:cs typeface="Tahoma"/>
              </a:rPr>
              <a:t>تجربة ريجيو اميليا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7f7f7f"/>
                </a:solidFill>
                <a:latin typeface="Tahoma"/>
                <a:cs typeface="Tahoma"/>
              </a:rPr>
              <a:t>الأطفال كباحثين صغا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987640" y="259920"/>
            <a:ext cx="5905440" cy="59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تشجيع التعبير بلغات مختلف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* تشجيع البحث والاستكشا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03152"/>
                </a:solidFill>
                <a:latin typeface="Calibri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http://files.myopera.com/LinaFatafta/albums/5291522/reading-child.png"/>
          <p:cNvPicPr/>
          <p:nvPr/>
        </p:nvPicPr>
        <p:blipFill>
          <a:blip r:embed="rId1"/>
          <a:stretch/>
        </p:blipFill>
        <p:spPr>
          <a:xfrm>
            <a:off x="179280" y="1413000"/>
            <a:ext cx="2978280" cy="514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640" y="18864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* اعتبار المحيط امتداد لغرفة الصف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نفتحة عمليا على كل ما يوجد في البيئة المحيطة بها من حدائق وأسواق ومعالم مختلف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امتداد لغرفة الصف          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دين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بكل ما فيها من حدائق وأسواق ومعالم هي امتداد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لمدرسة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مشاريع التي يقوم بها الأطفال عبارة عن أبحاث صغيرة مختارة من البيئة من المدين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سهم إلى اليمين 3"/>
          <p:cNvSpPr/>
          <p:nvPr/>
        </p:nvSpPr>
        <p:spPr>
          <a:xfrm rot="10800000">
            <a:off x="4066920" y="3573000"/>
            <a:ext cx="928440" cy="5000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http://i471.photobucket.com/albums/rr71/Happygirl755/red-rose-and-pearl.jpg"/>
          <p:cNvPicPr/>
          <p:nvPr/>
        </p:nvPicPr>
        <p:blipFill>
          <a:blip r:embed="rId1"/>
          <a:stretch/>
        </p:blipFill>
        <p:spPr>
          <a:xfrm>
            <a:off x="0" y="5229360"/>
            <a:ext cx="3348000" cy="162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604a7b"/>
                </a:solidFill>
                <a:latin typeface="Calibri"/>
              </a:rPr>
              <a:t>- طريقة المشرو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التشجيع والتوثيق </a:t>
            </a: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والمناقشة 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.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604a7b"/>
                </a:solidFill>
                <a:uFillTx/>
                <a:latin typeface="Calibri"/>
              </a:rPr>
              <a:t>بالختام</a:t>
            </a:r>
            <a:r>
              <a:rPr b="1" lang="ar-SA" sz="30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ar-SA" sz="3000" spc="-1" strike="noStrike">
                <a:solidFill>
                  <a:srgbClr val="604a7b"/>
                </a:solidFill>
                <a:latin typeface="Calibri"/>
              </a:rPr>
              <a:t>: تنظم المدرسة نشاطا اختتاميا بحضور أهالي المدينة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560" y="0"/>
            <a:ext cx="8497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Calibri"/>
              </a:rPr>
              <a:t>التوثيق </a:t>
            </a: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  الكاميرات الفيديو والتصوير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آلات التسج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- إنتاج الأطفال أنفسهم ، تحفظ في المشغل وتعلق على جدران المدرس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Calibri"/>
              </a:rPr>
              <a:t>مادة التوثيق </a:t>
            </a: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تحضير 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7933c"/>
                </a:solidFill>
                <a:uFillTx/>
                <a:latin typeface="Calibri"/>
              </a:rPr>
              <a:t>استخدام التوثيق 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عزيز التعلم والارتقاء به .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لمناقشة واستيعاب مافهم ومالم يف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لترسيخ فكرة أو تطويرها .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تفكير بالمنتج وليس ما توصل له .  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متابعة تطور الأطفال</a:t>
            </a:r>
            <a:r>
              <a:rPr b="0" lang="ar-SA" sz="28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تشكل مادة بحثية لتطوير المفاهيم وإفادة غير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800"/>
            </a:b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http://www.pastrychef.com/assets/images/large/lucks_decon_teardrop_heart_collection_large.jpg"/>
          <p:cNvPicPr/>
          <p:nvPr/>
        </p:nvPicPr>
        <p:blipFill>
          <a:blip r:embed="rId1"/>
          <a:stretch/>
        </p:blipFill>
        <p:spPr>
          <a:xfrm>
            <a:off x="0" y="3524400"/>
            <a:ext cx="2771640" cy="3333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979280" y="620280"/>
            <a:ext cx="670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5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- تنظيم عمل الأطفال كمجموعات صغيرة :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تم تنظيم عم الأطفال من خلال مجموعات صغيرة لا تتعدى الأربعة أو الخمسة أطفال ليربط بينهم الحوار وتبادل الآراء والتواصل والتنظيم الذاتي والتأقلم مع الآخرين بسهول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حيث أن الأطفال يتعلمون من خلال عنصرين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علاقتهم بالآ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2060"/>
                </a:solidFill>
                <a:uFillTx/>
                <a:latin typeface="Calibri"/>
              </a:rPr>
              <a:t># خبراتهم الحس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4photos.net/photo/www_4photos_net_1142937017.jpg"/>
          <p:cNvPicPr/>
          <p:nvPr/>
        </p:nvPicPr>
        <p:blipFill>
          <a:blip r:embed="rId1"/>
          <a:stretch/>
        </p:blipFill>
        <p:spPr>
          <a:xfrm>
            <a:off x="0" y="0"/>
            <a:ext cx="1989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6</a:t>
            </a:r>
            <a:r>
              <a:rPr b="0" lang="ar-SA" sz="4400" spc="-1" strike="noStrike">
                <a:solidFill>
                  <a:srgbClr val="7030a0"/>
                </a:solidFill>
                <a:latin typeface="Arial"/>
                <a:ea typeface="Arial"/>
              </a:rPr>
              <a:t>- الإدارة المجتم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لبلدية بإشراف وزارة التربية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نسقون تربويون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جلس استشار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مسئولي المشغ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أهالي الأطف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يتم بينهم مشاركة فعالة على مدا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030a0"/>
                </a:solidFill>
                <a:latin typeface="Segoe UI"/>
                <a:cs typeface="Segoe UI"/>
              </a:rPr>
              <a:t>اجتماعات مختلفة فردية وجماعية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cpsimages.imamu.edu.sa/ar/imagelibrary/%D8%A8%D8%A7%D9%82%D8%A9%20%D9%88%D8%B1%D8%AF%20%D8%A8%D9%86%D9%81%D8%B3%D8%AC%D9%8A%D8%A9%20%D9%85%D8%B9%20%D8%B2%D9%87%D8%B1.jpg?title=%D8%A8%D8%A7%D9%82%D8%A9%20%D9%88%D8%B1%D8%AF%20%D8%A8%D9%86%D9%81%D8%B3%D8%AC%D9%8A%D8%A9"/>
          <p:cNvPicPr/>
          <p:nvPr/>
        </p:nvPicPr>
        <p:blipFill>
          <a:blip r:embed="rId1"/>
          <a:stretch/>
        </p:blipFill>
        <p:spPr>
          <a:xfrm>
            <a:off x="0" y="2421000"/>
            <a:ext cx="3024360" cy="421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a452a"/>
                </a:solidFill>
                <a:latin typeface="Tahoma"/>
                <a:cs typeface="Tahoma"/>
              </a:rPr>
              <a:t>نبذة عام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285560"/>
            <a:ext cx="9144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هي تجربة نوعية مميزة في رياض الأطفال ظهرت ف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بلدة ريجيو أمليا في شمال ايطاليا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تعتبر أفضل تجربة رياض الأطفال في العالم(مجلة نيوز ويك الأمريكية – 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1993</a:t>
            </a:r>
            <a:r>
              <a:rPr b="0" lang="ar-SA" sz="3000" spc="-1" strike="noStrike">
                <a:solidFill>
                  <a:srgbClr val="ffc000"/>
                </a:solidFill>
                <a:latin typeface="Tahoma"/>
                <a:ea typeface="Tahoma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تتميز بتطبيقها المتكامل لعدد من النظريات التربو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b050"/>
                </a:solidFill>
                <a:latin typeface="Tahoma"/>
                <a:cs typeface="Tahoma"/>
              </a:rPr>
              <a:t>الحديث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تتمحور بشكل خاص حول نظرية فايجو تسكي البنائ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17375e"/>
                </a:solidFill>
                <a:latin typeface="Tahoma"/>
                <a:cs typeface="Tahoma"/>
              </a:rPr>
              <a:t>الاجتماعية  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صورة 3" descr="وردة حمراء.jpg"/>
          <p:cNvPicPr/>
          <p:nvPr/>
        </p:nvPicPr>
        <p:blipFill>
          <a:blip r:embed="rId1"/>
          <a:stretch/>
        </p:blipFill>
        <p:spPr>
          <a:xfrm>
            <a:off x="0" y="4714920"/>
            <a:ext cx="414324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13840" y="642600"/>
            <a:ext cx="8643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ماهي رياض الأطفال في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c000"/>
                </a:solidFill>
                <a:latin typeface="Tahoma"/>
                <a:cs typeface="Tahoma"/>
              </a:rPr>
              <a:t>هي مجموعة مدارس للأطفال تديرها بلدية المد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0000"/>
                </a:solidFill>
                <a:latin typeface="Tahoma"/>
                <a:cs typeface="Tahoma"/>
              </a:rPr>
              <a:t>مستفيدة من قوة الدفع التي توفرها عائلات متحفز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b60e92"/>
                </a:solidFill>
                <a:latin typeface="Tahoma"/>
                <a:cs typeface="Tahoma"/>
              </a:rPr>
              <a:t>لتوفير تربية متقدمة لأطفالهم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0000"/>
                </a:solidFill>
                <a:latin typeface="Tahoma"/>
                <a:cs typeface="Tahoma"/>
              </a:rPr>
              <a:t>من هو مؤسس تجربة ريجيو اميلي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7030a0"/>
                </a:solidFill>
                <a:latin typeface="Tahoma"/>
                <a:cs typeface="Tahoma"/>
              </a:rPr>
              <a:t>هو التربوي لوريس ملا جوزي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صورة 3" descr="ووي.jpg"/>
          <p:cNvPicPr/>
          <p:nvPr/>
        </p:nvPicPr>
        <p:blipFill>
          <a:blip r:embed="rId1"/>
          <a:stretch/>
        </p:blipFill>
        <p:spPr>
          <a:xfrm>
            <a:off x="0" y="3000240"/>
            <a:ext cx="33336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ahoma"/>
                <a:cs typeface="Tahoma"/>
              </a:rPr>
              <a:t>المبادئ الأساسية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r>
              <a:rPr b="1" lang="ar-SA" sz="2800" spc="-1" strike="noStrike">
                <a:solidFill>
                  <a:srgbClr val="ff0066"/>
                </a:solidFill>
                <a:latin typeface="Tahoma"/>
                <a:ea typeface="Tahoma"/>
              </a:rPr>
              <a:t>- صورة الطف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طفل كائن اجتماعي بالدرجة الأول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يتعلم من خلال التفاعل الاجتماعي مع الآخري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Tahoma"/>
                <a:cs typeface="Tahoma"/>
              </a:rPr>
              <a:t>الحاجة إلى التواصل مع الآخرين تبدأ منذ الولاد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images.jupiterimages.com/common/detail/42/67/22776742.jpg"/>
          <p:cNvPicPr/>
          <p:nvPr/>
        </p:nvPicPr>
        <p:blipFill>
          <a:blip r:embed="rId2"/>
          <a:stretch/>
        </p:blipFill>
        <p:spPr>
          <a:xfrm rot="20793600">
            <a:off x="847440" y="739440"/>
            <a:ext cx="1833480" cy="1633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285840"/>
            <a:ext cx="85694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Segoe UI"/>
                <a:ea typeface="Segoe UI"/>
              </a:rPr>
              <a:t>- دور المدرس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التعليم هو نظام علاقات وتواصل  لايتجزى من النظام الاجتماعي الأوس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دور الراشدين ( المعلمين والأهالي ) تقديم أنفسهم كمصادر للأطف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ومساعدة الأطفال أن يكتشفوا بأنفسهم الإجابات ع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50"/>
                </a:solidFill>
                <a:latin typeface="Segoe UI"/>
                <a:cs typeface="Segoe UI"/>
              </a:rPr>
              <a:t>أسئلتهم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Segoe UI"/>
                <a:cs typeface="Segoe UI"/>
              </a:rPr>
              <a:t>وان يسألوا أسئلة أفضل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المعلمون                        الأطف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Segoe UI"/>
                <a:ea typeface="Segoe UI"/>
              </a:rPr>
              <a:t>                                      الأهال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مثلث متساوي الساقين 3"/>
          <p:cNvSpPr/>
          <p:nvPr/>
        </p:nvSpPr>
        <p:spPr>
          <a:xfrm>
            <a:off x="2124000" y="3716280"/>
            <a:ext cx="3384720" cy="2000160"/>
          </a:xfrm>
          <a:prstGeom prst="triangle">
            <a:avLst>
              <a:gd name="adj" fmla="val 47060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50"/>
                </a:solidFill>
                <a:latin typeface="Calibri"/>
              </a:rPr>
              <a:t>العملية التعلي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شكل بيضاوي 3"/>
          <p:cNvSpPr/>
          <p:nvPr/>
        </p:nvSpPr>
        <p:spPr>
          <a:xfrm>
            <a:off x="250920" y="692280"/>
            <a:ext cx="7715160" cy="134280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b60e92"/>
                </a:solidFill>
                <a:latin typeface="Segoe UI"/>
                <a:cs typeface="Akhbar MT"/>
              </a:rPr>
              <a:t>عناصر النظا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سهم للأسفل 4"/>
          <p:cNvSpPr/>
          <p:nvPr/>
        </p:nvSpPr>
        <p:spPr>
          <a:xfrm>
            <a:off x="8001000" y="192888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سهم للأسفل 5"/>
          <p:cNvSpPr/>
          <p:nvPr/>
        </p:nvSpPr>
        <p:spPr>
          <a:xfrm>
            <a:off x="6715080" y="214308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سهم للأسفل 6"/>
          <p:cNvSpPr/>
          <p:nvPr/>
        </p:nvSpPr>
        <p:spPr>
          <a:xfrm>
            <a:off x="5643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سهم للأسفل 7"/>
          <p:cNvSpPr/>
          <p:nvPr/>
        </p:nvSpPr>
        <p:spPr>
          <a:xfrm>
            <a:off x="442908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سهم للأسفل 8"/>
          <p:cNvSpPr/>
          <p:nvPr/>
        </p:nvSpPr>
        <p:spPr>
          <a:xfrm>
            <a:off x="335772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سهم للأسفل 9"/>
          <p:cNvSpPr/>
          <p:nvPr/>
        </p:nvSpPr>
        <p:spPr>
          <a:xfrm>
            <a:off x="714240" y="2000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999800"/>
            <a:ext cx="82580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buClr>
                <a:srgbClr val="b60e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تكوين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وعمل     تنظيم     طريقة   التوثيق  تنظيم                 الادا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جهاز    البيئة     المشروع           عمل               المجتمع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التربوي                                 الأطفا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كمجموعات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b60e92"/>
                </a:solidFill>
                <a:latin typeface="Calibri"/>
              </a:rPr>
              <a:t>                                         صغير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تكوين وعمل الجهاز التربو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يتميز الجهاز التربوي في مدارس ريجيو أمليا بالنظا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التعاوني الجماعي ويتكون م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1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- المعلمون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معلمتان لكل صف ، تستمران مع الاطفال لمدة 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3</a:t>
            </a: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سنوات ، تنتقلان معهم من صف لأعلى ، يتحقق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e46c0a"/>
                </a:solidFill>
                <a:latin typeface="Arial"/>
              </a:rPr>
              <a:t> والاطفال من جهه اخرى ، يساعدهم ذلك الاستمرار على الامان والبناء ، تكون المعلمة اكثر قدرة على مساعدتهم في النمو ، يقوم المعلمون بتوثيق عملهم اليومي ، ممايساعد في تمكينهم من التخطيط للمنهج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farm3.static.flickr.com/2371/2065838767_597852abcf.jpg"/>
          <p:cNvPicPr/>
          <p:nvPr/>
        </p:nvPicPr>
        <p:blipFill>
          <a:blip r:embed="rId1"/>
          <a:stretch/>
        </p:blipFill>
        <p:spPr>
          <a:xfrm>
            <a:off x="0" y="3762360"/>
            <a:ext cx="169236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476280"/>
            <a:ext cx="7067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المنسقة التربوي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تعمل مع الأطفال والمعلمين والأهالي والمجتمع المحلي ، ويكون دورها مع المعلمين بمساعدتهم في تصميم مشاريع جديدة وتدريبهم اثناء الخدم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- مدير المشغل : وهو المسؤول عن ادارة المشغل ومساعدة الاطفال على اتقان لغات التعبيرالمختلفة وحفظ اعمالهموانتاجهم وتوثيق نموهم وتطورهم . ويكون التوثيق من خلال :التصوير ، حفظ الأفلام والصور ، حفظ أعمال الأطفال ، الإهتمام بعرضها على الأهل وممرات المدرس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almhml.com/media/images/175326_9018.jpg"/>
          <p:cNvPicPr/>
          <p:nvPr/>
        </p:nvPicPr>
        <p:blipFill>
          <a:blip r:embed="rId1"/>
          <a:stretch/>
        </p:blipFill>
        <p:spPr>
          <a:xfrm>
            <a:off x="0" y="4292640"/>
            <a:ext cx="1692360" cy="256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17375e"/>
                </a:solidFill>
                <a:latin typeface="Calibri"/>
              </a:rPr>
              <a:t>- تنظيم البيئة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340000" y="1483920"/>
            <a:ext cx="634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* عملية التفاعل كطريقة للتعلم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قسم الغرفة لأركان تستوعب مجموعات صغيرة من الأطفال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في وقت واحد بتنقل المعلمة لتسهل تفاعلها معهم .</a:t>
            </a:r>
            <a:r>
              <a:rPr b="1" lang="ar-SA" sz="27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تفاعل المعلمة مع الأهالي ومؤسسات البيئة عن طريق المكان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مساحات الخاصة من غرف مفتوحة والمشغل الزجاجي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والتوثيق القائم على جدران والقاعات والممرات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بعرض انتاجات الأطفال ونشاطاتهم بالحوارات التي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700" spc="-1" strike="noStrike">
                <a:solidFill>
                  <a:srgbClr val="17375e"/>
                </a:solidFill>
                <a:latin typeface="Calibri"/>
              </a:rPr>
              <a:t> تساعد الأهالي للمناقشة والتعلم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r" rtl="1">
              <a:lnSpc>
                <a:spcPct val="80000"/>
              </a:lnSpc>
              <a:spcBef>
                <a:spcPts val="675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vb.arabseyes.com/uploaded/4_1199316824.jpg"/>
          <p:cNvPicPr/>
          <p:nvPr/>
        </p:nvPicPr>
        <p:blipFill>
          <a:blip r:embed="rId1"/>
          <a:stretch/>
        </p:blipFill>
        <p:spPr>
          <a:xfrm>
            <a:off x="0" y="2421000"/>
            <a:ext cx="2340000" cy="443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aaaa</cp:lastModifiedBy>
  <dcterms:modified xsi:type="dcterms:W3CDTF">2013-02-08T20:31:58Z</dcterms:modified>
  <cp:revision>35</cp:revision>
  <dc:subject/>
  <dc:title>تجربة ريجيو اميليا</dc:title>
</cp:coreProperties>
</file>