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735-5FB9-4AF5-B34C-0014F535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7D4-2B84-4740-9BB9-CB542E2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9B0-25B5-45B8-8044-B6ECCABC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661-F0E1-4AD6-9224-D3F17E1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9D0-0534-4738-8BEA-5D34858C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8D6-1F85-4755-8868-72E21FB4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59F-D156-444A-801D-5AB9A8A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80F-7310-4EB0-AB90-7668AEB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F38-99D3-4F19-AA87-3F797312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470-FEA1-4DA4-875B-E96E338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522-7420-4C53-A853-A5217A3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433-1FBF-479A-9205-477F714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2ECB-DF73-4984-AF9F-765AA76423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تجربة ريجيو اميلي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f7f7f"/>
                </a:solidFill>
                <a:latin typeface="Tahoma"/>
                <a:cs typeface="Tahoma"/>
              </a:rPr>
              <a:t>الأطفال كباحثين صغا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87640" y="259920"/>
            <a:ext cx="590544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تشجيع التعبير بلغات مختلف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* تشجيع البحث والاستكشا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files.myopera.com/LinaFatafta/albums/5291522/reading-child.png"/>
          <p:cNvPicPr/>
          <p:nvPr/>
        </p:nvPicPr>
        <p:blipFill>
          <a:blip r:embed="rId1"/>
          <a:stretch/>
        </p:blipFill>
        <p:spPr>
          <a:xfrm>
            <a:off x="179280" y="1413000"/>
            <a:ext cx="2978280" cy="514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18864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* اعتبار المحيط امتداد لغرفة الص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نفتحة عمليا على كل ما يوجد في البيئة المحيطة بها من حدائق وأسواق ومعالم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امتداد لغرفة الصف    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ين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بكل ما فيها من حدائق وأسواق ومعالم هي امتدا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شاريع التي يقوم بها الأطفال عبارة عن أبحاث صغيرة مختارة من البيئة من المد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سهم إلى اليمين 3"/>
          <p:cNvSpPr/>
          <p:nvPr/>
        </p:nvSpPr>
        <p:spPr>
          <a:xfrm rot="10800000">
            <a:off x="4066920" y="3573000"/>
            <a:ext cx="928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i471.photobucket.com/albums/rr71/Happygirl755/red-rose-and-pearl.jpg"/>
          <p:cNvPicPr/>
          <p:nvPr/>
        </p:nvPicPr>
        <p:blipFill>
          <a:blip r:embed="rId1"/>
          <a:stretch/>
        </p:blipFill>
        <p:spPr>
          <a:xfrm>
            <a:off x="0" y="5229360"/>
            <a:ext cx="334800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- طريقة المشرو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التشجيع والتوثيق </a:t>
            </a: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والمناقشة 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.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بالختام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: تنظم المدرسة نشاطا اختتاميا بحضور أهالي المدين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0"/>
            <a:ext cx="8497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Calibri"/>
              </a:rPr>
              <a:t>التوثيق </a:t>
            </a: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  الكاميرات الفيديو والتصوي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آلات التسج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إنتاج الأطفال أنفسهم ، تحفظ في المشغل وتعلق على جدران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مادة التوثيق </a:t>
            </a: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تحضير 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933c"/>
                </a:solidFill>
                <a:uFillTx/>
                <a:latin typeface="Calibri"/>
              </a:rPr>
              <a:t>استخدام التوثيق 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عزيز التعلم والارتقاء به .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لمناقشة واستيعاب مافهم ومالم يف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رسيخ فكرة أو تطويرها .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تفكير بالمنتج وليس ما توصل له . 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متابعة تطور الأطفال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تشكل مادة بحثية لتطوير المفاهيم وإفادة غير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pastrychef.com/assets/images/large/lucks_decon_teardrop_heart_collection_large.jpg"/>
          <p:cNvPicPr/>
          <p:nvPr/>
        </p:nvPicPr>
        <p:blipFill>
          <a:blip r:embed="rId1"/>
          <a:stretch/>
        </p:blipFill>
        <p:spPr>
          <a:xfrm>
            <a:off x="0" y="3524400"/>
            <a:ext cx="2771640" cy="333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979280" y="620280"/>
            <a:ext cx="670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5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- تنظيم عمل الأطفال كمجموعات صغيرة :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تم تنظيم عم الأطفال من خلال مجموعات صغيرة لا تتعدى الأربعة أو الخمسة أطفال ليربط بينهم الحوار وتبادل الآراء والتواصل والتنظيم الذاتي والتأقلم مع الآخرين بسه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حيث أن الأطفال يتعلمون من خلال عنصر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علاقتهم ب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خبراتهم الحس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4photos.net/photo/www_4photos_net_1142937017.jpg"/>
          <p:cNvPicPr/>
          <p:nvPr/>
        </p:nvPicPr>
        <p:blipFill>
          <a:blip r:embed="rId1"/>
          <a:stretch/>
        </p:blipFill>
        <p:spPr>
          <a:xfrm>
            <a:off x="0" y="0"/>
            <a:ext cx="198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6</a:t>
            </a: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- الإدارة المجتم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لبلدية بإشراف وزارة التر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نسقون تربويو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جلس استشار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سئولي المشغ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أهالي الأطف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يتم بينهم مشاركة فعالة على مدا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جتماعات مختلفة فردية وج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cpsimages.imamu.edu.sa/ar/imagelibrary/%D8%A8%D8%A7%D9%82%D8%A9%20%D9%88%D8%B1%D8%AF%20%D8%A8%D9%86%D9%81%D8%B3%D8%AC%D9%8A%D8%A9%20%D9%85%D8%B9%20%D8%B2%D9%87%D8%B1.jpg?title=%D8%A8%D8%A7%D9%82%D8%A9%20%D9%88%D8%B1%D8%AF%20%D8%A8%D9%86%D9%81%D8%B3%D8%AC%D9%8A%D8%A9"/>
          <p:cNvPicPr/>
          <p:nvPr/>
        </p:nvPicPr>
        <p:blipFill>
          <a:blip r:embed="rId1"/>
          <a:stretch/>
        </p:blipFill>
        <p:spPr>
          <a:xfrm>
            <a:off x="0" y="2421000"/>
            <a:ext cx="302436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a452a"/>
                </a:solidFill>
                <a:latin typeface="Tahoma"/>
                <a:cs typeface="Tahoma"/>
              </a:rPr>
              <a:t>نبذة عام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85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هي تجربة نوعية مميزة في رياض الأطفال ظهرت ف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بلدة ريجيو أمليا في شمال ايطالي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تعتبر أفضل تجربة رياض الأطفال في العالم(مجلة نيوز ويك الأمريكية – 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1993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تتميز بتطبيقها المتكامل لعدد من النظريات التربو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الحديث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تتمحور بشكل خاص حول نظرية فايجو تسكي البنائ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الاجتماعية 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صورة 3" descr="وردة حمراء.jpg"/>
          <p:cNvPicPr/>
          <p:nvPr/>
        </p:nvPicPr>
        <p:blipFill>
          <a:blip r:embed="rId1"/>
          <a:stretch/>
        </p:blipFill>
        <p:spPr>
          <a:xfrm>
            <a:off x="0" y="471492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840" y="64260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ماهي رياض الأطفال في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هي مجموعة مدارس للأطفال تديرها بلدية المد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Tahoma"/>
                <a:cs typeface="Tahoma"/>
              </a:rPr>
              <a:t>مستفيدة من قوة الدفع التي توفرها عائلات متحفز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لتوفير تربية متقدمة لأطفالهم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من هو مؤسس تجربة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Tahoma"/>
                <a:cs typeface="Tahoma"/>
              </a:rPr>
              <a:t>هو التربوي لوريس ملا جوزي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ووي.jpg"/>
          <p:cNvPicPr/>
          <p:nvPr/>
        </p:nvPicPr>
        <p:blipFill>
          <a:blip r:embed="rId1"/>
          <a:stretch/>
        </p:blipFill>
        <p:spPr>
          <a:xfrm>
            <a:off x="0" y="3000240"/>
            <a:ext cx="33336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ahoma"/>
                <a:cs typeface="Tahoma"/>
              </a:rPr>
              <a:t>المبادئ الأساس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- صور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طفل كائن اجتماعي بالدرجة الأو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يتعلم من خلال التفاعل الاجتماعي مع الآخري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حاجة إلى التواصل مع الآخرين تبدأ منذ الولا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images.jupiterimages.com/common/detail/42/67/22776742.jpg"/>
          <p:cNvPicPr/>
          <p:nvPr/>
        </p:nvPicPr>
        <p:blipFill>
          <a:blip r:embed="rId2"/>
          <a:stretch/>
        </p:blipFill>
        <p:spPr>
          <a:xfrm rot="20793600">
            <a:off x="847440" y="739440"/>
            <a:ext cx="1833480" cy="1633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285840"/>
            <a:ext cx="85694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- دور المدرس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التعليم هو نظام علاقات وتواصل  لايتجزى من النظام الاجتماعي الأوس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دور الراشدين ( المعلمين والأهالي ) تقديم أنفسهم كمصادر للأطف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ومساعدة الأطفال أن يكتشفوا بأنفسهم الإجابات ع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أسئلته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egoe UI"/>
                <a:cs typeface="Segoe UI"/>
              </a:rPr>
              <a:t>وان يسألوا أسئلة أفض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المعلمون                       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            الأه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ثلث متساوي الساقين 3"/>
          <p:cNvSpPr/>
          <p:nvPr/>
        </p:nvSpPr>
        <p:spPr>
          <a:xfrm>
            <a:off x="2124000" y="3716280"/>
            <a:ext cx="3384720" cy="2000160"/>
          </a:xfrm>
          <a:prstGeom prst="triangle">
            <a:avLst>
              <a:gd name="adj" fmla="val 4706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ملية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شكل بيضاوي 3"/>
          <p:cNvSpPr/>
          <p:nvPr/>
        </p:nvSpPr>
        <p:spPr>
          <a:xfrm>
            <a:off x="250920" y="692280"/>
            <a:ext cx="7715160" cy="13428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b60e92"/>
                </a:solidFill>
                <a:latin typeface="Segoe UI"/>
                <a:cs typeface="Akhbar MT"/>
              </a:rPr>
              <a:t>عناصر النظا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سهم للأسفل 4"/>
          <p:cNvSpPr/>
          <p:nvPr/>
        </p:nvSpPr>
        <p:spPr>
          <a:xfrm>
            <a:off x="8001000" y="19288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سهم للأسفل 5"/>
          <p:cNvSpPr/>
          <p:nvPr/>
        </p:nvSpPr>
        <p:spPr>
          <a:xfrm>
            <a:off x="6715080" y="2143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سهم للأسفل 6"/>
          <p:cNvSpPr/>
          <p:nvPr/>
        </p:nvSpPr>
        <p:spPr>
          <a:xfrm>
            <a:off x="5643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سهم للأسفل 7"/>
          <p:cNvSpPr/>
          <p:nvPr/>
        </p:nvSpPr>
        <p:spPr>
          <a:xfrm>
            <a:off x="442908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سهم للأسفل 8"/>
          <p:cNvSpPr/>
          <p:nvPr/>
        </p:nvSpPr>
        <p:spPr>
          <a:xfrm>
            <a:off x="3357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سهم للأسفل 9"/>
          <p:cNvSpPr/>
          <p:nvPr/>
        </p:nvSpPr>
        <p:spPr>
          <a:xfrm>
            <a:off x="714240" y="2000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تكوين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وعمل     تنظيم     طريقة   التوثيق  تنظيم                 الادا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جهاز    البيئة     المشروع           عمل               المجتمع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تربوي                                 الأطفا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كمجموع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صغي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تكوين وعمل الجهاز التربو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يتميز الجهاز التربوي في مدارس ريجيو أمليا بالنظ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التعاوني الجماعي ويتكون م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- المعلمو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معلمتان لكل صف ، تستمران مع الاطفال لمدة 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سنوات ، تنتقلان معهم من صف لأعلى ، يتحق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والاطفال من جهه اخرى ، يساعدهم ذلك الاستمرار على الامان والبناء ، تكون المعلمة اكثر قدرة على مساعدتهم في النمو ، يقوم المعلمون بتوثيق عملهم اليومي ، ممايساعد في تمكينهم من التخطيط للمنهج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farm3.static.flickr.com/2371/2065838767_597852abcf.jpg"/>
          <p:cNvPicPr/>
          <p:nvPr/>
        </p:nvPicPr>
        <p:blipFill>
          <a:blip r:embed="rId1"/>
          <a:stretch/>
        </p:blipFill>
        <p:spPr>
          <a:xfrm>
            <a:off x="0" y="3762360"/>
            <a:ext cx="169236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476280"/>
            <a:ext cx="7067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المنسقة التربو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مل مع الأطفال والمعلمين والأهالي والمجتمع المحلي ، ويكون دورها مع المعلمين بمساعدتهم في تصميم مشاريع جديدة وتدريبهم اثناء الخدم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مدير المشغل : وهو المسؤول عن ادارة المشغل ومساعدة الاطفال على اتقان لغات التعبيرالمختلفة وحفظ اعمالهموانتاجهم وتوثيق نموهم وتطورهم . ويكون التوثيق من خلال :التصوير ، حفظ الأفلام والصور ، حفظ أعمال الأطفال ، الإهتمام بعرضها على الأهل وممرات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almhml.com/media/images/175326_9018.jpg"/>
          <p:cNvPicPr/>
          <p:nvPr/>
        </p:nvPicPr>
        <p:blipFill>
          <a:blip r:embed="rId1"/>
          <a:stretch/>
        </p:blipFill>
        <p:spPr>
          <a:xfrm>
            <a:off x="0" y="4292640"/>
            <a:ext cx="1692360" cy="256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- تنظيم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40000" y="1483920"/>
            <a:ext cx="63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* عملية التفاعل كطريقة للتعلم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قسم الغرفة لأركان تستوعب مجموعات صغيرة من الأطفال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في وقت واحد بتنقل المعلمة لتسهل تفاعلها معهم .</a:t>
            </a: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فاعل المعلمة مع الأهالي ومؤسسات البيئة عن طريق المكان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مساحات الخاصة من غرف مفتوحة والمشغل الزجاجي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توثيق القائم على جدران والقاعات والممرا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بعرض انتاجات الأطفال ونشاطاتهم بالحوارات الت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 تساعد الأهالي للمناقشة والتعلم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vb.arabseyes.com/uploaded/4_1199316824.jpg"/>
          <p:cNvPicPr/>
          <p:nvPr/>
        </p:nvPicPr>
        <p:blipFill>
          <a:blip r:embed="rId1"/>
          <a:stretch/>
        </p:blipFill>
        <p:spPr>
          <a:xfrm>
            <a:off x="0" y="2421000"/>
            <a:ext cx="234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aaaa</cp:lastModifiedBy>
  <dcterms:modified xsi:type="dcterms:W3CDTF">2013-02-08T20:31:58Z</dcterms:modified>
  <cp:revision>35</cp:revision>
  <dc:subject/>
  <dc:title>تجربة ريجيو اميليا</dc:title>
</cp:coreProperties>
</file>