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C89B-EDBF-4431-9CB9-00A76DDAE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87A8-8E62-4459-A1F2-985A163F7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ECD8-3019-4542-AE87-1B54D4B0B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F680-FF4E-4670-8C28-5EE2B68E8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3AC6-61CD-447E-96AF-76FF1C854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551D-C208-4D81-AE1B-98FF6ABFF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2F3F-C13A-432C-82D7-FB9CE08AE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5789-7F12-41C8-A491-509F0D6F2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3D0FA-C60E-4BC5-BA6B-6C70D3999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E131-BE06-4023-BCC5-1E57D448B8F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F52BA-556F-4403-8110-F4D25F87C68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25DAF-5C7F-49A4-BA93-96E19570879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85012-14C1-4270-8E5B-4D255F4B45B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F0CAA-A871-49BE-8883-0C13F81E632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F9C38-1308-4B65-BE87-7E00ED71368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409FB-4CF1-4FF2-8868-F6CB4854169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4488C-C6C8-4421-A1F6-EDF46D4CB0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6A489-1D55-4C49-B445-D175517555B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26CDD-6184-4111-8C08-977C7328F6F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C7818B-817E-4BB0-8D50-06FFC6D93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0B7AD-C257-4351-9C83-8988A268D6F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A75506-B39A-45C6-BBE7-2C9A59E17DA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86C593-7673-4CF2-8B57-8268CF4EB00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6C628B-8251-4C61-A2CC-9794E9C59ED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A02AF2-4CCC-430E-A81B-8D3EEE7C506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9B0AF7-33BF-4C73-AEB1-3508987E761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C0D3E1-2A4B-4368-92C4-D16B8E20FAC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254B78-7983-42A1-9C3C-5B9D9E89E1F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419B51-8EF1-45A8-BE61-7379380A44E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01C997-C467-4FA8-BCFC-85659AE65C2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866266-55D5-4882-BB29-15E129071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BA5C-6241-47AE-8869-C5A33891D01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9DA4D6-9FDC-4E82-B740-C183B226892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2AD19-94B8-40A7-8237-591ED2A79FC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FC425-8FE2-4DD4-A740-E016434B19D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2BB80-8071-4F8F-8D0A-25DC2FC24D7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E4087-4281-49B6-A66C-8C136CC4CB5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BE8CC-1AAC-4828-B2A0-77DE2E3D65A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C5198-DA8B-4ADC-BAD3-ADD9C55F562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25CC9-D24B-4662-988B-4F5944E8719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72EA7-3457-4456-BB23-60AA8656576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8CC3F-ED61-44AB-A98D-CFEB0B9B3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9194F-B9A9-49BC-8B6C-7ED56CD021A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E2492-6B99-46B1-B073-294A1C7C5C2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918C7-1B89-4A95-ADE5-61A0CE578C6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F60BD9-EC9A-45DC-A4C2-50AF9EAD75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4C0EA4-D838-4EC7-8823-1164BBFF740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F81F6E-A885-43F8-A844-407AF9D4378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904691-93AE-486B-9BC3-87CCCE98B7E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225289-0305-4E3B-96EA-13303E56EB4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D5B6B5-0842-4EAE-8E5C-CE43D1C8E42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5DD877-224D-4A6B-A6EC-89F656AFD2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745E31-CD62-43AB-8FA1-B6B44292FB8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13AA92-2634-419D-8037-17E9015E835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104B9A-2E78-4778-B779-BBF170D2200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FA0111-0A2A-4F28-9AC2-47BC00CF0F1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FC1FA5-67C5-487A-8834-D1EA0DE71A1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72F77-DAB3-479E-B71C-4EE040349D9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0E10A-6639-48A6-82B4-FA01D9AEB0B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8718D-CA97-46BB-A8B9-50EE32C6622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BE4A1-B43A-4C30-94BE-15F39F0AB75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FCF06-70BA-4FD6-A746-BE5A2DD954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EFDD0-A9D1-4978-9DD8-CDC217ADE74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E963A-57CB-458A-89D4-325E509583C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FA6D0-09EE-4F01-AD78-809963ECBF0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79A8F-867E-4C3A-9536-0C1DFE89A03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F45BA-C542-4424-AA55-2AC79AFE8D9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64330-FC57-4F71-A4FB-AB19C287BF7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2DD79-C632-4F16-A6DA-98CC5775856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2A82E-C6C2-486E-A43A-F660760CF4E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80962-D595-496B-8B37-90A3EDEAF6E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74D87-D86D-4FB3-89F3-6874B1B145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29C26-81A4-4878-AF19-F35BDD8DC3E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CF13D-4D20-46BD-A6B3-053C52D0E4E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B32E9-C035-4161-8C3B-7C9B2680854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D28AC-ECD0-483E-A202-412D37FD5BA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9072A-BC0D-4D25-8AFF-36D26AC9443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C11EF-83AD-436E-9E1B-9D7A75BC349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9B838-A4CB-4EF4-9E59-2CF992CFB77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BF0EE-005E-45B4-86E9-89907E761A6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80C4A-4843-4CB7-95BC-3ACE368E5B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F1CC-A9CC-4DBF-ADBD-9E8B965D4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50C4B-74D9-4ED3-ABE8-AC8977ADEF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D6869-8AA9-46F1-87AF-9088A9646F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F651F-8EB1-4243-9CFC-ACBF789D22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BECA3-188F-4F5A-9CA4-3DDC0981A2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E63A0-3A92-418A-98D5-855B2E1673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B6BB-C30C-48CD-B7A0-CD7EB72F9A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C89DB-8429-4F63-B10F-44027470DB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D8EDC-C68B-4657-BC1A-2DCCA31E2D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18B70-63DF-4DAA-ABAA-F9D962384A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60089-4134-4AA1-BA9F-36A8CA8E30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08425-4CF0-4E07-9148-2CC4E1F065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905A1-A91E-4FDA-BF44-6005855FD6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FC5BA-E663-4CC7-85F1-2E35F5B9B8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4D959-5DF9-45C4-B006-56EA1B2EF5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9B720-7591-4821-B5D8-DF1D3AABC0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75C8EF-4002-4A2C-B393-3322CFA47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EDA2-74F6-4104-BD5A-A05255D032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184F55-A04D-4CFB-A70A-3EBB2EA8DE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E1F7E-E5D2-4CE3-A1AE-2AEDBAED23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A537FF-0FCD-4B34-904E-ABF1423D40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DA595-A8B6-4BD5-A690-2810AD6E77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577512-5859-4402-A8FF-9EAC90149B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B08A8B-E4F8-4263-BAAA-FF1020F3E2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EC0D43-24E8-455D-A1DF-1E8D3A0C3E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40C6B3-FAF3-43D0-B3BD-7260C8CA61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8F2F72-4886-4DAC-A5DF-E1FEF9E102B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EDD0-67E4-4AB5-8E66-D0E91C63C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DCCFE-8BE0-4C94-A7C1-095CE5443B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2790-2777-4564-908F-A8F4B6D607E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78CA6-4323-4FE5-A003-EFA9A736199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1A467-1EE1-4997-A1D8-8E9340C1048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D8F0-A509-463F-AEAB-5AC5B4EDBC4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A419E-FEDE-4C54-A1B5-AE1AE1F784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720B-8972-456C-B8C7-B93EF3FDF0C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8E4C-2E54-4874-A31A-C86255C16AF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FC80-596B-40BC-A292-A96CCDE7380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1C187-C9CD-435C-8701-DD6D6662BCA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C809-D628-4558-A6F4-A414A47EB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69C8-F423-4E7E-91A2-22E371E4794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EADD8-7FBB-4833-98EF-1296689D3FC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54022-6643-463B-8424-3165A2910DF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845C7-AAAE-4F60-B916-EA3E6B74952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4E337-6953-4FCB-8B19-92C63F6E40A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C0A78-3EC3-4C7B-8337-157A1D441BE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BC58A9-843F-4F06-A241-3DBB393DB73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09F27-1DDE-4B01-97A1-3D87C1088C5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AA5D9-B56F-46D4-A9EC-DBA490D9B5F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85EBC0-3C65-41C5-826E-63171797911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D957E-0660-47A5-A8FB-532B3F67F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BBF5-60FC-4AEE-811A-E8F013543B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47B1A-2706-4BA4-9223-01FBF326E50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947B08-FDAA-4EC6-B773-73721C59AC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BCC38-5A33-4A69-9151-C16A7CA1CD1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96500E-2ECF-4080-A4FA-123596C427A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B40A9A-05E2-492A-937E-D653A569691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67D3EC-8E6F-4B6A-8957-802AFBCB256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48125C-49D4-409C-BB10-2057CDCAF69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53E6E1-6EBB-499A-91C8-55FEE2C763F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073B7A-F69D-4B02-B93E-9952B430B84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B1728E-1DDC-4E90-8B87-43E9E05FE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0A3A1-247A-4570-B84E-969EF4E9A50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F887B8-4026-4B1F-8E46-6DE35E18FAC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AD0FBA-FC14-4F0F-97D2-01EC427370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5A053E-E327-4CFC-9FAE-B672AE1BDFC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C64F00-28CD-4ABB-BB0B-75BE28AAFE7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183C40-F527-4FDC-B206-8E1757CB14C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918CD-1B94-4E20-8D79-674BBC5BDBC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E5A37-8346-4EF8-844E-88BDDA682CF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DD681-59FF-4A1A-9F2B-4135460F8C5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E1ABB-86F7-4CE3-BCB1-704FF8EF172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6FEE0-7322-4E18-830A-237D50E8E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9DCF-ABA0-4D3F-ADB2-32B8745EAEB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7D81-B2B4-4F81-B42D-E7D2C51C32D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8048F-CF18-44E8-B1C3-4BA730039F0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B0860-CE92-47AB-80C4-541045630A5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1FC13-D7CC-4568-851D-2B38EFAAB6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67D18-0534-4289-BB3A-DAD4B3B6CD7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9DED5-589F-4393-9130-9636CB30390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1404F-511B-4A89-86CA-76AA5793037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BE246-5BDA-4728-8714-92956F81330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AE112-2DA1-4414-A71B-C9F07EA6124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F573E-8AAB-4393-80ED-36AF03EA6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2C00-A530-4C5A-9030-8924BE439AB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-</a:t>
            </a:r>
            <a:fld id="{6800510B-3920-4FA4-B242-69102F0301E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3426-363A-465A-99D4-92BA4BCA204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142E-9EA7-4C66-B1DF-73C2BF9C069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3A73-FC7F-44F1-80C5-9F04CC78CFF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3C31-5F5E-4607-9D49-729036A53F7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2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A265-6F7C-4C14-8239-B2544EB419E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3BEE-76F0-4552-8CD2-816F0EB6046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DDC4-72E1-4F8E-B89E-8BC34B0702B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E7A3-D8A0-4507-93B4-6630C5A1CE3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8DF7-ADA8-4FAF-B51F-43094B4E4DC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B528-3BB8-4109-893F-42BE9DF1E54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8A74-0308-455B-830D-C64AA5D457B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AB3B-ADCD-4732-94DF-007CA03DC55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964800" y="213300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rmal Probability Distribution</a:t>
            </a:r>
            <a:endParaRPr b="1" lang="en-US" sz="4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Normal Probability Distribution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542520" y="1904760"/>
            <a:ext cx="39546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bell-shap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s a single peak at the center of the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ymmetric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symptot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ve gets closer and closer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but never actually touches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 normal distribution is determined by the mean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ithmetic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ean, med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ode are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rea under the curve is 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half the area under the normal curve is to the right of this center point and the other half to the left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8" descr="0711"/>
          <p:cNvPicPr/>
          <p:nvPr/>
        </p:nvPicPr>
        <p:blipFill>
          <a:blip r:embed="rId1"/>
          <a:stretch/>
        </p:blipFill>
        <p:spPr>
          <a:xfrm>
            <a:off x="1047600" y="4848120"/>
            <a:ext cx="2897280" cy="1809720"/>
          </a:xfrm>
          <a:prstGeom prst="rect">
            <a:avLst/>
          </a:prstGeom>
          <a:ln w="0">
            <a:noFill/>
          </a:ln>
        </p:spPr>
      </p:pic>
      <p:grpSp>
        <p:nvGrpSpPr>
          <p:cNvPr id="586" name="Group 16"/>
          <p:cNvGrpSpPr/>
          <p:nvPr/>
        </p:nvGrpSpPr>
        <p:grpSpPr>
          <a:xfrm>
            <a:off x="5021280" y="2209680"/>
            <a:ext cx="3579840" cy="4058280"/>
            <a:chOff x="5021280" y="2209680"/>
            <a:chExt cx="3579840" cy="4058280"/>
          </a:xfrm>
        </p:grpSpPr>
        <p:grpSp>
          <p:nvGrpSpPr>
            <p:cNvPr id="587" name="Group 6"/>
            <p:cNvGrpSpPr/>
            <p:nvPr/>
          </p:nvGrpSpPr>
          <p:grpSpPr>
            <a:xfrm>
              <a:off x="5021280" y="2664360"/>
              <a:ext cx="1804320" cy="1705680"/>
              <a:chOff x="5021280" y="2664360"/>
              <a:chExt cx="1804320" cy="1705680"/>
            </a:xfrm>
          </p:grpSpPr>
          <p:pic>
            <p:nvPicPr>
              <p:cNvPr id="588" name="Picture 15" descr="0712b"/>
              <p:cNvPicPr/>
              <p:nvPr/>
            </p:nvPicPr>
            <p:blipFill>
              <a:blip r:embed="rId2"/>
              <a:stretch/>
            </p:blipFill>
            <p:spPr>
              <a:xfrm>
                <a:off x="5021280" y="2664360"/>
                <a:ext cx="1804320" cy="14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Rectangle 8"/>
              <p:cNvSpPr/>
              <p:nvPr/>
            </p:nvSpPr>
            <p:spPr>
              <a:xfrm>
                <a:off x="5294160" y="3971520"/>
                <a:ext cx="1463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9"/>
            <p:cNvGrpSpPr/>
            <p:nvPr/>
          </p:nvGrpSpPr>
          <p:grpSpPr>
            <a:xfrm>
              <a:off x="6825960" y="2666880"/>
              <a:ext cx="1594440" cy="1868040"/>
              <a:chOff x="6825960" y="2666880"/>
              <a:chExt cx="1594440" cy="1868040"/>
            </a:xfrm>
          </p:grpSpPr>
          <p:pic>
            <p:nvPicPr>
              <p:cNvPr id="591" name="Picture 13" descr="0712a"/>
              <p:cNvPicPr/>
              <p:nvPr/>
            </p:nvPicPr>
            <p:blipFill>
              <a:blip r:embed="rId3"/>
              <a:stretch/>
            </p:blipFill>
            <p:spPr>
              <a:xfrm>
                <a:off x="6825960" y="2666880"/>
                <a:ext cx="1594440" cy="13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Rectangle 11"/>
              <p:cNvSpPr/>
              <p:nvPr/>
            </p:nvSpPr>
            <p:spPr>
              <a:xfrm>
                <a:off x="6941880" y="3984120"/>
                <a:ext cx="1470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qual Means and Different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12"/>
            <p:cNvGrpSpPr/>
            <p:nvPr/>
          </p:nvGrpSpPr>
          <p:grpSpPr>
            <a:xfrm>
              <a:off x="5071320" y="4587840"/>
              <a:ext cx="3529800" cy="1680120"/>
              <a:chOff x="5071320" y="4587840"/>
              <a:chExt cx="3529800" cy="1680120"/>
            </a:xfrm>
          </p:grpSpPr>
          <p:pic>
            <p:nvPicPr>
              <p:cNvPr id="594" name="Picture 17" descr="0712c"/>
              <p:cNvPicPr/>
              <p:nvPr/>
            </p:nvPicPr>
            <p:blipFill>
              <a:blip r:embed="rId4"/>
              <a:stretch/>
            </p:blipFill>
            <p:spPr>
              <a:xfrm>
                <a:off x="5071320" y="4587840"/>
                <a:ext cx="3529800" cy="14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Rectangle 14"/>
              <p:cNvSpPr/>
              <p:nvPr/>
            </p:nvSpPr>
            <p:spPr>
              <a:xfrm>
                <a:off x="5213160" y="6021720"/>
                <a:ext cx="318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Equal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Rectangle 15"/>
            <p:cNvSpPr/>
            <p:nvPr/>
          </p:nvSpPr>
          <p:spPr>
            <a:xfrm>
              <a:off x="5732280" y="2209680"/>
              <a:ext cx="218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mily of Distrib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The Standard Normal  Probability Distribution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32796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called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33cc33"/>
                </a:solidFill>
                <a:latin typeface="Arial"/>
              </a:rPr>
              <a:t>z-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12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signed distance between a selected value, designate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pulation mea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ivided by the population standard deviation,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9" descr="0713"/>
          <p:cNvPicPr/>
          <p:nvPr/>
        </p:nvPicPr>
        <p:blipFill>
          <a:blip r:embed="rId1"/>
          <a:stretch/>
        </p:blipFill>
        <p:spPr>
          <a:xfrm>
            <a:off x="1263600" y="3787920"/>
            <a:ext cx="2013120" cy="709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0714"/>
          <p:cNvPicPr/>
          <p:nvPr/>
        </p:nvPicPr>
        <p:blipFill>
          <a:blip r:embed="rId2"/>
          <a:stretch/>
        </p:blipFill>
        <p:spPr>
          <a:xfrm>
            <a:off x="3728880" y="2963880"/>
            <a:ext cx="5121360" cy="305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39560" y="1904760"/>
            <a:ext cx="313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68 percent of the batteries failed between what two valu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95 percent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all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14" descr="0717"/>
          <p:cNvPicPr/>
          <p:nvPr/>
        </p:nvPicPr>
        <p:blipFill>
          <a:blip r:embed="rId1"/>
          <a:stretch/>
        </p:blipFill>
        <p:spPr>
          <a:xfrm>
            <a:off x="3579840" y="2220840"/>
            <a:ext cx="5332320" cy="398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591480" y="515160"/>
            <a:ext cx="816264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07544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4108680" cy="202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614" name="Picture 15" descr="0721"/>
          <p:cNvPicPr/>
          <p:nvPr/>
        </p:nvPicPr>
        <p:blipFill>
          <a:blip r:embed="rId1"/>
          <a:stretch/>
        </p:blipFill>
        <p:spPr>
          <a:xfrm>
            <a:off x="1271520" y="3592440"/>
            <a:ext cx="2598840" cy="308448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5"/>
          <p:cNvSpPr/>
          <p:nvPr/>
        </p:nvSpPr>
        <p:spPr>
          <a:xfrm>
            <a:off x="4730760" y="294156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3" descr="0723"/>
          <p:cNvPicPr/>
          <p:nvPr/>
        </p:nvPicPr>
        <p:blipFill>
          <a:blip r:embed="rId2"/>
          <a:stretch/>
        </p:blipFill>
        <p:spPr>
          <a:xfrm>
            <a:off x="5038560" y="3583080"/>
            <a:ext cx="2575080" cy="309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User</cp:lastModifiedBy>
  <dcterms:modified xsi:type="dcterms:W3CDTF">2013-01-21T07:26:40Z</dcterms:modified>
  <cp:revision>220</cp:revision>
  <dc:subject>Probability Distributions</dc:subject>
  <dc:title>Chapter 6</dc:title>
</cp:coreProperties>
</file>