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00E0-FA4C-410E-8A10-92C119A84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26DE-73BD-48FA-A1C8-A3AD75615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5120-5BB0-4A20-BE92-C26AC86CD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A3C3-1D0F-4758-864A-6455330E7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C484-FA7D-4C44-A3E0-8D1C60785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CBCF-A65B-4540-9EF5-1F5E15524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0105-CDAF-4895-9E3E-4D78AC335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0B5D-C9F1-4DF4-996E-9D1E0722F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BCDB2-B429-4FF2-B7E1-94AA0B021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989AD-E0A6-4ACC-8122-F930C6197E9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899AD-32C8-435A-8F3C-8196E5B5D95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77B458-D4C0-4CAB-A073-EC402E2F964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B3BCA-F6A1-45A5-AB51-15E9399A08A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D9AA5-9647-46B5-8F1B-68A731C54C0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5E72B-AE25-4EA6-A055-B96FA06C94C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A0F19-E664-484F-9964-64D53BF112A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D5F2B-51A1-483F-A381-FA8F10E1E80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681FB-D45E-4436-92A9-1DC7AA42092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67B4B4-9283-43B7-A1C2-1FC9B2FE582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6EC436-98EF-4670-8575-9957F428E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8B2E-1853-4A28-AB1E-13BFAFB3BC6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5F4DEE-F56E-4348-A756-B4AB63AE654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8A45B6-97D9-4F10-B6E2-611BB547E7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19BC37-342D-4EB7-A887-6B2EED85BCF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CB14B4-55DC-4B38-8239-931C119D521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4D4B17-6166-43C9-B2C6-FE2F3850EDD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596CB2-2684-465F-99FB-3CEBCA33C13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0DE07D-6D84-4FDA-97A2-18E9FC3D109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FB2F19-3822-4BA3-88A2-471AB70701D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2A2C80-4022-4F6C-BFEA-25970DC3C31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51A29E-CE48-4FE9-AF87-9571DBE70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A2E8-AD7D-4CE7-A191-E19FC449725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B37011-210D-4146-99CA-4B7FF85C58B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C5828-03B5-46C3-A78E-7EF822A4DA9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E5154-F152-42E1-A671-14902A0C5D3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985D1-C9EF-4248-B735-1859F192E36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21675-36E8-4833-AF8E-770FFA20753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630E9-E1F3-4A31-ACBA-F906F1BFB21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1A188-21E9-470A-804E-CC36EE82262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02517-31CC-4C4C-BB99-3A94E100F0A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F5747-5BE7-4CCF-9E1D-2CFC8737F27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206E6-8B68-4C18-BC49-9C49FC6C0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74484-3EA5-4397-A070-2123D84959A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B10A6-F004-4871-B038-6FFC8703409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A95E6-533A-4179-94E3-3308371EC17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A0C4C3-F156-451A-91D8-E7346AD66E7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D5A8D3-215B-45FD-9BC1-36EA373F7D6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892359-113A-428E-9DD8-668088729B7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BE5628-FAA5-497A-A59A-06C432DDC6C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9F0E7F-CAD2-4457-BEDA-10F4A45D7F0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31BCF8-0878-4D1D-9D0F-BA1DC8C2CC4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176626-7FC1-4E3C-9568-8903A91463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C29B9D-B5CB-4D20-AE2A-615BCB76BF3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6E7BF5-9EE3-4F7D-BBD8-72107104FE3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ED052E-6EED-483F-97E2-082E41EF58A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327DB2-6D24-4DBB-A19C-9C4F58ADFB1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0451E9-63A4-4BDF-8D5C-F049DDE4B15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DB251-F4F4-4FA3-9E63-4FEF23E55D5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CA48F-CDFE-4317-99E9-12E1E0D6203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45292-1809-43E2-87FB-2A271C570B6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8E523-7886-49C3-80A3-36AD9CCCB2D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C8239-575B-4ED6-B43F-E162AFCF73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4C77E-F228-416C-8FF0-FBCA2935A8A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10C17-2925-4A10-A6AD-8F4E0897E9D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E2FAC-6272-4D1E-A204-E5F9922661F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087D2-60CC-45ED-9078-F82B8F8CCCE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845B5-C759-4E9C-8943-AABAC09461A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32DD5-7E39-4787-AA39-EDE4D62BAC4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0E06E-4996-4F0D-8DBE-C973B4F4CB5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CE79A-FA89-4114-8A1D-CB6B6904A2F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A1C98-AFBC-4FEC-B6EC-E093FE3FCB2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12706-936E-4B2E-857B-8DA8808862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0CB5E-6351-429D-8EB9-47A9D3F6A1E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F12DF-1CF1-431D-A789-61BAF690243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D8D42-44DE-40EB-BEF2-9A355BC82DE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AD7DA-5877-49F6-A056-42ADD5BF472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DC628-2339-4E52-AC47-0A86C451160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72839-30C5-4F19-8B8E-66852EE1543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B6314-22A8-4C66-9BF4-EB200E66171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4DE87-DD54-4BDB-B6E5-143DE50A8AE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E964F-1F8D-4D98-8BAF-5A23937C6E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F768-73BA-41A9-9C3D-66B8E7682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960D7-247F-496F-AED4-8ABAF114FB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340D5-7BD9-4B4A-BCAE-77A74ECBC1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F124C-16DA-4B45-9DB4-ABD13EA5D9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E494E-D57F-4040-AFA4-8135A1CB17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8BB80-607A-473A-8342-B46F846BE2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104A-458C-4F10-9D40-D0FE5EC698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DA3A3-235C-4EF8-88C1-E374C4B50A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D6CD4-4042-4777-B4E5-FDF8AC8A38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54A18-8163-45E8-9EDE-772F906345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4D4D7-D45B-4AD9-821B-426DB00343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B0FC4-784C-4ADC-B962-115F23A0F5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6DB4B-F581-4544-9608-2C733DBDB2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B781E-45D8-4C79-9B45-A9F47C6A7E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546572-7117-4585-BA7A-6A266CDDD5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71A7ED-D918-45F5-85BD-90E6B95CFE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479347-8E4E-4F9B-9433-16F496746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0A6A4-67BF-4750-A0F3-BFECF1C27A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E1C1F0-AC91-4F34-A3B9-17AA6CB138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F715A7-2413-48D3-B318-BAAAC8E4E9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3E1E18-D31F-4BC3-B6B8-4ED8ECCD68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F6DCB-3F2E-4CAF-9B4C-3FF64370B5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5C680-D466-4F1A-B736-9FF1C93D0D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A75B8-AAA6-4CD7-B4BE-FA9B33E312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D8C082-BBF2-44A2-A0CE-200CA22E38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25D75-2089-46D8-A3F1-87CCC419DA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28A817-D845-4C03-ACA1-9B1F8B8BDC5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69AE9-E321-4488-B5D0-20C2876B1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E59C-697D-4D14-8EE6-C92D938E3CD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39ED-422A-4C6E-9033-71C20EE839F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87F4-6F87-4B52-9E61-2857D37257C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68B9-5AD8-4BCB-914A-15E0B1F9241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DD6EA-79EF-4F30-AEA3-D6869CC08CE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1EC6-8F9C-4709-A11D-0562DD9C218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4A90B-05BD-49F0-9D55-227DBB6E84B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EEB37-04B9-460A-B9F4-9EB47B189D1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6F48D-143B-41FD-8168-44264319A5B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76307-39E9-4289-8DD8-5AFBFD5BDDC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7E25E-813E-4305-AFCE-28CA3EAA1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32D2-4B2C-4867-8984-1148F72B88B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2A804-63CF-4718-A9EC-E495401D461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9D990-9CB8-482E-BD3F-FEA1AC852D6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A7F61-C88C-4C4D-8E64-BF276A28A77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48036-11F4-4F7D-8FAA-8F6F5C723C6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43E6C-7F59-4044-AF0F-6825AB00B55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926A3-7439-46C3-B237-4CA42454E86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D75DC-05CC-4DE9-98C9-F31B0D3B0D9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43B241-0A7B-4775-A9E2-C508A038019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0E995C-52F4-44B7-A95A-772F7CD2A3C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968D2D-8B2E-4840-B144-CECFCD9FD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F900-9403-4AE4-9EDF-A2795E9B89D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9C78B-9D84-4210-97F6-A402AABD246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BE73DC-4401-420D-8605-ADC1814888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454607-9B30-4FCB-8C47-CB219EBB420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C7439A-B0B4-4F5D-9582-8D07C6319AF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9895FE-D4F7-4277-9707-14EDD6813A0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FC86F4-C313-4CCC-82A1-2BBDFFC2B77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9A65D1-4A1D-42DE-94F5-8289C385EF5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C78147-401A-424C-B1FF-AA17F8EF29C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B17E14-71C8-4EB7-A967-780B869AB4A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E901A5-80DD-497A-89D1-3EE573BD3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C49AC-0539-4F14-BE35-A3BA1FF3B78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E7022B-376E-4080-B4E1-D80DD436F21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3EAB48-4F49-43A7-BFCA-4243B24A735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09D2D-54CB-4707-B648-39C42C47DCD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D79A49-4335-49F7-9524-5E72AA05473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F29E6E-77FC-444D-ADE8-2343F4B7F88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B9075-E9DA-402B-AB4A-8AE99458D39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F76F0-DB35-4FF0-9EDE-4D5377FA387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B1DED-8B0F-44DF-962C-A8FC99FA45D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E951C-A098-4110-A607-03E553D576D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B05A2-6B51-4285-9107-C91CEB8B4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DB47-BCDA-46AE-A00E-F3CBD8CC9BD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E884D-8978-43E9-82A0-3DA1C517956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9EBF9-0558-45F3-9DBA-CEF096EB701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D9E47-4166-4F48-BFF1-C4D700DF858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BFB29-E744-4C6C-A58B-6D3CFCFCE51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5C55E-1F34-463F-807C-F68A66EB833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BC417-BCC1-48D7-B327-1BB9BCCD575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96377-85B0-4C64-82E5-2B7246ADAC7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3E21EB-E9D2-4C99-BECF-8430A4D9D8D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9DD55-5B51-4FA1-B019-7E10061776D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4A8E1-E6AB-4DDE-B299-8E33447C3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45D3-7B48-4762-8966-A780838D42E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-</a:t>
            </a:r>
            <a:fld id="{0F1EB02B-C368-4C01-B6CB-0C083069C08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8E4E-22B9-46DF-BDFD-928D54A6C66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926F-109C-40FD-8B51-463F0B5A001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5365-25D2-4B2F-9512-33C24B5B78D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2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084F-AB34-4B2B-9021-22F07965FF9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2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7BB3-E9C4-428F-910C-BF9472B58D1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DD31-A9B7-4988-8270-0B45471F955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EAE3-0D92-4FAA-B2E2-C669C78AF13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55B3-4C80-4AE7-B9E1-27F01B3B867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E036-9181-49B9-80BD-E3D54878072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825E-B46A-4C16-ACD3-18915914AE4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4EA2-86A3-4D87-8287-955D016C29A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AD9E-64C7-45B0-923F-2F9DBA32790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964800" y="213300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rmal Probability Distribution</a:t>
            </a:r>
            <a:endParaRPr b="1" lang="en-US" sz="4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Normal Probability Distribution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542520" y="1904760"/>
            <a:ext cx="39546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bell-shap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s a single peak at the center of the 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ymmetric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symptot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ve gets closer and closer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but never actually touches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 normal distribution is determined by the mean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ithmetic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ean, med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ode are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rea under the curve is 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half the area under the normal curve is to the right of this center point and the other half to the left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8" descr="0711"/>
          <p:cNvPicPr/>
          <p:nvPr/>
        </p:nvPicPr>
        <p:blipFill>
          <a:blip r:embed="rId1"/>
          <a:stretch/>
        </p:blipFill>
        <p:spPr>
          <a:xfrm>
            <a:off x="1047600" y="4848120"/>
            <a:ext cx="2897280" cy="1809720"/>
          </a:xfrm>
          <a:prstGeom prst="rect">
            <a:avLst/>
          </a:prstGeom>
          <a:ln w="0">
            <a:noFill/>
          </a:ln>
        </p:spPr>
      </p:pic>
      <p:grpSp>
        <p:nvGrpSpPr>
          <p:cNvPr id="586" name="Group 16"/>
          <p:cNvGrpSpPr/>
          <p:nvPr/>
        </p:nvGrpSpPr>
        <p:grpSpPr>
          <a:xfrm>
            <a:off x="5021280" y="2209680"/>
            <a:ext cx="3579840" cy="4058280"/>
            <a:chOff x="5021280" y="2209680"/>
            <a:chExt cx="3579840" cy="4058280"/>
          </a:xfrm>
        </p:grpSpPr>
        <p:grpSp>
          <p:nvGrpSpPr>
            <p:cNvPr id="587" name="Group 6"/>
            <p:cNvGrpSpPr/>
            <p:nvPr/>
          </p:nvGrpSpPr>
          <p:grpSpPr>
            <a:xfrm>
              <a:off x="5021280" y="2664360"/>
              <a:ext cx="1804320" cy="1705680"/>
              <a:chOff x="5021280" y="2664360"/>
              <a:chExt cx="1804320" cy="1705680"/>
            </a:xfrm>
          </p:grpSpPr>
          <p:pic>
            <p:nvPicPr>
              <p:cNvPr id="588" name="Picture 15" descr="0712b"/>
              <p:cNvPicPr/>
              <p:nvPr/>
            </p:nvPicPr>
            <p:blipFill>
              <a:blip r:embed="rId2"/>
              <a:stretch/>
            </p:blipFill>
            <p:spPr>
              <a:xfrm>
                <a:off x="5021280" y="2664360"/>
                <a:ext cx="1804320" cy="14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Rectangle 8"/>
              <p:cNvSpPr/>
              <p:nvPr/>
            </p:nvSpPr>
            <p:spPr>
              <a:xfrm>
                <a:off x="5294160" y="3971520"/>
                <a:ext cx="1463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9"/>
            <p:cNvGrpSpPr/>
            <p:nvPr/>
          </p:nvGrpSpPr>
          <p:grpSpPr>
            <a:xfrm>
              <a:off x="6825960" y="2666880"/>
              <a:ext cx="1594440" cy="1868040"/>
              <a:chOff x="6825960" y="2666880"/>
              <a:chExt cx="1594440" cy="1868040"/>
            </a:xfrm>
          </p:grpSpPr>
          <p:pic>
            <p:nvPicPr>
              <p:cNvPr id="591" name="Picture 13" descr="0712a"/>
              <p:cNvPicPr/>
              <p:nvPr/>
            </p:nvPicPr>
            <p:blipFill>
              <a:blip r:embed="rId3"/>
              <a:stretch/>
            </p:blipFill>
            <p:spPr>
              <a:xfrm>
                <a:off x="6825960" y="2666880"/>
                <a:ext cx="1594440" cy="13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Rectangle 11"/>
              <p:cNvSpPr/>
              <p:nvPr/>
            </p:nvSpPr>
            <p:spPr>
              <a:xfrm>
                <a:off x="6941880" y="3984120"/>
                <a:ext cx="1470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qual Means and Different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12"/>
            <p:cNvGrpSpPr/>
            <p:nvPr/>
          </p:nvGrpSpPr>
          <p:grpSpPr>
            <a:xfrm>
              <a:off x="5071320" y="4587840"/>
              <a:ext cx="3529800" cy="1680120"/>
              <a:chOff x="5071320" y="4587840"/>
              <a:chExt cx="3529800" cy="1680120"/>
            </a:xfrm>
          </p:grpSpPr>
          <p:pic>
            <p:nvPicPr>
              <p:cNvPr id="594" name="Picture 17" descr="0712c"/>
              <p:cNvPicPr/>
              <p:nvPr/>
            </p:nvPicPr>
            <p:blipFill>
              <a:blip r:embed="rId4"/>
              <a:stretch/>
            </p:blipFill>
            <p:spPr>
              <a:xfrm>
                <a:off x="5071320" y="4587840"/>
                <a:ext cx="3529800" cy="14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Rectangle 14"/>
              <p:cNvSpPr/>
              <p:nvPr/>
            </p:nvSpPr>
            <p:spPr>
              <a:xfrm>
                <a:off x="5213160" y="6021720"/>
                <a:ext cx="318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Equal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Rectangle 15"/>
            <p:cNvSpPr/>
            <p:nvPr/>
          </p:nvSpPr>
          <p:spPr>
            <a:xfrm>
              <a:off x="5732280" y="2209680"/>
              <a:ext cx="218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mily of Distrib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The Standard Normal  Probability Distribution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32796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called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200" spc="-1" strike="noStrike">
                <a:solidFill>
                  <a:srgbClr val="33cc33"/>
                </a:solidFill>
                <a:latin typeface="Arial"/>
              </a:rPr>
              <a:t>z-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12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signed distance between a selected value, designate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pulation mean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ivided by the population standard deviation,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9" descr="0713"/>
          <p:cNvPicPr/>
          <p:nvPr/>
        </p:nvPicPr>
        <p:blipFill>
          <a:blip r:embed="rId1"/>
          <a:stretch/>
        </p:blipFill>
        <p:spPr>
          <a:xfrm>
            <a:off x="1263600" y="3787920"/>
            <a:ext cx="2013120" cy="709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0714"/>
          <p:cNvPicPr/>
          <p:nvPr/>
        </p:nvPicPr>
        <p:blipFill>
          <a:blip r:embed="rId2"/>
          <a:stretch/>
        </p:blipFill>
        <p:spPr>
          <a:xfrm>
            <a:off x="3728880" y="2963880"/>
            <a:ext cx="5121360" cy="305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439560" y="1904760"/>
            <a:ext cx="3135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68 percent of the batteries failed between what two valu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95 percent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ly all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14" descr="0717"/>
          <p:cNvPicPr/>
          <p:nvPr/>
        </p:nvPicPr>
        <p:blipFill>
          <a:blip r:embed="rId1"/>
          <a:stretch/>
        </p:blipFill>
        <p:spPr>
          <a:xfrm>
            <a:off x="3579840" y="2220840"/>
            <a:ext cx="5332320" cy="398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591480" y="515160"/>
            <a:ext cx="816264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07544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5" descr="0719"/>
          <p:cNvPicPr/>
          <p:nvPr/>
        </p:nvPicPr>
        <p:blipFill>
          <a:blip r:embed="rId1"/>
          <a:srcRect l="0" t="17356" r="48680" b="18155"/>
          <a:stretch/>
        </p:blipFill>
        <p:spPr>
          <a:xfrm>
            <a:off x="792000" y="3646440"/>
            <a:ext cx="4108680" cy="202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8"/>
          <p:cNvSpPr/>
          <p:nvPr/>
        </p:nvSpPr>
        <p:spPr>
          <a:xfrm>
            <a:off x="825480" y="5956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probability is 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614" name="Picture 15" descr="0721"/>
          <p:cNvPicPr/>
          <p:nvPr/>
        </p:nvPicPr>
        <p:blipFill>
          <a:blip r:embed="rId1"/>
          <a:stretch/>
        </p:blipFill>
        <p:spPr>
          <a:xfrm>
            <a:off x="1271520" y="3592440"/>
            <a:ext cx="2598840" cy="308448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5"/>
          <p:cNvSpPr/>
          <p:nvPr/>
        </p:nvSpPr>
        <p:spPr>
          <a:xfrm>
            <a:off x="4730760" y="294156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3" descr="0723"/>
          <p:cNvPicPr/>
          <p:nvPr/>
        </p:nvPicPr>
        <p:blipFill>
          <a:blip r:embed="rId2"/>
          <a:stretch/>
        </p:blipFill>
        <p:spPr>
          <a:xfrm>
            <a:off x="5038560" y="3583080"/>
            <a:ext cx="2575080" cy="309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User</cp:lastModifiedBy>
  <dcterms:modified xsi:type="dcterms:W3CDTF">2013-01-21T07:26:40Z</dcterms:modified>
  <cp:revision>220</cp:revision>
  <dc:subject>Probability Distributions</dc:subject>
  <dc:title>Chapter 6</dc:title>
</cp:coreProperties>
</file>