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7C3-5948-4A87-9675-18218864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56B3-A2E6-488F-96F4-1CFFF83E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A37B-D514-4D30-9F51-1A9EC67E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832C-D999-490E-BD40-6D19B268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E6C0-106A-4BDA-88A5-AF59B05E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2C910-68A9-455D-AD7D-CE3490C9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BC56-C93B-402B-8C91-31454D86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2051-D41D-4E68-A6B7-25D3989D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119C-A65A-4E09-B70D-A9E3748F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0D50-4A3F-4058-B452-E8A65B36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FA31-97C7-4E56-B24E-5BA2FF4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FFB6-6595-4495-842B-B8AD8EFC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540A-4813-431A-B13E-C1745694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5F951-D79F-4458-AB7B-BBAAC950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A1DD-7D8E-41AF-806F-7BB41C9D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2C99-7DBC-491A-9D51-265DEA0C7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CDDC-4A0C-44ED-9990-063821C1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B467-A3A1-4ACE-A8E9-72CB9A22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302B-808E-4524-9100-5FD9D8A0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9580-65F5-43A7-AF14-B003B22E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C1AFA-9369-4BD2-92B8-E51C727E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46F3-D822-4155-98C9-F6C95DE4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F49-B8C9-4C48-B49F-68C2A62D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B66D3-86CC-4C37-8D12-830C80F9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F923-C6A6-4819-B5CE-BABD6B51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AAE38-9DEA-49FB-995A-87A4910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C932-1586-482A-BF61-19E6FDDE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CD010-A818-4BA8-9925-67885499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3B692-9172-4723-A15B-109B4CA8C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A8E8C-0754-40A7-8391-AB0F3A99B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DEEA3-5267-49A5-8E89-BBD5C9DE7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273E3-1EFD-489E-9CC5-2A633D50F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50B2A-E4BA-47C9-AD11-2A864A84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799-151D-47D5-8A28-1F74CF615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3AEC-60A4-4B78-9083-BFF93C90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3008-3250-48D3-A37F-A0A07135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2A645-6BB3-4BB0-A3DD-ACA9B9CF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536B-2DD7-4F7F-9134-34B7FC5B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D3B99-C35B-4ADD-BCD5-A10D80E0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59344-08E7-448E-8FE8-806B6E77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142E6-2971-4D34-B159-E6EAAB8F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EDBFE-D922-41F3-8E22-ED73894A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984FE-84EC-4EB1-AABB-CADFD464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ADFE-1F50-4E0C-9FBE-0F65C88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AA6-8EAB-4AEA-89EF-7594C520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4FF2-210B-4D2E-8C01-F525FFD1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790E-1028-4DF1-B075-D77C0A64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1EF6-B2C7-4230-AB30-0051F9F6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0A58-BE4B-4DBA-8A7B-911FAB09F1B7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1EC1-D65C-40E6-AB80-4FC37B8E735E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4970-E47A-4C7C-8EDD-E3E219368605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8CCB-E873-4DA4-8F3C-1BC6D316E370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2"/>
          <a:stretch/>
        </p:blipFill>
        <p:spPr>
          <a:xfrm>
            <a:off x="493560" y="35388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7854840" cy="2695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Parenteral 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stellar"/>
              </a:rPr>
              <a:t>quality control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120" y="164304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3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Results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emperature decreases are considered as zero ris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no rabbit shows an individual tempe rise of  0.5 C or more above its control temperature, the product meets the requirements for the absence of pyrogen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any rabbit shows an individual temperature rise of 0.5 or more,continue the test using five other rabbits.I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more than thr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of the eight rabbits show individual rises in temperature of 0.5 or more and if the sum of the eight individual maximum temperature rises do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not exceed 3.3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,the material under examination meets the requirements for the absence of pyrogens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698400" indent="-69840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B. Human Cell-Based Pyrogen Test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yrogens induce human monocytes to release pro-inflammatory cytokines such as Interleukin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8400" indent="-6984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st methods include incubation of a test sample with monocytes in whole blood or in cultured cell lines and analysis of a specific cytokine after a suitable tim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690840" indent="-690840"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 Limulus amebocyte lysate (LAL) reagent is the basis for an in vitro pyrogen test method that is specific for bacterial endotoxin pyrogen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90840" indent="-690840">
              <a:lnSpc>
                <a:spcPct val="16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LAL reagent was obtained horseshoe crab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14200" y="1500120"/>
            <a:ext cx="542952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83280" indent="-68328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C. Bacterial Endotoxins Test (LAL Tes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qual volumes of test solution and LAL reagent are mixed in glass test tubes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fter incubation at 37 C for 1 h, the tubes are observed for clot formation after inverting them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83280" indent="-683280">
              <a:lnSpc>
                <a:spcPct val="14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ormation of a solid gel clot that withstands inversion of the tube constitutes a positive tes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2"/>
          <a:stretch/>
        </p:blipFill>
        <p:spPr>
          <a:xfrm>
            <a:off x="5715000" y="1500120"/>
            <a:ext cx="32860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Since erythrocytes have a diameter of approximately 4.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, particles of more than 5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 should be the basis for evaluation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The unaided eye can see particles approximately 50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 algn="just">
              <a:lnSpc>
                <a:spcPct val="13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onstantia"/>
              </a:rPr>
              <a:t>particles can be seen by the light scattered from them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Light obscuration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Microscopic particle count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13160" indent="-713160" algn="ctr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Full batch inspection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00% batch inspection is recommended by GMP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n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y human inspection for all the unit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under a good light,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70120" indent="-493560">
              <a:lnSpc>
                <a:spcPct val="14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d against a black and white backgroun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13160" indent="-71316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utomated inspection machines are also</a:t>
            </a: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 used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8080" indent="-478080" algn="ctr">
              <a:lnSpc>
                <a:spcPct val="14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Use a suitable apparatus based on the principle of light blockage which allows an automatic determination of the size of particles and the number of particles according to size. 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  <a:p>
            <a:pPr marL="478080" indent="-478080">
              <a:lnSpc>
                <a:spcPct val="140000"/>
              </a:lnSpc>
              <a:spcBef>
                <a:spcPts val="77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nstantia"/>
              </a:rPr>
              <a:t>A shadow casts by the particle as it passes through a high intensity light beam.</a:t>
            </a:r>
            <a:endParaRPr b="0" lang="en-US" sz="3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Mix the contents of the sample by slowly inverting the container 20 times successively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6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onstantia"/>
              </a:rPr>
              <a:t>If necessary, cautiously remove the sealing closure. Clean the outer surfaces of the container opening using a jet of particle-free water and remove the closure, avoiding any contamination of the contents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98960" indent="-498960" algn="ctr">
              <a:lnSpc>
                <a:spcPct val="15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Constantia"/>
              </a:rPr>
              <a:t>B. Light obscuration particle count test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large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, single units are tested. 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For </a:t>
            </a: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small-volume parenteral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less than 25 ml in volume: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tents of  10 or more units are combined in a cleaned container to obtain a volume of not less than 25 ml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15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r diluting to 25 ml with particle-free water or with an appropriate particle-free solvent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8960" indent="-498960">
              <a:lnSpc>
                <a:spcPct val="15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nstantia"/>
              </a:rPr>
              <a:t>Powders</a:t>
            </a:r>
            <a:r>
              <a:rPr b="0" lang="en-US" sz="2300" spc="-1" strike="noStrike">
                <a:solidFill>
                  <a:srgbClr val="000000"/>
                </a:solidFill>
                <a:latin typeface="Constantia"/>
              </a:rPr>
              <a:t> for parenteral use are reconstituted with particle-free water or with an appropriate particle-free solvent.</a:t>
            </a:r>
            <a:endParaRPr b="0" lang="en-US" sz="2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arenteral Quality Control Tes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4 main tests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yrogen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rticulate matter 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Package integr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C- Particulate matter 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04000" indent="-50400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C. Microscopic particle count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sample is filtered through a membrane filter under ultra clean condition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ced under   a suitable binocular microscope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04000" indent="-504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unt the number of particles that are equal to or greater than 10 μm and the number of particles that are equal to or greater than 25 μm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Bubbl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Microbial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4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Constantia"/>
              </a:rPr>
              <a:t>1. Bubble test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 is submerged in water or other suitable clear, colorless solven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A vacuum is exerted on the test system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40000"/>
              </a:lnSpc>
              <a:spcBef>
                <a:spcPts val="924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 package is examined visually for evidence of gaseous leakage</a:t>
            </a:r>
            <a:r>
              <a:rPr b="0" lang="en-US" sz="37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2. Dye Challenge test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 algn="just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Containers are Immersed in a Dye Solution (1% methylene blue solution)  and Subjected to Pressure or  Vacuum Variance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3. Microbial Challenge test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tainers are Immersed in a Microbial Suspension (Pressure Differential) or Containers are Subjected to a Microbial Aerosol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ubate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.B.: Container Contents Must Support Microbial Growth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D- Package integr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4. Particulate Transmission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packages are placed in a chamber and subjected to a charged aerosolized dust. 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e units are removed from the chamber and examined for dust entry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mbrane filtration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rect transfer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Product flush sterility testing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3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embrane filtration sterility tes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icroorganisms will be collected on the surface of a 0.45 micron pore size filter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ashing the filters with fluids to remove inhibitory properties  (Bacteriostatic / Fungistatic properties)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filter is segmented and transferred to appropriate media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fluid thioglycollate medium (FTM): support the growth of anaerobic and aerobic microorganism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906480" indent="-514440">
              <a:lnSpc>
                <a:spcPct val="15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ybean casein digest medium (SCDM)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upport a wide range of aerobic bacteria and fungi (i.e. yeasts and mold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5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Constant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incubation time is 7 days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09040" indent="-509040" algn="ctr">
              <a:lnSpc>
                <a:spcPct val="15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onstantia"/>
              </a:rPr>
              <a:t>2. Direct transfer sterility testing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thod of choice for medical devi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est article is completely immersed in the test medi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plete immersion recommended: 2500 mL Max. Volu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fter transferring, the samples are incubated for 14 day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09040" indent="-509040">
              <a:lnSpc>
                <a:spcPct val="17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A- Sterility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14200" y="1356840"/>
            <a:ext cx="8786880" cy="52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ctr"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3. Product flush sterility test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ed for transfusion and infusion assemblies that indicate a sterile fluid pathway that cannot be cu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products are flushed with flu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elute is membrane filtered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 filter is placed into 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is method is not generally us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uman Cell-Based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Bacterial Endotoxins Test (LAL Test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14200" y="1500120"/>
            <a:ext cx="878688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735480" indent="-735480" algn="ctr">
              <a:lnSpc>
                <a:spcPct val="13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Rabbits show a physiological response to pyrogen similar to humans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50000"/>
              </a:lnSpc>
              <a:spcBef>
                <a:spcPts val="8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nstantia"/>
              </a:rPr>
              <a:t>Not valid for products that could mask the test by having a physiological effect on the rabbit.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735480" indent="-735480">
              <a:lnSpc>
                <a:spcPct val="13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B- Pyrogen testing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4200" y="150012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 algn="ctr">
              <a:lnSpc>
                <a:spcPct val="13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Constant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nstantia"/>
              </a:rPr>
              <a:t>USP Rabbit Pyrogen Tes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Method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Groups of three healthy, mature rabbits are chose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ccurate thermometers are inserted into the rectum of the rabbits to record their body temperature (control temp 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st solutions are warmed to 37 C prior to injection and then injecte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5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abbit temperatures are recorded at 30 min intervals between 1  and 3 h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07:11:25Z</dcterms:created>
  <dc:creator>USER</dc:creator>
  <dc:description/>
  <dc:language>en-US</dc:language>
  <cp:lastModifiedBy>User</cp:lastModifiedBy>
  <dcterms:modified xsi:type="dcterms:W3CDTF">2011-04-24T08:15:27Z</dcterms:modified>
  <cp:revision>14</cp:revision>
  <dc:subject/>
  <dc:title>PHT 434</dc:title>
</cp:coreProperties>
</file>