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76116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18A5-83C6-4630-846B-BBDC13C2E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804C-2584-4E15-B59A-4A2F3D048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6F45-77BA-4E1A-A436-EA70D4A8C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D4CA-226F-43D4-8FE7-0528D9AF1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DD17F-53D3-4260-A0A6-247F3291A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57EC4-602E-4ECF-AF2D-7276D6636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2AB45-D05C-4009-AF98-5317C411F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7CBCF-19DB-4C11-9013-7BD18B830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98BC3-C89E-49A7-AC03-882D2ACFB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2CA72-00FF-46A5-961D-DE0275D3A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D2919-0329-4B9F-9242-1C9AC5FF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A5AF-7605-4A50-9EB2-5B89EFD4D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B7E83-EA4E-403A-87FA-DDA1C878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B6954-7AD7-4EDC-A1CD-662BF01D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128A4-3547-427E-B083-225247429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14169-43AA-43DC-BAA0-85E9496A7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FB571-801C-4360-BC08-98CD40609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90B0E-6F9B-41C4-8211-7F5F4B465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8124D-3D22-421B-AE66-2D06B4DF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E5FFD-5F75-4730-9410-8479082CF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A2C30-A195-435A-BDA1-CD6D74B22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601BA-2D70-453C-AD4D-85A4DD380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DF43-2EAB-43DD-8E1D-EE612C494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087EE-1D2A-4D44-AA6E-F0C0538D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4BAB5-F0C2-4914-8FDC-B5A89AA4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B6996-3290-4B49-B9F4-8E8463C5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531BC-A244-4E59-81E9-7B629D0A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29348-452D-4764-A696-D8449D2C0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DC9E0-6FAC-404D-8B4B-EC446D462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93C74-7299-4137-A9EC-72E9EDE51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63AA5-5695-497C-A8D0-3114C47C6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D5CB5-D86C-4E20-9D1E-A062F343D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34246-D8DA-4D03-98C6-1AF25ABB1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1EA7-1769-43A8-BCAB-E7B832445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417E5-BB2C-433F-A653-E39B9D016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9FDD5-2846-4EF6-8213-B3C4F3895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00FAC-D53B-4C99-A22A-50335D91C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2DC51-C762-4225-84CA-E9197EAA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CEA21-C83E-49D7-A0B1-4FAA1F8F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1C180-7FD6-4646-BCC4-6B73AC0F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0D1F4-3DC1-43A2-ACCF-7AB7B9187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B5555-1CEC-4915-BA32-0F7D01957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C23E3-4147-4365-B6D7-5B3F87820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E234-E9FA-4F16-ADF0-56BD7E532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F00C-88AC-4D5E-AF58-EE088C969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613B-D899-4C87-B335-00FA147A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DA84-AB2C-431A-AE52-96E973D3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4768-7119-40D8-ADEC-F2BC696F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A71CA-C2AF-471E-9356-D1FC5E568622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BDCBF-ABD6-4D95-8629-7E7DDB2C8B5C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5AD46-E961-4955-A2D1-A93A86EF2777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F33C6-F62F-4724-B940-1EF99B26B6F2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2"/>
          <a:stretch/>
        </p:blipFill>
        <p:spPr>
          <a:xfrm>
            <a:off x="493560" y="353880"/>
            <a:ext cx="786456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2286000"/>
            <a:ext cx="7854840" cy="26956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stellar"/>
              </a:rPr>
              <a:t>Parenteral 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stellar"/>
              </a:rPr>
              <a:t>quality control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B- Pyrogen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57120" y="164304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690840" indent="-690840" algn="ctr">
              <a:lnSpc>
                <a:spcPct val="13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USP Rabbit Pyrogen Test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690840" indent="-690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Results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90840" indent="-690840">
              <a:lnSpc>
                <a:spcPct val="15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emperature decreases are considered as zero rise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690840" indent="-690840">
              <a:lnSpc>
                <a:spcPct val="15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f no rabbit shows an individual tempe rise of  0.5 C or more above its control temperature, the product meets the requirements for the absence of pyrogens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690840" indent="-69084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f any rabbit shows an individual temperature rise of 0.5 or more,continue the test using five other rabbits.If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not more than three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of the eight rabbits show individual rises in temperature of 0.5 or more and if the sum of the eight individual maximum temperature rises doe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not exceed 3.3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,the material under examination meets the requirements for the absence of pyrogens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B- Pyrogen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698400" indent="-698400" algn="ctr">
              <a:lnSpc>
                <a:spcPct val="15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onstantia"/>
              </a:rPr>
              <a:t>B. Human Cell-Based Pyrogen Test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698400" indent="-69840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yrogens induce human monocytes to release pro-inflammatory cytokines such as Interleukins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98400" indent="-69840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est methods include incubation of a test sample with monocytes in whole blood or in cultured cell lines and analysis of a specific cytokine after a suitable tim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B- Pyrogen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690840" indent="-690840"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C. Bacterial Endotoxins Test (LAL Test)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90840" indent="-690840">
              <a:lnSpc>
                <a:spcPct val="16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 Limulus amebocyte lysate (LAL) reagent is the basis for an in vitro pyrogen test method that is specific for bacterial endotoxin pyrogen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90840" indent="-690840">
              <a:lnSpc>
                <a:spcPct val="16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LAL reagent was obtained horseshoe crab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B- Pyrogen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14200" y="1500120"/>
            <a:ext cx="54295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683280" indent="-683280"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C. Bacterial Endotoxins Test (LAL Test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83280" indent="-683280">
              <a:lnSpc>
                <a:spcPct val="14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qual volumes of test solution and LAL reagent are mixed in glass test tubes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83280" indent="-683280">
              <a:lnSpc>
                <a:spcPct val="14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fter incubation at 37 C for 1 h, the tubes are observed for clot formation after inverting them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83280" indent="-683280">
              <a:lnSpc>
                <a:spcPct val="14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Formation of a solid gel clot that withstands inversion of the tube constitutes a positive test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3" descr=""/>
          <p:cNvPicPr/>
          <p:nvPr/>
        </p:nvPicPr>
        <p:blipFill>
          <a:blip r:embed="rId2"/>
          <a:stretch/>
        </p:blipFill>
        <p:spPr>
          <a:xfrm>
            <a:off x="5715000" y="1500120"/>
            <a:ext cx="328608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C- Particulate matter 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 algn="just">
              <a:lnSpc>
                <a:spcPct val="130000"/>
              </a:lnSpc>
              <a:spcBef>
                <a:spcPts val="8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Since erythrocytes have a diameter of approximately 4.5 </a:t>
            </a:r>
            <a:r>
              <a:rPr b="0" lang="en-US" sz="33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m, particles of more than 5 </a:t>
            </a:r>
            <a:r>
              <a:rPr b="0" lang="en-US" sz="33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m should be the basis for evaluation.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130000"/>
              </a:lnSpc>
              <a:spcBef>
                <a:spcPts val="8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The unaided eye can see particles approximately 50 </a:t>
            </a:r>
            <a:r>
              <a:rPr b="0" lang="en-US" sz="33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m.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130000"/>
              </a:lnSpc>
              <a:spcBef>
                <a:spcPts val="8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1" lang="en-US" sz="33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m</a:t>
            </a:r>
            <a:r>
              <a:rPr b="1" lang="en-US" sz="33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particles can be seen by the light scattered from them.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C- Particulate matter 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15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Full batch inspection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5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Light obscuration particle count tes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5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Microscopic particle count tes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C- Particulate matter 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713160" indent="-713160" algn="ctr">
              <a:lnSpc>
                <a:spcPct val="14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onstantia"/>
              </a:rPr>
              <a:t>Full batch inspection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713160" indent="-713160">
              <a:lnSpc>
                <a:spcPct val="14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100% batch inspection is recommended by GMP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713160" indent="-713160">
              <a:lnSpc>
                <a:spcPct val="14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one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870120" indent="-493560">
              <a:lnSpc>
                <a:spcPct val="14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by human inspection for all the unit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870120" indent="-493560">
              <a:lnSpc>
                <a:spcPct val="14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under a good light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870120" indent="-493560">
              <a:lnSpc>
                <a:spcPct val="14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nd against a black and white background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713160" indent="-713160">
              <a:lnSpc>
                <a:spcPct val="14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utomated inspection machines are also</a:t>
            </a:r>
            <a:r>
              <a:rPr b="0" lang="en-US" sz="3100" spc="-1" strike="noStrike">
                <a:solidFill>
                  <a:srgbClr val="000000"/>
                </a:solidFill>
                <a:latin typeface="Constantia"/>
              </a:rPr>
              <a:t> used.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C- Particulate matter 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78080" indent="-478080" algn="ctr">
              <a:lnSpc>
                <a:spcPct val="14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onstantia"/>
              </a:rPr>
              <a:t>B. Light obscuration particle count test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478080" indent="-478080">
              <a:lnSpc>
                <a:spcPct val="14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nstantia"/>
              </a:rPr>
              <a:t>Use a suitable apparatus based on the principle of light blockage which allows an automatic determination of the size of particles and the number of particles according to size. 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478080" indent="-478080">
              <a:lnSpc>
                <a:spcPct val="14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nstantia"/>
              </a:rPr>
              <a:t>A shadow casts by the particle as it passes through a high intensity light beam.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C- Particulate matter 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98960" indent="-498960" algn="ctr">
              <a:lnSpc>
                <a:spcPct val="15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onstantia"/>
              </a:rPr>
              <a:t>B. Light obscuration particle count test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lnSpc>
                <a:spcPct val="15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Mix the contents of the sample by slowly inverting the container 20 times successively. 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lnSpc>
                <a:spcPct val="15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If necessary, cautiously remove the sealing closure. Clean the outer surfaces of the container opening using a jet of particle-free water and remove the closure, avoiding any contamination of the contents. 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C- Particulate matter 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98960" indent="-498960" algn="ctr">
              <a:lnSpc>
                <a:spcPct val="15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onstantia"/>
              </a:rPr>
              <a:t>B. Light obscuration particle count tes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lnSpc>
                <a:spcPct val="15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For </a:t>
            </a:r>
            <a:r>
              <a:rPr b="1" lang="en-US" sz="2300" spc="-1" strike="noStrike">
                <a:solidFill>
                  <a:srgbClr val="000000"/>
                </a:solidFill>
                <a:latin typeface="Constantia"/>
              </a:rPr>
              <a:t>large-volume parenterals</a:t>
            </a: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, single units are tested. 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lnSpc>
                <a:spcPct val="15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For </a:t>
            </a:r>
            <a:r>
              <a:rPr b="1" lang="en-US" sz="2300" spc="-1" strike="noStrike">
                <a:solidFill>
                  <a:srgbClr val="000000"/>
                </a:solidFill>
                <a:latin typeface="Constantia"/>
              </a:rPr>
              <a:t>small-volume parenterals</a:t>
            </a: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 less than 25 ml in volume: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5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ontents of  10 or more units are combined in a cleaned container to obtain a volume of not less than 25 ml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5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or diluting to 25 ml with particle-free water or with an appropriate particle-free solvent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lnSpc>
                <a:spcPct val="15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nstantia"/>
              </a:rPr>
              <a:t>Powders</a:t>
            </a: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 for parenteral use are reconstituted with particle-free water or with an appropriate particle-free solvent.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arenteral Quality Control Tes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4 main tests: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Sterility testing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Pyrogen testing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Particulate matter  testing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Package integrity testing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C- Particulate matter 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04000" indent="-50400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C. Microscopic particle count test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04000" indent="-50400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sample is filtered through a membrane filter under ultra clean condition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4000" indent="-50400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laced under   a suitable binocular microscope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4000" indent="-50400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ount the number of particles that are equal to or greater than 10 μm and the number of particles that are equal to or greater than 25 μm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D- Package integrity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43040" indent="-743040">
              <a:lnSpc>
                <a:spcPct val="15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Bubble test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5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Dye Challenge test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5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Microbial Challenge test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5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Particulate Transmission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D- Package integrity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43040" indent="-743040" algn="ctr">
              <a:lnSpc>
                <a:spcPct val="14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1. Bubble test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4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e package is submerged in water or other suitable clear, colorless solvent.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4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A vacuum is exerted on the test system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40000"/>
              </a:lnSpc>
              <a:spcBef>
                <a:spcPts val="924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e  package is examined visually for evidence of gaseous leakage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D- Package integrity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43040" indent="-74304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2. Dye Challenge test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 algn="just">
              <a:lnSpc>
                <a:spcPct val="15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Containers are Immersed in a Dye Solution (1% methylene blue solution)  and Subjected to Pressure or  Vacuum Variance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D- Package integrity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43040" indent="-743040" algn="ctr">
              <a:lnSpc>
                <a:spcPct val="13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3. Microbial Challenge test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3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ontainers are Immersed in a Microbial Suspension (Pressure Differential) or Containers are Subjected to a Microbial Aerosol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3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ncubated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N.B.: Container Contents Must Support Microbial Growth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D- Package integrity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43040" indent="-74304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4. Particulate Transmission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5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e packages are placed in a chamber and subjected to a charged aerosolized dust.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5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e units are removed from the chamber and examined for dust entry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4617b"/>
                </a:solidFill>
                <a:latin typeface="Calibri"/>
              </a:rPr>
              <a:t>A- Sterility testing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15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Membrane filtration sterility testing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5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Direct transfer sterility testing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5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Product flush sterility testing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A- Sterility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14200" y="1356840"/>
            <a:ext cx="8786880" cy="52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 algn="ctr">
              <a:lnSpc>
                <a:spcPct val="13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embrane filtration sterility testin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5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microorganisms will be collected on the surface of a 0.45 micron pore size filter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5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ashing the filters with fluids to remove inhibitory properties  (Bacteriostatic / Fungistatic properties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5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is filter is segmented and transferred to appropriate media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06480" indent="-514440">
              <a:lnSpc>
                <a:spcPct val="15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fluid thioglycollate medium (FTM): support the growth of anaerobic and aerobic microorganism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906480" indent="-514440">
              <a:lnSpc>
                <a:spcPct val="15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soybean casein digest medium (SCDM)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support a wide range of aerobic bacteria and fungi (i.e. yeasts and molds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5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e incubation time is 7 days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A- Sterility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14200" y="1356840"/>
            <a:ext cx="8786880" cy="52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09040" indent="-509040" algn="ctr">
              <a:lnSpc>
                <a:spcPct val="15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onstantia"/>
              </a:rPr>
              <a:t>2. Direct transfer sterility testing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thod of choice for medical devi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test article is completely immersed in the test medi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plete immersion recommended: 2500 mL Max. Volum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fter transferring, the samples are incubated for 14 day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lnSpc>
                <a:spcPct val="17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alibri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A- Sterility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14200" y="1356840"/>
            <a:ext cx="8786880" cy="52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 algn="ctr"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3. Product flush sterility testing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ecommended for transfusion and infusion assemblies that indicate a sterile fluid pathway that cannot be cu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products are flushed with flui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elute is membrane filtered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filter is placed into medi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is method is not generally use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B- Pyrogen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214200" y="1500120"/>
            <a:ext cx="878688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43040" indent="-743040">
              <a:lnSpc>
                <a:spcPct val="15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USP Rabbit Pyrogen Tes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5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Human Cell-Based Pyrogen Tes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5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Bacterial Endotoxins Test (LAL Test)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B- Pyrogen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14200" y="1500120"/>
            <a:ext cx="878688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735480" indent="-735480" algn="ctr">
              <a:lnSpc>
                <a:spcPct val="13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USP Rabbit Pyrogen Tes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735480" indent="-735480">
              <a:lnSpc>
                <a:spcPct val="150000"/>
              </a:lnSpc>
              <a:spcBef>
                <a:spcPts val="8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Rabbits show a physiological response to pyrogen similar to humans.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735480" indent="-735480">
              <a:lnSpc>
                <a:spcPct val="150000"/>
              </a:lnSpc>
              <a:spcBef>
                <a:spcPts val="8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Not valid for products that could mask the test by having a physiological effect on the rabbit.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735480" indent="-735480">
              <a:lnSpc>
                <a:spcPct val="13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B- Pyrogen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43040" indent="-743040" algn="ctr">
              <a:lnSpc>
                <a:spcPct val="13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nstantia"/>
              </a:rPr>
              <a:t>USP Rabbit Pyrogen Test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Method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5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Groups of three healthy, mature rabbits are chosen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5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ccurate thermometers are inserted into the rectum of the rabbits to record their body temperature (control temp 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5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est solutions are warmed to 37 C prior to injection and then injected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5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Rabbit temperatures are recorded at 30 min intervals between 1  and 3 h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4T07:11:25Z</dcterms:created>
  <dc:creator>USER</dc:creator>
  <dc:description/>
  <dc:language>en-US</dc:language>
  <cp:lastModifiedBy>User</cp:lastModifiedBy>
  <dcterms:modified xsi:type="dcterms:W3CDTF">2011-04-24T08:15:27Z</dcterms:modified>
  <cp:revision>14</cp:revision>
  <dc:subject/>
  <dc:title>PHT 434</dc:title>
</cp:coreProperties>
</file>