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50F-26C0-4320-812E-921B8805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378-23B5-47E3-A725-08BF5F02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2D8-688D-40DC-A1A7-115B3B1B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9CC-E7B2-4CE0-8D2C-581228F4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D64E-29B0-4A22-8CBA-7F77C556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E89-F58F-454D-8489-DD35368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7D53-4A7C-483A-96B0-4BCE4A0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DB15-A933-4E1F-A58C-D56C602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C6F-726A-44DB-B57D-9E51ACCB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60D-DDD2-4912-B214-E163EFA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BD4-82DB-40B1-9D0B-5E92B36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691-FAA5-4BC2-AA43-7EAE3329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486D-62B6-419D-AE66-12A5ACC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02C-E705-41AB-AB8F-B7B48F8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033D-440E-4604-A93F-016B9CA2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B9A5-4AAA-4E74-8A86-67111714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05DF-A24E-49E0-94FB-A756785C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3C83-3623-4EF1-9E63-C16CA75B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8BAB-9326-4D5B-A3FE-AF0F86D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6E7B-A8C2-4C96-AF7C-3B76E6E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333F-DA16-41EB-85CA-9BD9E31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20BB-191C-44CA-A3AC-0DD70AE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DC6-0A24-4301-9478-FD8FF33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10F8-AA93-4493-8B4E-BA5ED9A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5E0E-077A-449D-9933-B69E75C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04B7-6429-4A0F-A152-37E2688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512E-8CAE-44E0-8E83-CDF060A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6558-2DC9-45AA-A50F-F66210F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7E37-29A0-4D8F-A215-1888B635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ADB9-C536-4EA7-8AB5-6A5D9A3E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DDAF-3C71-4632-A804-8F6F5230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EDFD-8C95-4782-8CE7-F69D2215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901E-82D0-42A6-9102-1F594B9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0BC-656B-490E-876C-603D1E12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85A0-554C-4DCC-B6F7-838EDB96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D200-8826-4A94-8A51-A8AE939E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D311-9009-42B4-80FC-FD090A5A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5C15-E744-45AF-88F0-D41D7B8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89BA-884B-472D-9032-FB8E5CA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14B8-D375-41C6-A3AE-9747FFA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E8EC-ADBA-4516-A28F-B2FFBC4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6947-FDCE-4E8C-8083-229578AC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F900-022E-4D2B-95AE-F80FECD5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DE4-D30C-460A-AA8D-AB336189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214-295C-46D7-BF34-EBA389D7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94C-05A5-460B-8537-06334D5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CA7-EBD8-4373-9CA0-656FEB4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4B-BAFA-4A32-9C23-55C3BF2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C8D-4A97-4C95-A4D0-95EDB5D031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EB4-6400-48E8-B2D5-F507C76CE73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B80-8D3F-4D7F-8037-4E8D8CFDE21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5B2C-48CF-498C-B688-ADF9F00BDAB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197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11-27T07:28:26Z</dcterms:modified>
  <cp:revision>16</cp:revision>
  <dc:subject/>
  <dc:title>PHT 434</dc:title>
</cp:coreProperties>
</file>