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0F2-9973-4D4D-854F-003646B6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7C0-D3E9-4A30-893E-3B38A5F9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6D9-4E5C-4DB2-A92C-1040AC8F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DD3-9D91-404C-B5E3-9CB23EBC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BE0A-7FA2-4AB2-9FA3-58DE6E73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5C38-C634-4711-86BC-D26F7476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DC14-7CB5-4B7D-BF5A-D90F5DA0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1B71-ABD9-4226-ABF5-7FB80262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6F68-ECB8-4C1B-B40B-DD4AB611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C554-47B2-4A64-B419-7B6C8B93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7FFE-EE6B-412B-AD95-A8CFF005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525-69B1-44E4-B066-C19EC4E1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A5B0-2FF1-4976-B66F-B1F30108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C1FD-79B5-4B01-9723-1858D0DA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6C02-D334-4398-A697-6A929ACC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A346-5554-4297-8932-BC67EF0D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5CA3-FECD-47AA-B029-07161E59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3A0E-A226-4AC7-B796-69407369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2E5B-4B91-4C86-BF0E-930A82EF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5188-4F50-43F1-9250-B3EA1DB7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3B08-D8C1-4B6F-8D0F-098291BA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25B5-4BFE-4C67-8A30-5757752B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271-645D-4DCC-AFDB-C8810248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CEB44-877D-48B7-90FC-8DDBE663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A72FD-6C05-4064-B3C0-C72BF003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E5C76-2157-4D2F-B23F-59D9F76B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EC7B-1814-4FD2-B8E0-A1C07658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347B6-2E29-4CEA-8072-9F3D18B0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990E-C92C-4777-BEA5-2153F40D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3228-D428-46F7-9704-9A06AB0C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1BF7C-3E05-4D59-BF8F-382A218C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34DA9-FBBD-4DA7-9F68-97F68150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8BA17-654D-4919-A131-B3E224B1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36E-8E99-4572-AF05-6501190A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9A779-EBBE-4F4B-9047-E4795BD4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1E6B-3B28-454A-B709-D3CF2DA8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B9C3-19D4-4B7E-B1E4-C83450DF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AF714-7195-4804-ACF3-8984FAD1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5B2E-481C-4446-AE4F-C0386155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5769-C16B-46FF-8D36-FAEB6286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D8015-2141-4AF2-A999-9A8BF994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41E4-05F3-465A-B45B-80C81770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9B047-F5E5-4235-9F5A-16B225E3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0BC-AF78-4E34-8A71-388B5686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767-C436-400E-AD8E-0CFB71D5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EB3-FD49-4545-81F4-E8C857EF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BB8-4502-4B65-89AC-FDA31AC8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7A1-B869-42D5-9974-A5D4CE55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D59C-231D-4170-A2B3-688AEDF63A7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D5A4-5468-49A0-879F-BE0A01E10C77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143F-D3E7-447B-90FC-467D82D08A0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5E49-A48A-4A76-B812-1AF98DBF29B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493560" y="35388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54840" cy="2695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Parenteral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quality control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48428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3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mperature decreases are considered as zero ris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no rabbit shows an individual tempe rise of  0.5 C or more above its control temperature, the product meets the requirements for the absence of pyrogen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any rabbit shows an individual temperature rise of 0.5 or more,continue the test using five other rabbits.I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more than thr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the eight rabbits show individual rises in temperature of 0.5 or more and if the sum of the eight individual maximum temperature rises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exceed 3.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,the material under examination meets the requirements for the absence of pyrogens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98400" indent="-69840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B. Human Cell-Based Pyrogen Tes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yrogens induce human monocytes to release pro-inflammatory cytokines such as Interleukin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st methods include incubation of a test sample with monocytes in whole blood or in cultured cell lines and analysis of a specific cytokine after a suitable tim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48428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Limulus amebocyte lysate (LAL) reagent is the basis for an in vitro pyrogen test method that is specific for bacterial endotoxin pyrog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LAL reagent was obtained horseshoe crab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500120"/>
            <a:ext cx="54295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83280" indent="-6832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qual volumes of test solution and LAL reagent are mixed in glass test tub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fter incubation at 37 C for 1 h, the tubes are observed for clot formation after inverting them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ation of a solid gel clot that withstands inversion of the tube constitutes a positive tes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5715000" y="1500120"/>
            <a:ext cx="3286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ince erythrocytes have a diameter of approximately 4.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, particles of more than 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 should be the basis for evaluation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 unaided eye can see particles approximately 50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particles can be seen by the light scattered from the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ght obscuration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croscopic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13160" indent="-713160" algn="ctr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0% batch inspection is recommended by GM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y human inspection for all the unit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nder a good light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against a black and white backgroun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tomated inspection machines are also</a:t>
            </a: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 used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 algn="ctr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Use a suitable apparatus based on the principle of light blockage which allows an automatic determination of the size of particles and the number of particles according to size.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 shadow casts by the particle as it passes through a high intensity light beam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Mix the contents of the sample by slowly inverting the container 20 times successively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f necessary, cautiously remove the sealing closure. Clean the outer surfaces of the container opening using a jet of particle-free water and remove the closure, avoiding any contamination of the contents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large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, single units are tested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mall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less than 25 ml in volume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tents of  10 or more units are combined in a cleaned container to obtain a volume of not less than 25 m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diluting to 25 ml with particle-free water or with an appropriate particle-free solv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Powder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for parenteral use are reconstituted with particle-free water or with an appropriate particle-free solvent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enteral Quality Contro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 main test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yrogen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rticulate matter 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ckage integr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. Microscopic particle count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ample is filtered through a membrane filter under ultra clean condi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ced under   a suitable binocular microscop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unt the number of particles that are equal to or greater than 10 μm and the number of particles that are equal to or greater than 25 μ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ubbl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Microbial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1. Bubble tes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 is submerged in water or other suitable clear, colorless solven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vacuum is exerted on the test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 package is examined visually for evidence of gaseous leakage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. 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 algn="just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tainers are Immersed in a Dye Solution (1% methylene blue solution)  and Subjected to Pressure or  Vacuum Varianc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3. Microbial Challenge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ainers are Immersed in a Microbial Suspension (Pressure Differential) or Containers are Subjected to a Microbial Aeroso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ubat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.B.: Container Contents Must Support Microbial Grow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4. 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s are placed in a chamber and subjected to a charged aerosolized dus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units are removed from the chamber and examined for dust e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mbrane filtration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rect transfer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roduct flush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3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mbrane filtration sterility tes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organisms will be collected on the surface of a 0.45 micron pore size filte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shing the filters with fluids to remove inhibitory properties  (Bacteriostatic / Fungistatic propertie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filter is segmented and transferred to appropriate med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luid thioglycollate medium (FTM): support the growth of anaerobic and aerobic microorganis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ybean casein digest medium (SCDM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upport a wide range of aerobic bacteria and fungi (i.e. yeasts and mold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ncubation time is 7 day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8000" y="1197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2. Direct transfer sterility testing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 of choice for medical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est article is completely immersed in the test med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immersion recommended: 2500 mL Max. Vol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ransferring, the samples are incubated for 14 d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3. Product flush 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ommended for transfusion and infusion assemblies that indicate a sterile fluid pathway that cannot be cu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oducts are flushed with flu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elute is membrane filtere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filter is placed into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s method is not generally us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uman Cell-Based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35480" indent="-735480" algn="ctr">
              <a:lnSpc>
                <a:spcPct val="13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abbits show a physiological response to pyrogen similar to humans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Not valid for products that could mask the test by having a physiological effect on the rabbit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3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ethod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roups of three healthy, mature rabbits are chose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urate thermometers are inserted into the rectum of the rabbits to record their body temperature (control temp 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 solutions are warmed to 37 C prior to injection and then injecte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abbit temperatures are recorded at 30 min intervals between 1  and 3 h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7:11:25Z</dcterms:created>
  <dc:creator>USER</dc:creator>
  <dc:description/>
  <dc:language>en-US</dc:language>
  <cp:lastModifiedBy>User</cp:lastModifiedBy>
  <dcterms:modified xsi:type="dcterms:W3CDTF">2011-11-27T07:28:26Z</dcterms:modified>
  <cp:revision>16</cp:revision>
  <dc:subject/>
  <dc:title>PHT 434</dc:title>
</cp:coreProperties>
</file>