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333080" y="810720"/>
            <a:ext cx="4343400" cy="3257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68040" y="4406400"/>
            <a:ext cx="5086440" cy="391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333440" y="8110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68040" y="4406400"/>
            <a:ext cx="5086440" cy="391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problem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ing Part number DR93? – Need to update 2 r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nsistent data? Any problem if I add new row for the Part DR93, but the description is Gas Iron, or miss-spill the correct descrip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leting row? What if you delete the order #21608 what will happen for the part AT94, will get deleted as well  (loss inform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rt new part number but without any order details? Can you do tha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so many problem with this tables?? We need to make it in the second normal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333440" y="8110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68040" y="4406400"/>
            <a:ext cx="5086440" cy="391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lation is in second normal form (2NF) if it is in 1NF and no nonkey attribute is dependent on only a portion of the primary ke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r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nonkey attributes are functionally dependent on the entire primary 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3A4B1-2C36-4DA5-AB22-702F49435B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AEF0C-0C57-433C-9B77-D977B6081F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AFE1C-D9B4-4E19-93F3-8AA0E28C45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BAA7C-EF01-4784-A2A5-5EDACA0F06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9C97F-703E-443A-95A6-A99D7E41859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89BDB-5336-4768-827D-3EA7DC84AF2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0442B-0A7B-4C4A-ACED-152732521E8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DEDCC-03DF-4911-8ED3-90E258D1355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A4432-E1D6-4ABD-9667-618505D3CF2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D3CE2-C252-4388-B5D7-64EBF5225E8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C63BD-4343-47BE-829E-19E28E1902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83749-F086-4968-BAD2-50280B4A2E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DD99A-DB76-4674-819F-B7FCEB7AB31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20707-44DC-489C-8F94-9C491F9E773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30E09-7EBE-4913-A107-4DD0580DAAD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DC71C-75AE-4C33-85B9-972F44DDF4C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C9259-C006-4844-8623-E8AB5F92D5E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C2D7-3358-43A1-BB11-D9764F95CEA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A1EA-1D38-4E2B-A399-C84E204C967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3906-B54D-4F1C-8FB2-44A2A65C7BD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3071-EB02-4ED2-B095-C71115A5B55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BC72-B86F-4EAB-97B8-D5CCE75182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C362D-83A0-4EA2-9F03-176B43E91B5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8CF9-2144-42C9-A122-6FC5C6DF3C2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02C6-343C-4289-B755-4347A9E9AFF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A4CA-FFB4-48D9-9BDC-D889CD6B61C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4623-D8B0-4293-9E4C-6DE8CD6336D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52EB-7C52-4915-8F1C-ADF224313B8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28CF-7155-425E-9582-ECE6A10075D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B98E-F94D-49DA-8669-B60F6197B32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0D9463-B529-4FF5-8D5E-EFAF29808AB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140714-79E0-4538-ADDE-9CEF9106FEE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C3A868-721E-43A6-A956-AEE2223F4F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00847-B26B-40B8-A37D-B8C586E1FAD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E5C409-66FF-4EF1-B953-1ED61100502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9612DA-061B-47A3-8A1D-5DC26A03D70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40EF2F-34C0-4CD4-8A44-869A55A54B7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97C1BD-31B0-49B0-A059-830349037CC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4D9C91-F6B2-4D52-A73E-653CE82B412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AD7621-0324-4EC4-A6A1-C9287441233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BC9543-35B7-4614-8958-D610D2644E2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E521D3-17CC-4533-B66C-B0F1917FC12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D4A8F7-FFD0-4EB4-9F67-AFAE87F7BF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DC77D-2091-4144-91C3-CA87545392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71C85-9501-4E64-BABD-E5E70B7D2A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7C70D-8BC9-4A8F-BD31-A6CE7F3E5E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84FB5-10FB-4A47-AEAB-31B4F3789B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6C72C-7044-4932-8CE5-7CD73520D7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63B6A-A85E-429D-A08B-8A79D3F924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2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19C5F-0C1A-4BF8-BBA3-89737F26E6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8A177-882E-48F0-A5C5-96D0EE40F8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EC905-E218-4155-B580-1161BCE12CF9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c6c6c"/>
            </a:gs>
            <a:gs pos="50000">
              <a:srgbClr val="eaeaea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Line 2"/>
          <p:cNvSpPr/>
          <p:nvPr/>
        </p:nvSpPr>
        <p:spPr>
          <a:xfrm>
            <a:off x="27000" y="3429000"/>
            <a:ext cx="797400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Times New Roman"/>
              </a:rPr>
              <a:t>Chapter 14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Normalization – Part II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96BBD-DFF0-4FE9-854F-B06DC1DD8068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Times New Roman"/>
              </a:rPr>
              <a:t>UNF to 1NF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8000" y="1676520"/>
            <a:ext cx="8294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Nominate an attribute or group of attributes to act as the key for the unnormalized tabl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dentify the repeating group(s) in the unnormalized table which repeats for the key attribute(s)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Text Box 1028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53931-2DA4-40D4-9E99-6D24FE118C24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0aff"/>
                </a:solidFill>
                <a:latin typeface="Times New Roman"/>
              </a:rPr>
              <a:t>UNF to 1NF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79280" y="1676520"/>
            <a:ext cx="77774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Remove the repeating group by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1- ‘flattening’ the table: Entering appropriate data into the empty columns of rows containing the repeating data. Primary key becomes the combination of primary key and redundant value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isadvantage: </a:t>
            </a: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introduce redundancy in the   relatio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41AB5-1E2E-49FE-90B6-144F091C2E8F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a0aff"/>
                </a:solidFill>
                <a:latin typeface="Times New Roman"/>
              </a:rPr>
              <a:t>UNF to 1NF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187280" y="2021040"/>
          <a:ext cx="6624720" cy="3855960"/>
        </p:xfrm>
        <a:graphic>
          <a:graphicData uri="http://schemas.openxmlformats.org/drawingml/2006/table">
            <a:tbl>
              <a:tblPr/>
              <a:tblGrid>
                <a:gridCol w="936720"/>
                <a:gridCol w="1008000"/>
                <a:gridCol w="863640"/>
                <a:gridCol w="1468440"/>
                <a:gridCol w="1051200"/>
                <a:gridCol w="1296720"/>
              </a:tblGrid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ORDER_NUM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ORDER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_DATE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PART_NUM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DESCRIPTION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NUM_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ORDER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QUOTED_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PRICE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08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0/20/201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AT9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Iron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.95$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1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0/20/201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DR9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Gas Range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495.00$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1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0/20/201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DW1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Washer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399.99$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1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0/21/201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KL6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Dryer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329.95$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1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0/21/201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KT0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Dishwasher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595.00$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17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0/23/201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BV06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Home Gym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2.95$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17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0/23/201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CD5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Microwave Oven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50.00$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19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0/23/201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DR9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Gas Range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495.00$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2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0/23/201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KV29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Treadmill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325.99$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</a:tr>
            </a:tbl>
          </a:graphicData>
        </a:graphic>
      </p:graphicFrame>
      <p:sp>
        <p:nvSpPr>
          <p:cNvPr id="224" name="TextBox 6"/>
          <p:cNvSpPr/>
          <p:nvPr/>
        </p:nvSpPr>
        <p:spPr>
          <a:xfrm>
            <a:off x="1279440" y="5919840"/>
            <a:ext cx="630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Order data convert to first normal form by flatti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1187280" y="1557360"/>
            <a:ext cx="3535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Order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740EB-4D48-4623-B5AA-437F249C873F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0aff"/>
                </a:solidFill>
                <a:latin typeface="Times New Roman"/>
              </a:rPr>
              <a:t>UNF to 1NF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79280" y="1676520"/>
            <a:ext cx="77774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Remove the repeating group by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2- By placing the repeating data, along with a copy of the original key attribute(s), in separate relation. The Primary key for the new relation is the combination of original primary key and redundant value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1853B-F941-4B66-8FC5-43D61CE13084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a0aff"/>
                </a:solidFill>
                <a:latin typeface="Times New Roman"/>
              </a:rPr>
              <a:t>UNF to 1NF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2" name="TextBox 6"/>
          <p:cNvSpPr/>
          <p:nvPr/>
        </p:nvSpPr>
        <p:spPr>
          <a:xfrm>
            <a:off x="1278720" y="5919840"/>
            <a:ext cx="62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Order data convert to first normal form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y </a:t>
            </a: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placing the repeating data, in separate relation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468360" y="1844640"/>
            <a:ext cx="35337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Order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68360" y="2276640"/>
          <a:ext cx="1944720" cy="3062160"/>
        </p:xfrm>
        <a:graphic>
          <a:graphicData uri="http://schemas.openxmlformats.org/drawingml/2006/table">
            <a:tbl>
              <a:tblPr/>
              <a:tblGrid>
                <a:gridCol w="936720"/>
                <a:gridCol w="1008000"/>
              </a:tblGrid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ORDER_NUM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ORDER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_DATE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08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0/20/201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351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1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0/20/201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1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0/21/201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1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0/21/201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339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17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0/23/201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19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0/23/201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2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0/23/201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2916360" y="1989000"/>
          <a:ext cx="5616360" cy="3856320"/>
        </p:xfrm>
        <a:graphic>
          <a:graphicData uri="http://schemas.openxmlformats.org/drawingml/2006/table">
            <a:tbl>
              <a:tblPr/>
              <a:tblGrid>
                <a:gridCol w="936360"/>
                <a:gridCol w="863640"/>
                <a:gridCol w="1468440"/>
                <a:gridCol w="1051200"/>
                <a:gridCol w="1296720"/>
              </a:tblGrid>
              <a:tr h="517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ORDER_NUM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PART_NUM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DESCRIPTION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NUM_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ORDER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QUOTED_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PRICE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08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AT9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Iron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.95$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1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DR9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Gas Range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495.00$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1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DW1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Washer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399.99$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1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KL6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Dryer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329.95$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1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KT0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Dishwasher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595.00$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17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BV06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Home Gym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2.95$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17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CD5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Microwave Oven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50.00$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19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DR9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Gas Range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495.00$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2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KV29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Treadmill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325.99$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</a:tr>
            </a:tbl>
          </a:graphicData>
        </a:graphic>
      </p:graphicFrame>
      <p:sp>
        <p:nvSpPr>
          <p:cNvPr id="236" name="Rectangle 5"/>
          <p:cNvSpPr/>
          <p:nvPr/>
        </p:nvSpPr>
        <p:spPr>
          <a:xfrm>
            <a:off x="2916360" y="1484280"/>
            <a:ext cx="35337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Order_Part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5DDD5-EE0A-47EA-94B7-A16FCD480A94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Second Normal Form (2NF)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Based on the concept of </a:t>
            </a:r>
            <a:r>
              <a:rPr b="1" lang="en-GB" sz="2800" spc="-1" strike="noStrike" u="sng">
                <a:solidFill>
                  <a:srgbClr val="000066"/>
                </a:solidFill>
                <a:uFillTx/>
                <a:latin typeface="Times New Roman"/>
              </a:rPr>
              <a:t>full functional dependency and composite PK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Full functional dependency indicates that if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 and B are attributes of a relation,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B is fully dependent on A if B is functionally dependent on A but not on any proper subset of A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D9BB5-50C3-435F-A8BB-076AC82A01E5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Second Normal Form (2NF)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 relation that is in 1NF and every non-primary-key attribute is fully functionally dependent on the primary key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lide Number Placeholder 3"/>
          <p:cNvSpPr/>
          <p:nvPr/>
        </p:nvSpPr>
        <p:spPr>
          <a:xfrm>
            <a:off x="8286840" y="6245280"/>
            <a:ext cx="399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D8105-D906-45B4-B718-4A3FE6462AC0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0aff"/>
                </a:solidFill>
                <a:latin typeface="Times New Roman"/>
              </a:rPr>
              <a:t>Second Normal Form (2NF)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428760" y="5429160"/>
            <a:ext cx="767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s this Table in First Normal Form? (any repeating groups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s this table in the Second Normal Form? (what is the PK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1042920" y="1484280"/>
          <a:ext cx="6624720" cy="3855960"/>
        </p:xfrm>
        <a:graphic>
          <a:graphicData uri="http://schemas.openxmlformats.org/drawingml/2006/table">
            <a:tbl>
              <a:tblPr/>
              <a:tblGrid>
                <a:gridCol w="936720"/>
                <a:gridCol w="1008000"/>
                <a:gridCol w="863640"/>
                <a:gridCol w="1468440"/>
                <a:gridCol w="1050840"/>
                <a:gridCol w="1297080"/>
              </a:tblGrid>
              <a:tr h="517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ORDER_NUM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ORDER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_DATE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PART_NUM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DESCRIPTION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NUM_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ORDER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QUOTED_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PRICE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08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0/20/201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AT9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Iron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.95$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1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0/20/201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DR9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Gas Range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495.00$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1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0/20/201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DW1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Washer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399.99$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1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0/21/201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KL6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Dryer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329.95$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1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0/21/201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KT0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Dishwasher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595.00$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17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0/23/201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BV06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Home Gym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2.95$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17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0/23/201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CD5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Microwave Oven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50.00$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19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0/23/201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DR9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Gas Range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495.00$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2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0/23/201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KV29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Treadmill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325.99$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0aff"/>
                </a:solidFill>
                <a:latin typeface="Times New Roman"/>
              </a:rPr>
              <a:t>Second Normal Form (2NF)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250920" y="162864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ORDERS (ORDER_NUM, ORDER_DATE, PART_NUM, DESCRPTION, NUM_ORDERED, QUOTED_PRICE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t contains the following functional dependencies: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ORDER_NUM</a:t>
            </a: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ORDER_DAT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ART_NUM   </a:t>
            </a: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DESCRP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ORDER_NUM, PART_NUM  </a:t>
            </a: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NUM_ORDERED , QUOTED_PRICE , ORDER_DATE , DESCRP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Slide Number Placeholder 2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4C77B-E71E-42C1-B9D7-0899D7FB5179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CDE10-086F-429A-9E35-5A505FD570CE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1NF to 2NF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dentify the primary key for the 1NF relatio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dentify the functional dependencies in the relatio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f </a:t>
            </a:r>
            <a:r>
              <a:rPr b="1" lang="en-GB" sz="2800" spc="-1" strike="noStrike" u="sng">
                <a:solidFill>
                  <a:srgbClr val="000066"/>
                </a:solidFill>
                <a:uFillTx/>
                <a:latin typeface="Times New Roman"/>
              </a:rPr>
              <a:t>partial dependencies 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exist on the primary key remove them by placing them in a new relation along with a copy of their determinant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 1NF relation with a primary key that is a single field is in 2NF automaticall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6898F-3156-4441-95A5-D645137DBABC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The Process of Normalization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0040" y="1557000"/>
            <a:ext cx="8104320" cy="460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Normalization is a formal technique for analyzing relations based on their primary key (or candidate key) and functional dependenci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Normalization executed as a series of steps.  As normalization proceeds, the relations become progressively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more restricted (stronger) in format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less vulnerable to update anomali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a0aff"/>
                </a:solidFill>
                <a:latin typeface="Times New Roman"/>
              </a:rPr>
              <a:t>1NF to 2NF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f partial dependencies exist on the primary key remove them by placing them in a new relation along with a copy of their determinant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( ORDER_NUM,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(PART_NUM,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(ORDER_NUM, PART_NUM,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How to complete the above relations??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C0076-425D-4A6C-A679-ECB3B5274CFA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0aff"/>
                </a:solidFill>
                <a:latin typeface="Times New Roman"/>
              </a:rPr>
              <a:t>Second Normal Form (2NF)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81080" y="16765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575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66"/>
                </a:solidFill>
                <a:latin typeface="Times New Roman"/>
              </a:rPr>
              <a:t>( </a:t>
            </a:r>
            <a:r>
              <a:rPr b="0" lang="en-US" sz="2300" spc="-1" strike="noStrike" u="sng">
                <a:solidFill>
                  <a:srgbClr val="000066"/>
                </a:solidFill>
                <a:uFillTx/>
                <a:latin typeface="Times New Roman"/>
              </a:rPr>
              <a:t>ORDER_NUM</a:t>
            </a:r>
            <a:r>
              <a:rPr b="0" lang="en-US" sz="2300" spc="-1" strike="noStrike">
                <a:solidFill>
                  <a:srgbClr val="000066"/>
                </a:solidFill>
                <a:latin typeface="Times New Roman"/>
              </a:rPr>
              <a:t>, ORDER_DATE)</a:t>
            </a:r>
            <a:endParaRPr b="0" lang="en-US" sz="23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lang="en-US" sz="2300" spc="-1" strike="noStrike" u="sng">
                <a:solidFill>
                  <a:srgbClr val="000066"/>
                </a:solidFill>
                <a:uFillTx/>
                <a:latin typeface="Times New Roman"/>
              </a:rPr>
              <a:t>PART_NUM</a:t>
            </a:r>
            <a:r>
              <a:rPr b="0" lang="en-US" sz="2300" spc="-1" strike="noStrike">
                <a:solidFill>
                  <a:srgbClr val="000066"/>
                </a:solidFill>
                <a:latin typeface="Times New Roman"/>
              </a:rPr>
              <a:t>, DESCRIPTION)</a:t>
            </a:r>
            <a:endParaRPr b="0" lang="en-US" sz="23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lang="en-US" sz="2300" spc="-1" strike="noStrike" u="sng">
                <a:solidFill>
                  <a:srgbClr val="000066"/>
                </a:solidFill>
                <a:uFillTx/>
                <a:latin typeface="Times New Roman"/>
              </a:rPr>
              <a:t>ORDER_NUM, PART_NUM, </a:t>
            </a:r>
            <a:r>
              <a:rPr b="0" lang="en-US" sz="2300" spc="-1" strike="noStrike">
                <a:solidFill>
                  <a:srgbClr val="000066"/>
                </a:solidFill>
                <a:latin typeface="Times New Roman"/>
              </a:rPr>
              <a:t>NUM_ORDERED, QUOTED_PRICE)</a:t>
            </a:r>
            <a:endParaRPr b="0" lang="en-US" sz="23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090FC-0533-41CE-88BE-C96A0039DA33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a0aff"/>
                </a:solidFill>
                <a:latin typeface="Times New Roman"/>
              </a:rPr>
              <a:t>1NF to 2NF</a:t>
            </a:r>
            <a:endParaRPr b="0" lang="en-US" sz="36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971640" y="765000"/>
          <a:ext cx="6264360" cy="2759400"/>
        </p:xfrm>
        <a:graphic>
          <a:graphicData uri="http://schemas.openxmlformats.org/drawingml/2006/table">
            <a:tbl>
              <a:tblPr/>
              <a:tblGrid>
                <a:gridCol w="885600"/>
                <a:gridCol w="952560"/>
                <a:gridCol w="817560"/>
                <a:gridCol w="1389240"/>
                <a:gridCol w="993600"/>
                <a:gridCol w="1225800"/>
              </a:tblGrid>
              <a:tr h="426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ORDER_NUM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ORDER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_DATE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PART_NUM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DESCRIPTION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NUM_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ORDERD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QUOTED_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PRICE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08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0/20/2010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AT94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Iron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.95$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10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0/20/2010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DR93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Gas Range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495.00$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10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0/20/2010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DW11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Washer 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399.99$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13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0/21/2010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KL62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Dryer 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329.95$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14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0/21/2010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KT03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Dishwasher 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595.00$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17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0/23/2010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BV06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Home Gym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2.95$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17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0/23/2010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CD52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Microwave Oven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50.00$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19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0/23/2010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DR93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Gas Range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495.00$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23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0/23/2010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KV29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Treadmill 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325.99$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395280" y="3997440"/>
          <a:ext cx="1728720" cy="2239920"/>
        </p:xfrm>
        <a:graphic>
          <a:graphicData uri="http://schemas.openxmlformats.org/drawingml/2006/table">
            <a:tbl>
              <a:tblPr/>
              <a:tblGrid>
                <a:gridCol w="792000"/>
                <a:gridCol w="936720"/>
              </a:tblGrid>
              <a:tr h="426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ORDER_NUM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ORDER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_DATE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08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0/20/2010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10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0/20/2010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13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0/21/2010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14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0/21/2010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17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0/23/2010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19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0/23/2010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23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0/23/2010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5003640" y="3983040"/>
          <a:ext cx="3775320" cy="2759040"/>
        </p:xfrm>
        <a:graphic>
          <a:graphicData uri="http://schemas.openxmlformats.org/drawingml/2006/table">
            <a:tbl>
              <a:tblPr/>
              <a:tblGrid>
                <a:gridCol w="852480"/>
                <a:gridCol w="785880"/>
                <a:gridCol w="957240"/>
                <a:gridCol w="1179720"/>
              </a:tblGrid>
              <a:tr h="426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ORDER_NUM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PART_NUM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NUM_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ORDERD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QUOTED_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PRICE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08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AT94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.95$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10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DR93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495.00$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10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DW11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399.99$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13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KL62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329.95$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14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KT03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595.00$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17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BV06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2.95$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17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CD52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50.00$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19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DR93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495.00$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23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KV29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325.99$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2521080" y="3983040"/>
          <a:ext cx="2124000" cy="2759040"/>
        </p:xfrm>
        <a:graphic>
          <a:graphicData uri="http://schemas.openxmlformats.org/drawingml/2006/table">
            <a:tbl>
              <a:tblPr/>
              <a:tblGrid>
                <a:gridCol w="787320"/>
                <a:gridCol w="1336680"/>
              </a:tblGrid>
              <a:tr h="426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PART_NUM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DESCRIPTION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AT94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Iron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DR93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Gas Range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DW11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Washer 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KL62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Dryer 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KT03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Dishwasher 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BV06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Home Gym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CD52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Microwave Oven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KV29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Treadmill 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</a:tr>
            </a:tbl>
          </a:graphicData>
        </a:graphic>
      </p:graphicFrame>
      <p:sp>
        <p:nvSpPr>
          <p:cNvPr id="267" name="Right Bracket 10"/>
          <p:cNvSpPr/>
          <p:nvPr/>
        </p:nvSpPr>
        <p:spPr>
          <a:xfrm rot="5400000">
            <a:off x="4103640" y="80640"/>
            <a:ext cx="216000" cy="6912000"/>
          </a:xfrm>
          <a:custGeom>
            <a:avLst/>
            <a:gdLst>
              <a:gd name="textAreaLeft" fmla="*/ 0 w 216000"/>
              <a:gd name="textAreaRight" fmla="*/ 151560 w 216000"/>
              <a:gd name="textAreaTop" fmla="*/ 8640 h 6912000"/>
              <a:gd name="textAreaBottom" fmla="*/ 6903360 h 691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8"/>
                  <a:pt x="21600" y="56"/>
                </a:cubicBezTo>
                <a:lnTo>
                  <a:pt x="21600" y="21544"/>
                </a:lnTo>
                <a:cubicBezTo>
                  <a:pt x="21600" y="21572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68" name="Straight Arrow Connector 12"/>
          <p:cNvCxnSpPr/>
          <p:nvPr/>
        </p:nvCxnSpPr>
        <p:spPr>
          <a:xfrm flipH="1">
            <a:off x="1907640" y="3645000"/>
            <a:ext cx="1728000" cy="289440"/>
          </a:xfrm>
          <a:prstGeom prst="straightConnector1">
            <a:avLst/>
          </a:prstGeom>
          <a:ln w="12600">
            <a:solidFill>
              <a:srgbClr val="990000"/>
            </a:solidFill>
            <a:miter/>
            <a:tailEnd len="med" type="arrow" w="med"/>
          </a:ln>
        </p:spPr>
      </p:cxnSp>
      <p:cxnSp>
        <p:nvCxnSpPr>
          <p:cNvPr id="269" name="Straight Arrow Connector 13"/>
          <p:cNvCxnSpPr/>
          <p:nvPr/>
        </p:nvCxnSpPr>
        <p:spPr>
          <a:xfrm>
            <a:off x="3635280" y="3645000"/>
            <a:ext cx="2882160" cy="289440"/>
          </a:xfrm>
          <a:prstGeom prst="straightConnector1">
            <a:avLst/>
          </a:prstGeom>
          <a:ln w="12600">
            <a:solidFill>
              <a:srgbClr val="990000"/>
            </a:solidFill>
            <a:miter/>
            <a:tailEnd len="med" type="arrow" w="med"/>
          </a:ln>
        </p:spPr>
      </p:cxnSp>
      <p:cxnSp>
        <p:nvCxnSpPr>
          <p:cNvPr id="270" name="Straight Arrow Connector 14"/>
          <p:cNvCxnSpPr/>
          <p:nvPr/>
        </p:nvCxnSpPr>
        <p:spPr>
          <a:xfrm>
            <a:off x="3634920" y="3645000"/>
            <a:ext cx="1080" cy="289440"/>
          </a:xfrm>
          <a:prstGeom prst="straightConnector1">
            <a:avLst/>
          </a:prstGeom>
          <a:ln w="12600">
            <a:solidFill>
              <a:srgbClr val="99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AE617-4C44-4016-906A-DF53C123D499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Third Normal Form (3NF)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Based on the concept of </a:t>
            </a:r>
            <a:r>
              <a:rPr b="1" lang="en-GB" sz="2800" spc="-1" strike="noStrike" u="sng">
                <a:solidFill>
                  <a:srgbClr val="000066"/>
                </a:solidFill>
                <a:uFillTx/>
                <a:latin typeface="Times New Roman"/>
              </a:rPr>
              <a:t>transitive dependency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Transitive Dependency is a condition where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, B and C are attributes of a relation such that if A </a:t>
            </a:r>
            <a:r>
              <a:rPr b="1" lang="en-GB" sz="2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B and B </a:t>
            </a:r>
            <a:r>
              <a:rPr b="1" lang="en-GB" sz="2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C,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then C is transitively dependent on A through B.  (Provided that A is not functionally dependent on B or C)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C7DF-A4D8-416B-8CD4-2FDB29A15C3E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Third Normal Form (3NF)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 relation that is in 1NF and 2NF and in which no non-primary-key attribute is transitively dependent on the primary key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Third Normal Form (3NF)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80" name="Picture 5" descr="Fig02-11"/>
          <p:cNvPicPr/>
          <p:nvPr/>
        </p:nvPicPr>
        <p:blipFill>
          <a:blip r:embed="rId1"/>
          <a:stretch/>
        </p:blipFill>
        <p:spPr>
          <a:xfrm>
            <a:off x="1571760" y="1600200"/>
            <a:ext cx="5735520" cy="340992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6"/>
          <p:cNvSpPr/>
          <p:nvPr/>
        </p:nvSpPr>
        <p:spPr>
          <a:xfrm>
            <a:off x="305640" y="5286240"/>
            <a:ext cx="52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s this table in Second Normal Form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oes it have any functional dependency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Third Normal Form (3NF)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11280" y="1676520"/>
            <a:ext cx="8151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USTOMER (CUSTOMER_NUM, CUSTOMER_NAME, BALANCE, CREDIT_LIMIT, REP_NUM, LAST_NAME, FIRST_NAME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unctional dependencies: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66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CUSTOMER_NUM        CUSTOMER_NAME, BALANCE, CREDIT_LIMIT, REP_NUM, LAST_NAME, FIRST_NAM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66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REP_NUM              LAST_NAME, FIRST_NAM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Slide Number Placeholder 2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0824D-C990-46F1-A750-B309898E01AD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85" name="Straight Arrow Connector 5"/>
          <p:cNvCxnSpPr/>
          <p:nvPr/>
        </p:nvCxnSpPr>
        <p:spPr>
          <a:xfrm>
            <a:off x="3995280" y="4149720"/>
            <a:ext cx="500760" cy="2160"/>
          </a:xfrm>
          <a:prstGeom prst="straightConnector1">
            <a:avLst/>
          </a:prstGeom>
          <a:ln w="1260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286" name="Straight Arrow Connector 7"/>
          <p:cNvCxnSpPr/>
          <p:nvPr/>
        </p:nvCxnSpPr>
        <p:spPr>
          <a:xfrm>
            <a:off x="3131640" y="4857840"/>
            <a:ext cx="715320" cy="2160"/>
          </a:xfrm>
          <a:prstGeom prst="straightConnector1">
            <a:avLst/>
          </a:prstGeom>
          <a:ln w="12600">
            <a:solidFill>
              <a:srgbClr val="0000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B106A-0208-469B-B62B-7207388B4F10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2NF to 3NF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dentify the primary key in the 2NF relatio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dentify functional dependencies in the relatio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f </a:t>
            </a:r>
            <a:r>
              <a:rPr b="1" lang="en-GB" sz="2800" spc="-1" strike="noStrike" u="sng">
                <a:solidFill>
                  <a:srgbClr val="000066"/>
                </a:solidFill>
                <a:uFillTx/>
                <a:latin typeface="Times New Roman"/>
              </a:rPr>
              <a:t>transitive dependencies 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exist on the primary key remove them by placing them in a new relation along with a copy of their dominant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The Primary key for the new relation is the determinant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B2B83-DFCC-43FA-B613-19688727FD68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92" name="Picture 5" descr="Fig02-12"/>
          <p:cNvPicPr/>
          <p:nvPr/>
        </p:nvPicPr>
        <p:blipFill>
          <a:blip r:embed="rId1"/>
          <a:stretch/>
        </p:blipFill>
        <p:spPr>
          <a:xfrm>
            <a:off x="2057400" y="1066680"/>
            <a:ext cx="5268960" cy="532296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Third Normal Form (continued)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8B6E6-76C8-40F9-AE71-535B9ADEB512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Third Normal Form (3NF)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6" name="Rectangle 1"/>
          <p:cNvSpPr/>
          <p:nvPr/>
        </p:nvSpPr>
        <p:spPr>
          <a:xfrm>
            <a:off x="395280" y="2274840"/>
            <a:ext cx="8748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CUSTOMER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Times New Roman"/>
              </a:rPr>
              <a:t>CUSTOMER_NUM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, CUSTOMER_NAME, BALANCE, CREDIT_LIMIT, REP_NUM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REP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Times New Roman"/>
              </a:rPr>
              <a:t>REP_NUM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, LAST_NAME, FIRST_NAME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Times New Roman"/>
              </a:rPr>
              <a:t>The Process of Normalization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971640" y="1483920"/>
            <a:ext cx="763272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Normalization is performed as a series of tests on a relation to determine whether it satisfies or violates the requirements of a given normal form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or relational data model, it is important to recognize that it is only First Normal Form (1NF) that is critical in creating relations, all subsequent normal forms are optional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E1336-EA84-4FB1-B3A7-91BA69759645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Slide Number Placeholder 5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B47F0-E23C-453B-9163-0BA477305BD5}" type="slidenum">
              <a:rPr b="0" lang="ar-SA" sz="12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0aff"/>
                </a:solidFill>
                <a:latin typeface="Times New Roman"/>
              </a:rPr>
              <a:t>Review of Decomposition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9" name="Text Box 11"/>
          <p:cNvSpPr/>
          <p:nvPr/>
        </p:nvSpPr>
        <p:spPr>
          <a:xfrm>
            <a:off x="3244680" y="1695600"/>
            <a:ext cx="1998720" cy="3682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Order (Approach 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Text Box 29"/>
          <p:cNvSpPr/>
          <p:nvPr/>
        </p:nvSpPr>
        <p:spPr>
          <a:xfrm>
            <a:off x="955800" y="4805280"/>
            <a:ext cx="1211040" cy="3682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Order_da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Text Box 38"/>
          <p:cNvSpPr/>
          <p:nvPr/>
        </p:nvSpPr>
        <p:spPr>
          <a:xfrm>
            <a:off x="3082680" y="4805280"/>
            <a:ext cx="549360" cy="3682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Par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Text Box 55"/>
          <p:cNvSpPr/>
          <p:nvPr/>
        </p:nvSpPr>
        <p:spPr>
          <a:xfrm>
            <a:off x="6231960" y="4791240"/>
            <a:ext cx="1070640" cy="3682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Custom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Text Box 64"/>
          <p:cNvSpPr/>
          <p:nvPr/>
        </p:nvSpPr>
        <p:spPr>
          <a:xfrm>
            <a:off x="8483400" y="4805280"/>
            <a:ext cx="549360" cy="3682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Re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Text Box 65"/>
          <p:cNvSpPr/>
          <p:nvPr/>
        </p:nvSpPr>
        <p:spPr>
          <a:xfrm>
            <a:off x="7241760" y="3348000"/>
            <a:ext cx="1070640" cy="3682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Custom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Line 66"/>
          <p:cNvSpPr/>
          <p:nvPr/>
        </p:nvSpPr>
        <p:spPr>
          <a:xfrm>
            <a:off x="1371600" y="2581200"/>
            <a:ext cx="3992400" cy="972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Line 68"/>
          <p:cNvSpPr/>
          <p:nvPr/>
        </p:nvSpPr>
        <p:spPr>
          <a:xfrm>
            <a:off x="3429000" y="3336840"/>
            <a:ext cx="0" cy="14637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Line 69"/>
          <p:cNvSpPr/>
          <p:nvPr/>
        </p:nvSpPr>
        <p:spPr>
          <a:xfrm>
            <a:off x="5364000" y="2581200"/>
            <a:ext cx="0" cy="63972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Line 70"/>
          <p:cNvSpPr/>
          <p:nvPr/>
        </p:nvSpPr>
        <p:spPr>
          <a:xfrm flipV="1">
            <a:off x="4149720" y="2200320"/>
            <a:ext cx="0" cy="38088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Line 71"/>
          <p:cNvSpPr/>
          <p:nvPr/>
        </p:nvSpPr>
        <p:spPr>
          <a:xfrm>
            <a:off x="6767640" y="4334040"/>
            <a:ext cx="197964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Line 72"/>
          <p:cNvSpPr/>
          <p:nvPr/>
        </p:nvSpPr>
        <p:spPr>
          <a:xfrm flipV="1">
            <a:off x="7738920" y="3784680"/>
            <a:ext cx="0" cy="54936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Line 73"/>
          <p:cNvSpPr/>
          <p:nvPr/>
        </p:nvSpPr>
        <p:spPr>
          <a:xfrm>
            <a:off x="6804000" y="4334040"/>
            <a:ext cx="0" cy="38088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Line 74"/>
          <p:cNvSpPr/>
          <p:nvPr/>
        </p:nvSpPr>
        <p:spPr>
          <a:xfrm>
            <a:off x="8747280" y="4334040"/>
            <a:ext cx="0" cy="38088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Text Box 76"/>
          <p:cNvSpPr/>
          <p:nvPr/>
        </p:nvSpPr>
        <p:spPr>
          <a:xfrm>
            <a:off x="113040" y="17413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N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Text Box 77"/>
          <p:cNvSpPr/>
          <p:nvPr/>
        </p:nvSpPr>
        <p:spPr>
          <a:xfrm>
            <a:off x="132120" y="32655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N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Text Box 78"/>
          <p:cNvSpPr/>
          <p:nvPr/>
        </p:nvSpPr>
        <p:spPr>
          <a:xfrm>
            <a:off x="132120" y="47894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3N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Text Box 38"/>
          <p:cNvSpPr/>
          <p:nvPr/>
        </p:nvSpPr>
        <p:spPr>
          <a:xfrm>
            <a:off x="3082680" y="3267000"/>
            <a:ext cx="549360" cy="368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Par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Line 68"/>
          <p:cNvSpPr/>
          <p:nvPr/>
        </p:nvSpPr>
        <p:spPr>
          <a:xfrm>
            <a:off x="3429000" y="2590920"/>
            <a:ext cx="0" cy="63972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Line 68"/>
          <p:cNvSpPr/>
          <p:nvPr/>
        </p:nvSpPr>
        <p:spPr>
          <a:xfrm>
            <a:off x="1371600" y="2590920"/>
            <a:ext cx="0" cy="63972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Line 68"/>
          <p:cNvSpPr/>
          <p:nvPr/>
        </p:nvSpPr>
        <p:spPr>
          <a:xfrm>
            <a:off x="1371600" y="3611520"/>
            <a:ext cx="0" cy="118908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Text Box 29"/>
          <p:cNvSpPr/>
          <p:nvPr/>
        </p:nvSpPr>
        <p:spPr>
          <a:xfrm>
            <a:off x="955800" y="3267000"/>
            <a:ext cx="1211040" cy="368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Order_da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Text Box 11"/>
          <p:cNvSpPr/>
          <p:nvPr/>
        </p:nvSpPr>
        <p:spPr>
          <a:xfrm>
            <a:off x="7170480" y="1700280"/>
            <a:ext cx="1070640" cy="3682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Custom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Line 73"/>
          <p:cNvSpPr/>
          <p:nvPr/>
        </p:nvSpPr>
        <p:spPr>
          <a:xfrm flipH="1">
            <a:off x="7705800" y="2200320"/>
            <a:ext cx="31680" cy="113652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Text Box 38"/>
          <p:cNvSpPr/>
          <p:nvPr/>
        </p:nvSpPr>
        <p:spPr>
          <a:xfrm>
            <a:off x="5027400" y="3284640"/>
            <a:ext cx="714240" cy="368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Ord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Text Box 38"/>
          <p:cNvSpPr/>
          <p:nvPr/>
        </p:nvSpPr>
        <p:spPr>
          <a:xfrm>
            <a:off x="5027400" y="4826160"/>
            <a:ext cx="714240" cy="3682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Ord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Line 68"/>
          <p:cNvSpPr/>
          <p:nvPr/>
        </p:nvSpPr>
        <p:spPr>
          <a:xfrm>
            <a:off x="5364000" y="3654360"/>
            <a:ext cx="9720" cy="11667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Example: DreamHome</a:t>
            </a:r>
            <a:br>
              <a:rPr sz="3200"/>
            </a:br>
            <a:r>
              <a:rPr b="0" i="1" lang="en-US" sz="2800" spc="-1" strike="noStrike">
                <a:solidFill>
                  <a:srgbClr val="000080"/>
                </a:solidFill>
                <a:latin typeface="Times New Roman"/>
              </a:rPr>
              <a:t>Collection of simplified DreamHome leases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E2A3B-6045-4F15-95A5-536A767E5260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28" name="Picture 2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626436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Example: DreamHome</a:t>
            </a:r>
            <a:br>
              <a:rPr sz="3200"/>
            </a:br>
            <a:r>
              <a:rPr b="0" i="1" lang="en-US" sz="2800" spc="-1" strike="noStrike">
                <a:solidFill>
                  <a:srgbClr val="000080"/>
                </a:solidFill>
                <a:latin typeface="Times New Roman"/>
              </a:rPr>
              <a:t>Unnormalized table (UNF)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D6753-823B-4207-859A-8CEA3A79EC2B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31" name="Picture 2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8251560" cy="3456000"/>
          </a:xfrm>
          <a:prstGeom prst="rect">
            <a:avLst/>
          </a:prstGeom>
          <a:ln w="0">
            <a:noFill/>
          </a:ln>
        </p:spPr>
      </p:pic>
      <p:sp>
        <p:nvSpPr>
          <p:cNvPr id="332" name="TextBox 4"/>
          <p:cNvSpPr/>
          <p:nvPr/>
        </p:nvSpPr>
        <p:spPr>
          <a:xfrm>
            <a:off x="539640" y="533412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Which is considered the key attribute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What are the repeating group of keys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Example: DreamHome</a:t>
            </a:r>
            <a:br>
              <a:rPr sz="3200"/>
            </a:br>
            <a:r>
              <a:rPr b="0" i="1" lang="en-US" sz="2800" spc="-1" strike="noStrike">
                <a:solidFill>
                  <a:srgbClr val="000080"/>
                </a:solidFill>
                <a:latin typeface="Times New Roman"/>
              </a:rPr>
              <a:t>UNF to 1NF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B7041-F962-4D41-906A-98E44CFF3BDB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35" name="Picture 2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84690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50560" y="266400"/>
            <a:ext cx="85690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Example: DreamHome</a:t>
            </a:r>
            <a:br>
              <a:rPr sz="3200"/>
            </a:br>
            <a:r>
              <a:rPr b="0" i="1" lang="en-US" sz="2800" spc="-1" strike="noStrike">
                <a:solidFill>
                  <a:srgbClr val="000080"/>
                </a:solidFill>
                <a:latin typeface="Times New Roman"/>
              </a:rPr>
              <a:t>Alternative 1NF relation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5783B-3415-4DAC-9FD1-AA815E0B6C2D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61920" y="1484280"/>
            <a:ext cx="9020160" cy="41054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"/>
          <p:cNvPicPr/>
          <p:nvPr/>
        </p:nvPicPr>
        <p:blipFill>
          <a:blip r:embed="rId2"/>
          <a:stretch/>
        </p:blipFill>
        <p:spPr>
          <a:xfrm>
            <a:off x="611280" y="5692680"/>
            <a:ext cx="771516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Example: DreamHome</a:t>
            </a:r>
            <a:br>
              <a:rPr sz="3200"/>
            </a:br>
            <a:r>
              <a:rPr b="0" i="1" lang="en-US" sz="2800" spc="-1" strike="noStrike">
                <a:solidFill>
                  <a:srgbClr val="000080"/>
                </a:solidFill>
                <a:latin typeface="Times New Roman"/>
              </a:rPr>
              <a:t>Functional dependencies of the 1NF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DD1CF-96CB-4F13-83DD-8D81ECC86720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42" name="Picture 2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842472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Example: DreamHome</a:t>
            </a:r>
            <a:br>
              <a:rPr sz="3200"/>
            </a:br>
            <a:r>
              <a:rPr b="0" i="1" lang="en-US" sz="3200" spc="-1" strike="noStrike">
                <a:solidFill>
                  <a:srgbClr val="000080"/>
                </a:solidFill>
                <a:latin typeface="Times New Roman"/>
              </a:rPr>
              <a:t>Functional dependencies of the 1NF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AC50A-57FB-4E85-89F2-C614F81F9D17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1"/>
          <a:stretch/>
        </p:blipFill>
        <p:spPr>
          <a:xfrm>
            <a:off x="495360" y="3284640"/>
            <a:ext cx="8153280" cy="23050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3" descr=""/>
          <p:cNvPicPr/>
          <p:nvPr/>
        </p:nvPicPr>
        <p:blipFill>
          <a:blip r:embed="rId2"/>
          <a:stretch/>
        </p:blipFill>
        <p:spPr>
          <a:xfrm>
            <a:off x="495360" y="1844640"/>
            <a:ext cx="803736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Example: DreamHome</a:t>
            </a:r>
            <a:br>
              <a:rPr sz="3200"/>
            </a:br>
            <a:r>
              <a:rPr b="0" i="1" lang="en-US" sz="2800" spc="-1" strike="noStrike">
                <a:solidFill>
                  <a:srgbClr val="000080"/>
                </a:solidFill>
                <a:latin typeface="Times New Roman"/>
              </a:rPr>
              <a:t>1NF to 2NF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1C460-586A-4C48-8433-2633A83B31BC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49" name="Picture 3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883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Example: DreamHome</a:t>
            </a:r>
            <a:br>
              <a:rPr sz="3200"/>
            </a:br>
            <a:r>
              <a:rPr b="0" i="1" lang="en-US" sz="2800" spc="-1" strike="noStrike">
                <a:solidFill>
                  <a:srgbClr val="000080"/>
                </a:solidFill>
                <a:latin typeface="Times New Roman"/>
              </a:rPr>
              <a:t>2NF to 3NF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9DFD-B10F-427B-BE3E-AB571B543DD1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8067960" cy="29718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4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806796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Example: DreamHome</a:t>
            </a:r>
            <a:br>
              <a:rPr sz="3200"/>
            </a:br>
            <a:r>
              <a:rPr b="0" i="1" lang="en-US" sz="2800" spc="-1" strike="noStrike">
                <a:solidFill>
                  <a:srgbClr val="000080"/>
                </a:solidFill>
                <a:latin typeface="Times New Roman"/>
              </a:rPr>
              <a:t>2NF to 3NF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E3E0A-C1CF-4F22-8BAA-4FD39F0A41F4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7029360" cy="18954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" descr=""/>
          <p:cNvPicPr/>
          <p:nvPr/>
        </p:nvPicPr>
        <p:blipFill>
          <a:blip r:embed="rId2"/>
          <a:stretch/>
        </p:blipFill>
        <p:spPr>
          <a:xfrm>
            <a:off x="755640" y="4221000"/>
            <a:ext cx="702936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5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4979D-6491-4114-8192-AB83D764305C}" type="slidenum">
              <a:rPr b="0" lang="ar-SA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Text Box 2"/>
          <p:cNvSpPr/>
          <p:nvPr/>
        </p:nvSpPr>
        <p:spPr>
          <a:xfrm>
            <a:off x="1946160" y="182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a0aff"/>
                </a:solidFill>
                <a:latin typeface="Times New Roman"/>
              </a:rPr>
              <a:t>The Process of Normalization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1962000" y="3692520"/>
            <a:ext cx="4876920" cy="213372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Rectangle 10"/>
          <p:cNvSpPr/>
          <p:nvPr/>
        </p:nvSpPr>
        <p:spPr>
          <a:xfrm>
            <a:off x="2419200" y="4149720"/>
            <a:ext cx="3886200" cy="167652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Rectangle 11"/>
          <p:cNvSpPr/>
          <p:nvPr/>
        </p:nvSpPr>
        <p:spPr>
          <a:xfrm>
            <a:off x="2876400" y="4606920"/>
            <a:ext cx="2895840" cy="121932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3333600" y="5064120"/>
            <a:ext cx="1981440" cy="76212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Text Box 14"/>
          <p:cNvSpPr/>
          <p:nvPr/>
        </p:nvSpPr>
        <p:spPr>
          <a:xfrm>
            <a:off x="3013920" y="462132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5NF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Text Box 15"/>
          <p:cNvSpPr/>
          <p:nvPr/>
        </p:nvSpPr>
        <p:spPr>
          <a:xfrm>
            <a:off x="2545560" y="414972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4NF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Text Box 16"/>
          <p:cNvSpPr/>
          <p:nvPr/>
        </p:nvSpPr>
        <p:spPr>
          <a:xfrm>
            <a:off x="2044080" y="369252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BCNF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Rectangle 17"/>
          <p:cNvSpPr/>
          <p:nvPr/>
        </p:nvSpPr>
        <p:spPr>
          <a:xfrm>
            <a:off x="1504800" y="3235320"/>
            <a:ext cx="5867640" cy="259092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Rectangle 18"/>
          <p:cNvSpPr/>
          <p:nvPr/>
        </p:nvSpPr>
        <p:spPr>
          <a:xfrm>
            <a:off x="1047600" y="2778120"/>
            <a:ext cx="6858000" cy="304812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Rectangle 32"/>
          <p:cNvSpPr/>
          <p:nvPr/>
        </p:nvSpPr>
        <p:spPr>
          <a:xfrm>
            <a:off x="590400" y="2320920"/>
            <a:ext cx="7848720" cy="350532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Text Box 33"/>
          <p:cNvSpPr/>
          <p:nvPr/>
        </p:nvSpPr>
        <p:spPr>
          <a:xfrm>
            <a:off x="1508400" y="323532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3NF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Text Box 34"/>
          <p:cNvSpPr/>
          <p:nvPr/>
        </p:nvSpPr>
        <p:spPr>
          <a:xfrm>
            <a:off x="1051200" y="270180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2NF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Text Box 35"/>
          <p:cNvSpPr/>
          <p:nvPr/>
        </p:nvSpPr>
        <p:spPr>
          <a:xfrm>
            <a:off x="594000" y="232092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1NF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Text Box 36"/>
          <p:cNvSpPr/>
          <p:nvPr/>
        </p:nvSpPr>
        <p:spPr>
          <a:xfrm>
            <a:off x="3562200" y="514044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Higher Norma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Form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Line 37"/>
          <p:cNvSpPr/>
          <p:nvPr/>
        </p:nvSpPr>
        <p:spPr>
          <a:xfrm flipH="1">
            <a:off x="5619600" y="2244600"/>
            <a:ext cx="2895840" cy="289584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Text Box 38"/>
          <p:cNvSpPr/>
          <p:nvPr/>
        </p:nvSpPr>
        <p:spPr>
          <a:xfrm rot="18904800">
            <a:off x="5435640" y="3768480"/>
            <a:ext cx="38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tronger in forma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ss vulnerable to update anomali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Date Placeholder 2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Normalization</a:t>
            </a:r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Example: DreamHome</a:t>
            </a:r>
            <a:br>
              <a:rPr sz="3200"/>
            </a:br>
            <a:r>
              <a:rPr b="0" i="1" lang="en-US" sz="2800" spc="-1" strike="noStrike">
                <a:solidFill>
                  <a:srgbClr val="000080"/>
                </a:solidFill>
                <a:latin typeface="Times New Roman"/>
              </a:rPr>
              <a:t>Summary of the 3NF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11214-4CD3-4ABE-B02B-7A56EFBE743A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60" name="Picture 2" descr=""/>
          <p:cNvPicPr/>
          <p:nvPr/>
        </p:nvPicPr>
        <p:blipFill>
          <a:blip r:embed="rId1"/>
          <a:stretch/>
        </p:blipFill>
        <p:spPr>
          <a:xfrm>
            <a:off x="1023840" y="1481040"/>
            <a:ext cx="709632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Example: DreamHome</a:t>
            </a:r>
            <a:br>
              <a:rPr sz="3200"/>
            </a:br>
            <a:r>
              <a:rPr b="0" i="1" lang="en-US" sz="2800" spc="-1" strike="noStrike">
                <a:solidFill>
                  <a:srgbClr val="000080"/>
                </a:solidFill>
                <a:latin typeface="Times New Roman"/>
              </a:rPr>
              <a:t>Decomposition from 1NF into 3NF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8F60A-047F-4051-9ED2-7B01EDAF44EA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1547640" y="2143080"/>
            <a:ext cx="6193080" cy="36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4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6B9C6-EC37-41F6-9442-D34913EF91B9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The Process of Normalization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35000" y="1676520"/>
            <a:ext cx="3787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7" name="Picture 7" descr="C13NF08"/>
          <p:cNvPicPr/>
          <p:nvPr/>
        </p:nvPicPr>
        <p:blipFill>
          <a:blip r:embed="rId1"/>
          <a:srcRect l="0" t="0" r="377" b="15108"/>
          <a:stretch/>
        </p:blipFill>
        <p:spPr>
          <a:xfrm>
            <a:off x="826920" y="1484280"/>
            <a:ext cx="6050160" cy="499104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9"/>
          <p:cNvSpPr/>
          <p:nvPr/>
        </p:nvSpPr>
        <p:spPr>
          <a:xfrm>
            <a:off x="3124080" y="658332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4"/>
          <p:cNvSpPr/>
          <p:nvPr/>
        </p:nvSpPr>
        <p:spPr>
          <a:xfrm>
            <a:off x="7010280" y="6072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FC256-434A-454D-98EF-2FC172EECAB1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0aff"/>
                </a:solidFill>
                <a:latin typeface="Times New Roman"/>
              </a:rPr>
              <a:t>Normalization</a:t>
            </a: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63200" y="1599840"/>
            <a:ext cx="7923240" cy="382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1 NF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Better than unnormalized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2 NF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Better than 1 NF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3 NF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Better than 2 NF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D780D-8397-455D-B17B-6A5E4FAA456A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Times New Roman"/>
              </a:rPr>
              <a:t>Unnormalized Form (UNF)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 table that contains one or more repeating group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To create an unnormalized table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Transform the data from the information source (e.g. form) into table format with columns and row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01309-60B1-44A3-A512-EF8C9B2637A1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a1aff"/>
                </a:solidFill>
                <a:latin typeface="Times New Roman"/>
              </a:rPr>
              <a:t>Unnormalized Form (UNF)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755640" y="1916280"/>
          <a:ext cx="6624720" cy="3855960"/>
        </p:xfrm>
        <a:graphic>
          <a:graphicData uri="http://schemas.openxmlformats.org/drawingml/2006/table">
            <a:tbl>
              <a:tblPr/>
              <a:tblGrid>
                <a:gridCol w="936720"/>
                <a:gridCol w="1008000"/>
                <a:gridCol w="863640"/>
                <a:gridCol w="1468440"/>
                <a:gridCol w="1050840"/>
                <a:gridCol w="1297080"/>
              </a:tblGrid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ORDER_NUM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ORDER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_DATE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PART_NUM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DESCRIPTION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NUM_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ORDER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QUOTED_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PRICE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08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0/20/201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AT9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Iron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.95$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741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1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0/20/201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DR9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DW1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Gas Range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Washer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495.00$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399.99$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1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0/21/201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KL6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Dryer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329.95$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1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0/21/201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KT0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Dishwasher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595.00$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741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17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0/23/201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BV06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CD5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Home Gym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Microwave Oven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2.95$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50.00$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19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0/23/201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DR9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Gas Range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495.00$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162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10/23/201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KV29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Treadmill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71717"/>
                          </a:solidFill>
                          <a:latin typeface="Times New Roman"/>
                        </a:rPr>
                        <a:t>325.99$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bcb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67A59-BEA5-4C44-BD02-C059883AD94C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Times New Roman"/>
              </a:rPr>
              <a:t>First Normal Form (1NF)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 relation in which the intersection of each row and column contains one and only one valu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2T14:58:02Z</dcterms:created>
  <dc:creator>Thomas Connolly and Carolyn Begg</dc:creator>
  <dc:description>Transparencies for Chapter 6 of textbook
Database Systems: A Practical Approach to Design. Implementation and Management</dc:description>
  <dc:language>en-US</dc:language>
  <cp:lastModifiedBy>A.Alnuaim</cp:lastModifiedBy>
  <cp:lastPrinted>2015-03-17T04:41:05Z</cp:lastPrinted>
  <dcterms:modified xsi:type="dcterms:W3CDTF">2017-03-26T05:50:03Z</dcterms:modified>
  <cp:revision>156</cp:revision>
  <dc:subject>Database Systems</dc:subject>
  <dc:title>Chapter 6</dc:title>
</cp:coreProperties>
</file>