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3.jpeg" ContentType="image/jpeg"/>
  <Override PartName="/ppt/media/image45.png" ContentType="image/png"/>
  <Override PartName="/ppt/media/image13.png" ContentType="image/png"/>
  <Override PartName="/ppt/media/image50.png" ContentType="image/png"/>
  <Override PartName="/ppt/media/image37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9.png" ContentType="image/png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7E9B79-42C3-4E6B-982F-20E28931D5B5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94B-6FB4-4327-85D4-9EBA6A63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EDC-4C3A-47DC-98CA-1FA40DC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BA7-6CC9-4B92-AF55-5451CF29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8C9-4484-4C1F-82B4-C56C576A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15A-2E35-4C34-958F-9ED236A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92E-7746-4916-B884-C68662AC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A66-69D2-415A-9266-CEE1FCB1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69C-4C0F-4181-A8B2-6B98EAE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8CB-7648-48E8-8C73-822E91A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30D-3908-4FF0-A96E-7320019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5B4-4210-49A9-A0CB-2C9D12A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C5F-2603-4D4B-A054-4782782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E15-65C8-4119-B9B0-4AB4738085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s://en.wikipedia.org/wiki/Force" TargetMode="External"/><Relationship Id="rId4" Type="http://schemas.openxmlformats.org/officeDocument/2006/relationships/hyperlink" Target="https://en.wikipedia.org/wiki/Newton_(unit)" TargetMode="External"/><Relationship Id="rId5" Type="http://schemas.openxmlformats.org/officeDocument/2006/relationships/hyperlink" Target="https://en.wikipedia.org/wiki/Metre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03200" y="2901960"/>
            <a:ext cx="44755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COMP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880" y="7308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31840" y="592200"/>
            <a:ext cx="85406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ch data point on the curve represent a single compaction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Fou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fi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ests a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urve is unique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 given soil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 Method of co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 (constant) compactive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9240" y="3165480"/>
            <a:ext cx="8529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d(max)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only a maximum for a specific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active effort and method of compa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This does not necessarily reflect the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 weight that can be obtained in the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79280" y="44816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ypical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M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re between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. Outside maximum range 5% t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9280" y="5324400"/>
            <a:ext cx="85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ing the compactive effort tends t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ncr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ns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s expected, but als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decr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M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(This is why the curve never be to the right of zero curve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396720" y="1598760"/>
            <a:ext cx="835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clay soil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d(max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ends to decrease as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78000" y="22255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pproximation to field is not exact because the lab. test i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dynamic impact typ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hereas field compaction is essentially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kneading-typ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96720" y="76500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practice less amount of water is used but higher compactive effort or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83600" y="189000"/>
            <a:ext cx="2926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9760" y="3498840"/>
            <a:ext cx="84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other types of compaction (i.e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ne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the calculation of compactive effort is not a simpl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39760" y="4532400"/>
            <a:ext cx="84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e field, compactive effort is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ass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ver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 of the roller of a certain type and weight on a given volume of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9"/>
          <p:cNvSpPr/>
          <p:nvPr/>
        </p:nvSpPr>
        <p:spPr>
          <a:xfrm rot="21204600">
            <a:off x="6896160" y="1234800"/>
            <a:ext cx="762120" cy="1714320"/>
          </a:xfrm>
          <a:custGeom>
            <a:avLst/>
            <a:gdLst>
              <a:gd name="textAreaLeft" fmla="*/ 0 w 762120"/>
              <a:gd name="textAreaRight" fmla="*/ 762480 w 762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76445" h="2523281">
                <a:moveTo>
                  <a:pt x="0" y="0"/>
                </a:moveTo>
                <a:lnTo>
                  <a:pt x="1064870" y="0"/>
                </a:lnTo>
                <a:cubicBezTo>
                  <a:pt x="1068728" y="841094"/>
                  <a:pt x="1072587" y="1682187"/>
                  <a:pt x="1076445" y="2523281"/>
                </a:cubicBezTo>
                <a:lnTo>
                  <a:pt x="868101" y="2129742"/>
                </a:lnTo>
                <a:lnTo>
                  <a:pt x="613458" y="1585732"/>
                </a:lnTo>
                <a:lnTo>
                  <a:pt x="381964" y="1030147"/>
                </a:lnTo>
                <a:lnTo>
                  <a:pt x="150470" y="47456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920" y="173160"/>
            <a:ext cx="392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oretica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7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195640" y="55440"/>
                <a:ext cx="1106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2" name="Group 15"/>
          <p:cNvGrpSpPr/>
          <p:nvPr/>
        </p:nvGrpSpPr>
        <p:grpSpPr>
          <a:xfrm>
            <a:off x="324000" y="590400"/>
            <a:ext cx="8507160" cy="896760"/>
            <a:chOff x="324000" y="590400"/>
            <a:chExt cx="8507160" cy="896760"/>
          </a:xfrm>
        </p:grpSpPr>
        <p:sp>
          <p:nvSpPr>
            <p:cNvPr id="143" name="Text Box 7"/>
            <p:cNvSpPr/>
            <p:nvPr/>
          </p:nvSpPr>
          <p:spPr>
            <a:xfrm>
              <a:off x="324000" y="661680"/>
              <a:ext cx="850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aximum           is obtained when no air in the voids (i.e. s =10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2627280" y="590400"/>
                  <a:ext cx="934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839880" y="1471680"/>
                <a:ext cx="158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79200" y="2303640"/>
                <a:ext cx="22957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t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2"/>
              <p:cNvSpPr txBox="1"/>
              <p:nvPr/>
            </p:nvSpPr>
            <p:spPr>
              <a:xfrm>
                <a:off x="79200" y="2844720"/>
                <a:ext cx="3654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      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%   </m:t>
                    </m:r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324000" y="3409920"/>
                <a:ext cx="3295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4"/>
          <p:cNvSpPr/>
          <p:nvPr/>
        </p:nvSpPr>
        <p:spPr>
          <a:xfrm>
            <a:off x="303120" y="4449600"/>
            <a:ext cx="786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</a:rPr>
              <a:t>za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zero air void unit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96840" y="4843440"/>
            <a:ext cx="846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lationship betwee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</a:rPr>
              <a:t>za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an be obtained as shown in the figure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6320" y="5602320"/>
            <a:ext cx="78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ction curv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o the left of the zero-air-void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822400" y="611172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matter how much water is added, the soil never becomes completel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aturate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by comp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4130640" y="1027080"/>
            <a:ext cx="4746600" cy="3525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rot="3295200">
            <a:off x="6238800" y="196164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ossibl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"/>
          <p:cNvSpPr/>
          <p:nvPr/>
        </p:nvSpPr>
        <p:spPr>
          <a:xfrm flipV="1">
            <a:off x="6510240" y="2255760"/>
            <a:ext cx="43812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22840" y="166680"/>
            <a:ext cx="5197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ctors affecting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3755880" y="1897200"/>
            <a:ext cx="5353200" cy="441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250920" y="69228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ides moisture content, other important factors that affect compaction are: 1) Soil type;     2) Compaction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49480" y="198900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Effect of 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09120" y="2637000"/>
            <a:ext cx="3268080" cy="20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 of the soil g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ount of clay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of clay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24000" y="48690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ine grain soil needs more water to reach opti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5651640" y="4476600"/>
            <a:ext cx="1104840" cy="168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6432480" y="3429000"/>
            <a:ext cx="647640" cy="255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932360" y="3860640"/>
            <a:ext cx="1042920" cy="2890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6026040" y="2577960"/>
            <a:ext cx="647640" cy="147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95280" y="18900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Soil type and gradation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04160" cy="560880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sp>
        <p:nvSpPr>
          <p:cNvPr id="168" name="Rectangle 15"/>
          <p:cNvSpPr/>
          <p:nvPr/>
        </p:nvSpPr>
        <p:spPr>
          <a:xfrm>
            <a:off x="6875640" y="4653000"/>
            <a:ext cx="21906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Fine grain soil needs more water to reach opt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220680" y="4979880"/>
            <a:ext cx="8769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constant, therefore increasing maximum dry unit weight is associated with decreasing optimum moisture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not use typical values for design as soil is highly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4"/>
          <p:cNvSpPr/>
          <p:nvPr/>
        </p:nvSpPr>
        <p:spPr>
          <a:xfrm>
            <a:off x="179280" y="18900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Soil type and gradation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5"/>
          <p:cNvGrpSpPr/>
          <p:nvPr/>
        </p:nvGrpSpPr>
        <p:grpSpPr>
          <a:xfrm>
            <a:off x="1179360" y="861840"/>
            <a:ext cx="6867720" cy="4003920"/>
            <a:chOff x="1179360" y="861840"/>
            <a:chExt cx="6867720" cy="4003920"/>
          </a:xfrm>
        </p:grpSpPr>
        <p:sp>
          <p:nvSpPr>
            <p:cNvPr id="172" name="Rectangle 136"/>
            <p:cNvSpPr/>
            <p:nvPr/>
          </p:nvSpPr>
          <p:spPr>
            <a:xfrm>
              <a:off x="117936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7"/>
            <p:cNvSpPr/>
            <p:nvPr/>
          </p:nvSpPr>
          <p:spPr>
            <a:xfrm>
              <a:off x="117936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8"/>
            <p:cNvSpPr/>
            <p:nvPr/>
          </p:nvSpPr>
          <p:spPr>
            <a:xfrm>
              <a:off x="1193760" y="861840"/>
              <a:ext cx="284472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9"/>
            <p:cNvSpPr/>
            <p:nvPr/>
          </p:nvSpPr>
          <p:spPr>
            <a:xfrm>
              <a:off x="403848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0"/>
            <p:cNvSpPr/>
            <p:nvPr/>
          </p:nvSpPr>
          <p:spPr>
            <a:xfrm>
              <a:off x="4052880" y="861840"/>
              <a:ext cx="397656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1"/>
            <p:cNvSpPr/>
            <p:nvPr/>
          </p:nvSpPr>
          <p:spPr>
            <a:xfrm>
              <a:off x="802944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2"/>
            <p:cNvSpPr/>
            <p:nvPr/>
          </p:nvSpPr>
          <p:spPr>
            <a:xfrm>
              <a:off x="802944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3"/>
            <p:cNvSpPr/>
            <p:nvPr/>
          </p:nvSpPr>
          <p:spPr>
            <a:xfrm>
              <a:off x="117936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4"/>
            <p:cNvSpPr/>
            <p:nvPr/>
          </p:nvSpPr>
          <p:spPr>
            <a:xfrm>
              <a:off x="403848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5"/>
            <p:cNvSpPr/>
            <p:nvPr/>
          </p:nvSpPr>
          <p:spPr>
            <a:xfrm>
              <a:off x="802944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6"/>
            <p:cNvSpPr/>
            <p:nvPr/>
          </p:nvSpPr>
          <p:spPr>
            <a:xfrm>
              <a:off x="5299920" y="932040"/>
              <a:ext cx="1701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Typical Valu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47"/>
            <p:cNvSpPr/>
            <p:nvPr/>
          </p:nvSpPr>
          <p:spPr>
            <a:xfrm>
              <a:off x="117936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8"/>
            <p:cNvSpPr/>
            <p:nvPr/>
          </p:nvSpPr>
          <p:spPr>
            <a:xfrm>
              <a:off x="403848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9"/>
            <p:cNvSpPr/>
            <p:nvPr/>
          </p:nvSpPr>
          <p:spPr>
            <a:xfrm>
              <a:off x="4052880" y="1357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0"/>
            <p:cNvSpPr/>
            <p:nvPr/>
          </p:nvSpPr>
          <p:spPr>
            <a:xfrm>
              <a:off x="6035760" y="13572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1"/>
            <p:cNvSpPr/>
            <p:nvPr/>
          </p:nvSpPr>
          <p:spPr>
            <a:xfrm>
              <a:off x="6049800" y="1357200"/>
              <a:ext cx="19796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52"/>
            <p:cNvSpPr/>
            <p:nvPr/>
          </p:nvSpPr>
          <p:spPr>
            <a:xfrm>
              <a:off x="802944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3"/>
            <p:cNvSpPr/>
            <p:nvPr/>
          </p:nvSpPr>
          <p:spPr>
            <a:xfrm>
              <a:off x="117936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54"/>
            <p:cNvSpPr/>
            <p:nvPr/>
          </p:nvSpPr>
          <p:spPr>
            <a:xfrm>
              <a:off x="403848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5"/>
            <p:cNvSpPr/>
            <p:nvPr/>
          </p:nvSpPr>
          <p:spPr>
            <a:xfrm>
              <a:off x="6035760" y="1373040"/>
              <a:ext cx="1404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6"/>
            <p:cNvSpPr/>
            <p:nvPr/>
          </p:nvSpPr>
          <p:spPr>
            <a:xfrm>
              <a:off x="803268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7"/>
            <p:cNvSpPr/>
            <p:nvPr/>
          </p:nvSpPr>
          <p:spPr>
            <a:xfrm>
              <a:off x="5069160" y="1427040"/>
              <a:ext cx="892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(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kN/m</a:t>
              </a:r>
              <a:r>
                <a:rPr b="1" lang="en-US" sz="2100" spc="-1" strike="noStrike" baseline="30000">
                  <a:solidFill>
                    <a:srgbClr val="800000"/>
                  </a:solidFill>
                  <a:latin typeface="Times New Roman"/>
                </a:rPr>
                <a:t>3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8"/>
            <p:cNvSpPr/>
            <p:nvPr/>
          </p:nvSpPr>
          <p:spPr>
            <a:xfrm>
              <a:off x="6622920" y="14270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9"/>
            <p:cNvSpPr/>
            <p:nvPr/>
          </p:nvSpPr>
          <p:spPr>
            <a:xfrm>
              <a:off x="6454800" y="1427040"/>
              <a:ext cx="1140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OMC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 (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0"/>
            <p:cNvSpPr/>
            <p:nvPr/>
          </p:nvSpPr>
          <p:spPr>
            <a:xfrm>
              <a:off x="117936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1"/>
            <p:cNvSpPr/>
            <p:nvPr/>
          </p:nvSpPr>
          <p:spPr>
            <a:xfrm>
              <a:off x="1193760" y="187488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62"/>
            <p:cNvSpPr/>
            <p:nvPr/>
          </p:nvSpPr>
          <p:spPr>
            <a:xfrm>
              <a:off x="403848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63"/>
            <p:cNvSpPr/>
            <p:nvPr/>
          </p:nvSpPr>
          <p:spPr>
            <a:xfrm>
              <a:off x="4052880" y="18748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4"/>
            <p:cNvSpPr/>
            <p:nvPr/>
          </p:nvSpPr>
          <p:spPr>
            <a:xfrm>
              <a:off x="6035760" y="187488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65"/>
            <p:cNvSpPr/>
            <p:nvPr/>
          </p:nvSpPr>
          <p:spPr>
            <a:xfrm>
              <a:off x="6049800" y="18748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66"/>
            <p:cNvSpPr/>
            <p:nvPr/>
          </p:nvSpPr>
          <p:spPr>
            <a:xfrm>
              <a:off x="803268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67"/>
            <p:cNvSpPr/>
            <p:nvPr/>
          </p:nvSpPr>
          <p:spPr>
            <a:xfrm>
              <a:off x="117936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68"/>
            <p:cNvSpPr/>
            <p:nvPr/>
          </p:nvSpPr>
          <p:spPr>
            <a:xfrm>
              <a:off x="403848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9"/>
            <p:cNvSpPr/>
            <p:nvPr/>
          </p:nvSpPr>
          <p:spPr>
            <a:xfrm>
              <a:off x="6035760" y="1890720"/>
              <a:ext cx="140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0"/>
            <p:cNvSpPr/>
            <p:nvPr/>
          </p:nvSpPr>
          <p:spPr>
            <a:xfrm>
              <a:off x="803268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1"/>
            <p:cNvSpPr/>
            <p:nvPr/>
          </p:nvSpPr>
          <p:spPr>
            <a:xfrm>
              <a:off x="1296360" y="1944720"/>
              <a:ext cx="295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Well graded sand        S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72"/>
            <p:cNvSpPr/>
            <p:nvPr/>
          </p:nvSpPr>
          <p:spPr>
            <a:xfrm>
              <a:off x="4908240" y="1944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2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3"/>
            <p:cNvSpPr/>
            <p:nvPr/>
          </p:nvSpPr>
          <p:spPr>
            <a:xfrm>
              <a:off x="6972840" y="1944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74"/>
            <p:cNvSpPr/>
            <p:nvPr/>
          </p:nvSpPr>
          <p:spPr>
            <a:xfrm>
              <a:off x="117936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5"/>
            <p:cNvSpPr/>
            <p:nvPr/>
          </p:nvSpPr>
          <p:spPr>
            <a:xfrm>
              <a:off x="1193760" y="237168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76"/>
            <p:cNvSpPr/>
            <p:nvPr/>
          </p:nvSpPr>
          <p:spPr>
            <a:xfrm>
              <a:off x="403848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7"/>
            <p:cNvSpPr/>
            <p:nvPr/>
          </p:nvSpPr>
          <p:spPr>
            <a:xfrm>
              <a:off x="4052880" y="23716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8"/>
            <p:cNvSpPr/>
            <p:nvPr/>
          </p:nvSpPr>
          <p:spPr>
            <a:xfrm>
              <a:off x="6035760" y="237168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9"/>
            <p:cNvSpPr/>
            <p:nvPr/>
          </p:nvSpPr>
          <p:spPr>
            <a:xfrm>
              <a:off x="6049800" y="23716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0"/>
            <p:cNvSpPr/>
            <p:nvPr/>
          </p:nvSpPr>
          <p:spPr>
            <a:xfrm>
              <a:off x="803268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1"/>
            <p:cNvSpPr/>
            <p:nvPr/>
          </p:nvSpPr>
          <p:spPr>
            <a:xfrm>
              <a:off x="117936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82"/>
            <p:cNvSpPr/>
            <p:nvPr/>
          </p:nvSpPr>
          <p:spPr>
            <a:xfrm>
              <a:off x="403848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3"/>
            <p:cNvSpPr/>
            <p:nvPr/>
          </p:nvSpPr>
          <p:spPr>
            <a:xfrm>
              <a:off x="6035760" y="238752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84"/>
            <p:cNvSpPr/>
            <p:nvPr/>
          </p:nvSpPr>
          <p:spPr>
            <a:xfrm>
              <a:off x="803268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85"/>
            <p:cNvSpPr/>
            <p:nvPr/>
          </p:nvSpPr>
          <p:spPr>
            <a:xfrm>
              <a:off x="1298880" y="2440080"/>
              <a:ext cx="292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Sandy clay                    S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6"/>
            <p:cNvSpPr/>
            <p:nvPr/>
          </p:nvSpPr>
          <p:spPr>
            <a:xfrm>
              <a:off x="4908240" y="24400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7"/>
            <p:cNvSpPr/>
            <p:nvPr/>
          </p:nvSpPr>
          <p:spPr>
            <a:xfrm>
              <a:off x="6905160" y="24400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8"/>
            <p:cNvSpPr/>
            <p:nvPr/>
          </p:nvSpPr>
          <p:spPr>
            <a:xfrm>
              <a:off x="117936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89"/>
            <p:cNvSpPr/>
            <p:nvPr/>
          </p:nvSpPr>
          <p:spPr>
            <a:xfrm>
              <a:off x="1193760" y="286704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0"/>
            <p:cNvSpPr/>
            <p:nvPr/>
          </p:nvSpPr>
          <p:spPr>
            <a:xfrm>
              <a:off x="403848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1"/>
            <p:cNvSpPr/>
            <p:nvPr/>
          </p:nvSpPr>
          <p:spPr>
            <a:xfrm>
              <a:off x="4052880" y="286704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2"/>
            <p:cNvSpPr/>
            <p:nvPr/>
          </p:nvSpPr>
          <p:spPr>
            <a:xfrm>
              <a:off x="6035760" y="286704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93"/>
            <p:cNvSpPr/>
            <p:nvPr/>
          </p:nvSpPr>
          <p:spPr>
            <a:xfrm>
              <a:off x="6049800" y="286704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4"/>
            <p:cNvSpPr/>
            <p:nvPr/>
          </p:nvSpPr>
          <p:spPr>
            <a:xfrm>
              <a:off x="803268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5"/>
            <p:cNvSpPr/>
            <p:nvPr/>
          </p:nvSpPr>
          <p:spPr>
            <a:xfrm>
              <a:off x="117936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96"/>
            <p:cNvSpPr/>
            <p:nvPr/>
          </p:nvSpPr>
          <p:spPr>
            <a:xfrm>
              <a:off x="403848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97"/>
            <p:cNvSpPr/>
            <p:nvPr/>
          </p:nvSpPr>
          <p:spPr>
            <a:xfrm>
              <a:off x="6035760" y="288288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98"/>
            <p:cNvSpPr/>
            <p:nvPr/>
          </p:nvSpPr>
          <p:spPr>
            <a:xfrm>
              <a:off x="803268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9"/>
            <p:cNvSpPr/>
            <p:nvPr/>
          </p:nvSpPr>
          <p:spPr>
            <a:xfrm>
              <a:off x="1318320" y="2936880"/>
              <a:ext cx="2941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Poorly graded sand      S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0"/>
            <p:cNvSpPr/>
            <p:nvPr/>
          </p:nvSpPr>
          <p:spPr>
            <a:xfrm>
              <a:off x="4908240" y="29368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1"/>
            <p:cNvSpPr/>
            <p:nvPr/>
          </p:nvSpPr>
          <p:spPr>
            <a:xfrm>
              <a:off x="6905160" y="29368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02"/>
            <p:cNvSpPr/>
            <p:nvPr/>
          </p:nvSpPr>
          <p:spPr>
            <a:xfrm>
              <a:off x="117936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3"/>
            <p:cNvSpPr/>
            <p:nvPr/>
          </p:nvSpPr>
          <p:spPr>
            <a:xfrm>
              <a:off x="1193760" y="336240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4"/>
            <p:cNvSpPr/>
            <p:nvPr/>
          </p:nvSpPr>
          <p:spPr>
            <a:xfrm>
              <a:off x="403848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5"/>
            <p:cNvSpPr/>
            <p:nvPr/>
          </p:nvSpPr>
          <p:spPr>
            <a:xfrm>
              <a:off x="4052880" y="33624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06"/>
            <p:cNvSpPr/>
            <p:nvPr/>
          </p:nvSpPr>
          <p:spPr>
            <a:xfrm>
              <a:off x="6035760" y="33624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07"/>
            <p:cNvSpPr/>
            <p:nvPr/>
          </p:nvSpPr>
          <p:spPr>
            <a:xfrm>
              <a:off x="6049800" y="33624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8"/>
            <p:cNvSpPr/>
            <p:nvPr/>
          </p:nvSpPr>
          <p:spPr>
            <a:xfrm>
              <a:off x="803268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09"/>
            <p:cNvSpPr/>
            <p:nvPr/>
          </p:nvSpPr>
          <p:spPr>
            <a:xfrm>
              <a:off x="117936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10"/>
            <p:cNvSpPr/>
            <p:nvPr/>
          </p:nvSpPr>
          <p:spPr>
            <a:xfrm>
              <a:off x="403848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11"/>
            <p:cNvSpPr/>
            <p:nvPr/>
          </p:nvSpPr>
          <p:spPr>
            <a:xfrm>
              <a:off x="6035760" y="3378240"/>
              <a:ext cx="140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12"/>
            <p:cNvSpPr/>
            <p:nvPr/>
          </p:nvSpPr>
          <p:spPr>
            <a:xfrm>
              <a:off x="803268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13"/>
            <p:cNvSpPr/>
            <p:nvPr/>
          </p:nvSpPr>
          <p:spPr>
            <a:xfrm>
              <a:off x="1305720" y="3432240"/>
              <a:ext cx="291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Low plasticity clay      C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4"/>
            <p:cNvSpPr/>
            <p:nvPr/>
          </p:nvSpPr>
          <p:spPr>
            <a:xfrm>
              <a:off x="4908240" y="343224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5"/>
            <p:cNvSpPr/>
            <p:nvPr/>
          </p:nvSpPr>
          <p:spPr>
            <a:xfrm>
              <a:off x="6905160" y="343224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6"/>
            <p:cNvSpPr/>
            <p:nvPr/>
          </p:nvSpPr>
          <p:spPr>
            <a:xfrm>
              <a:off x="117936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7"/>
            <p:cNvSpPr/>
            <p:nvPr/>
          </p:nvSpPr>
          <p:spPr>
            <a:xfrm>
              <a:off x="1193760" y="385920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18"/>
            <p:cNvSpPr/>
            <p:nvPr/>
          </p:nvSpPr>
          <p:spPr>
            <a:xfrm>
              <a:off x="403848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19"/>
            <p:cNvSpPr/>
            <p:nvPr/>
          </p:nvSpPr>
          <p:spPr>
            <a:xfrm>
              <a:off x="4052880" y="3859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20"/>
            <p:cNvSpPr/>
            <p:nvPr/>
          </p:nvSpPr>
          <p:spPr>
            <a:xfrm>
              <a:off x="6035760" y="38592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1"/>
            <p:cNvSpPr/>
            <p:nvPr/>
          </p:nvSpPr>
          <p:spPr>
            <a:xfrm>
              <a:off x="6049800" y="3859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22"/>
            <p:cNvSpPr/>
            <p:nvPr/>
          </p:nvSpPr>
          <p:spPr>
            <a:xfrm>
              <a:off x="803268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3"/>
            <p:cNvSpPr/>
            <p:nvPr/>
          </p:nvSpPr>
          <p:spPr>
            <a:xfrm>
              <a:off x="117936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24"/>
            <p:cNvSpPr/>
            <p:nvPr/>
          </p:nvSpPr>
          <p:spPr>
            <a:xfrm>
              <a:off x="403848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25"/>
            <p:cNvSpPr/>
            <p:nvPr/>
          </p:nvSpPr>
          <p:spPr>
            <a:xfrm>
              <a:off x="6035760" y="387504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6"/>
            <p:cNvSpPr/>
            <p:nvPr/>
          </p:nvSpPr>
          <p:spPr>
            <a:xfrm>
              <a:off x="803268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27"/>
            <p:cNvSpPr/>
            <p:nvPr/>
          </p:nvSpPr>
          <p:spPr>
            <a:xfrm>
              <a:off x="1299600" y="3927600"/>
              <a:ext cx="299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Non plastic silt             M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8"/>
            <p:cNvSpPr/>
            <p:nvPr/>
          </p:nvSpPr>
          <p:spPr>
            <a:xfrm>
              <a:off x="4908240" y="3927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29"/>
            <p:cNvSpPr/>
            <p:nvPr/>
          </p:nvSpPr>
          <p:spPr>
            <a:xfrm>
              <a:off x="6905160" y="3927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30"/>
            <p:cNvSpPr/>
            <p:nvPr/>
          </p:nvSpPr>
          <p:spPr>
            <a:xfrm>
              <a:off x="117936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31"/>
            <p:cNvSpPr/>
            <p:nvPr/>
          </p:nvSpPr>
          <p:spPr>
            <a:xfrm>
              <a:off x="1193760" y="435456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32"/>
            <p:cNvSpPr/>
            <p:nvPr/>
          </p:nvSpPr>
          <p:spPr>
            <a:xfrm>
              <a:off x="403848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33"/>
            <p:cNvSpPr/>
            <p:nvPr/>
          </p:nvSpPr>
          <p:spPr>
            <a:xfrm>
              <a:off x="4052880" y="435456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4"/>
            <p:cNvSpPr/>
            <p:nvPr/>
          </p:nvSpPr>
          <p:spPr>
            <a:xfrm>
              <a:off x="6035760" y="435456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35"/>
            <p:cNvSpPr/>
            <p:nvPr/>
          </p:nvSpPr>
          <p:spPr>
            <a:xfrm>
              <a:off x="6049800" y="435456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6"/>
            <p:cNvSpPr/>
            <p:nvPr/>
          </p:nvSpPr>
          <p:spPr>
            <a:xfrm>
              <a:off x="803268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7"/>
            <p:cNvSpPr/>
            <p:nvPr/>
          </p:nvSpPr>
          <p:spPr>
            <a:xfrm>
              <a:off x="117936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38"/>
            <p:cNvSpPr/>
            <p:nvPr/>
          </p:nvSpPr>
          <p:spPr>
            <a:xfrm>
              <a:off x="117936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39"/>
            <p:cNvSpPr/>
            <p:nvPr/>
          </p:nvSpPr>
          <p:spPr>
            <a:xfrm>
              <a:off x="117936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40"/>
            <p:cNvSpPr/>
            <p:nvPr/>
          </p:nvSpPr>
          <p:spPr>
            <a:xfrm>
              <a:off x="1193760" y="484992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41"/>
            <p:cNvSpPr/>
            <p:nvPr/>
          </p:nvSpPr>
          <p:spPr>
            <a:xfrm>
              <a:off x="403848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42"/>
            <p:cNvSpPr/>
            <p:nvPr/>
          </p:nvSpPr>
          <p:spPr>
            <a:xfrm>
              <a:off x="40384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3"/>
            <p:cNvSpPr/>
            <p:nvPr/>
          </p:nvSpPr>
          <p:spPr>
            <a:xfrm>
              <a:off x="4052880" y="484992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44"/>
            <p:cNvSpPr/>
            <p:nvPr/>
          </p:nvSpPr>
          <p:spPr>
            <a:xfrm>
              <a:off x="6035760" y="437040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45"/>
            <p:cNvSpPr/>
            <p:nvPr/>
          </p:nvSpPr>
          <p:spPr>
            <a:xfrm>
              <a:off x="6035760" y="484992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6"/>
            <p:cNvSpPr/>
            <p:nvPr/>
          </p:nvSpPr>
          <p:spPr>
            <a:xfrm>
              <a:off x="6049800" y="484992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47"/>
            <p:cNvSpPr/>
            <p:nvPr/>
          </p:nvSpPr>
          <p:spPr>
            <a:xfrm>
              <a:off x="803268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48"/>
            <p:cNvSpPr/>
            <p:nvPr/>
          </p:nvSpPr>
          <p:spPr>
            <a:xfrm>
              <a:off x="80326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49"/>
            <p:cNvSpPr/>
            <p:nvPr/>
          </p:nvSpPr>
          <p:spPr>
            <a:xfrm>
              <a:off x="80326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50"/>
            <p:cNvSpPr/>
            <p:nvPr/>
          </p:nvSpPr>
          <p:spPr>
            <a:xfrm>
              <a:off x="1310400" y="4424400"/>
              <a:ext cx="2934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High plasticity clay     C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51"/>
            <p:cNvSpPr/>
            <p:nvPr/>
          </p:nvSpPr>
          <p:spPr>
            <a:xfrm>
              <a:off x="4908240" y="44244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2"/>
            <p:cNvSpPr/>
            <p:nvPr/>
          </p:nvSpPr>
          <p:spPr>
            <a:xfrm>
              <a:off x="6905160" y="44244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2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Object 253"/>
                <p:cNvSpPr txBox="1"/>
                <p:nvPr/>
              </p:nvSpPr>
              <p:spPr>
                <a:xfrm>
                  <a:off x="4284720" y="1268280"/>
                  <a:ext cx="934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Rectangle 254"/>
          <p:cNvSpPr/>
          <p:nvPr/>
        </p:nvSpPr>
        <p:spPr>
          <a:xfrm>
            <a:off x="6804000" y="4452840"/>
            <a:ext cx="504720" cy="287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5"/>
          <p:cNvSpPr/>
          <p:nvPr/>
        </p:nvSpPr>
        <p:spPr>
          <a:xfrm>
            <a:off x="4802040" y="1974960"/>
            <a:ext cx="505080" cy="287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140360" y="765000"/>
            <a:ext cx="4748040" cy="5816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79280" y="76500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ell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action curve is typical for mos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lay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urves have more than one peak others have no p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4140360" y="765000"/>
            <a:ext cx="2376360" cy="2808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59120" y="921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mpaction Curves Encountered in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896000" cy="55594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06560" y="13500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Compa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600" y="811080"/>
            <a:ext cx="6553440" cy="1197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106560" y="13500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Compa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5415120" y="189000"/>
            <a:ext cx="3454200" cy="499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1" name="Text Box 8"/>
          <p:cNvSpPr/>
          <p:nvPr/>
        </p:nvSpPr>
        <p:spPr>
          <a:xfrm>
            <a:off x="250920" y="3284640"/>
            <a:ext cx="504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standard Proctor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mo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amm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ere used to obtain these compaction cu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all case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mber of layer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as equal 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32200" y="20080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or the standar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1"/>
              <p:cNvSpPr txBox="1"/>
              <p:nvPr/>
            </p:nvSpPr>
            <p:spPr>
              <a:xfrm>
                <a:off x="250920" y="2565360"/>
                <a:ext cx="4752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3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kJ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2"/>
          <p:cNvSpPr/>
          <p:nvPr/>
        </p:nvSpPr>
        <p:spPr>
          <a:xfrm>
            <a:off x="233640" y="5035680"/>
            <a:ext cx="95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1219320" y="5064120"/>
            <a:ext cx="4195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As the compaction effort increases,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alibri"/>
              </a:rPr>
              <a:t>d(m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)  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increases and </a:t>
            </a:r>
            <a:r>
              <a:rPr b="1" lang="en-US" sz="2000" spc="-1" strike="noStrike">
                <a:solidFill>
                  <a:srgbClr val="0033cc"/>
                </a:solidFill>
                <a:latin typeface="Calibri"/>
              </a:rPr>
              <a:t>OMC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decre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7170120" y="1376280"/>
            <a:ext cx="1105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3"/>
          <p:cNvCxnSpPr/>
          <p:nvPr/>
        </p:nvCxnSpPr>
        <p:spPr>
          <a:xfrm flipH="1">
            <a:off x="7162200" y="2464920"/>
            <a:ext cx="362520" cy="9406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08" name="Rectangle 1"/>
          <p:cNvSpPr/>
          <p:nvPr/>
        </p:nvSpPr>
        <p:spPr>
          <a:xfrm>
            <a:off x="3002040" y="784080"/>
            <a:ext cx="2158920" cy="916200"/>
          </a:xfrm>
          <a:prstGeom prst="rect">
            <a:avLst/>
          </a:pr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233280" y="5765760"/>
            <a:ext cx="851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t is equal to the energy transferred (or work done) to an object when 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rc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of on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wt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acts on that object in the direction of its motion through a distance of on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eter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1 newton meter or N·m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3"/>
          <p:cNvGrpSpPr/>
          <p:nvPr/>
        </p:nvGrpSpPr>
        <p:grpSpPr>
          <a:xfrm>
            <a:off x="4614840" y="6315120"/>
            <a:ext cx="3456000" cy="441360"/>
            <a:chOff x="4614840" y="6315120"/>
            <a:chExt cx="3456000" cy="441360"/>
          </a:xfrm>
        </p:grpSpPr>
        <p:pic>
          <p:nvPicPr>
            <p:cNvPr id="311" name="Picture 2" descr="\rm J  = {}\rm \frac{kg \cdot m^2}{s^2} = N \cdot m = \rm Pa \cdot m^3={}\rm W \cdot s = C \cdot V"/>
            <p:cNvPicPr/>
            <p:nvPr/>
          </p:nvPicPr>
          <p:blipFill>
            <a:blip r:embed="rId6"/>
            <a:stretch/>
          </p:blipFill>
          <p:spPr>
            <a:xfrm>
              <a:off x="4614840" y="6315120"/>
              <a:ext cx="33840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5"/>
            <p:cNvSpPr/>
            <p:nvPr/>
          </p:nvSpPr>
          <p:spPr>
            <a:xfrm>
              <a:off x="6126840" y="6360480"/>
              <a:ext cx="1944000" cy="3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5760" y="115920"/>
            <a:ext cx="22255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the five compaction tests shown in the table below find: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a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maximum dry unit weight of crushed limestone fill to be used as road base material,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ts OMC,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c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moisture range 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standard Proc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195640" y="2254320"/>
            <a:ext cx="6697440" cy="44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16" name="TextBox 1"/>
          <p:cNvSpPr/>
          <p:nvPr/>
        </p:nvSpPr>
        <p:spPr>
          <a:xfrm>
            <a:off x="176040" y="2940120"/>
            <a:ext cx="23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al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= 1/30 f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ft =30.4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516720" y="4475160"/>
            <a:ext cx="1728720" cy="2905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5133960" y="4210200"/>
            <a:ext cx="936720" cy="2905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343400" y="6429240"/>
            <a:ext cx="2376360" cy="2080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2"/>
          <p:cNvSpPr/>
          <p:nvPr/>
        </p:nvSpPr>
        <p:spPr>
          <a:xfrm>
            <a:off x="2556000" y="2924280"/>
            <a:ext cx="565452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2700360" y="3240000"/>
            <a:ext cx="1800360" cy="360360"/>
          </a:xfrm>
          <a:prstGeom prst="rect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>
            <a:off x="5678640" y="5305320"/>
            <a:ext cx="41904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6"/>
          <p:cNvSpPr/>
          <p:nvPr/>
        </p:nvSpPr>
        <p:spPr>
          <a:xfrm>
            <a:off x="2867040" y="5332320"/>
            <a:ext cx="429408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4360" y="115920"/>
            <a:ext cx="251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76200" y="59220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otechnical engineering practice, the soils at a given site are often less than desirable for the intended purpose. They may 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46440" y="1773360"/>
            <a:ext cx="41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ek (str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ly 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a high perm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0920" y="29005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181520" y="3267000"/>
            <a:ext cx="69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ocat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ticulate design for structur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bilize or improve the properties of the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5280" y="4437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ird alternative may be the most economical alternative. There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mprovement of soils (This subject is covered in detail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86 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provement of Geotechnical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71480" y="6093000"/>
            <a:ext cx="761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consider in this course onl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compac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94920" y="569880"/>
            <a:ext cx="837252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a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dry unit weight and water content at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tandard Proctor;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degree of saturation at maximum dry unit weight,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c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lot the zero air voids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669360" cy="4081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85400" y="115920"/>
            <a:ext cx="200988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86480" y="2276640"/>
            <a:ext cx="120456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7956720" y="2013120"/>
            <a:ext cx="122364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ist unit weight is directly g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435640" y="4392720"/>
            <a:ext cx="1657440" cy="2905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2"/>
          <p:cNvSpPr/>
          <p:nvPr/>
        </p:nvSpPr>
        <p:spPr>
          <a:xfrm>
            <a:off x="2987640" y="378936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0"/>
          <p:cNvSpPr/>
          <p:nvPr/>
        </p:nvSpPr>
        <p:spPr>
          <a:xfrm>
            <a:off x="3151080" y="41162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1"/>
          <p:cNvSpPr/>
          <p:nvPr/>
        </p:nvSpPr>
        <p:spPr>
          <a:xfrm>
            <a:off x="1566720" y="4284720"/>
            <a:ext cx="62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3"/>
          <p:cNvSpPr/>
          <p:nvPr/>
        </p:nvSpPr>
        <p:spPr>
          <a:xfrm>
            <a:off x="3943440" y="508464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3943440" y="1916280"/>
            <a:ext cx="3863880" cy="4856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7020000" y="5589720"/>
            <a:ext cx="287280" cy="19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4"/>
          <p:cNvCxnSpPr/>
          <p:nvPr/>
        </p:nvCxnSpPr>
        <p:spPr>
          <a:xfrm>
            <a:off x="7164000" y="4683240"/>
            <a:ext cx="1080" cy="90720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2149560" cy="52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476280" y="933480"/>
            <a:ext cx="8242200" cy="517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39" name="Straight Connector 2"/>
          <p:cNvSpPr/>
          <p:nvPr/>
        </p:nvSpPr>
        <p:spPr>
          <a:xfrm>
            <a:off x="2268360" y="1268280"/>
            <a:ext cx="17989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59840" cy="5556600"/>
          </a:xfrm>
          <a:prstGeom prst="rect">
            <a:avLst/>
          </a:prstGeom>
          <a:ln w="19080">
            <a:solidFill>
              <a:srgbClr val="7030a0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3456000" cy="52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5435640" y="3860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012000" y="3789360"/>
            <a:ext cx="0" cy="20876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755640" y="5792760"/>
            <a:ext cx="3889440" cy="58896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979640" y="2565360"/>
            <a:ext cx="2665440" cy="28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2"/>
          <p:cNvSpPr/>
          <p:nvPr/>
        </p:nvSpPr>
        <p:spPr>
          <a:xfrm>
            <a:off x="71280" y="5937120"/>
            <a:ext cx="648000" cy="30024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375480" y="40464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odified Proctor Test (ASTM D-1557, AASHTO T-180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1280" y="100008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evelopment of heavy rollers (also requirements of heavy aircrafts and trucks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ir use in field compac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ndard Proctor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modified for better representation of the field conditions. This is sometimes referred to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odified Proctor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60640" y="3068640"/>
            <a:ext cx="7563960" cy="197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ld 1/30 ft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volum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same as for standard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blow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same as for standard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lb h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9280" y="5194440"/>
            <a:ext cx="86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in WWII by U.S. Army Corps of Engineers to better represent the compaction required for airfield to support heav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ircra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5040360" cy="5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ified Proct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0" t="0" r="15129" b="0"/>
          <a:stretch/>
        </p:blipFill>
        <p:spPr>
          <a:xfrm>
            <a:off x="5508720" y="1647720"/>
            <a:ext cx="3317760" cy="22780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28"/>
          <p:cNvSpPr/>
          <p:nvPr/>
        </p:nvSpPr>
        <p:spPr>
          <a:xfrm>
            <a:off x="6492960" y="3289320"/>
            <a:ext cx="1581120" cy="330120"/>
          </a:xfrm>
          <a:prstGeom prst="rect">
            <a:avLst/>
          </a:pr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6819840" y="32716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7"/>
          <p:cNvSpPr/>
          <p:nvPr/>
        </p:nvSpPr>
        <p:spPr>
          <a:xfrm>
            <a:off x="6494400" y="2955960"/>
            <a:ext cx="1581120" cy="3301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6497640" y="2611440"/>
            <a:ext cx="1579680" cy="328680"/>
          </a:xfrm>
          <a:prstGeom prst="rect">
            <a:avLst/>
          </a:pr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6499080" y="2265480"/>
            <a:ext cx="1579680" cy="330120"/>
          </a:xfrm>
          <a:prstGeom prst="rect">
            <a:avLst/>
          </a:pr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0"/>
          <p:cNvSpPr/>
          <p:nvPr/>
        </p:nvSpPr>
        <p:spPr>
          <a:xfrm>
            <a:off x="6489720" y="1919160"/>
            <a:ext cx="1579680" cy="33048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1"/>
          <p:cNvSpPr/>
          <p:nvPr/>
        </p:nvSpPr>
        <p:spPr>
          <a:xfrm>
            <a:off x="6797520" y="2916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2"/>
          <p:cNvSpPr/>
          <p:nvPr/>
        </p:nvSpPr>
        <p:spPr>
          <a:xfrm>
            <a:off x="6799320" y="25938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3"/>
          <p:cNvSpPr/>
          <p:nvPr/>
        </p:nvSpPr>
        <p:spPr>
          <a:xfrm>
            <a:off x="6778800" y="223668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4"/>
          <p:cNvSpPr/>
          <p:nvPr/>
        </p:nvSpPr>
        <p:spPr>
          <a:xfrm>
            <a:off x="6815160" y="189072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7"/>
          <a:stretch/>
        </p:blipFill>
        <p:spPr>
          <a:xfrm>
            <a:off x="1216080" y="917640"/>
            <a:ext cx="3193920" cy="585612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47"/>
          <p:cNvCxnSpPr/>
          <p:nvPr/>
        </p:nvCxnSpPr>
        <p:spPr>
          <a:xfrm>
            <a:off x="3576240" y="1657440"/>
            <a:ext cx="1080" cy="48150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TextBox 48"/>
          <p:cNvSpPr/>
          <p:nvPr/>
        </p:nvSpPr>
        <p:spPr>
          <a:xfrm>
            <a:off x="3576600" y="3138480"/>
            <a:ext cx="225756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rop = 457.2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49"/>
          <p:cNvCxnSpPr/>
          <p:nvPr/>
        </p:nvCxnSpPr>
        <p:spPr>
          <a:xfrm>
            <a:off x="2107800" y="3312720"/>
            <a:ext cx="1080" cy="31280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8" name="TextBox 51"/>
          <p:cNvSpPr/>
          <p:nvPr/>
        </p:nvSpPr>
        <p:spPr>
          <a:xfrm>
            <a:off x="358920" y="4067280"/>
            <a:ext cx="186516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rop = 304.8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4"/>
          <p:cNvSpPr/>
          <p:nvPr/>
        </p:nvSpPr>
        <p:spPr>
          <a:xfrm>
            <a:off x="115920" y="5688000"/>
            <a:ext cx="173520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amm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5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g (5.5 l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5"/>
          <p:cNvSpPr/>
          <p:nvPr/>
        </p:nvSpPr>
        <p:spPr>
          <a:xfrm>
            <a:off x="3894120" y="5688000"/>
            <a:ext cx="194472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amm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9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g (10 l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883200" cy="40183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"/>
          <p:cNvSpPr/>
          <p:nvPr/>
        </p:nvSpPr>
        <p:spPr>
          <a:xfrm>
            <a:off x="3995640" y="2421000"/>
            <a:ext cx="3313080" cy="36036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4148280" y="4624560"/>
            <a:ext cx="3313080" cy="36036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939080" cy="671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7"/>
          <p:cNvSpPr/>
          <p:nvPr/>
        </p:nvSpPr>
        <p:spPr>
          <a:xfrm>
            <a:off x="179280" y="45813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it increases compactive effort, the modified Proctor test results in a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cr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maximum dry unit weight of the soil, and this is accompani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cr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optimum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9"/>
              <p:cNvSpPr txBox="1"/>
              <p:nvPr/>
            </p:nvSpPr>
            <p:spPr>
              <a:xfrm>
                <a:off x="684360" y="2093760"/>
                <a:ext cx="806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3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11"/>
          <p:cNvSpPr/>
          <p:nvPr/>
        </p:nvSpPr>
        <p:spPr>
          <a:xfrm>
            <a:off x="373320" y="1350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ompaction Energy for Unit Volume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303120" y="1479600"/>
            <a:ext cx="37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Procto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250920" y="3068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rocto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4"/>
              <p:cNvSpPr txBox="1"/>
              <p:nvPr/>
            </p:nvSpPr>
            <p:spPr>
              <a:xfrm>
                <a:off x="684360" y="3645000"/>
                <a:ext cx="8208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25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7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Text Box 15"/>
          <p:cNvSpPr/>
          <p:nvPr/>
        </p:nvSpPr>
        <p:spPr>
          <a:xfrm>
            <a:off x="250920" y="5877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In the field, compactive effort is the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number of passes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 the roller of a certain type and weight on a given volume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"/>
          <p:cNvSpPr/>
          <p:nvPr/>
        </p:nvSpPr>
        <p:spPr>
          <a:xfrm>
            <a:off x="7020000" y="255096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14"/>
          <p:cNvSpPr/>
          <p:nvPr/>
        </p:nvSpPr>
        <p:spPr>
          <a:xfrm>
            <a:off x="7128000" y="40910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455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5000760" cy="59212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3"/>
          <p:cNvSpPr/>
          <p:nvPr/>
        </p:nvSpPr>
        <p:spPr>
          <a:xfrm>
            <a:off x="4140360" y="386064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7"/>
          <p:cNvSpPr/>
          <p:nvPr/>
        </p:nvSpPr>
        <p:spPr>
          <a:xfrm>
            <a:off x="3465360" y="132228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3838680" y="4971960"/>
            <a:ext cx="936360" cy="217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84320" y="44280"/>
            <a:ext cx="3160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el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24000" y="5904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compaction in the field is done by mean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LL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50920" y="1413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common typ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24000" y="2014560"/>
            <a:ext cx="68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mooth-whee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rollers (smooth-drum rol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900000" y="2448000"/>
            <a:ext cx="457200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p to 380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good for thi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6" descr="ANd9GcT7iekB83eVFhowWFikM9I1-BYwV_qd-z7ULO0IPOkgv7J3-O53"/>
          <p:cNvPicPr/>
          <p:nvPr/>
        </p:nvPicPr>
        <p:blipFill>
          <a:blip r:embed="rId1"/>
          <a:stretch/>
        </p:blipFill>
        <p:spPr>
          <a:xfrm>
            <a:off x="4859280" y="3441600"/>
            <a:ext cx="4211640" cy="2916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ANd9GcQ8ucLYebzedVitaiKk7T70opvhtaIDxmWVrSA_nYQTbMgT8OrR"/>
          <p:cNvPicPr/>
          <p:nvPr/>
        </p:nvPicPr>
        <p:blipFill>
          <a:blip r:embed="rId2"/>
          <a:stretch/>
        </p:blipFill>
        <p:spPr>
          <a:xfrm>
            <a:off x="468360" y="3500280"/>
            <a:ext cx="3887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324000" y="26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neumatic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ubber-t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1116000" y="692280"/>
            <a:ext cx="66960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p to 70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% - 80%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bination o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kn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ANd9GcS-UpEpWGG5oa8_DI9ZGoJkWu9qtgqX1gdSWwGseC6UgQEW41Vb9A"/>
          <p:cNvPicPr/>
          <p:nvPr/>
        </p:nvPicPr>
        <p:blipFill>
          <a:blip r:embed="rId1"/>
          <a:stretch/>
        </p:blipFill>
        <p:spPr>
          <a:xfrm>
            <a:off x="1403280" y="2141640"/>
            <a:ext cx="5505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81080" y="328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ion is also very important when soil is used as an engineering material, that is the structure itself is made of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991600" y="1295280"/>
            <a:ext cx="19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arth 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ir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1280" y="3606840"/>
            <a:ext cx="79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action is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nsification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of soils by the applicat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chanica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0920" y="3192480"/>
            <a:ext cx="158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693720" y="4724280"/>
            <a:ext cx="82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gree of compaction is measured in terms of it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8"/>
          <p:cNvSpPr/>
          <p:nvPr/>
        </p:nvSpPr>
        <p:spPr>
          <a:xfrm>
            <a:off x="395280" y="26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. Sheepsfoot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2268360" y="69228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 effective in compacting clayey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0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1" descr="sheepsfoot-roller1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395280" y="26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. Vibratory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53964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fficient in compacting granular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5" descr=""/>
          <p:cNvPicPr/>
          <p:nvPr/>
        </p:nvPicPr>
        <p:blipFill>
          <a:blip r:embed="rId1"/>
          <a:stretch/>
        </p:blipFill>
        <p:spPr>
          <a:xfrm>
            <a:off x="4572000" y="2997360"/>
            <a:ext cx="3456000" cy="276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4" name="Picture 16" descr=""/>
          <p:cNvPicPr/>
          <p:nvPr/>
        </p:nvPicPr>
        <p:blipFill>
          <a:blip r:embed="rId2"/>
          <a:stretch/>
        </p:blipFill>
        <p:spPr>
          <a:xfrm>
            <a:off x="4429080" y="5950080"/>
            <a:ext cx="4248360" cy="49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05" name="Rectangle 19"/>
          <p:cNvSpPr/>
          <p:nvPr/>
        </p:nvSpPr>
        <p:spPr>
          <a:xfrm>
            <a:off x="539640" y="1484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brators can be attached to smooth-wheel, pneumatic rubber-tired, or sheepsfoot rollers to provide vibratory effects to the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ANd9GcTaTsCh8K0affXlL0heGV9Lcmbn08x_VPYPVyFu0aMqFHJ-vmYt"/>
          <p:cNvPicPr/>
          <p:nvPr/>
        </p:nvPicPr>
        <p:blipFill>
          <a:blip r:embed="rId1"/>
          <a:stretch/>
        </p:blipFill>
        <p:spPr>
          <a:xfrm>
            <a:off x="755640" y="2205000"/>
            <a:ext cx="3355920" cy="29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7" name="Picture 7" descr="ANd9GcS3cV5Pf2_pFpnlVhVfGRHBAnhK1YXQrKPShwTdO0fTV05_NlVryQ"/>
          <p:cNvPicPr/>
          <p:nvPr/>
        </p:nvPicPr>
        <p:blipFill>
          <a:blip r:embed="rId2"/>
          <a:stretch/>
        </p:blipFill>
        <p:spPr>
          <a:xfrm>
            <a:off x="6516720" y="2133720"/>
            <a:ext cx="2152440" cy="39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8" name="Text Box 8"/>
          <p:cNvSpPr/>
          <p:nvPr/>
        </p:nvSpPr>
        <p:spPr>
          <a:xfrm>
            <a:off x="324000" y="692280"/>
            <a:ext cx="830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andheld vibratory plates can be used for effective compaction of granular soils over a limited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2400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. Handheld vib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113760" y="185760"/>
            <a:ext cx="44082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ctors t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9640" y="1916280"/>
            <a:ext cx="81378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ickness of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of the pressure applied by the  compact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area over which the pressure i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o. of roller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08000" y="728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everal factors that must be considered to achieve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 weight of compaction in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ie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921120" cy="414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4" name="Picture 8" descr=""/>
          <p:cNvPicPr/>
          <p:nvPr/>
        </p:nvPicPr>
        <p:blipFill>
          <a:blip r:embed="rId2"/>
          <a:stretch/>
        </p:blipFill>
        <p:spPr>
          <a:xfrm>
            <a:off x="4906800" y="1046160"/>
            <a:ext cx="3722760" cy="41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5" name="Text Box 9"/>
          <p:cNvSpPr/>
          <p:nvPr/>
        </p:nvSpPr>
        <p:spPr>
          <a:xfrm>
            <a:off x="539640" y="5321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 of p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932360" y="530064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 of pa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p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 flipH="1">
            <a:off x="7596000" y="620640"/>
            <a:ext cx="144360" cy="1440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5796000" y="4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ck of confining pressure towards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"/>
          <p:cNvSpPr/>
          <p:nvPr/>
        </p:nvSpPr>
        <p:spPr>
          <a:xfrm flipH="1">
            <a:off x="6227280" y="620640"/>
            <a:ext cx="151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"/>
          <p:cNvSpPr/>
          <p:nvPr/>
        </p:nvSpPr>
        <p:spPr>
          <a:xfrm>
            <a:off x="5307480" y="638172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mportant thickness of l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"/>
          <p:cNvSpPr/>
          <p:nvPr/>
        </p:nvSpPr>
        <p:spPr>
          <a:xfrm>
            <a:off x="5796000" y="328464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>
            <a:off x="7020000" y="3284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7655040" y="3284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7"/>
          <p:cNvCxnSpPr/>
          <p:nvPr/>
        </p:nvCxnSpPr>
        <p:spPr>
          <a:xfrm>
            <a:off x="7910280" y="2491920"/>
            <a:ext cx="1080" cy="2089800"/>
          </a:xfrm>
          <a:prstGeom prst="straightConnector1">
            <a:avLst/>
          </a:prstGeom>
          <a:ln w="38160">
            <a:solidFill>
              <a:srgbClr val="000000"/>
            </a:solidFill>
            <a:prstDash val="lg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-2520" y="907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Establishing Fiel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79520" y="1676520"/>
            <a:ext cx="7950240" cy="46432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6480" y="282600"/>
            <a:ext cx="6243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 for Fiel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695160" y="1238400"/>
            <a:ext cx="805356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46680" y="404640"/>
            <a:ext cx="35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Compa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50920" y="11592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ually it is required for the contractor to achieve a compacted field dry unit weight of sa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90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to 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the maximum dry unit weight determined in the laboratory by either the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standa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modifi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roctor test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call previous exampl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64240" y="20350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Relative compaction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1"/>
          <a:stretch/>
        </p:blipFill>
        <p:spPr>
          <a:xfrm>
            <a:off x="4067280" y="1752480"/>
            <a:ext cx="3168720" cy="110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3" name="Picture 9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3456000" cy="7686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434" name="Text Box 10"/>
          <p:cNvSpPr/>
          <p:nvPr/>
        </p:nvSpPr>
        <p:spPr>
          <a:xfrm>
            <a:off x="324000" y="30481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Arial"/>
              </a:rPr>
              <a:t>granular soi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pecifications can be expressed in terms of relative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1" descr=""/>
          <p:cNvPicPr/>
          <p:nvPr/>
        </p:nvPicPr>
        <p:blipFill>
          <a:blip r:embed="rId3"/>
          <a:stretch/>
        </p:blipFill>
        <p:spPr>
          <a:xfrm>
            <a:off x="1187280" y="5259240"/>
            <a:ext cx="2376720" cy="97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6" name="Picture 12" descr=""/>
          <p:cNvPicPr/>
          <p:nvPr/>
        </p:nvPicPr>
        <p:blipFill>
          <a:blip r:embed="rId4"/>
          <a:stretch/>
        </p:blipFill>
        <p:spPr>
          <a:xfrm>
            <a:off x="5219640" y="5240160"/>
            <a:ext cx="1589040" cy="78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7" name="Text Box 13"/>
          <p:cNvSpPr/>
          <p:nvPr/>
        </p:nvSpPr>
        <p:spPr>
          <a:xfrm>
            <a:off x="3926160" y="5510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4" descr=""/>
          <p:cNvPicPr/>
          <p:nvPr/>
        </p:nvPicPr>
        <p:blipFill>
          <a:blip r:embed="rId5"/>
          <a:stretch/>
        </p:blipFill>
        <p:spPr>
          <a:xfrm>
            <a:off x="6372360" y="6165720"/>
            <a:ext cx="1942920" cy="5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9" name="Text Box 15"/>
          <p:cNvSpPr/>
          <p:nvPr/>
        </p:nvSpPr>
        <p:spPr>
          <a:xfrm>
            <a:off x="900000" y="62373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 formula for granular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6013440" y="371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plicable if the soil contains less than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2%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ines (passing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o. 20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5003280" y="4076640"/>
            <a:ext cx="1009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7671960" y="198900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5081760" y="407664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214200" y="475776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(a) an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461016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258120" y="138240"/>
            <a:ext cx="4600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nomy an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250920" y="765000"/>
            <a:ext cx="83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actor is expected to reach the minimum dry unit weight regardless of the field procedure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ANd9GcQ8ucLYebzedVitaiKk7T70opvhtaIDxmWVrSA_nYQTbMgT8OrR"/>
          <p:cNvPicPr/>
          <p:nvPr/>
        </p:nvPicPr>
        <p:blipFill>
          <a:blip r:embed="rId2"/>
          <a:stretch/>
        </p:blipFill>
        <p:spPr>
          <a:xfrm>
            <a:off x="4932360" y="1628640"/>
            <a:ext cx="3887640" cy="2587680"/>
          </a:xfrm>
          <a:prstGeom prst="rect">
            <a:avLst/>
          </a:prstGeom>
          <a:ln w="0">
            <a:noFill/>
          </a:ln>
        </p:spPr>
      </p:pic>
      <p:sp>
        <p:nvSpPr>
          <p:cNvPr id="449" name="Oval 1"/>
          <p:cNvSpPr/>
          <p:nvPr/>
        </p:nvSpPr>
        <p:spPr>
          <a:xfrm>
            <a:off x="1332000" y="3716280"/>
            <a:ext cx="647640" cy="42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5"/>
          <p:cNvCxnSpPr>
            <a:endCxn id="449" idx="4"/>
          </p:cNvCxnSpPr>
          <p:nvPr/>
        </p:nvCxnSpPr>
        <p:spPr>
          <a:xfrm flipV="1">
            <a:off x="971640" y="4144320"/>
            <a:ext cx="68472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TextBox 7"/>
          <p:cNvSpPr/>
          <p:nvPr/>
        </p:nvSpPr>
        <p:spPr>
          <a:xfrm>
            <a:off x="116280" y="4653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188640" y="84240"/>
            <a:ext cx="7399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termination of Field Unit Weight of 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97800" y="11970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mon Method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54000" y="156672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Sand cone method (ASTM Designation D-15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6910560" y="2286000"/>
            <a:ext cx="2162160" cy="29052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2"/>
          <p:cNvSpPr/>
          <p:nvPr/>
        </p:nvSpPr>
        <p:spPr>
          <a:xfrm>
            <a:off x="546120" y="2719440"/>
            <a:ext cx="6186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eigh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ling the 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179280" y="214308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illing the jar with very uniform dr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ttaw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179280" y="35830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cavating a small hole in the area where the soil has been compa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546120" y="4446720"/>
            <a:ext cx="5977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weight of the moist soil excavated from the 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546120" y="5383080"/>
            <a:ext cx="44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the dry weight of the soi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7" descr=""/>
          <p:cNvPicPr/>
          <p:nvPr/>
        </p:nvPicPr>
        <p:blipFill>
          <a:blip r:embed="rId2"/>
          <a:stretch/>
        </p:blipFill>
        <p:spPr>
          <a:xfrm>
            <a:off x="4861080" y="5238720"/>
            <a:ext cx="2089080" cy="101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2" name="Text Box 18"/>
          <p:cNvSpPr/>
          <p:nvPr/>
        </p:nvSpPr>
        <p:spPr>
          <a:xfrm>
            <a:off x="539640" y="60310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moistur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396720" y="55080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e know that both relative compaction or relative density are both need determination of dry density in the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7468560" y="5589720"/>
            <a:ext cx="125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al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W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W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6"/>
          <p:cNvSpPr/>
          <p:nvPr/>
        </p:nvSpPr>
        <p:spPr>
          <a:xfrm>
            <a:off x="2198520" y="5510160"/>
            <a:ext cx="1366920" cy="67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201760" y="4929120"/>
            <a:ext cx="1365480" cy="571680"/>
          </a:xfrm>
          <a:prstGeom prst="rect">
            <a:avLst/>
          </a:prstGeom>
          <a:solidFill>
            <a:srgbClr val="93e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203560" y="4191120"/>
            <a:ext cx="1349280" cy="7318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"/>
          <p:cNvPicPr/>
          <p:nvPr/>
        </p:nvPicPr>
        <p:blipFill>
          <a:blip r:embed="rId2"/>
          <a:stretch/>
        </p:blipFill>
        <p:spPr>
          <a:xfrm>
            <a:off x="717480" y="4105440"/>
            <a:ext cx="1266840" cy="2203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1"/>
          <p:cNvSpPr/>
          <p:nvPr/>
        </p:nvSpPr>
        <p:spPr>
          <a:xfrm>
            <a:off x="2476440" y="434016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409840" y="49910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2446200" y="56181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175520" y="5511960"/>
            <a:ext cx="1366920" cy="67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7169040" y="4930920"/>
            <a:ext cx="1365480" cy="571320"/>
          </a:xfrm>
          <a:prstGeom prst="rect">
            <a:avLst/>
          </a:prstGeom>
          <a:solidFill>
            <a:srgbClr val="93e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7169040" y="4525920"/>
            <a:ext cx="1365480" cy="3999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"/>
          <p:cNvPicPr/>
          <p:nvPr/>
        </p:nvPicPr>
        <p:blipFill>
          <a:blip r:embed="rId4"/>
          <a:stretch/>
        </p:blipFill>
        <p:spPr>
          <a:xfrm>
            <a:off x="5695920" y="4468680"/>
            <a:ext cx="1266840" cy="1830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8"/>
          <p:cNvSpPr/>
          <p:nvPr/>
        </p:nvSpPr>
        <p:spPr>
          <a:xfrm>
            <a:off x="7456320" y="44928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7388280" y="49928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7424640" y="5619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2"/>
          <p:cNvSpPr/>
          <p:nvPr/>
        </p:nvSpPr>
        <p:spPr>
          <a:xfrm>
            <a:off x="1758960" y="618156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5"/>
          <p:cNvSpPr/>
          <p:nvPr/>
        </p:nvSpPr>
        <p:spPr>
          <a:xfrm>
            <a:off x="1784520" y="4192560"/>
            <a:ext cx="34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38"/>
          <p:cNvSpPr/>
          <p:nvPr/>
        </p:nvSpPr>
        <p:spPr>
          <a:xfrm>
            <a:off x="3992400" y="5024520"/>
            <a:ext cx="1482840" cy="56664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865680" y="46213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o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ompaction"/>
          <p:cNvPicPr/>
          <p:nvPr/>
        </p:nvPicPr>
        <p:blipFill>
          <a:blip r:embed="rId5"/>
          <a:stretch/>
        </p:blipFill>
        <p:spPr>
          <a:xfrm>
            <a:off x="711360" y="2030400"/>
            <a:ext cx="3528720" cy="153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0" name="Picture 8" descr="Particle sizes in soil"/>
          <p:cNvPicPr/>
          <p:nvPr/>
        </p:nvPicPr>
        <p:blipFill>
          <a:blip r:embed="rId6"/>
          <a:stretch/>
        </p:blipFill>
        <p:spPr>
          <a:xfrm>
            <a:off x="5032440" y="590400"/>
            <a:ext cx="3456000" cy="2982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5013720" y="14940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You remember well 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1"/>
          <p:cNvSpPr/>
          <p:nvPr/>
        </p:nvSpPr>
        <p:spPr>
          <a:xfrm>
            <a:off x="611280" y="1125360"/>
            <a:ext cx="568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ombined weigh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ai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ling the j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376720" cy="52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7" name="Text Box 13"/>
          <p:cNvSpPr/>
          <p:nvPr/>
        </p:nvSpPr>
        <p:spPr>
          <a:xfrm>
            <a:off x="611280" y="1916280"/>
            <a:ext cx="59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eight of san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the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o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11280" y="328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the volume of the excavated h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6" descr=""/>
          <p:cNvPicPr/>
          <p:nvPr/>
        </p:nvPicPr>
        <p:blipFill>
          <a:blip r:embed="rId2"/>
          <a:stretch/>
        </p:blipFill>
        <p:spPr>
          <a:xfrm>
            <a:off x="1763640" y="3860640"/>
            <a:ext cx="2046240" cy="85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0" name="Text Box 20"/>
          <p:cNvSpPr/>
          <p:nvPr/>
        </p:nvSpPr>
        <p:spPr>
          <a:xfrm>
            <a:off x="250920" y="333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cone with the sand-filled jar attached to it is inverted and placed over the 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1" descr=""/>
          <p:cNvPicPr/>
          <p:nvPr/>
        </p:nvPicPr>
        <p:blipFill>
          <a:blip r:embed="rId3"/>
          <a:stretch/>
        </p:blipFill>
        <p:spPr>
          <a:xfrm>
            <a:off x="6459480" y="404640"/>
            <a:ext cx="2684520" cy="2735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3"/>
          <p:cNvSpPr/>
          <p:nvPr/>
        </p:nvSpPr>
        <p:spPr>
          <a:xfrm>
            <a:off x="4307400" y="3933720"/>
            <a:ext cx="489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weight of sand to fill 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5"/>
              <p:cNvSpPr txBox="1"/>
              <p:nvPr/>
            </p:nvSpPr>
            <p:spPr>
              <a:xfrm>
                <a:off x="4356000" y="4581360"/>
                <a:ext cx="4572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nd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ry unit weight of Ottawa sand us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26"/>
          <p:cNvSpPr/>
          <p:nvPr/>
        </p:nvSpPr>
        <p:spPr>
          <a:xfrm>
            <a:off x="395280" y="5084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dry unit weight of compaction made in the field is determin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7"/>
              <p:cNvSpPr txBox="1"/>
              <p:nvPr/>
            </p:nvSpPr>
            <p:spPr>
              <a:xfrm>
                <a:off x="3541680" y="5516640"/>
                <a:ext cx="22986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eld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3"/>
          <p:cNvSpPr/>
          <p:nvPr/>
        </p:nvSpPr>
        <p:spPr>
          <a:xfrm>
            <a:off x="-19800" y="333360"/>
            <a:ext cx="87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Rubber Balloon Method (ASTM Designation D-21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428920" cy="2681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3600720" cy="8287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75564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sand cone method except that the volume of the hole is determined by introducing into it a rubber ballo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lled with w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 calibrated ves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4829040" cy="82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-110160" y="15732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Nuclea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231840" y="61452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Nuclear density meter (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ensometer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250920" y="1989000"/>
            <a:ext cx="47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he weight of wet soil per unit volume and the weight of water present in a unit volume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ANd9GcR0w8U4rierh6td9NQzv2mneWXLhE2HPJlgO-z3yqOSOhprT7n9WQ"/>
          <p:cNvPicPr/>
          <p:nvPr/>
        </p:nvPicPr>
        <p:blipFill>
          <a:blip r:embed="rId1"/>
          <a:stretch/>
        </p:blipFill>
        <p:spPr>
          <a:xfrm>
            <a:off x="5651640" y="957240"/>
            <a:ext cx="308124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250920" y="3328920"/>
            <a:ext cx="47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y unit weight of compacted soil can be determined by subtracting the weight of water from the moist unit weight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250920" y="1268280"/>
            <a:ext cx="47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soil absorbs more radiation than loose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615240" y="50594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ASTM D6938 -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03360" y="5398920"/>
            <a:ext cx="72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Tahoma"/>
              </a:rPr>
              <a:t>Standard Test Methods for In-Place Density and Water Content of Soil and Soil-Aggregate by Nuclear Methods (Shallow Dep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81440" y="173160"/>
            <a:ext cx="3105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692280"/>
            <a:ext cx="84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gree of compaction of soil is measured by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When water is added during compaction it acts as a softening agent on the soil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9"/>
          <p:cNvGrpSpPr/>
          <p:nvPr/>
        </p:nvGrpSpPr>
        <p:grpSpPr>
          <a:xfrm>
            <a:off x="755640" y="1989000"/>
            <a:ext cx="4392720" cy="4032360"/>
            <a:chOff x="755640" y="1989000"/>
            <a:chExt cx="4392720" cy="4032360"/>
          </a:xfrm>
        </p:grpSpPr>
        <p:pic>
          <p:nvPicPr>
            <p:cNvPr id="85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43927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6"/>
            <p:cNvSpPr/>
            <p:nvPr/>
          </p:nvSpPr>
          <p:spPr>
            <a:xfrm>
              <a:off x="2934360" y="2774520"/>
              <a:ext cx="12261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il 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1473840" y="4136760"/>
              <a:ext cx="12261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il 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3520080" y="3458160"/>
              <a:ext cx="776520" cy="3682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0"/>
          <p:cNvSpPr/>
          <p:nvPr/>
        </p:nvSpPr>
        <p:spPr>
          <a:xfrm>
            <a:off x="684360" y="59500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um moisture cont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OM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ater content at which the maximum dry unit weight              is at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1"/>
              <p:cNvSpPr txBox="1"/>
              <p:nvPr/>
            </p:nvSpPr>
            <p:spPr>
              <a:xfrm>
                <a:off x="5580000" y="6165720"/>
                <a:ext cx="93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Line 13"/>
          <p:cNvSpPr/>
          <p:nvPr/>
        </p:nvSpPr>
        <p:spPr>
          <a:xfrm flipV="1">
            <a:off x="2800440" y="2766960"/>
            <a:ext cx="0" cy="216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859280" y="2205000"/>
            <a:ext cx="408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When the moisture content is gradually increased, the weight of the soil solids in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it volume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gradually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"/>
          <p:cNvSpPr/>
          <p:nvPr/>
        </p:nvSpPr>
        <p:spPr>
          <a:xfrm flipH="1">
            <a:off x="1763280" y="3586320"/>
            <a:ext cx="10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1258560" y="2249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86000" y="1974960"/>
            <a:ext cx="75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libri"/>
              </a:rPr>
              <a:t>d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0"/>
          <p:cNvCxnSpPr/>
          <p:nvPr/>
        </p:nvCxnSpPr>
        <p:spPr>
          <a:xfrm>
            <a:off x="3908520" y="4927680"/>
            <a:ext cx="1095840" cy="102312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48760" y="115920"/>
            <a:ext cx="727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Types of Compaction Methods in the Labora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35120" y="565200"/>
            <a:ext cx="67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act or dynam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 most common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n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501160" y="5734080"/>
            <a:ext cx="36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ifie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79280" y="1752480"/>
            <a:ext cx="830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boratory test generally used to obtain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ight of compaction and the optimum moisture content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ctor compaction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79280" y="5732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methods o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79280" y="342900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amed after R. R. Proctor (engineer in LA). He established that compaction is a function of four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463840" y="4292640"/>
            <a:ext cx="36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y density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istu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ctiv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06680" y="476280"/>
            <a:ext cx="5578560" cy="4003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12680" y="442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ndard Proct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33360" y="549360"/>
            <a:ext cx="36655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ld 1/30 ft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 b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.5 lb h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2 inch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215600" y="4654440"/>
            <a:ext cx="715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559560" y="4653000"/>
            <a:ext cx="1092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18160" y="5013360"/>
            <a:ext cx="5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95280" y="515772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dure for the standard Proctor test is elaborated in ASTM Test Designa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-6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STM, 2007) and AASHTO Test Designa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-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ASHTO, 198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ANd9GcT87TOQM0XUSbrIrygmb3m36nxYhQtrCQk9bbcute1Gyd_T-Y-A0Q"/>
          <p:cNvPicPr/>
          <p:nvPr/>
        </p:nvPicPr>
        <p:blipFill>
          <a:blip r:embed="rId1"/>
          <a:stretch/>
        </p:blipFill>
        <p:spPr>
          <a:xfrm>
            <a:off x="5867280" y="836640"/>
            <a:ext cx="2371680" cy="466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Nd9GcTuz2-VqE5FCi77xLXF8S5GpLsrBdC5xiwY7WCmKPl97ozu0Pc"/>
          <p:cNvPicPr/>
          <p:nvPr/>
        </p:nvPicPr>
        <p:blipFill>
          <a:blip r:embed="rId2"/>
          <a:stretch/>
        </p:blipFill>
        <p:spPr>
          <a:xfrm>
            <a:off x="900000" y="1052640"/>
            <a:ext cx="4114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3760" y="115920"/>
            <a:ext cx="4149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 of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79280" y="7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amples are mixed at different water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1332000" y="1557360"/>
                <a:ext cx="1368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i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5"/>
          <p:cNvSpPr/>
          <p:nvPr/>
        </p:nvSpPr>
        <p:spPr>
          <a:xfrm>
            <a:off x="324000" y="2492280"/>
            <a:ext cx="5327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 Weight of compacted soil in the m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olume of the mold = (1/3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771640" y="4941720"/>
                <a:ext cx="1368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is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4213080" y="6093000"/>
                <a:ext cx="93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5610240" y="2708280"/>
            <a:ext cx="3425760" cy="3719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according to the compaction test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nd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odifi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9280" y="34290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est find the moisture content of the compact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79280" y="43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y unit weight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79280" y="61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lot, fi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179280" y="5516640"/>
            <a:ext cx="5112000" cy="480960"/>
            <a:chOff x="179280" y="5516640"/>
            <a:chExt cx="5112000" cy="480960"/>
          </a:xfrm>
        </p:grpSpPr>
        <p:sp>
          <p:nvSpPr>
            <p:cNvPr id="125" name="Rectangle 12"/>
            <p:cNvSpPr/>
            <p:nvPr/>
          </p:nvSpPr>
          <p:spPr>
            <a:xfrm>
              <a:off x="179280" y="5589720"/>
              <a:ext cx="51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06440" indent="-406440" algn="just">
                <a:buClr>
                  <a:srgbClr val="ff0000"/>
                </a:buClr>
                <a:buFont typeface="Wingdings 2" charset="2"/>
                <a:buChar char="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        vs. 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14"/>
                <p:cNvSpPr txBox="1"/>
                <p:nvPr/>
              </p:nvSpPr>
              <p:spPr>
                <a:xfrm>
                  <a:off x="1332000" y="5516640"/>
                  <a:ext cx="480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14T17:33:43Z</cp:lastPrinted>
  <dcterms:modified xsi:type="dcterms:W3CDTF">2017-09-15T11:58:57Z</dcterms:modified>
  <cp:revision>176</cp:revision>
  <dc:subject/>
  <dc:title>Slide 1</dc:title>
</cp:coreProperties>
</file>