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DAB-9CD3-4158-8D22-3A98E39A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86A-FBE2-4377-A629-D00DAA4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376-3C36-4C80-A4E6-547D3D6C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118-4B4A-40EB-89F5-095BB80C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799-26F8-4AB0-8446-0C47BE06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870E-A451-42FA-8363-55D96F7B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45B0-013A-40C2-813F-0B35EA52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0F6D-555F-4A6E-AEFE-B7BF0DD4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027D-3B5D-452F-8D79-3AABDB52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3A66-1DA8-407A-A243-190B23F4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45DE-479D-4C89-85CB-2C541C93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DEC-A268-437C-AF31-32B4CB48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FF93-41C8-4958-9DAD-A9807DDD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6264-C0EE-4B16-894B-5E528CDB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3FB4-440B-4E05-90DD-64C8023D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B2D1-CDC9-46FE-90D0-668F9699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EFAB-30EE-4DCE-9D5E-9025A38A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42B-F340-463E-BDC0-7D113F37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362-94BA-41C5-AF87-B8AC00B3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CF1-4D0D-4D36-9449-86F73C45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8DD-9407-4C54-9727-ACE5E766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14B-20DA-4B86-976F-569AB4A9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F37-0050-403E-A0F4-BA3CBE2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E79-94AD-4686-BF61-14152C78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6F7E-3809-433B-8B32-5C27FE59DC6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F680-AD1A-40DD-BDB5-816E98386F1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669999"/>
                </a:solidFill>
                <a:latin typeface="Arial"/>
              </a:rPr>
              <a:t>المحاضرة الثامنة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08360" y="836280"/>
            <a:ext cx="3960720" cy="711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9999"/>
                </a:solidFill>
                <a:latin typeface="Arial"/>
              </a:rPr>
              <a:t>الانقسام الخلوي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2844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0066"/>
                </a:solidFill>
                <a:latin typeface="Arial"/>
              </a:rPr>
              <a:t>الانشطار الثائي: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inary f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شكل من أشكال التكاثر اللاجنسي, لأنه لايتضمن مساهمات وراثية من جاميطات مختلفة وبواسطته تتكاثر البكتيريا إذ لايوجد في الكائنات الحية بدائية النواة انقسام ميتوزي أوميوزي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بعض أنواع البكتيريا تنقسم كل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دقيقة ومثالها بكتيريا القولون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قبل انقسام الخلايا البكتيرية يتم تضاعف مادتها الوراثية </a:t>
            </a:r>
            <a:br>
              <a:rPr sz="2600"/>
            </a:b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(الدنا الكروموسومي)         نسختان متطابقتان من المادة الوراث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بعد هذا التضاعف , تنقسم الخلية البكتيرية الى خليتين اختيتين بواسطة الانشطار الثائي. 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(راجع الشكل 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28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076360" y="5084640"/>
            <a:ext cx="647640" cy="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405400" cy="61200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6264360"/>
          </a:xfrm>
          <a:prstGeom prst="rect">
            <a:avLst/>
          </a:prstGeom>
          <a:noFill/>
          <a:ln w="2844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600" spc="-1" strike="noStrike">
                <a:solidFill>
                  <a:srgbClr val="cccc00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cccc00"/>
                </a:solidFill>
                <a:latin typeface="Arial"/>
              </a:rPr>
              <a:t>. الانقسام الميتوزي (الخيطي) :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i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شكل من اشكال الانقسام النووي الذي يؤدي إلى إنتاج  خليتين متماثلتين وراثيا ومماثلة للخلية الأص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نقسام الخلية يعني: الانقسام النووي +انقسام السيتوبلاز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                       (ميتوزي /ميوزي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يمكن تلخيص المخطط العام للانقسام الميتوزي في الات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ن,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ج                          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 ن                        متماثلتان وراثي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                                   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4</a:t>
            </a:r>
            <a:r>
              <a:rPr b="0" lang="ar-SA" sz="2600" spc="-1" strike="noStrike">
                <a:solidFill>
                  <a:srgbClr val="669999"/>
                </a:solidFill>
                <a:latin typeface="Arial"/>
              </a:rPr>
              <a:t>ج                        </a:t>
            </a:r>
            <a:r>
              <a:rPr b="0" lang="ar-SA" sz="2200" spc="-1" strike="noStrike">
                <a:solidFill>
                  <a:srgbClr val="669999"/>
                </a:solidFill>
                <a:latin typeface="Arial"/>
              </a:rPr>
              <a:t>ومماثلة للخلية الاص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راجع مراحل الانقسام الميتوزي من الشكل رقم(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29</a:t>
            </a:r>
            <a:r>
              <a:rPr b="0" lang="ar-SA" sz="26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8720" y="3573360"/>
            <a:ext cx="115092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573360"/>
            <a:ext cx="576360" cy="57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724360" y="4581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62692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380360" y="3716280"/>
            <a:ext cx="100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330066"/>
                </a:solidFill>
                <a:latin typeface="Arial Black"/>
              </a:rPr>
              <a:t>الخلية الاصل</a:t>
            </a:r>
            <a:endParaRPr b="1" lang="en-US" sz="1400" spc="1" strike="noStrike">
              <a:ln w="9360">
                <a:solidFill>
                  <a:srgbClr val="330066"/>
                </a:solidFill>
                <a:miter/>
              </a:ln>
              <a:solidFill>
                <a:srgbClr val="330066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3573360"/>
            <a:ext cx="115092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867280" y="3933720"/>
            <a:ext cx="10764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تضاعف المادة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724360" y="4724280"/>
            <a:ext cx="14479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الوراثية خلال الفترة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S</a:t>
            </a: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من دورة الخلية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916360" y="4005360"/>
            <a:ext cx="1079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مراحل الانقسام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16360" y="4797360"/>
            <a:ext cx="93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الميتوزي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78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8800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03280" y="3213000"/>
            <a:ext cx="1079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خليتان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4292640"/>
            <a:ext cx="576360" cy="574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7280" y="3716280"/>
            <a:ext cx="4114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2</a:t>
            </a:r>
            <a:r>
              <a:rPr b="0" lang="hi-IN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ن</a:t>
            </a:r>
            <a:endParaRPr b="0" lang="en-US" sz="1600" spc="1" strike="noStrike">
              <a:ln w="9360">
                <a:solidFill>
                  <a:srgbClr val="7e9ce8"/>
                </a:solidFill>
                <a:miter/>
              </a:ln>
              <a:solidFill>
                <a:srgbClr val="7e9ce8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2</a:t>
            </a:r>
            <a:r>
              <a:rPr b="0" lang="hi-IN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ج</a:t>
            </a:r>
            <a:endParaRPr b="0" lang="en-US" sz="1600" spc="1" strike="noStrike">
              <a:ln w="9360">
                <a:solidFill>
                  <a:srgbClr val="7e9ce8"/>
                </a:solidFill>
                <a:miter/>
              </a:ln>
              <a:solidFill>
                <a:srgbClr val="7e9ce8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4365720"/>
            <a:ext cx="4114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2</a:t>
            </a:r>
            <a:r>
              <a:rPr b="0" lang="hi-IN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ن</a:t>
            </a:r>
            <a:endParaRPr b="0" lang="en-US" sz="1600" spc="1" strike="noStrike">
              <a:ln w="9360">
                <a:solidFill>
                  <a:srgbClr val="7e9ce8"/>
                </a:solidFill>
                <a:miter/>
              </a:ln>
              <a:solidFill>
                <a:srgbClr val="7e9ce8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2</a:t>
            </a:r>
            <a:r>
              <a:rPr b="0" lang="hi-IN" sz="1600" spc="1" strike="noStrike">
                <a:ln w="9360">
                  <a:solidFill>
                    <a:srgbClr val="7e9ce8"/>
                  </a:solidFill>
                  <a:miter/>
                </a:ln>
                <a:solidFill>
                  <a:srgbClr val="7e9ce8"/>
                </a:solidFill>
                <a:latin typeface="Arial Black"/>
              </a:rPr>
              <a:t>ج</a:t>
            </a:r>
            <a:endParaRPr b="0" lang="en-US" sz="1600" spc="1" strike="noStrike">
              <a:ln w="9360">
                <a:solidFill>
                  <a:srgbClr val="7e9ce8"/>
                </a:solidFill>
                <a:miter/>
              </a:ln>
              <a:solidFill>
                <a:srgbClr val="7e9ce8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422100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400720" cy="64231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6994800" cy="868320"/>
          </a:xfrm>
          <a:prstGeom prst="rect">
            <a:avLst/>
          </a:prstGeom>
          <a:noFill/>
          <a:ln w="5724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669999"/>
                </a:solidFill>
                <a:latin typeface="Arial"/>
              </a:rPr>
              <a:t>الأهمية الوراثية للانقسام الميتوزي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411800"/>
          </a:xfrm>
          <a:prstGeom prst="rect">
            <a:avLst/>
          </a:prstGeom>
          <a:noFill/>
          <a:ln w="2844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إنتاج خلايا بنوية متماثلة وراثيا ومماثلة للخلية الاصل. وهذا مهم في تكوين الكائنات الحية متعددة الخلايا ونموها وتعويض مايفقد من خلايا . كما أنه الطريقة الرئيسية للتكاثر في الأوليا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راجع الشكلين رقم(</a:t>
            </a: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30</a:t>
            </a: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-</a:t>
            </a: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31</a:t>
            </a:r>
            <a:r>
              <a:rPr b="0" lang="ar-SA" sz="3000" spc="-1" strike="noStrike">
                <a:solidFill>
                  <a:srgbClr val="330066"/>
                </a:solidFill>
                <a:latin typeface="Arial"/>
              </a:rPr>
              <a:t>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للتعرف على الفرق بين الخلايا النباتية والخلايا الحيوانية في انقسام السيتوبلاز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876840" cy="60721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844800" cy="52704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26:49Z</dcterms:created>
  <dc:creator>هلا</dc:creator>
  <dc:description/>
  <dc:language>en-US</dc:language>
  <cp:lastModifiedBy>هلا</cp:lastModifiedBy>
  <dcterms:modified xsi:type="dcterms:W3CDTF">2007-11-13T19:16:47Z</dcterms:modified>
  <cp:revision>2</cp:revision>
  <dc:subject/>
  <dc:title>المحاضرة الثامنة</dc:title>
</cp:coreProperties>
</file>