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DC01-A6D9-4925-A7B4-3DB0AAA68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EBD3-1C83-4078-B097-B5075CA15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6E6F-9EC1-4611-B9D2-5FD17C525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9A7E-CC95-48E9-92B6-728DA1E13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86E4-EC58-4C6F-A2BA-AE40D20EB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377D-E9A9-4C6D-A9A1-F25E20889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0AF6-829B-4AD4-B300-E599FDB3F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8C55-DC61-46DD-82E3-E104B8697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7A6D-22D0-485B-B478-DC5051089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3C35-4C8D-4F82-A761-6B794D422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7592-F6DE-4272-9EBA-18F4B6B73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B0FE-B075-4410-97BC-B146ABABA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9957-987B-422F-BDC7-4AF26F395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5216-6871-40E9-B40B-25182F9EB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3B8D-BD42-4966-B519-107E7909F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79AB-C35E-4DFC-B033-0C0CEC190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6694-D724-4FCD-A2AD-E2496FB5D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46E6-4AC8-41C2-9E6A-BDEC02BC6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BDBE-EEB6-4D86-88D4-AE596218E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E3AF-971D-441F-BCA4-34DA3090B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A6B8-F8A9-49FA-BBC2-A1341864F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0C47-D393-410B-8B9E-5C05719AF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4003-60E0-44BA-9FCB-AF2F411AC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9CA9-BD84-45F2-9E38-EB85F8C9F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F8C9-177E-4B8F-AB05-39EADEEE7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3A58-AFD6-44D9-AFCC-EFA43BF2D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2823-3C5D-44B4-84BF-82A3EBB89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B77F-429A-4B41-8DE9-FC8901AC3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5749-028E-48AB-8D5C-14D14D491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97F1-65D1-4114-9E31-60D6B7CF6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7865-8F93-475B-B49A-4A3770F0C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9033-81BA-45DD-8A2E-6A0CA95D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9068-47A0-4C40-AAF0-C33441CDC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C356-38E2-485C-9968-9415FB728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94E7E-FAB3-40C0-8EF1-0D26EA9695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FB411-1C02-49A1-9192-5950E7EA00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F74B8-71F1-4467-A935-F1C2089A68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264E9-A6A0-4BA9-80CC-0B5A98AFCA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3AF47-5C1C-4922-A463-FB05D0DC63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28480-A75E-4C0C-89E3-82E70A3C28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1C2A8-2699-4D97-9FD0-0A0FCAA06D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C16A-BBE9-48FA-9839-8ADE9735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7FD39-4E2D-46E7-9470-ECD8D1A009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26543-A2FB-403D-B5E6-5355C71422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D9753-7B21-4C9F-8784-11B92AF412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84ECB-0F6B-4394-9674-E391693EDA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4F793-0CE8-4EF5-9A76-BFAECFBB02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E40B-AC97-4912-AD29-6D59FA2C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4FE2-54D2-439D-8896-7BF4F4FE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98AD-0879-48F4-9271-50C567A0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29DF-DB71-42CA-A96B-0B89F969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4175-2987-41E1-A5FB-E0D130D3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9A41-B80D-4CD0-B68D-5B03D346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7C51-0E5E-4F4F-BA99-697C5A60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08EE-ECBA-4E7D-AF3A-5D1E1F8900BC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D78F-A80D-4E02-A9C7-32296953003A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85D7-BF15-498D-A7E0-02E6CD7E5075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380880" y="22093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Decision Support Systems (DSS) and Management Information Systems (MIS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ABE6-22EC-4520-B358-2D153D5377F7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ecision Making as a Component of     Problem Solving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lem solving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and goes beyond decision making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stage: implement s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itoring stage: decision makers evaluate the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E7D0-DD43-418E-9A31-76E2D3DC2867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med vs Nonprogrammed Decision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grammed decis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using a rule, procedure, or quantitative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computerize using traditional informatio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programmed decis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that deals with unusual or exceptional si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asily quantif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heuristic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CB89-6240-4058-AE6A-CED2BCACB2B6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2222"/>
                </a:solidFill>
                <a:latin typeface="Arial"/>
              </a:rPr>
              <a:t>Optimization, Satisficing, and Heuristic Approaches</a:t>
            </a:r>
            <a:endParaRPr b="0" lang="en-US" sz="28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timization mode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s the best solution, usually the one that will best help the organization meet its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tisficing mode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s a good, but not necessarily the best, problem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uristic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ly accepted guidelines or procedures that usually find a good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C4DC-8B9C-418A-B418-9CE6EF939A13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3. An Overview of DS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S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ed collection of people, procedures, software, databases, and de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help make decisions that solve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at all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cus of a DS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on decision-making effectiveness regarding unstructured or semi-structured business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2A36-E469-4091-8F2F-0C437F1B4D5B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apabilities of DS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 for various problem structur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ighly structured problem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straightforward, requiring known facts and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mistructur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structured probl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mor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 for various decision-making level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Ss can provide help for managers at various levels within the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F864-9898-42B9-A8B8-780B74190A23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apabilities of DS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9398-C6DA-497A-9636-F88688F418AC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417600" y="1668600"/>
            <a:ext cx="8308800" cy="28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2"/>
          <a:stretch/>
        </p:blipFill>
        <p:spPr>
          <a:xfrm>
            <a:off x="838080" y="4648320"/>
            <a:ext cx="201456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erformance of DS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ision support systems performanc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ypically a function of decision quality and problem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lem complexit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how hard the problem is to solve and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5865-3256-47FE-B5D9-ADA8B69BB450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6553080" cy="4359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2"/>
          <a:stretch/>
        </p:blipFill>
        <p:spPr>
          <a:xfrm>
            <a:off x="6934320" y="2666880"/>
            <a:ext cx="2141280" cy="1737000"/>
          </a:xfrm>
          <a:prstGeom prst="rect">
            <a:avLst/>
          </a:prstGeom>
          <a:ln w="0">
            <a:noFill/>
          </a:ln>
        </p:spPr>
      </p:pic>
      <p:sp>
        <p:nvSpPr>
          <p:cNvPr id="13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736C-A774-4F23-A5E6-51EB0D0A41A7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4. Components of a DS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ialogue Manager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ws users to interact with the DSS to obtain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ists with all aspects of communications between user and hardware and software that constitute the D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6C52-9C8B-486E-B403-5AD3C86E84B5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ata-driven DS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managers and decision makers to perfor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data stored in company’s databases, data warehouses, and data m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B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s qualitative analysis based on the company’s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lso be used to connect to external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83A3-8667-4F50-B868-2DB125A69C9C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Learning Objec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od decision-making and problem-solving skills are the key to developing effective information and decision support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stages of decision 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importance of implementation and monitoring in problem sol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BE8B-C931-451C-AD29-691835773E76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odel-driven DS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ws managers and decision makers to perform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quantitative analysi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both internal and external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 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s mathematical or quantitativ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 management software (MMS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es the use of models in a D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3C61-D239-492A-B7EF-7DBB688F3575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Model Bas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5F2E-E34B-46D3-B162-548B3D838906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621640" cy="2011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"/>
          <p:cNvPicPr/>
          <p:nvPr/>
        </p:nvPicPr>
        <p:blipFill>
          <a:blip r:embed="rId2"/>
          <a:stretch/>
        </p:blipFill>
        <p:spPr>
          <a:xfrm>
            <a:off x="3200400" y="4191120"/>
            <a:ext cx="227664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5. An Overview of MI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agement information system (MI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collection of people, procedures, databases, and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give the organization a competitive 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5A97-34E8-4C24-B61E-2A71E24545A0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IS in Perspectiv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rpose of an MI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help an organization achieve its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the right information to the right person in the right format at the righ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siness transacti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enter the organization through traditional methods, or via the Internet, or via an extr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C0EE-1134-4E97-82CE-77E50DD347AD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IS in Perspective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6CB2-E0CB-4CBA-8F78-FBA37EB39617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152280" y="1461960"/>
            <a:ext cx="6172200" cy="4572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"/>
          <p:cNvPicPr/>
          <p:nvPr/>
        </p:nvPicPr>
        <p:blipFill>
          <a:blip r:embed="rId2"/>
          <a:stretch/>
        </p:blipFill>
        <p:spPr>
          <a:xfrm>
            <a:off x="6477120" y="2743200"/>
            <a:ext cx="24559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puts to a MI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nal data sourc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PS, SCM and ERP systems and related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ernal data sourc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s, suppliers, competitors, and stockholders whose data is not already captured by the TPS and ERP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intellig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used to turn a database into useful information throughout the orga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921C-26F1-4A10-ABF7-CD6BAF64CA42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utputs of MI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heduled repor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d periodically, such as daily, weekly, or month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ey-indica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ort summarizes the previous day’s critical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mand repor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to provide certain information upon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AC9F-F720-488D-BBEE-72A02E8CD76F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utputs of MI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repor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roduced when a situation is unusual or requires management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gger points should be set carefu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ill-down repor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ly detailed data about a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CE2E-4247-4286-AB31-2F86BAEBBFDF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istics of MI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754280"/>
            <a:ext cx="807696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Ss perform the following functi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reports with fixed and standard form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hard-copy and soft-copy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internal data stored in comput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users to develop custom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user requests for reports developed by systems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BD60-17CF-44E4-9B5D-70F0147AF271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unctional Aspects of MI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organizations are structured along functional lines or a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S can be divided along functional lines to produce reports tailored to individual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4FF3-A4DA-4B4B-BEE6-BA959917B94D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Learning Objectiv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ision support systems (DSSs) are used when the problems are unstructu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nd discuss important characteristics of DSSs that give them the potential to be effective management suppor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describe the basic components of a D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26C7-1788-4F60-80B6-5D6C8C39A079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6160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6. Examples of MIS</a:t>
            </a:r>
            <a:br>
              <a:rPr sz="3600"/>
            </a:b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ancial M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ufacturing M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eting M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Resource M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ounting M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3EF5-E75C-471E-9A02-21344ADC0385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inancial MI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ancial MI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financial information to executives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financial MIS subsystems and outpu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/loss and cos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and management of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6D9E-0D33-4500-A484-1DDC4E1A0E28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ufacturing MI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ufacturing MI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monitor and control the flow of materials, products, and services through the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on information subsystems and outputs used in manufacturing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and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ter production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control and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C9F1-4ACE-4321-92AD-3383E0F5ACAB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rketing MI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45760" y="13716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eting MI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s managerial activities in product development, distribution, pricing decisions, promotional effectiveness, and sales fore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system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ion and advert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pr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8A9D-B990-4059-B2F8-2874B9C8B176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uman Resource MI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erned with activities related to employees and potential employ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system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resource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nel selection and recru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and skills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ing and job 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ge and salary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8B79-E83A-453B-8038-C6D44648586E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ing MI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ounting MI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ggregate information on accounts payable, accounts receivable, payroll, and many othe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457200" y="62485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 Systems Essentials, Six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584A-27D1-4D1E-B8F7-E1F2A9FF5C29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7. A Comparison of DSS and MI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SS differs from an MIS in numerous ways, including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ype of problems s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pport given to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cision emphasis an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ype, speed, output, and development of the system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B49D-FA64-40A4-B36D-243FF6A79045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189000" y="219240"/>
            <a:ext cx="8802720" cy="58006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"/>
          <p:cNvPicPr/>
          <p:nvPr/>
        </p:nvPicPr>
        <p:blipFill>
          <a:blip r:embed="rId2"/>
          <a:stretch/>
        </p:blipFill>
        <p:spPr>
          <a:xfrm>
            <a:off x="3200400" y="6156360"/>
            <a:ext cx="2208240" cy="639720"/>
          </a:xfrm>
          <a:prstGeom prst="rect">
            <a:avLst/>
          </a:prstGeom>
          <a:ln w="0">
            <a:noFill/>
          </a:ln>
        </p:spPr>
      </p:pic>
      <p:sp>
        <p:nvSpPr>
          <p:cNvPr id="20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E3D0-5703-4A6D-B5A7-DE4AF5B76B1A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8. Specialized DS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 Support System (GS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ve Support System (ES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CC23-3E3D-47A7-9391-AABE58CF9E00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up Support Syst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 Support System (GSS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s of most elements in a DSS, plus software to provide effective support in group decision 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uteriz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llaborative work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FE47-ACC1-4EA3-ABE9-EDA0F28FF9A8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Learning Objectiv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anagement information system (MIS) must provide the right information to the right person in the right format at the right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uses of MISs and describe their inputs and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MIS in the functional areas of business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A82B-1826-400A-95AB-8F8577C9E027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DE5F-C39A-4AAB-B0A6-7D68E464138F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5156280" cy="45972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2"/>
          <a:stretch/>
        </p:blipFill>
        <p:spPr>
          <a:xfrm>
            <a:off x="6019920" y="4191120"/>
            <a:ext cx="22780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haracteristics of a GSS that Enhance Decision Mak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al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 decision-making support techniqu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phi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consensus (agreement)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inal group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624D-B3C8-48AD-A9E9-4F07C03A5BCF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GSS Softwar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ten called groupware or workgroup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lps with joint work group scheduling, communication, and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SS software packag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M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C3AA-B0FD-4B44-893B-C7EE0C73CC03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GSS Software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SSs use a number of tools, including: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, instant messaging (IM), and text messaging (T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FCB5-C128-483C-9789-9A45B2459D61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xecutive Support Syst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ve Support System (ES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ized DSS for senior mana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hardware, software, data, procedures, and people used to assist senior-level execu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alled an executive information system (E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7A16-2D95-49AE-8860-8E14FFDA259E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2187720" cy="5211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"/>
          <p:cNvPicPr/>
          <p:nvPr/>
        </p:nvPicPr>
        <p:blipFill>
          <a:blip r:embed="rId2"/>
          <a:stretch/>
        </p:blipFill>
        <p:spPr>
          <a:xfrm>
            <a:off x="5410080" y="2819520"/>
            <a:ext cx="2425680" cy="1006200"/>
          </a:xfrm>
          <a:prstGeom prst="rect">
            <a:avLst/>
          </a:prstGeom>
          <a:ln w="0">
            <a:noFill/>
          </a:ln>
        </p:spPr>
      </p:pic>
      <p:sp>
        <p:nvSpPr>
          <p:cNvPr id="22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537A-89A2-492F-ABCE-12CEDCE5465C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SS in Perspectiv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racteristics of an ES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ilored to individual execu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drill-down 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the need for extern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help with situations that have a high degree of 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 future ori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ed with value-added business process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 of  quality control activities which transform an input into an output that is valuable to organization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200B-5086-4240-A958-FCD70B2F3BA7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apabilities of ES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907640"/>
            <a:ext cx="8076960" cy="43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 for defining overall 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 for strategic plann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 for strategic organizing and staff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 for strategic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 for crisis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0C40-B300-4500-BB29-113EE2FC5AC3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lem solving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s with decision 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implementation and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making is a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agement information syste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collection of people, procedures, databases, and devices that helps an organization achieve its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hat enters the MI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tes from both internal and external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A9C8-AD55-4114-9FBD-A9E28311ECF1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mary sources of input to functional MIS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e strategic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rom the ERP system and T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from supply chain and business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 sources, including the Internet and extra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tput of most MISs: repo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d reports, key-indicator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 reports, exception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ll-down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C06E-25D3-46C1-B60D-CCB85E535A77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Learning Objectiv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alized support systems, such as group support systems (GSSs) and executive support systems (ESSs), use the overall approach of a DSS in situations such as group and executive decision ma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the goals of a GSS and identify the characteristics that distinguish it from a D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fundamental uses of an ESS and list the characteristics of such a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nd discuss other special-purpos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2C14-3EB1-4024-BDF5-BD1291DF42A5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2574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nents of a DS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atabase, model base, extranets,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interface or dialogue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to external databases,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porate intranet, extranets,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 Support System (GSS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s of most of the elements in a DSS, plus software to provide effective support in group decision-making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CAAC-3509-4DE4-8970-E308CF652660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ve Support Systems (ESS)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ized decision support systems designed to meet the needs of senio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easy to use, offer a wide range of computer resources, and handle a variety of internal and extern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DCB2-9007-4229-B645-50A25ABBF988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hapter Overview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Why learn about DSS and M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Making as a Component of Problem sol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An Over view of D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. Components of a D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. An Overview of M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. Examples of M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. A Comparison of DSS and M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. Specialized D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D7E5-9276-4014-BEFE-E5AB27A6B099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1. Why Learn About DSS and MIS?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ue potential of DS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n helping you and your coworkers make more informed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S ca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reports to help managers make decisions i.e., find the least expensive way to ship products to market and to solve bottlen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2F10-487D-4990-A07D-83740788ABF5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2. Decision Making as a Component of Problem Solv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ision-making pha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ligence s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and define potential problems or opportunitie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s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 alternative solutions to the problem and evaluate their feasibility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ce s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ect a course of 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504F-114C-42C3-9DCD-40761A2CED71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838080" y="731880"/>
            <a:ext cx="4881600" cy="5211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004840" cy="164628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EE28-EBB3-4E96-BADC-4B0A3F53E21A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2T15:56:32Z</dcterms:created>
  <dc:creator>Dr. Ahmed Youssef</dc:creator>
  <dc:description/>
  <dc:language>en-US</dc:language>
  <cp:lastModifiedBy>Ahmed E Youssef</cp:lastModifiedBy>
  <dcterms:modified xsi:type="dcterms:W3CDTF">2016-12-04T05:53:13Z</dcterms:modified>
  <cp:revision>502</cp:revision>
  <dc:subject/>
  <dc:title>Principles of Information Systems, Ninth Edi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C38EE25C-5CC7-4C65-AAEF-3D953F57BC0A</vt:lpwstr>
  </property>
  <property fmtid="{D5CDD505-2E9C-101B-9397-08002B2CF9AE}" pid="3" name="ArticulatePath">
    <vt:lpwstr>8 DSS and MIS</vt:lpwstr>
  </property>
</Properties>
</file>