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55B4C-1307-4A4A-8355-480007FD2C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B03A0-E473-47B2-BCEE-7673A0813B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95B59-9C25-45F0-9391-DCDEF914D1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C5174-DF6C-4651-B260-0EB40673C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C68D9-E442-4A3A-9B28-C99F6D9BF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D0980-6A8F-4B9E-B501-1295F0B4F4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6C85D-8D91-42D4-AF33-F8C8A861A7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A104F-FE9F-42B1-BE6A-8613117F4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C5759-CE10-4E0C-A858-7538F1CDD5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338F9-847A-4773-9ADE-81872CBFC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76EE8-C0AF-473B-847A-D8B0B61ED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CA99F-E132-4E1B-8680-2D864F7F38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6FA04-B782-4374-B966-CC85B04575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BF0C1-0977-49CC-9DD4-74710047DB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F968F-C8E0-4B5D-9225-E21E84A6B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86EAC-9317-4CA8-BF38-26ED90418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F5179-FF9B-43CE-8507-FD6E40160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D89AC-28DC-4B1F-9638-9913C5367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977CD-DD61-4C4F-85DD-5E8368378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31D9F-DBB9-4AAB-B837-59C2FE684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75D90-D572-4585-A607-98BA18942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51EEA-4771-4F37-8237-F543DEF2A8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B97C8-4B44-4848-9E99-EFB893920F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F3642-01C2-47BC-92F0-C1C622C65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164D9-6FD4-447B-90E5-A4E71152F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D5889-104F-4DB2-9E3D-B23B2F218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81172-215E-4F01-9BB2-2B2611D203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CB2C7-E7AC-4AD0-B032-038998E91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75002-C3C2-4AD3-8DE1-A3B6385B6E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hape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CE29B-A63A-4A1B-8D94-D4C8B46CB2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E5B0-F540-4C9A-84ED-BA41C93F7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5314-FDD3-4FDE-8D7E-8A2CC750C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BED8-C55B-4A1B-B688-58A45170E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521C-5AE0-445A-AC50-71216860B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E6C248-310B-4CD5-AF68-B46DA8BFE10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66DCFB-3BDA-43E7-854B-1EBA89D46EA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A8100F-1336-430E-884C-457DFC7E9CB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C38E6B-64FC-49EB-9C3F-00CB20C9BDB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9F1894-AA89-4191-A69D-07D9BE88E4C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4761F9-2110-4D42-9047-68B075D05E0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4EAAC0-B54F-49FA-B8AB-AB3EEFF047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4F77-04F0-4E72-98E5-C0038E0B4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57CC54-BCFF-475A-A5FD-19F2587B4C6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7F644B-91E5-477F-9CEA-265C2A48E92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6BD2CF-BCD5-49FE-BB8C-A1DECD03A19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CCD6BD-FE7B-4301-A693-2159564D577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85531A-493A-4B19-92CC-2EB816D5F1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6819-80E3-4A0E-83D6-8971CA0C5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2938-DF81-4505-9DC1-A37AE60FF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2A62-B1F5-4789-ADBC-1D0EB948D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9627-0A8C-432D-8A78-BDFA124C8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3FE0-FB39-4917-8E30-F5A1505C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B75D-B14C-4301-9034-879FB966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842F-6C5F-4E26-8D93-DEE1BB64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2B404-5118-49B2-80AB-8D2F52C1D38A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04229-DDEA-4ED5-8E68-87ADBB17C191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D8494-312B-472D-87F7-6FB3E3EAFE39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380880" y="22093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Arial"/>
              </a:rPr>
              <a:t>Chapter 8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Arial"/>
              </a:rPr>
              <a:t>Decision Support Systems (DSS) and Management Information Systems (MIS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AF1A1-66C8-4EF9-964B-801A8D20C52B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Decision Making as a Component of     Problem Solving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blem solving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and goes beyond decision making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lementation stage: implement s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nitoring stage: decision makers evaluate the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DC1AD-723E-4A10-9DAA-3928DB4F12F3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grammed vs Nonprogrammed Decision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grammed decisi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de using a rule, procedure, or quantitative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 to computerize using traditional information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programmed decisi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sion that deals with unusual or exceptional sit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asily quantif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heuristic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CC355-4AF0-4D13-8E42-66ED226ACBDF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320" y="38052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22222"/>
                </a:solidFill>
                <a:latin typeface="Arial"/>
              </a:rPr>
              <a:t>Optimization, Satisficing, and Heuristic Approaches</a:t>
            </a:r>
            <a:endParaRPr b="0" lang="en-US" sz="28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timization model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s the best solution, usually the one that will best help the organization meet its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tisficing model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s a good, but not necessarily the best, problem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uristic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ly accepted guidelines or procedures that usually find a good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37243-5DF4-4A5B-94A8-C1FB2366E489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3. An Overview of DS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S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ed collection of people, procedures, software, databases, and devi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help make decisions that solve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at all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cus of a DS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on decision-making effectiveness regarding unstructured or semi-structured business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BC699-9CEC-4C6A-A087-EEDB806E7AF9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apabilities of DS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ort for various problem structur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ighly structured problem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straightforward, requiring known facts and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mistructur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nstructured proble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more com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ort for various decision-making level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Ss can provide help for managers at various levels within the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69B1F-0E12-4AB8-A52A-76EE70CADDAF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apabilities of DS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0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503A9-8B59-4296-BFAA-2D10C48DE54B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417600" y="1668600"/>
            <a:ext cx="8308800" cy="28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"/>
          <p:cNvPicPr/>
          <p:nvPr/>
        </p:nvPicPr>
        <p:blipFill>
          <a:blip r:embed="rId2"/>
          <a:stretch/>
        </p:blipFill>
        <p:spPr>
          <a:xfrm>
            <a:off x="838080" y="4648320"/>
            <a:ext cx="201456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erformance of DS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ision support systems performanc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ypically a function of decision quality and problem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blem complexit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how hard the problem is to solve and 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A8A1C-5101-4195-AA56-CDBABC2060EC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6553080" cy="43592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"/>
          <p:cNvPicPr/>
          <p:nvPr/>
        </p:nvPicPr>
        <p:blipFill>
          <a:blip r:embed="rId2"/>
          <a:stretch/>
        </p:blipFill>
        <p:spPr>
          <a:xfrm>
            <a:off x="6934320" y="2666880"/>
            <a:ext cx="2141280" cy="1737000"/>
          </a:xfrm>
          <a:prstGeom prst="rect">
            <a:avLst/>
          </a:prstGeom>
          <a:ln w="0">
            <a:noFill/>
          </a:ln>
        </p:spPr>
      </p:pic>
      <p:sp>
        <p:nvSpPr>
          <p:cNvPr id="138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0019E-7C6C-4360-91F3-87350F13903A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4. Components of a DS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Dialogue Manager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ows users to interact with the DSS to obtain inform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sists with all aspects of communications between user and hardware and software that constitute the D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DED4D-6CFD-4629-928C-6F53775ABA31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Data-driven DS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managers and decision makers to perfor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data stored in company’s databases, data warehouses, and data m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B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s qualitative analysis based on the company’s data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also be used to connect to external data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3553C-A146-4C69-AFC6-09C3C54937A0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Learning Objectiv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ood decision-making and problem-solving skills are the key to developing effective information and decision support syst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the stages of decision m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importance of implementation and monitoring in problem sol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D2B25-87DF-4312-BB96-9D7FCCF8A92E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odel-driven DS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ows managers and decision makers to perform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quantitative analysi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 both internal and external 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del b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s mathematical or quantitative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del management software (MMS)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es the use of models in a D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21C08-8E72-40D4-8AE5-EEA208C3704F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he Model Bas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0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08ACD-4D44-4EB0-99E7-F2FB9D7D5BCC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8621640" cy="20113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"/>
          <p:cNvPicPr/>
          <p:nvPr/>
        </p:nvPicPr>
        <p:blipFill>
          <a:blip r:embed="rId2"/>
          <a:stretch/>
        </p:blipFill>
        <p:spPr>
          <a:xfrm>
            <a:off x="3200400" y="4191120"/>
            <a:ext cx="227664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5. An Overview of MI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nagement information system (MI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d collection of people, procedures, databases, and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give the organization a competitive advan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93FF0-2A8E-4E4C-AC34-AF88604C0933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IS in Perspectiv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urpose of an MI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help an organization achieve its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the right information to the right person in the right format at the right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siness transaction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enter the organization through traditional methods, or via the Internet, or via an extra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FDB4F-23FF-494B-B22C-6A426C5C6F3A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IS in Perspective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0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F5834-4018-4E38-8217-E5A3C3B6AD40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152280" y="1461960"/>
            <a:ext cx="6172200" cy="4572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"/>
          <p:cNvPicPr/>
          <p:nvPr/>
        </p:nvPicPr>
        <p:blipFill>
          <a:blip r:embed="rId2"/>
          <a:stretch/>
        </p:blipFill>
        <p:spPr>
          <a:xfrm>
            <a:off x="6477120" y="2743200"/>
            <a:ext cx="245592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Inputs to a MI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nal data sourc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PS, SCM and ERP systems and related data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ternal data sourc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s, suppliers, competitors, and stockholders whose data is not already captured by the TPS and ERP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intellige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n be used to turn a database into useful information throughout the organ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5B53D-B9F3-43FE-8118-3A12E6A2280D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Outputs of MI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heduled report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d periodically, such as daily, weekly, or month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ey-indica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port summarizes the previous day’s critical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mand report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ed to provide certain information upon re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2F32B-DD38-4407-90C9-811840D04ED4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Outputs of MI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report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roduced when a situation is unusual or requires management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gger points should be set carefu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rill-down report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ly detailed data about a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70C6B-5FF3-4CAD-8733-99938C7E6552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racteristics of MI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1754280"/>
            <a:ext cx="807696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Ss perform the following function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reports with fixed and standard form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 hard-copy and soft-copy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internal data stored in compute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users to develop custom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user requests for reports developed by systems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46EF0-2661-4A1D-8D11-9820C51B5D1C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Functional Aspects of MI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st organizations are structured along functional lines or are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S can be divided along functional lines to produce reports tailored to individual fun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BF18A-60FC-44FA-9AA0-7E8382E491E7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Learning Objective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ision support systems (DSSs) are used when the problems are unstructur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nd discuss important characteristics of DSSs that give them the potential to be effective management suppor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and describe the basic components of a D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2E0A9-5105-44D1-86A8-75294473CC24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61600" y="456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6. Examples of MIS</a:t>
            </a:r>
            <a:br>
              <a:rPr sz="3600"/>
            </a:b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nancial M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nufacturing M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rketing M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uman Resource M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counting M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92470-66C0-4C82-8CEA-7E08C8B7CA40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Financial MI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nancial MI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financial information to executives and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 financial MIS subsystems and output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it/loss and cost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and management of f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316D7-B3CF-4054-98C2-4F50D1BAC35B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nufacturing MI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nufacturing MI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monitor and control the flow of materials, products, and services through the 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on information subsystems and outputs used in manufacturing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and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ter production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ntor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ity control and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A0DF3-8BCB-4D9E-A480-0DB1E32B6752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arketing MI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45760" y="137160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rketing MI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s managerial activities in product development, distribution, pricing decisions, promotional effectiveness, and sales forec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bsystem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ing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otion and adverti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 pri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les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09BA9-7FB9-423C-9D79-D06AEDD77C4D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uman Resource MI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cerned with activities related to employees and potential employe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bsystem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 resource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nel selection and recru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ing and skills inven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eduling and job pla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ge and salary admin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la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54329-06D4-4F32-AB30-61BDE44F72BF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Accounting MI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counting MI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ggregate information on accounts payable, accounts receivable, payroll, and many other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457200" y="624852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rmation Systems Essentials, Sixth Edi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BD815-A677-456B-8C57-B33E975AB0B2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7. A Comparison of DSS and MI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SS differs from an MIS in numerous ways, including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ype of problems s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upport given to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ecision emphasis and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ype, speed, output, and development of the system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4FEA2-6D45-4077-8C0C-4F6E9D14E1FE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189000" y="219240"/>
            <a:ext cx="8802720" cy="58006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" descr=""/>
          <p:cNvPicPr/>
          <p:nvPr/>
        </p:nvPicPr>
        <p:blipFill>
          <a:blip r:embed="rId2"/>
          <a:stretch/>
        </p:blipFill>
        <p:spPr>
          <a:xfrm>
            <a:off x="3200400" y="6156360"/>
            <a:ext cx="2208240" cy="639720"/>
          </a:xfrm>
          <a:prstGeom prst="rect">
            <a:avLst/>
          </a:prstGeom>
          <a:ln w="0">
            <a:noFill/>
          </a:ln>
        </p:spPr>
      </p:pic>
      <p:sp>
        <p:nvSpPr>
          <p:cNvPr id="202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274F0-11D3-4CDE-8998-A6947B69E6E8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8. Specialized DS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oup Support System (GS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ve Support System (ES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DD3EB-8575-4D0E-9930-075D74876605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oup Support System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oup Support System (GSS)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s of most elements in a DSS, plus software to provide effective support in group decision m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puterize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llaborative work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97717-212B-42FA-BDCC-D7745A27CBFD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Learning Objective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management information system (MIS) must provide the right information to the right person in the right format at the right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uses of MISs and describe their inputs and 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MIS in the functional areas of business organiz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27F59-0665-41BF-91CB-74CBC59FB460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S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10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D3958-F531-489B-BFC7-53BAEE1CFF19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5156280" cy="45972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"/>
          <p:cNvPicPr/>
          <p:nvPr/>
        </p:nvPicPr>
        <p:blipFill>
          <a:blip r:embed="rId2"/>
          <a:stretch/>
        </p:blipFill>
        <p:spPr>
          <a:xfrm>
            <a:off x="6019920" y="4191120"/>
            <a:ext cx="2278080" cy="14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haracteristics of a GSS that Enhance Decision Making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ecial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e of u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lexibi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oup decision-making support techniqu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phi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instor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consensus (agreement)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minal group tech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B83C0-238F-40EB-81EC-D6131F98DD7C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GSS Softwar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ten called groupware or workgroup softw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lps with joint work group scheduling, communication, and manag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SS software packag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b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M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mW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1B5A7-6E43-4AF2-9274-22B44237C564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GSS Software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SSs use a number of tools, including: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-mail, instant messaging (IM), and text messaging (T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 sh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3154C-3B74-4B7B-873C-443F285C8AD1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Executive Support System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ve Support System (ES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ized DSS for senior manag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hardware, software, data, procedures, and people used to assist senior-level execu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called an executive information system (E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9A8E7-F8A5-4B01-ACEA-3D6EDA4BE02A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1981080" y="533520"/>
            <a:ext cx="2187720" cy="5211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"/>
          <p:cNvPicPr/>
          <p:nvPr/>
        </p:nvPicPr>
        <p:blipFill>
          <a:blip r:embed="rId2"/>
          <a:stretch/>
        </p:blipFill>
        <p:spPr>
          <a:xfrm>
            <a:off x="5410080" y="2819520"/>
            <a:ext cx="2425680" cy="1006200"/>
          </a:xfrm>
          <a:prstGeom prst="rect">
            <a:avLst/>
          </a:prstGeom>
          <a:ln w="0">
            <a:noFill/>
          </a:ln>
        </p:spPr>
      </p:pic>
      <p:sp>
        <p:nvSpPr>
          <p:cNvPr id="227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A33A0-0DE8-4C67-BCF3-31E4FF82C343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ESS in Perspectiv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racteristics of an ES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ilored to individual execu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 to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drill-down 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the need for external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help with situations that have a high degree of uncertai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a future ori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ed with value-added business process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t of  quality control activities which transform an input into an output that is valuable to organization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080C2-44FC-4429-8439-9C2EAB21FCF7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apabilities of ES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3520" y="1907640"/>
            <a:ext cx="8076960" cy="43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ort for defining overall vi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ort for strategic planni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ort for strategic organizing and staff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ort for strategic contr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ort for crisis manag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59435-941E-4A6D-9A9F-35E7D9109F5E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120" y="91440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blem solving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s with decision m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implementation and 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sion making is a 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nagement information system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d collection of people, procedures, databases, and devices that helps an organization achieve its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hat enters the MI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ginates from both internal and external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E374A-8AFF-4E3C-9EA8-74EE9BE59C7B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ummary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imary sources of input to functional MIS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porate strategic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rom the ERP system and T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from supply chain and business trans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rnal sources, including the Internet and extran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utput of most MISs: repor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eduled reports, key-indicator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and reports, exception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ll-down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189DD-8320-43D0-980E-4BAE464FF3CE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Learning Objective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ecialized support systems, such as group support systems (GSSs) and executive support systems (ESSs), use the overall approach of a DSS in situations such as group and executive decision mak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the goals of a GSS and identify the characteristics that distinguish it from a D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fundamental uses of an ESS and list the characteristics of such a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nd discuss other special-purpose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ADAB2-1395-49E8-9FBC-6D5C09421333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ummary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440" y="12574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onents of a DS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atabase, model base, extranets,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interface or dialogue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 to external databases, the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porate intranet, extranets,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oup Support System (GSS)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s of most of the elements in a DSS, plus software to provide effective support in group decision-making set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95BCC-1801-487B-A97C-BBD90ECD450C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ummary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ve Support Systems (ESS)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ized decision support systems designed to meet the needs of senior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 easy to use, offer a wide range of computer resources, and handle a variety of internal and external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AF81C-3006-40D4-A4B5-00BEAB60F8E7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hapter Overview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. Why learn about DSS and M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sion Making as a Component of Problem sol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An Over view of D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. Components of a D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. An Overview of M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6. Examples of M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7. A Comparison of DSS and M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8. Specialized D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9B598-6CA0-473D-88FB-96A0396E7276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1. Why Learn About DSS and MIS?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ue potential of DS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in helping you and your coworkers make more informed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S ca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 reports to help managers make decisions i.e., find the least expensive way to ship products to market and to solve bottlene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77435-3D84-49BE-990D-4A5ADD208891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2. Decision Making as a Component of Problem Solving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ision-making phas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ligence st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and define potential problems or opportunities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st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velop alternative solutions to the problem and evaluate their feasibility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ice st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lect a course of 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80347-F561-4F56-B2D0-B7CDC05AF287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838080" y="731880"/>
            <a:ext cx="4881600" cy="5211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"/>
          <p:cNvPicPr/>
          <p:nvPr/>
        </p:nvPicPr>
        <p:blipFill>
          <a:blip r:embed="rId2"/>
          <a:stretch/>
        </p:blipFill>
        <p:spPr>
          <a:xfrm>
            <a:off x="6400800" y="2971800"/>
            <a:ext cx="2004840" cy="1646280"/>
          </a:xfrm>
          <a:prstGeom prst="rect">
            <a:avLst/>
          </a:prstGeom>
          <a:ln w="0">
            <a:noFill/>
          </a:ln>
        </p:spPr>
      </p:pic>
      <p:sp>
        <p:nvSpPr>
          <p:cNvPr id="113" name="Slide Number Placeholder 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F9D39-8234-48FA-88F1-58F5257CD9E9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2T15:56:32Z</dcterms:created>
  <dc:creator>Dr. Ahmed Youssef</dc:creator>
  <dc:description/>
  <dc:language>en-US</dc:language>
  <cp:lastModifiedBy>Ahmed E Youssef</cp:lastModifiedBy>
  <dcterms:modified xsi:type="dcterms:W3CDTF">2016-12-04T05:53:13Z</dcterms:modified>
  <cp:revision>502</cp:revision>
  <dc:subject/>
  <dc:title>Principles of Information Systems, Ninth Edi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C38EE25C-5CC7-4C65-AAEF-3D953F57BC0A</vt:lpwstr>
  </property>
  <property fmtid="{D5CDD505-2E9C-101B-9397-08002B2CF9AE}" pid="3" name="ArticulatePath">
    <vt:lpwstr>8 DSS and MIS</vt:lpwstr>
  </property>
</Properties>
</file>