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1C64-DF17-46FA-A3DF-63332793A6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E8A4-DCCD-4788-8A1B-9D4F31730AA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0394-75B3-44B6-847D-C74ADB578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83F8-A336-4E28-9E32-2ECF553E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031E-1AD0-4212-806F-ECE952D22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1507-2578-4AE1-B412-26D0914D4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3703-55D9-43EC-A412-1657D103F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2650-0CFA-4ED7-BCB7-D5D7AC7D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7455-0508-4276-9782-1E63DD45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CE9D-CE3B-431C-BE8E-104EFA4B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6124-AD97-42F7-A52C-FF8BB44F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608F-94A4-459F-88E9-6A9A5F63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8F99-6A12-4850-82A9-68208949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1E51-E5E8-4940-B987-8FB3B7EA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AA10-FA91-4476-B615-038393C7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0934-4DBF-4245-B663-22AD33ED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DEFD-9BD4-411D-AEA3-83341D29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213E-4CC5-48A3-89CD-72B2E57FB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1648-D348-45B8-A78C-50E8AAF0C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020B1-9B91-474E-8B38-B0050A1D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3E250-5D3A-4B25-A124-D83DB52E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EA30B-8A28-4CCB-8005-F79CB864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3BE92-3984-4470-81F8-71675EB7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9F2D0-DDF4-48D2-8002-EC755A96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45C1-C7FB-40E6-8A7B-AC1423CE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CB837-09D6-4A3E-BC51-854AF26A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EA4EC-2854-446A-A96C-5E9187DB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EE4E5-E606-4BFC-A99E-9313600C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FD888-0B3A-4262-B8E4-2C8481BC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4A27C-3C69-4C74-B3AF-DFC332FC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B3F88-7BF1-49EC-8661-2E2E7D13A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A074A-FD48-4E68-9194-3009554C5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C29C0-5D84-4EF0-8F3B-7622DEC1F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18738-27F5-4F3D-B97E-A8CC09E1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0DD07-F105-4005-8444-3FEC2177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AD8F-63AC-4BE6-A58F-8A9425B1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AB492-2CE8-4692-91E6-C482F510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1A661-4FFA-4238-B4DC-ADF82CFE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EF852-AD90-4395-A3D5-0F409216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57330-7688-47E0-9570-3C983221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868BF-D1A6-4A3D-BFE3-F6A87442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11856-DEB6-4231-A12F-EBDD1C1C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E3647-D345-43B1-9F1D-DC23183E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D9571-6CDD-42FB-99D3-E2D6C066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E07AA-ECF9-4C9F-982D-6DE81E08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71F91-DB47-4B07-889C-133AF65ED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F2A1-8CCC-45A0-92F7-E128669B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B709E-7D85-4ADF-B18A-51838473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1BEFE-3D2C-4A86-975A-3A020545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29038-33D5-4810-A090-BDDDD5B5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A86C7-0458-43CB-AFE4-04B9AFDF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56C2A-CB5D-4748-B3D1-41FCA747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78A05-6838-4676-B9E9-1F6922B5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F5929-0017-4B3B-AEBD-EF764961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30015-EF05-4505-8A67-C14009F7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2275E-9DF1-4A0B-8886-9E7FB177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ADE86-F301-43B4-BD4E-0B430D86C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CB62-0D59-4E87-A3DC-6DB9DFC2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4BFF9-7009-44AF-A95A-75D0C8C01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0E5E3-A6D0-4D48-B0FF-BB69123D5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1A725-EE9B-4504-814D-22809BD1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D1787-3879-4F2C-9E8B-0E430C9F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53621-2433-49A7-9EE9-A50F317A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83E71-EBA3-4ACE-84DA-B4AF9A02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5845A-C912-4CC4-A4E3-ABBC356F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D52F6-6C0A-48AF-8322-90228F60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42428-5958-4250-91BF-30D7A7CD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3B1FE-164A-434E-B8D2-9A511EDD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D157-7D82-4DCA-B019-FC043354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BC13C-88C5-4DD3-8AA0-62D6EE04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FA4E5-8F3E-4A17-8D00-5FCD97590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2D3C4-03C1-4118-BB1F-7E961A1D6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F53C4-4E85-4443-B21E-1DD085291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5E776-5374-4BDA-B1BB-066C2A79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BACA3-9BF1-449C-8547-41024DB7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63372-929F-41A9-8ADE-1AE39344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F8596-2FB0-4B66-8AAA-8AB4A9C5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2855B-9414-49C7-87FB-977115F7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A0E11-E28E-4B53-A167-BA7892A3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F834-2E95-432D-ABA2-DA863322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B8822-B200-4876-8ECD-063A9EF7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82AB2-6E64-4D9C-A233-1F48DA17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EA373-C365-4C87-81BA-F9F130C3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990DC-D6D2-40F6-8EB1-32B85D16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B00CC-1BAB-453B-90A6-F1F77B889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FB5B-0C65-43B2-A466-5AAA91C7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B721-380C-4F2D-8DA8-8E199833FEC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DE60-E4E5-4EED-82F2-20786943798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B6EE-C623-42D1-A092-61F88BD0AFB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DB0E-564F-46B7-BF3D-E53631825DF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7374-0E01-4DAA-941C-E5F8147CB09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E473-9593-43A6-9419-50577189E36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0437-DBDD-4A75-932D-478560E7FCF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907920" y="3181320"/>
            <a:ext cx="7785360" cy="31464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Picture 2" descr="http://tbn0.google.com/images?q=tbn:aUqZYfHrzTPN8M:http://www.origen.net/Images/DMSO.All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10240" y="92160"/>
            <a:ext cx="25974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”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rbel"/>
                <a:ea typeface="Tahoma"/>
              </a:rPr>
              <a:t>Components of an IV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Corbel"/>
                <a:ea typeface="Tahoma"/>
              </a:rPr>
              <a:t>Personn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Carefully train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Who will prepare? Pharmacist or technicia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Proper training in aseptic technique and sterile product information is necessary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4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9480" y="158760"/>
            <a:ext cx="2421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”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rbel"/>
                <a:ea typeface="Tahoma"/>
              </a:rPr>
              <a:t>Components of an IV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Corbel"/>
                <a:ea typeface="Tahoma"/>
              </a:rPr>
              <a:t>Storage spa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Will depend on the type of system one chooses to us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7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9480" y="158760"/>
            <a:ext cx="2421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alculations involving </a:t>
            </a:r>
            <a:br>
              <a:rPr sz="4000"/>
            </a:b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V admixture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xamples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    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medication order for  a patient weighing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kg calls for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25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g of amphotericin B per kg of body weight to be added to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l of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% dextrose injection. If the amphotericin B is to be obtained from a reconstituted injection that contain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g per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l, how many milliliters should be added to the dextrose injection?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0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48560" y="92160"/>
            <a:ext cx="25970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ol.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otal quantity needed for the patient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25 x 70 = 17.5 m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Reconstituted solution conta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mg p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m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mg                                             10 m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.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mg                                          X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X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m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3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0240" y="92160"/>
            <a:ext cx="2597400" cy="3029040"/>
          </a:xfrm>
          <a:prstGeom prst="rect">
            <a:avLst/>
          </a:prstGeom>
          <a:ln w="0">
            <a:noFill/>
          </a:ln>
        </p:spPr>
      </p:pic>
      <p:cxnSp>
        <p:nvCxnSpPr>
          <p:cNvPr id="414" name="Straight Arrow Connector 5"/>
          <p:cNvCxnSpPr/>
          <p:nvPr/>
        </p:nvCxnSpPr>
        <p:spPr>
          <a:xfrm>
            <a:off x="3071880" y="4214880"/>
            <a:ext cx="2286720" cy="216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415" name="Straight Arrow Connector 7"/>
          <p:cNvCxnSpPr/>
          <p:nvPr/>
        </p:nvCxnSpPr>
        <p:spPr>
          <a:xfrm>
            <a:off x="3071880" y="5214960"/>
            <a:ext cx="2286720" cy="216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: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n intravenous infusion is to contain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Eq of potassium ion and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Eq of sodium ion in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l of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% dextrose injection. Using an injection of potassium chloride containing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g per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l and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9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% injection of sodium chloride, how many milliliters of each should be used to supply the required ions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8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0240" y="92160"/>
            <a:ext cx="25974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ol.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Eq of 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will be supplied b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Eq of KC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Eq of N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will supplied b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Eq of NaC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Eq of KCl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4.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g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Eq of Kcl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17.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g o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18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g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g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0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m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18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g                                             X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X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59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1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0240" y="92160"/>
            <a:ext cx="2597400" cy="2803320"/>
          </a:xfrm>
          <a:prstGeom prst="rect">
            <a:avLst/>
          </a:prstGeom>
          <a:ln w="0">
            <a:noFill/>
          </a:ln>
        </p:spPr>
      </p:pic>
      <p:cxnSp>
        <p:nvCxnSpPr>
          <p:cNvPr id="422" name="Straight Arrow Connector 6"/>
          <p:cNvCxnSpPr/>
          <p:nvPr/>
        </p:nvCxnSpPr>
        <p:spPr>
          <a:xfrm>
            <a:off x="2642760" y="3929040"/>
            <a:ext cx="2143800" cy="216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423" name="Straight Arrow Connector 7"/>
          <p:cNvCxnSpPr/>
          <p:nvPr/>
        </p:nvCxnSpPr>
        <p:spPr>
          <a:xfrm>
            <a:off x="2642760" y="4428720"/>
            <a:ext cx="2143800" cy="252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”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mEq of NaCl =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8.5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Eq of NaCl =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7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g or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7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9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g                                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7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g                                      X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X =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l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cxnSp>
        <p:nvCxnSpPr>
          <p:cNvPr id="426" name="Straight Arrow Connector 4"/>
          <p:cNvCxnSpPr/>
          <p:nvPr/>
        </p:nvCxnSpPr>
        <p:spPr>
          <a:xfrm>
            <a:off x="3071880" y="3785760"/>
            <a:ext cx="1715040" cy="252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427" name="Straight Arrow Connector 7"/>
          <p:cNvCxnSpPr/>
          <p:nvPr/>
        </p:nvCxnSpPr>
        <p:spPr>
          <a:xfrm>
            <a:off x="3071880" y="4285800"/>
            <a:ext cx="1715040" cy="252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pic>
        <p:nvPicPr>
          <p:cNvPr id="428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0240" y="92160"/>
            <a:ext cx="259740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914400" y="1571760"/>
            <a:ext cx="777240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e following is a formula for a desired TPN solution. Using the source of each drug as indicated, Calculate the amount of each component required in preparing solution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PN solutio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         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rmula                                       Component Source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a) Sodium Chloride 35 mEq                                   Vial, 5 mEq per 2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b) Potassium Acetate 35 mEq                               Vial, 10 mEq pre 5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c) Magnesium Sulphate 8 mEq                            Vial, 4 mEq per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d) Calcium Gluconte 9.6 mEq                               Vial, 4.7 mEq per 10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E) Potassium Chloride 5 mEq                               Vial, 40 mEq per 20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f) Folic Acid 1.7 mg                                                    Ampul, 5 mg  per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g) Multple vitamin infusion 10 ml                       Ampul, 10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       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To be added to: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       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Amino Acid Infusion (8.5 %)                            500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       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Dextrose injection (50 %)                                 500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1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0240" y="92160"/>
            <a:ext cx="259740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ol.: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71468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59080" indent="-4932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                                    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(c)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X= 14 ml.                                    X= 2 m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(b)                                                  (d)  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X= 17.5 ml                                   X= 20.4 m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                                     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(f)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X= 2.5 ml                                      X= 0.34 m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(g) 10 ml.      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4" name="Picture 2" descr="http://tbn0.google.com/images?q=tbn:aUqZYfHrzTPN8M:http://www.origen.net/Images/DMSO.All.jpg"/>
          <p:cNvPicPr/>
          <p:nvPr/>
        </p:nvPicPr>
        <p:blipFill>
          <a:blip r:embed="rId1"/>
          <a:stretch/>
        </p:blipFill>
        <p:spPr>
          <a:xfrm>
            <a:off x="6510240" y="92160"/>
            <a:ext cx="2597400" cy="22176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6" name="Picture 1" descr=""/>
          <p:cNvPicPr/>
          <p:nvPr/>
        </p:nvPicPr>
        <p:blipFill>
          <a:blip r:embed="rId2"/>
          <a:stretch/>
        </p:blipFill>
        <p:spPr>
          <a:xfrm>
            <a:off x="1714680" y="2000160"/>
            <a:ext cx="2000160" cy="64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7" name="Rectangle 3"/>
          <p:cNvSpPr/>
          <p:nvPr/>
        </p:nvSpPr>
        <p:spPr>
          <a:xfrm>
            <a:off x="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9" name="Picture 4" descr=""/>
          <p:cNvPicPr/>
          <p:nvPr/>
        </p:nvPicPr>
        <p:blipFill>
          <a:blip r:embed="rId3"/>
          <a:stretch/>
        </p:blipFill>
        <p:spPr>
          <a:xfrm>
            <a:off x="1643040" y="3571920"/>
            <a:ext cx="1895400" cy="60948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1" name="Picture 6" descr=""/>
          <p:cNvPicPr/>
          <p:nvPr/>
        </p:nvPicPr>
        <p:blipFill>
          <a:blip r:embed="rId4"/>
          <a:stretch/>
        </p:blipFill>
        <p:spPr>
          <a:xfrm>
            <a:off x="5357880" y="2071800"/>
            <a:ext cx="1771560" cy="60948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3" name="Picture 8" descr=""/>
          <p:cNvPicPr/>
          <p:nvPr/>
        </p:nvPicPr>
        <p:blipFill>
          <a:blip r:embed="rId5"/>
          <a:stretch/>
        </p:blipFill>
        <p:spPr>
          <a:xfrm>
            <a:off x="5429160" y="3571920"/>
            <a:ext cx="2067120" cy="60948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5" name="Picture 10" descr=""/>
          <p:cNvPicPr/>
          <p:nvPr/>
        </p:nvPicPr>
        <p:blipFill>
          <a:blip r:embed="rId6"/>
          <a:stretch/>
        </p:blipFill>
        <p:spPr>
          <a:xfrm>
            <a:off x="1571760" y="4857840"/>
            <a:ext cx="2019240" cy="60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7" name="Picture 12" descr=""/>
          <p:cNvPicPr/>
          <p:nvPr/>
        </p:nvPicPr>
        <p:blipFill>
          <a:blip r:embed="rId7"/>
          <a:stretch/>
        </p:blipFill>
        <p:spPr>
          <a:xfrm>
            <a:off x="5500800" y="4857840"/>
            <a:ext cx="19429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914400" y="1784160"/>
            <a:ext cx="7772400" cy="47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 medication order calls for 1000 ml of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rbe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 to be administered over an 8-hour period. Using an IV administration set which delivers 10 drops per ml, how many drops per minute should be delivered to the patient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ol.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Volume of fluid = 1000 m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8 hour =  480 minut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1000/ 480  = 2.1 ml per mi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2.1 ml/min x 10 (drops per ml) = 21 drops/minut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50" name="Picture 2" descr="http://tbn0.google.com/images?q=tbn:aUqZYfHrzTPN8M:http://www.origen.net/Images/DMSO.All.jpg"/>
          <p:cNvPicPr/>
          <p:nvPr/>
        </p:nvPicPr>
        <p:blipFill>
          <a:blip r:embed="rId1"/>
          <a:stretch/>
        </p:blipFill>
        <p:spPr>
          <a:xfrm>
            <a:off x="6510240" y="92160"/>
            <a:ext cx="259740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ntroduction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928520"/>
            <a:ext cx="77724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preparation of parenteral admixture usually involves the addition of one or more drugs to large volume solutions such as intravenous and nutrients fluids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0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37160" y="92160"/>
            <a:ext cx="25974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      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End,,,,,,,,,,,,,,,,,,,,,,,,,,,,,,,,,,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ntroduction: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rbel"/>
                <a:ea typeface="Tahoma"/>
              </a:rPr>
              <a:t>Components of an IV program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Preparation are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Policies and procedur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Personn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Storage spa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Admixture system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3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9480" y="158760"/>
            <a:ext cx="2421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’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rbel"/>
                <a:ea typeface="Tahoma"/>
              </a:rPr>
              <a:t>Components of an IV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Corbel"/>
                <a:ea typeface="Tahoma"/>
              </a:rPr>
              <a:t>Preparation are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Ideally in separate room in the pharmacy “clean room”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Size var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6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0240" y="92160"/>
            <a:ext cx="25974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”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rbel"/>
              </a:rPr>
              <a:t>Components of an IV program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orbel"/>
              </a:rPr>
              <a:t>Polices and procedur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Guidelines for preparing parenteral products should be outlines in the pharmacy’s policy and procedure manual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Detailed information regarding preparation, labeling, storage and expiration dating of parenteral products should be readily available in the pharmac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se policy help to provide quality control for the parenteral product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9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9480" y="158760"/>
            <a:ext cx="2421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”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rbel"/>
              </a:rPr>
              <a:t>Components of an IV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Corbel"/>
              </a:rPr>
              <a:t>Polices and procedur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Stabilit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ut in your mind that stability is affected by place, environmental condition, diluent used to administer the product, other drugs that may be mixed with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tability and sterility! Gives the expiration dat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2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43760" y="785880"/>
            <a:ext cx="25477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”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rbel"/>
              </a:rPr>
              <a:t>Components of an IV program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orbel"/>
              </a:rPr>
              <a:t>Polices and procedur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rbel"/>
              </a:rPr>
              <a:t>incompatibilit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hysical: visible change e.g. precipitatio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hemical: may or not visible change, deterioration or inactivation of an active ingredient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rapeutic: drug-drug or drug-disease interaction that lead to potentiating of drug effect, drug toxicity, deterioration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5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9480" y="158760"/>
            <a:ext cx="2421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”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rbel"/>
              </a:rPr>
              <a:t>Components of an IV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Corbel"/>
              </a:rPr>
              <a:t>Polices and procedur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Aseptic Techniqu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ethod of handling sterile products, a sterile parenteral dosage form is free from living microorganisms, particulate matter, and pyrogen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8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45360" y="158760"/>
            <a:ext cx="242064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”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rbel"/>
                <a:ea typeface="Tahoma"/>
              </a:rPr>
              <a:t>Components of an IV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Corbel"/>
                <a:ea typeface="Tahoma"/>
              </a:rPr>
              <a:t>Polices and procedur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Labeling and check system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Reviewed against the patient’s current medication profil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1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9480" y="158760"/>
            <a:ext cx="2421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7T14:22:49Z</dcterms:created>
  <dc:creator>FeRaS</dc:creator>
  <dc:description/>
  <dc:language>en-US</dc:language>
  <cp:lastModifiedBy>FeRaS</cp:lastModifiedBy>
  <dcterms:modified xsi:type="dcterms:W3CDTF">2010-05-07T17:13:50Z</dcterms:modified>
  <cp:revision>18</cp:revision>
  <dc:subject/>
  <dc:title>IV Admixture</dc:title>
</cp:coreProperties>
</file>