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D09F-9313-4242-B51E-8C5EB8D62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1548-1985-42E3-B943-3F2404D6CB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89EF-9E0F-42DF-A4BE-61103FCE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A92-D7D3-4C79-ABE9-7F444BB0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6520-CA46-4798-9295-88D8F422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46C-78AB-4BC2-8DEB-BD75FFD5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4520-8CC0-498E-9F21-5679A679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B186-9FD3-4994-9422-F5DF8DA9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1544-E7E9-4C6C-BD82-D1F48801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9EC0-3CD6-4856-A1A7-9084E797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92DC-75C6-48C0-8A39-FFA5EEC2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5ED2-6F1F-4F7B-9A46-D36D1AA9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E495-8240-4D2A-A528-22117E46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7BC-CA70-4BAC-9A88-833579C0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E8FA-FAF4-456F-9605-E632FDB1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7673-42C4-460E-8E0D-C4FD8CAD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B3A7-81C6-4E6B-9787-742761BE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B680-3F1D-4323-8837-075D505D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14ED-D5AE-4AF0-8AC7-3993D09B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7AC10-639B-4A6B-B088-EB61F606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A9155-CC05-4D0A-87E8-7601ED2F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1606A-1361-43A1-97B9-C4AC4511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4B86-6DAC-446B-BD68-A064FD04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5105-6F5A-4AE8-890E-992C8358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C3D-6EAA-4BCC-A357-2352EB98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B3CD-5E15-4EF2-B833-3F013405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7774-F22C-4BA1-AAE5-99F4EDBC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DF32-DF87-43D4-9DBC-87D14CF2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DC40A-39A1-4415-B208-6FD51187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082B1-CD6B-428B-A5B7-E6D2EF51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EE0E7-1F82-4D19-8B89-3C336F83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3D40A-2CA5-42B8-84FC-1FEA6730A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BBFE0-329A-46F0-B1D7-937DA54C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D7EBE-6609-45B0-9752-724D39E4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91FAC-CC2D-47DA-8930-15BA88803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2BDA-6B57-465E-997F-447FBEE24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7FD63-81A1-4C2E-AE4D-B8AD360E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2A2F9-5F50-4DFC-BAA8-CD36DF5B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414B5-4FC0-45D3-8651-BFD50D9B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D6CB5-ACB2-4A2F-92D3-A76CB58B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742AF-DCC6-42C2-A458-1A3C663E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EE8B3-3560-4162-9F9F-78446BBA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0E458-CC56-4FF3-BEE1-FFB11454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42649-94BD-4C26-AA28-A77E9D357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7E15B-F0E1-4076-A913-35B2E978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F777C-BB5A-43CA-B7A6-30EAC828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47D-FC07-4617-B08D-0713819E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47967-3630-46BB-A47F-A3D2D126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C7BF-77A7-4606-ABA2-5DDDAF07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5758F-BC98-4CC3-9CBF-F29A8B95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E5B24-0A3A-4246-92DF-8ABB94ED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9560-342F-4BC3-BE09-3D066151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FD260-E7F6-464E-A0CB-0BEE3970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477F2-829D-4E6F-BD6F-65860C93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C73B8-F18C-43C9-8778-964743D2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7BF65-9BD0-4D78-A47A-C12C5545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3C27E-4875-489C-932E-A1DC40E9E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2466-8D1D-4061-9AF9-57089F2E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F64CE-CE9A-45E7-B028-ED55FA07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C5718-97AA-4749-83DE-C407C7F1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2F472-5579-4E5D-915B-083F2230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3E152-3D72-4979-8BF3-77B2EBD1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211C-5A3B-4B35-AA1F-BAF1B424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5CB11-8B60-45DE-8CF0-14B8C3C4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6F6EA-9EF1-4626-AF2A-3DE4EB16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8E1D8-903B-45F7-AC6F-35E8C285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995BC-900F-4C45-BC05-64446C19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F2FCB-04BB-4A0E-B511-B0ABE5EE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1A56-C1D8-41E9-AF52-9F2CCCDC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222DC-8140-40BD-9F80-C19CEC56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D7CD-97C8-4040-958E-5565F270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187C4-C801-4C8B-A685-13185A55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640E3-9B06-4BFD-ACC7-2F8C7EFC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42161-876F-42E7-A5DD-963BB558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C218D-42BE-4FDB-A94D-C990CA9C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FB251-4652-437D-B182-33894968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3E8A0-78BE-4C2C-8AFE-B65B1873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7DDEA-A12C-4D6D-8A22-50F9011C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B065A-BDD2-4722-8779-1485EC5A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3BE9-8572-4AF7-9CFD-BB33D62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B9768-3D55-411C-9CBD-65EB72E8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DA319-279B-4E28-9BE9-EF3C1031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6BFD7-FB31-4AB0-A591-95D5F1E6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CAA94-375A-4E3F-A7A1-A68D61F2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27A29-DA60-48A9-90E0-9334D8B41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A00-535A-4E01-828F-EB0AC54A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FFE5-6E68-4D6A-8190-65CE7C6A041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9468-9F6A-4F90-8943-A1325A90CC3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F82A-A119-4A05-86BB-22368E45AE2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078E-BFB6-4357-A6AB-DD930CB808F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7B6E-3B0E-4CD6-82F3-AB3910AD095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B64A-6ACE-4078-ADA2-B0519338B8C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43CC-E349-4DB6-A3BB-4AE3C2586AC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origen.net/Images/DMSO.All.jpg&amp;imgrefurl=http://www.origen.net/dmso.html&amp;h=436&amp;w=500&amp;sz=48&amp;hl=ar&amp;start=1&amp;um=1&amp;tbnid=aUqZYfHrzTPN8M:&amp;tbnh=113&amp;tbnw=130&amp;prev=/images?q=vials+and+syringes&amp;um=1&amp;hl=ar&amp;rlz=1T4ADBS_en___SA202&amp;sa=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907920" y="3181320"/>
            <a:ext cx="7785360" cy="31464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7" name="Picture 2" descr="http://tbn0.google.com/images?q=tbn:aUqZYfHrzTPN8M:http://www.origen.net/Images/DMSO.A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Carefully trained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ho will prepare? Pharmacist or technicia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oper training in aseptic technique and sterile product information is necessary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4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Will depend on the type of system one chooses to us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7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512280"/>
            <a:ext cx="7772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alculations involving 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V admixtur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 medication order for  a patient weighing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kg calls f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f amphotericin B per kg of body weight to be added to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If the amphotericin B is to be obtained from a reconstituted injection that conta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, how many milliliters should be added to the dextrose injection?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48560" y="92160"/>
            <a:ext cx="259704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otal quantity needed for the patien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25 x 70 = 17.5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Reconstituted solution conta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   1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g                                          X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Times New Roman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  <p:cxnSp>
        <p:nvCxnSpPr>
          <p:cNvPr id="414" name="Straight Arrow Connector 5"/>
          <p:cNvCxnSpPr/>
          <p:nvPr/>
        </p:nvCxnSpPr>
        <p:spPr>
          <a:xfrm>
            <a:off x="3071880" y="421488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15" name="Straight Arrow Connector 7"/>
          <p:cNvCxnSpPr/>
          <p:nvPr/>
        </p:nvCxnSpPr>
        <p:spPr>
          <a:xfrm>
            <a:off x="3071880" y="5214960"/>
            <a:ext cx="228672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An intravenous infusion is to contai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potassium ion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sodium ion in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of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dextrose injection. Using an injection of potassium chloride containing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pe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 and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% injection of sodium chloride, how many milliliters of each should be used to supply the required ion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be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n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rbel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will supplied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NaC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Eq of Kcl 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17.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g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18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                                             X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59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2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  <p:cxnSp>
        <p:nvCxnSpPr>
          <p:cNvPr id="422" name="Straight Arrow Connector 6"/>
          <p:cNvCxnSpPr/>
          <p:nvPr/>
        </p:nvCxnSpPr>
        <p:spPr>
          <a:xfrm>
            <a:off x="2642760" y="3929040"/>
            <a:ext cx="2143800" cy="216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3" name="Straight Arrow Connector 7"/>
          <p:cNvCxnSpPr/>
          <p:nvPr/>
        </p:nvCxnSpPr>
        <p:spPr>
          <a:xfrm>
            <a:off x="2642760" y="4428720"/>
            <a:ext cx="214380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8.5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Eq of NaCl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7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g or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.9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17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g                                      X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X =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0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ml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426" name="Straight Arrow Connector 4"/>
          <p:cNvCxnSpPr/>
          <p:nvPr/>
        </p:nvCxnSpPr>
        <p:spPr>
          <a:xfrm>
            <a:off x="3071880" y="378576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cxnSp>
        <p:nvCxnSpPr>
          <p:cNvPr id="427" name="Straight Arrow Connector 7"/>
          <p:cNvCxnSpPr/>
          <p:nvPr/>
        </p:nvCxnSpPr>
        <p:spPr>
          <a:xfrm>
            <a:off x="3071880" y="4285800"/>
            <a:ext cx="1715040" cy="2520"/>
          </a:xfrm>
          <a:prstGeom prst="straightConnector1">
            <a:avLst/>
          </a:prstGeom>
          <a:ln w="11880">
            <a:solidFill>
              <a:srgbClr val="7fd13b"/>
            </a:solidFill>
            <a:miter/>
            <a:tailEnd len="med" type="arrow" w="med"/>
          </a:ln>
        </p:spPr>
      </p:cxnSp>
      <p:pic>
        <p:nvPicPr>
          <p:cNvPr id="42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57176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e following is a formula for a desired TPN solution. Using the source of each drug as indicated, Calculate the amount of each component required in preparing soluti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PN solu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rmula                                       Component Source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a) Sodium Chloride 35 mEq                                   Vial, 5 mEq per 2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b) Potassium Acetate 35 mEq                               Vial, 10 mEq pre 5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c) Magnesium Sulphate 8 mEq                            Vial, 4 mEq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d) Calcium Gluconte 9.6 mEq                               Vial, 4.7 mEq per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E) Potassium Chloride 5 mEq                               Vial, 40 mEq per 2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f) Folic Acid 1.7 mg                                                    Ampul, 5 mg  per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(g) Multple vitamin infusion 10 ml                       Ampul, 1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To be added to: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Amino Acid Infusion (8.5 %)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        </a:t>
            </a:r>
            <a:r>
              <a:rPr b="0" lang="en-US" sz="1700" spc="-1" strike="noStrike">
                <a:solidFill>
                  <a:srgbClr val="ffffff"/>
                </a:solidFill>
                <a:latin typeface="Corbel"/>
              </a:rPr>
              <a:t>Dextrose injection (50 %)                                 500 ml</a:t>
            </a: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Sol.: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71468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c)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4 ml.                                    X= 2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b)                                                  (d)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17.5 ml                                   X= 20.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                             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f)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Corbe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X= 2.5 ml                                      X= 0.34 ml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(g) 10 ml.       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559080" indent="-493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4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21760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6" name="Picture 1" descr=""/>
          <p:cNvPicPr/>
          <p:nvPr/>
        </p:nvPicPr>
        <p:blipFill>
          <a:blip r:embed="rId2"/>
          <a:stretch/>
        </p:blipFill>
        <p:spPr>
          <a:xfrm>
            <a:off x="1714680" y="2000160"/>
            <a:ext cx="2000160" cy="64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37" name="Rectangle 3"/>
          <p:cNvSpPr/>
          <p:nvPr/>
        </p:nvSpPr>
        <p:spPr>
          <a:xfrm>
            <a:off x="0" y="106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9" name="Picture 4" descr=""/>
          <p:cNvPicPr/>
          <p:nvPr/>
        </p:nvPicPr>
        <p:blipFill>
          <a:blip r:embed="rId3"/>
          <a:stretch/>
        </p:blipFill>
        <p:spPr>
          <a:xfrm>
            <a:off x="1643040" y="3571920"/>
            <a:ext cx="1895400" cy="609480"/>
          </a:xfrm>
          <a:prstGeom prst="rect">
            <a:avLst/>
          </a:prstGeom>
          <a:ln w="0">
            <a:noFill/>
          </a:ln>
        </p:spPr>
      </p:pic>
      <p:sp>
        <p:nvSpPr>
          <p:cNvPr id="4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1" name="Picture 6" descr=""/>
          <p:cNvPicPr/>
          <p:nvPr/>
        </p:nvPicPr>
        <p:blipFill>
          <a:blip r:embed="rId4"/>
          <a:stretch/>
        </p:blipFill>
        <p:spPr>
          <a:xfrm>
            <a:off x="5357880" y="2071800"/>
            <a:ext cx="1771560" cy="6094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3" name="Picture 8" descr=""/>
          <p:cNvPicPr/>
          <p:nvPr/>
        </p:nvPicPr>
        <p:blipFill>
          <a:blip r:embed="rId5"/>
          <a:stretch/>
        </p:blipFill>
        <p:spPr>
          <a:xfrm>
            <a:off x="5429160" y="3571920"/>
            <a:ext cx="2067120" cy="60948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5" name="Picture 10" descr=""/>
          <p:cNvPicPr/>
          <p:nvPr/>
        </p:nvPicPr>
        <p:blipFill>
          <a:blip r:embed="rId6"/>
          <a:stretch/>
        </p:blipFill>
        <p:spPr>
          <a:xfrm>
            <a:off x="1571760" y="4857840"/>
            <a:ext cx="2019240" cy="609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47" name="Picture 12" descr=""/>
          <p:cNvPicPr/>
          <p:nvPr/>
        </p:nvPicPr>
        <p:blipFill>
          <a:blip r:embed="rId7"/>
          <a:stretch/>
        </p:blipFill>
        <p:spPr>
          <a:xfrm>
            <a:off x="5500800" y="4857840"/>
            <a:ext cx="19429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Example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914400" y="1784160"/>
            <a:ext cx="7772400" cy="47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 medication order calls for 1000 ml of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rbel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 to be administered over an 8-hour period. Using an IV administration set which delivers 10 drops per ml, how many drops per minute should be delivered to the patient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Sol.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Volume of fluid = 1000 ml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8 hour =  480 minut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000/ 480  = 2.1 ml per mi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.1 ml/min x 10 (drops per ml) = 21 drops/minut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50" name="Picture 2" descr="http://tbn0.google.com/images?q=tbn:aUqZYfHrzTPN8M:http://www.origen.net/Images/DMSO.All.jpg"/>
          <p:cNvPicPr/>
          <p:nvPr/>
        </p:nvPicPr>
        <p:blipFill>
          <a:blip r:embed="rId1"/>
          <a:stretch/>
        </p:blipFill>
        <p:spPr>
          <a:xfrm>
            <a:off x="6510240" y="92160"/>
            <a:ext cx="25974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928520"/>
            <a:ext cx="7772400" cy="44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preparation of parenteral admixture usually involves the addition of one or more drugs to large volume solutions such as intravenous and nutrients fluids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3716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                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e End,,,,,,,,,,,,,,,,,,,,,,,,,,,,,,,,,,,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Introduction: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olici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Personn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torage spa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Admixture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’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reparation are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Ideally in separate room in the pharmacy “clean room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Size var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0240" y="92160"/>
            <a:ext cx="25974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uidelines for preparing parenteral products should be outlines in the pharmacy’s policy and procedure manual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etailed information regarding preparation, labeling, storage and expiration dating of parenteral products should be readily available in the pharmac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se policy help to provide quality control for the parenteral products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Stability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Put in your mind that stability is affected by place, environmental condition, diluent used to administer the product, other drugs that may be mixed with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06800" indent="-3391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tability and sterility! Gives the expiration d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785880"/>
            <a:ext cx="25477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rbel"/>
              </a:rPr>
              <a:t>incompatibility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Physical: visible change e.g. precipit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hemical: may or not visible change, deterioration or inactivation of an active ingredient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Therapeutic: drug-drug or drug-disease interaction that lead to potentiating of drug effect, drug toxicity, deterioration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5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</a:rPr>
              <a:t>Aseptic Techniqu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ethod of handling sterile products, a sterile parenteral dosage form is free from living microorganisms, particulate matter, and pyrogens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8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45360" y="158760"/>
            <a:ext cx="24206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ont”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0c0"/>
                </a:solidFill>
                <a:latin typeface="Corbel"/>
                <a:ea typeface="Tahoma"/>
              </a:rPr>
              <a:t>Components of an IV program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Corbel"/>
                <a:ea typeface="Tahoma"/>
              </a:rPr>
              <a:t>Polices and procedur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Labeling and check system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  <a:ea typeface="Tahoma"/>
              </a:rPr>
              <a:t>Reviewed against the patient’s current medication profile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tbn0.google.com/images?q=tbn:aUqZYfHrzTPN8M:http://www.origen.net/Images/DMSO.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29480" y="158760"/>
            <a:ext cx="242100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14:22:49Z</dcterms:created>
  <dc:creator>FeRaS</dc:creator>
  <dc:description/>
  <dc:language>en-US</dc:language>
  <cp:lastModifiedBy>FeRaS</cp:lastModifiedBy>
  <dcterms:modified xsi:type="dcterms:W3CDTF">2010-05-07T17:13:50Z</dcterms:modified>
  <cp:revision>18</cp:revision>
  <dc:subject/>
  <dc:title>IV Admixture</dc:title>
</cp:coreProperties>
</file>