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9D3D-48D3-4FC9-BCED-83380FC7F0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4AEA-DDBF-46D7-B5B4-EB51ED722C6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0B4A-825B-4D79-BE15-FC90E5F41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F235-0336-48DD-8C96-08581E14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BB10-0CBC-464E-B31A-EFFD1EF97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F340-8302-4A0F-9CDA-BE2504BBC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22AA-A0C2-4054-BAFB-E902E4FD1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8E084-ACBA-456F-9497-E6662ADD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0665-18A7-41DD-B050-2F88DC5F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02EC8-C491-49DC-83B8-39CEFF2F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2A9D-8E7F-4020-A792-3D8301A4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8602-2F6A-4361-B127-0AE0878E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6620-4696-4B57-A9BF-92863B96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B3B9-3139-4C1B-8E3D-C18EDC6C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91CF-6860-4F68-9B40-FB10498A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B102-37D4-46D6-B370-27836366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F9C7-F46F-4F6D-AC78-37D6C32A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2E38-F7EC-4280-A7D8-58BB0BF29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7960B-F874-4AB4-BC57-5230E4EB8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9E7CF-EFC3-4E5E-8D00-9D9275503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6E36F-8A4F-4918-9647-84194BBE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6838C-9593-4C09-B475-9FFC11E3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2FF1A-60ED-4FFF-A5B8-C0C819E94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20DF0-CE90-478B-8753-79E7AE5F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A210-7D4A-4702-AD64-88476DD8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669D8-114E-4D4F-820A-E9B419E8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7DECA-B690-4F01-9A64-E12E0536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70B40-CD67-48FC-ADD0-11749DF3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285EC-BD53-45FB-A35B-F414F169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7AC8C-2029-4C64-8CFC-EED6BC3B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7AD4B-0DDB-4399-8996-BCCC441D0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4AECA-3C14-4A21-9CF1-CF8799091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49013-004A-4CEB-88F1-29464B044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4031C-376D-45D8-A71F-DEC90F54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8CEBC-EE89-4D6C-A626-F41C6DB1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909A-A0E6-413C-9141-7F7EA0A5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6A5A5-A943-44FD-9C26-C54F8FFC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404CB-816B-4DE5-AF6B-489FFE7A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4A8F3-277A-4B75-B404-9B25591D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82D59-53C8-4B84-872A-32AF78E7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C3670-0DAB-4889-8B15-DA39F5A9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228F7-D8C9-42EC-96F5-5B1271A7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13D12-292F-4EED-A94F-E3CF7605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86502-9033-40A9-B6DD-F7455C435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156B7-33B6-471B-9CDF-E9B14C81F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0ED72-7D64-4650-BF59-FFE1FBE91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BCC4-FD11-45F2-A6AA-EB3CDC52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CF4AC-8186-4F0F-B2EC-1E6366C2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82C6E-DDBC-458A-9B7D-F20C89B1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600F2-E6C7-4DCB-97B8-D21AB13C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A24C1-A565-4A38-9128-1B903047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D778C-AFCD-440A-8FAA-D4AC9CA7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CB1BB-3784-411F-A590-D8FC3F77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81630-29D0-430C-AE95-36F730EB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829BF-57AC-42A6-8F7E-A1C0050E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6CB91-B09F-45D4-A989-A8E487C6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AFE98-98C6-4C24-B619-B5C8D56E5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2574-5532-4FF4-BE25-0D7D5D29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9EE74-6F96-4B93-9427-3785AA156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EA0DB-A481-40CC-97A0-5411C9632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99451-2212-4202-B3C9-2E400B81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BE932-8910-42C2-A50E-C4F43D35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4B644-54F2-4A1D-B1A7-C293224F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EB409-039A-4C8E-AE1D-3F110F75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B98EE-C1FD-409B-AF0D-04D31F29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4A147-6644-4C91-9DD5-054F1DEF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61B50-39F7-4AE6-87BD-09710802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809EB-302A-49AA-BC88-6C0C7207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C2FD-2ED9-4B41-91BC-E4B68864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C3581-1823-45C6-81D6-7352A47C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B3293-8229-4777-8C77-62ACFB25F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CA4CF-CEB2-49F2-9ACC-48900EEDE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39916-8CC3-443A-A254-28766C190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5A883-3D48-4E89-BE7F-08099007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23625-7A0B-4D48-8B71-DF8A849A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E44B9-32D5-4231-AAE7-99326420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B6A9E-2475-44FE-9F99-F7AB226F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079F2-D0D6-41E1-8779-48CA0849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05F55-C972-4E12-8490-15E7C6EE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202E-869C-471E-8BBB-5F949596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1CC6A-0FE9-4B65-97DB-0B11C733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FBE11-8D62-4E07-B4EB-9AF5E49D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9AF22-A7F8-474F-B437-0F0C66D0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98BAC-9FFE-479B-8C51-C6BE1DC16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F23D7-26C8-497C-9783-C79F56889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9500-1926-4E51-AF1B-F63537A7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A5F0-2324-468C-A6BA-66567D4251D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36A6-B8D4-4E6B-85CD-FCF897D783A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55FA-4E60-4882-ACFD-5209B62BEAF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86A1-636D-425F-822B-6EFE28D379AA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FF30-C240-4D14-856C-3CB69F8E734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213E-91F8-4844-AF67-190CC15BE54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95B6-4C19-40C8-87CD-91A44E34B33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907920" y="3181320"/>
            <a:ext cx="7785360" cy="314640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7" name="Picture 2" descr="http://tbn0.google.com/images?q=tbn:aUqZYfHrzTPN8M:http://www.origen.net/Images/DMSO.All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10240" y="92160"/>
            <a:ext cx="25974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”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orbel"/>
                <a:ea typeface="Tahoma"/>
              </a:rPr>
              <a:t>Components of an IV progra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Corbel"/>
                <a:ea typeface="Tahoma"/>
              </a:rPr>
              <a:t>Personn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Carefully traine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Who will prepare? Pharmacist or technicia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Proper training in aseptic technique and sterile product information is necessary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4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29480" y="158760"/>
            <a:ext cx="24210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”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orbel"/>
                <a:ea typeface="Tahoma"/>
              </a:rPr>
              <a:t>Components of an IV progra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Corbel"/>
                <a:ea typeface="Tahoma"/>
              </a:rPr>
              <a:t>Storage spa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Will depend on the type of system one chooses to us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7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29480" y="158760"/>
            <a:ext cx="24210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240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alculations involving </a:t>
            </a:r>
            <a:br>
              <a:rPr sz="4000"/>
            </a:b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IV admixture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xamples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      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 medication order for  a patient weighing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kg calls for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25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g of amphotericin B per kg of body weight to be added to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l of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% dextrose injection. If the amphotericin B is to be obtained from a reconstituted injection that contain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g per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l, how many milliliters should be added to the dextrose injection?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0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48560" y="92160"/>
            <a:ext cx="25970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ol.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otal quantity needed for the patient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25 x 70 = 17.5 m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Reconstituted solution conta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mg pe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m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mg                                             10 m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7.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mg                                          X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X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m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3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0240" y="92160"/>
            <a:ext cx="2597400" cy="3029040"/>
          </a:xfrm>
          <a:prstGeom prst="rect">
            <a:avLst/>
          </a:prstGeom>
          <a:ln w="0">
            <a:noFill/>
          </a:ln>
        </p:spPr>
      </p:pic>
      <p:cxnSp>
        <p:nvCxnSpPr>
          <p:cNvPr id="414" name="Straight Arrow Connector 5"/>
          <p:cNvCxnSpPr/>
          <p:nvPr/>
        </p:nvCxnSpPr>
        <p:spPr>
          <a:xfrm>
            <a:off x="3071880" y="4214880"/>
            <a:ext cx="2286720" cy="216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  <p:cxnSp>
        <p:nvCxnSpPr>
          <p:cNvPr id="415" name="Straight Arrow Connector 7"/>
          <p:cNvCxnSpPr/>
          <p:nvPr/>
        </p:nvCxnSpPr>
        <p:spPr>
          <a:xfrm>
            <a:off x="3071880" y="5214960"/>
            <a:ext cx="2286720" cy="216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xample: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n intravenous infusion is to contain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Eq of potassium ion and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Eq of sodium ion in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l of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% dextrose injection. Using an injection of potassium chloride containing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g per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l and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9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% injection of sodium chloride, how many milliliters of each should be used to supply the required ions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8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0240" y="92160"/>
            <a:ext cx="25974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ol.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Eq of 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rbe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will be supplied b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Eq of KC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n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Eq of N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rbe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will supplied b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Eq of NaC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Eq of KCl 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4.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g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Eq of Kcl 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17.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g o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18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g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g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0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m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18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g                                             X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X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59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21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0240" y="92160"/>
            <a:ext cx="2597400" cy="2803320"/>
          </a:xfrm>
          <a:prstGeom prst="rect">
            <a:avLst/>
          </a:prstGeom>
          <a:ln w="0">
            <a:noFill/>
          </a:ln>
        </p:spPr>
      </p:pic>
      <p:cxnSp>
        <p:nvCxnSpPr>
          <p:cNvPr id="422" name="Straight Arrow Connector 6"/>
          <p:cNvCxnSpPr/>
          <p:nvPr/>
        </p:nvCxnSpPr>
        <p:spPr>
          <a:xfrm>
            <a:off x="2642760" y="3929040"/>
            <a:ext cx="2143800" cy="216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  <p:cxnSp>
        <p:nvCxnSpPr>
          <p:cNvPr id="423" name="Straight Arrow Connector 7"/>
          <p:cNvCxnSpPr/>
          <p:nvPr/>
        </p:nvCxnSpPr>
        <p:spPr>
          <a:xfrm>
            <a:off x="2642760" y="4428720"/>
            <a:ext cx="2143800" cy="252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”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mEq of NaCl =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8.5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Eq of NaCl =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7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g or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7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9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g                                 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7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g                                      X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X =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l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cxnSp>
        <p:nvCxnSpPr>
          <p:cNvPr id="426" name="Straight Arrow Connector 4"/>
          <p:cNvCxnSpPr/>
          <p:nvPr/>
        </p:nvCxnSpPr>
        <p:spPr>
          <a:xfrm>
            <a:off x="3071880" y="3785760"/>
            <a:ext cx="1715040" cy="252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  <p:cxnSp>
        <p:nvCxnSpPr>
          <p:cNvPr id="427" name="Straight Arrow Connector 7"/>
          <p:cNvCxnSpPr/>
          <p:nvPr/>
        </p:nvCxnSpPr>
        <p:spPr>
          <a:xfrm>
            <a:off x="3071880" y="4285800"/>
            <a:ext cx="1715040" cy="252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  <p:pic>
        <p:nvPicPr>
          <p:cNvPr id="428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0240" y="92160"/>
            <a:ext cx="259740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xample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914400" y="1571760"/>
            <a:ext cx="777240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e following is a formula for a desired TPN solution. Using the source of each drug as indicated, Calculate the amount of each component required in preparing solution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     </a:t>
            </a: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PN solution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         </a:t>
            </a: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rmula                                       Component Source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a) Sodium Chloride 35 mEq                                   Vial, 5 mEq per 2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b) Potassium Acetate 35 mEq                               Vial, 10 mEq pre 5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c) Magnesium Sulphate 8 mEq                            Vial, 4 mEq per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d) Calcium Gluconte 9.6 mEq                               Vial, 4.7 mEq per 10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E) Potassium Chloride 5 mEq                               Vial, 40 mEq per 20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f) Folic Acid 1.7 mg                                                    Ampul, 5 mg  per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g) Multple vitamin infusion 10 ml                       Ampul, 10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        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To be added to: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        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Amino Acid Infusion (8.5 %)                            500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        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Dextrose injection (50 %)                                 500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1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0240" y="92160"/>
            <a:ext cx="259740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ol.: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914400" y="171468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59080" indent="-4932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                                        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(c)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    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   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X= 14 ml.                                    X= 2 m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(b)                                                  (d)  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  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X= 17.5 ml                                   X= 20.4 m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                                         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(f)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  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X= 2.5 ml                                      X= 0.34 m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(g) 10 ml.      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4" name="Picture 2" descr="http://tbn0.google.com/images?q=tbn:aUqZYfHrzTPN8M:http://www.origen.net/Images/DMSO.All.jpg"/>
          <p:cNvPicPr/>
          <p:nvPr/>
        </p:nvPicPr>
        <p:blipFill>
          <a:blip r:embed="rId1"/>
          <a:stretch/>
        </p:blipFill>
        <p:spPr>
          <a:xfrm>
            <a:off x="6510240" y="92160"/>
            <a:ext cx="2597400" cy="221760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6" name="Picture 1" descr=""/>
          <p:cNvPicPr/>
          <p:nvPr/>
        </p:nvPicPr>
        <p:blipFill>
          <a:blip r:embed="rId2"/>
          <a:stretch/>
        </p:blipFill>
        <p:spPr>
          <a:xfrm>
            <a:off x="1714680" y="2000160"/>
            <a:ext cx="2000160" cy="64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7" name="Rectangle 3"/>
          <p:cNvSpPr/>
          <p:nvPr/>
        </p:nvSpPr>
        <p:spPr>
          <a:xfrm>
            <a:off x="0" y="10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9" name="Picture 4" descr=""/>
          <p:cNvPicPr/>
          <p:nvPr/>
        </p:nvPicPr>
        <p:blipFill>
          <a:blip r:embed="rId3"/>
          <a:stretch/>
        </p:blipFill>
        <p:spPr>
          <a:xfrm>
            <a:off x="1643040" y="3571920"/>
            <a:ext cx="1895400" cy="609480"/>
          </a:xfrm>
          <a:prstGeom prst="rect">
            <a:avLst/>
          </a:prstGeom>
          <a:ln w="0">
            <a:noFill/>
          </a:ln>
        </p:spPr>
      </p:pic>
      <p:sp>
        <p:nvSpPr>
          <p:cNvPr id="44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1" name="Picture 6" descr=""/>
          <p:cNvPicPr/>
          <p:nvPr/>
        </p:nvPicPr>
        <p:blipFill>
          <a:blip r:embed="rId4"/>
          <a:stretch/>
        </p:blipFill>
        <p:spPr>
          <a:xfrm>
            <a:off x="5357880" y="2071800"/>
            <a:ext cx="1771560" cy="60948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3" name="Picture 8" descr=""/>
          <p:cNvPicPr/>
          <p:nvPr/>
        </p:nvPicPr>
        <p:blipFill>
          <a:blip r:embed="rId5"/>
          <a:stretch/>
        </p:blipFill>
        <p:spPr>
          <a:xfrm>
            <a:off x="5429160" y="3571920"/>
            <a:ext cx="2067120" cy="60948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5" name="Picture 10" descr=""/>
          <p:cNvPicPr/>
          <p:nvPr/>
        </p:nvPicPr>
        <p:blipFill>
          <a:blip r:embed="rId6"/>
          <a:stretch/>
        </p:blipFill>
        <p:spPr>
          <a:xfrm>
            <a:off x="1571760" y="4857840"/>
            <a:ext cx="2019240" cy="60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7" name="Picture 12" descr=""/>
          <p:cNvPicPr/>
          <p:nvPr/>
        </p:nvPicPr>
        <p:blipFill>
          <a:blip r:embed="rId7"/>
          <a:stretch/>
        </p:blipFill>
        <p:spPr>
          <a:xfrm>
            <a:off x="5500800" y="4857840"/>
            <a:ext cx="19429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xample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914400" y="1784160"/>
            <a:ext cx="7772400" cy="47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94560" indent="-3286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 medication order calls for 1000 ml of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rbe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 to be administered over an 8-hour period. Using an IV administration set which delivers 10 drops per ml, how many drops per minute should be delivered to the patient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ol.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Volume of fluid = 1000 m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8 hour =  480 minut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1000/ 480  = 2.1 ml per mi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2.1 ml/min x 10 (drops per ml) = 21 drops/minut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50" name="Picture 2" descr="http://tbn0.google.com/images?q=tbn:aUqZYfHrzTPN8M:http://www.origen.net/Images/DMSO.All.jpg"/>
          <p:cNvPicPr/>
          <p:nvPr/>
        </p:nvPicPr>
        <p:blipFill>
          <a:blip r:embed="rId1"/>
          <a:stretch/>
        </p:blipFill>
        <p:spPr>
          <a:xfrm>
            <a:off x="6510240" y="92160"/>
            <a:ext cx="259740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Introduction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928520"/>
            <a:ext cx="77724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preparation of parenteral admixture usually involves the addition of one or more drugs to large volume solutions such as intravenous and nutrients fluids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0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37160" y="92160"/>
            <a:ext cx="25974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        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End,,,,,,,,,,,,,,,,,,,,,,,,,,,,,,,,,,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Introduction: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rbel"/>
                <a:ea typeface="Tahoma"/>
              </a:rPr>
              <a:t>Components of an IV program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Preparation are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Policies and procedur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Personn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Storage spa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Admixture system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3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29480" y="158760"/>
            <a:ext cx="24210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’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orbel"/>
                <a:ea typeface="Tahoma"/>
              </a:rPr>
              <a:t>Components of an IV progra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Corbel"/>
                <a:ea typeface="Tahoma"/>
              </a:rPr>
              <a:t>Preparation are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Ideally in separate room in the pharmacy “clean room”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Size var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6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0240" y="92160"/>
            <a:ext cx="25974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”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rbel"/>
              </a:rPr>
              <a:t>Components of an IV program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Corbel"/>
              </a:rPr>
              <a:t>Polices and procedur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Guidelines for preparing parenteral products should be outlines in the pharmacy’s policy and procedure manual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Detailed information regarding preparation, labeling, storage and expiration dating of parenteral products should be readily available in the pharmacy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se policy help to provide quality control for the parenteral product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9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29480" y="158760"/>
            <a:ext cx="24210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”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orbel"/>
              </a:rPr>
              <a:t>Components of an IV progra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Corbel"/>
              </a:rPr>
              <a:t>Polices and procedur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Stabilit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ut in your mind that stability is affected by place, environmental condition, diluent used to administer the product, other drugs that may be mixed with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tability and sterility! Gives the expiration dat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2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43760" y="785880"/>
            <a:ext cx="25477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”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90240" indent="-32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rbel"/>
              </a:rPr>
              <a:t>Components of an IV program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Corbel"/>
              </a:rPr>
              <a:t>Polices and procedur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rbel"/>
              </a:rPr>
              <a:t>incompatibility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hysical: visible change e.g. precipitatio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hemical: may or not visible change, deterioration or inactivation of an active ingredient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rapeutic: drug-drug or drug-disease interaction that lead to potentiating of drug effect, drug toxicity, deterioration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5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29480" y="158760"/>
            <a:ext cx="24210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”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orbel"/>
              </a:rPr>
              <a:t>Components of an IV progra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Corbel"/>
              </a:rPr>
              <a:t>Polices and procedur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Aseptic Techniqu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ethod of handling sterile products, a sterile parenteral dosage form is free from living microorganisms, particulate matter, and pyrogen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8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45360" y="158760"/>
            <a:ext cx="242064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”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orbel"/>
                <a:ea typeface="Tahoma"/>
              </a:rPr>
              <a:t>Components of an IV progra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Corbel"/>
                <a:ea typeface="Tahoma"/>
              </a:rPr>
              <a:t>Polices and procedur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Labeling and check system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Reviewed against the patient’s current medication profil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1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29480" y="158760"/>
            <a:ext cx="24210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7T14:22:49Z</dcterms:created>
  <dc:creator>FeRaS</dc:creator>
  <dc:description/>
  <dc:language>en-US</dc:language>
  <cp:lastModifiedBy>FeRaS</cp:lastModifiedBy>
  <dcterms:modified xsi:type="dcterms:W3CDTF">2010-05-07T17:13:50Z</dcterms:modified>
  <cp:revision>18</cp:revision>
  <dc:subject/>
  <dc:title>IV Admixture</dc:title>
</cp:coreProperties>
</file>