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89EC-1FCE-47C0-B387-8C7CC290F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58DD-6AC7-41D1-9449-AB7D0E6FF1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1C5-9507-401B-B9ED-830BA25E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D519-846A-4F0B-B7CB-7EFEF383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815-4126-41DA-86B8-4123BA36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8FE-60C4-45CF-95D1-6AC1E2FB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5388-F410-4F39-AAD4-B93D40B6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577F-F101-4092-B011-AAB23467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60D2-7DD9-417E-A0C9-B4E15AB3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9C95-FDFA-4D1E-9713-97F89592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B26E-50D3-4C62-B250-7B160F46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91E9-383A-4B27-923E-685F7617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B4AA-319D-46CB-89E5-82ACB547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E3A-3FE6-42F2-91D2-8681BF30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D547-CDEC-47D4-914D-CAAA127A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439A-A1CA-4288-83C2-5CF69C0A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0AAB-7D1E-404A-A3B4-03EC4FC5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C3C4-9032-4E1A-91DD-36E8D5FF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6A26-9303-4712-B286-B42B74BF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38DC9-0DF4-42FF-8D75-1926CB6D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C84C0-1688-4DAB-AACF-2F4BF7B2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F5DFF-0A05-4CB9-9F7D-EDAA0C97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3F1B0-37BF-46DD-8F44-E31B4AF2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A346-EC4F-4866-8891-567A7203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8E3-F8EB-453F-AB6A-E7976C6B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964FF-7D62-455E-85D5-C20704F8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F44F5-4161-4B44-B1FE-87B2415B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7B7D-401F-46AF-8422-BE26F307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9292A-08AE-4891-B3A9-66BB98CA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79481-1BC3-41B6-B75C-624C7F42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91259-8DB2-4C58-AE72-43B4C24C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91F98-228A-40EF-9CFA-D3FB472F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2D9FC-6A35-4BCD-A939-90251058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0A1E5-DCA7-47A9-95A6-C61C4684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9A1EA-36CD-44AE-9D3F-5938A67F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691-95E8-43D3-8BFD-5E967538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44B93-D6AC-4379-8668-41502EAF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DB33E-8034-4836-AC40-5C342F1D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6AC5C-6EBF-402A-8640-8EFB0CF3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996C6-21D8-4F5B-9331-F9EF0F2C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B7301-5519-4E87-A93F-E5AB0052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6B8E7-6235-4D6B-8514-03F3BF74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44611-C798-4A04-A08A-1EF1D44A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D12B0-3CD6-445D-8456-D282EB69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5FC5E-9D8B-4A98-96B9-92C7083F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D09BC-1275-4A7B-9831-07D6C71F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40A-2AE3-4FB7-8841-F0D0B5FF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0CC5D-BD16-4EBA-AE44-59166067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6E8A9-C5FF-446A-86C0-2AF93B1C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A92BA-F63F-4578-9227-3FD74D49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5ABE7-DC90-49E4-939C-EF775253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E7926-4688-4EE9-A16D-15BB7A9E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B6C7E-DC94-418A-99D8-D5B02F45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C9208-8FBF-40F0-9AA3-D58D66F8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A6794-4050-4FED-96F8-53A6DE94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EEB24-5BFE-4905-8ADB-F5A6CD6F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EDB2A-98DE-40C0-A8BA-486740C5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6DC-202D-4D79-B5A5-7FADDB93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C0531-6F4A-4EAD-952D-B481626A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A9AF3-21C5-46DD-B3C0-FD1D9A18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AAE7F-9E6B-4C77-9348-A4214E62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9BBE4-D939-4014-B786-C3CABBE0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0E768-F77A-4011-A59C-0F0AF5EC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55F87-4762-4E51-8DC3-8B13FE54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07850-BE84-4789-9E67-D1B2EB51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D08E6-70B6-4D6F-BD37-3841A44A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BB730-05D9-41C4-A8E3-6BE21F87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DD81F-9EC5-4CFB-B00F-09BB498B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2F7-FA56-471E-9605-7B6A7933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F0C0A-1750-41D2-B89C-5EDF4081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7CDAA-E2A2-418C-B2D7-2078F96D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57195-B109-4DD3-921F-3C41ADF9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AA8EB-BA3B-42CD-AB2B-AF959FDB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31A1E-C6B6-4329-8CE3-8AA41148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EAF29-5B70-44DD-A93B-7DBC8E8A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26CA3-A65D-444D-B6A1-D4777EBA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03BCE-DF3D-4AB9-983C-18A57D65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68945-FB6B-4AD6-97A4-60C9DC63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BCDBB-FAA2-4DC0-845B-21835981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862-7768-427F-B12A-749822CA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2601E-B20B-42D9-9DC4-D91B6561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BFFF6-CC1A-4153-87AF-A257DC0E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E6789-8A98-4FFA-8E6E-440832C5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F31B9-D212-4F28-8E03-47C87546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28229-A3F0-40B3-9D3B-9524B3A2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29D-94FB-4445-BF1A-C6701077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4854-C565-4763-809F-3153EF0C293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AF1C-8369-4100-AD2E-626BE39F325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AC38-3479-4AC2-A140-72A85C5AAF9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9CD0-0BA2-4DF6-A7BF-D40192C9F88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0E24-83F6-4ECF-A9A3-20944C5B241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AA8C-2258-48AE-B524-AC5038D60C3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9FE9-BDDC-44E0-8025-CA991044E9A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3181320"/>
            <a:ext cx="7785360" cy="31464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http://tbn0.google.com/images?q=tbn:aUqZYfHrzTPN8M:http://www.origen.net/Images/DMSO.A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ersonn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Carefully train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Who will prepare? Pharmacist or technici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roper training in aseptic technique and sterile product information is necessa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4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Storage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Will depend on the type of system one chooses to u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alculations involving 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V admixtur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medication order for  a patient weighing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kg calls fo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of amphotericin B per kg of body weight to be added to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of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dextrose injection. If the amphotericin B is to be obtained from a reconstituted injection that contain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p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, how many milliliters should be added to the dextrose injection?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0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48560" y="92160"/>
            <a:ext cx="2597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otal quantity needed for the patient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 x 70 = 17.5 m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Reconstituted solution conta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p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                                            10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                                         X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3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  <p:cxnSp>
        <p:nvCxnSpPr>
          <p:cNvPr id="414" name="Straight Arrow Connector 5"/>
          <p:cNvCxnSpPr/>
          <p:nvPr/>
        </p:nvCxnSpPr>
        <p:spPr>
          <a:xfrm>
            <a:off x="3071880" y="4214880"/>
            <a:ext cx="228672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15" name="Straight Arrow Connector 7"/>
          <p:cNvCxnSpPr/>
          <p:nvPr/>
        </p:nvCxnSpPr>
        <p:spPr>
          <a:xfrm>
            <a:off x="3071880" y="5214960"/>
            <a:ext cx="228672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intravenous infusion is to contai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potassium ion a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sodium ion in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of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dextrose injection. Using an injection of potassium chloride containing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p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a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injection of sodium chloride, how many milliliters of each should be used to supply the required ion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be suppli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suppli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NaC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4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17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g 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18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18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                                             X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59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803320"/>
          </a:xfrm>
          <a:prstGeom prst="rect">
            <a:avLst/>
          </a:prstGeom>
          <a:ln w="0">
            <a:noFill/>
          </a:ln>
        </p:spPr>
      </p:pic>
      <p:cxnSp>
        <p:nvCxnSpPr>
          <p:cNvPr id="422" name="Straight Arrow Connector 6"/>
          <p:cNvCxnSpPr/>
          <p:nvPr/>
        </p:nvCxnSpPr>
        <p:spPr>
          <a:xfrm>
            <a:off x="2642760" y="3929040"/>
            <a:ext cx="214380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3" name="Straight Arrow Connector 7"/>
          <p:cNvCxnSpPr/>
          <p:nvPr/>
        </p:nvCxnSpPr>
        <p:spPr>
          <a:xfrm>
            <a:off x="2642760" y="4428720"/>
            <a:ext cx="214380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mEq of NaCl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8.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NaCl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7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o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7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7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                                     X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426" name="Straight Arrow Connector 4"/>
          <p:cNvCxnSpPr/>
          <p:nvPr/>
        </p:nvCxnSpPr>
        <p:spPr>
          <a:xfrm>
            <a:off x="3071880" y="3785760"/>
            <a:ext cx="171504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7" name="Straight Arrow Connector 7"/>
          <p:cNvCxnSpPr/>
          <p:nvPr/>
        </p:nvCxnSpPr>
        <p:spPr>
          <a:xfrm>
            <a:off x="3071880" y="4285800"/>
            <a:ext cx="171504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pic>
        <p:nvPicPr>
          <p:cNvPr id="42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57176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e following is a formula for a desired TPN solution. Using the source of each drug as indicated, Calculate the amount of each component required in preparing solution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PN solu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rmula                                       Component Source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a) Sodium Chloride 35 mEq                                   Vial, 5 mEq per 2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b) Potassium Acetate 35 mEq                               Vial, 10 mEq pre 5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) Magnesium Sulphate 8 mEq                            Vial, 4 mEq per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d) Calcium Gluconte 9.6 mEq                               Vial, 4.7 mEq per 1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E) Potassium Chloride 5 mEq                               Vial, 40 mEq per 2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f) Folic Acid 1.7 mg                                                    Ampul, 5 mg  per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g) Multple vitamin infusion 10 ml                       Ampul, 1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To be added to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Amino Acid Infusion (8.5 %)                            50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Dextrose injection (50 %)                                 50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7146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c)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14 ml.                                    X= 2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b)                                                  (d)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17.5 ml                                   X= 20.4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f)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2.5 ml                                      X= 0.34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g) 10 ml.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2" descr="http://tbn0.google.com/images?q=tbn:aUqZYfHrzTPN8M:http://www.origen.net/Images/DMSO.All.jpg"/>
          <p:cNvPicPr/>
          <p:nvPr/>
        </p:nvPicPr>
        <p:blipFill>
          <a:blip r:embed="rId1"/>
          <a:stretch/>
        </p:blipFill>
        <p:spPr>
          <a:xfrm>
            <a:off x="6510240" y="92160"/>
            <a:ext cx="2597400" cy="22176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6" name="Picture 1" descr=""/>
          <p:cNvPicPr/>
          <p:nvPr/>
        </p:nvPicPr>
        <p:blipFill>
          <a:blip r:embed="rId2"/>
          <a:stretch/>
        </p:blipFill>
        <p:spPr>
          <a:xfrm>
            <a:off x="1714680" y="2000160"/>
            <a:ext cx="2000160" cy="6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7" name="Rectangle 3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3"/>
          <a:stretch/>
        </p:blipFill>
        <p:spPr>
          <a:xfrm>
            <a:off x="1643040" y="3571920"/>
            <a:ext cx="1895400" cy="60948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1" name="Picture 6" descr=""/>
          <p:cNvPicPr/>
          <p:nvPr/>
        </p:nvPicPr>
        <p:blipFill>
          <a:blip r:embed="rId4"/>
          <a:stretch/>
        </p:blipFill>
        <p:spPr>
          <a:xfrm>
            <a:off x="5357880" y="2071800"/>
            <a:ext cx="1771560" cy="6094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3" name="Picture 8" descr=""/>
          <p:cNvPicPr/>
          <p:nvPr/>
        </p:nvPicPr>
        <p:blipFill>
          <a:blip r:embed="rId5"/>
          <a:stretch/>
        </p:blipFill>
        <p:spPr>
          <a:xfrm>
            <a:off x="5429160" y="3571920"/>
            <a:ext cx="2067120" cy="6094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5" name="Picture 10" descr=""/>
          <p:cNvPicPr/>
          <p:nvPr/>
        </p:nvPicPr>
        <p:blipFill>
          <a:blip r:embed="rId6"/>
          <a:stretch/>
        </p:blipFill>
        <p:spPr>
          <a:xfrm>
            <a:off x="1571760" y="4857840"/>
            <a:ext cx="201924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7" name="Picture 12" descr=""/>
          <p:cNvPicPr/>
          <p:nvPr/>
        </p:nvPicPr>
        <p:blipFill>
          <a:blip r:embed="rId7"/>
          <a:stretch/>
        </p:blipFill>
        <p:spPr>
          <a:xfrm>
            <a:off x="5500800" y="4857840"/>
            <a:ext cx="1942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 medication order calls for 1000 ml of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rbe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 to be administered over an 8-hour period. Using an IV administration set which delivers 10 drops per ml, how many drops per minute should be delivered to the patient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l.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Volume of fluid = 1000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8 hour =  480 minut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000/ 480  = 2.1 ml per mi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2.1 ml/min x 10 (drops per ml) = 21 drops/minut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0" name="Picture 2" descr="http://tbn0.google.com/images?q=tbn:aUqZYfHrzTPN8M:http://www.origen.net/Images/DMSO.All.jpg"/>
          <p:cNvPicPr/>
          <p:nvPr/>
        </p:nvPicPr>
        <p:blipFill>
          <a:blip r:embed="rId1"/>
          <a:stretch/>
        </p:blipFill>
        <p:spPr>
          <a:xfrm>
            <a:off x="6510240" y="92160"/>
            <a:ext cx="2597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roduction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92852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preparation of parenteral admixture usually involves the addition of one or more drugs to large volume solutions such as intravenous and nutrients fluid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3716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End,,,,,,,,,,,,,,,,,,,,,,,,,,,,,,,,,,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roduction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reparation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olici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ersonn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Storage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Admixture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’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reparation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Ideally in separate room in the pharmacy “clean room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Size va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uidelines for preparing parenteral products should be outlines in the pharmacy’s policy and procedure manu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etailed information regarding preparation, labeling, storage and expiration dating of parenteral products should be readily available in the pharmac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se policy help to provide quality control for the parenteral product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tabil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ut in your mind that stability is affected by place, environmental condition, diluent used to administer the product, other drugs that may be mixed wi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bility and sterility! Gives the expiration d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785880"/>
            <a:ext cx="2547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incompatibi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hysical: visible change e.g. precipit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emical: may or not visible change, deterioration or inactivation of an active ingredien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rapeutic: drug-drug or drug-disease interaction that lead to potentiating of drug effect, drug toxicity, deterioratio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Aseptic Techniqu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thod of handling sterile products, a sterile parenteral dosage form is free from living microorganisms, particulate matter, and pyroge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45360" y="158760"/>
            <a:ext cx="24206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Labeling and check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Reviewed against the patient’s current medication profil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4:22:49Z</dcterms:created>
  <dc:creator>FeRaS</dc:creator>
  <dc:description/>
  <dc:language>en-US</dc:language>
  <cp:lastModifiedBy>FeRaS</cp:lastModifiedBy>
  <dcterms:modified xsi:type="dcterms:W3CDTF">2010-05-07T17:13:50Z</dcterms:modified>
  <cp:revision>18</cp:revision>
  <dc:subject/>
  <dc:title>IV Admixture</dc:title>
</cp:coreProperties>
</file>