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0E5-E5F6-4361-81B2-F0AD7478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643-F65D-4FE0-AEC5-320AE0E6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5BC-0DA6-465A-BA07-134BA917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820-C749-435C-BD52-DE84A772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08F6-5C98-4542-982D-3A705179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D3DC-5BE3-4329-B5D1-325E21E7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3201-7E34-4720-9A24-77AE0E65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E4D5-C736-4309-A737-8CDFC580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799A-3993-4A37-8ADC-4F2A3FD7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867F-087C-4E6F-B5E8-5EE2B5D4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6D07-50C9-4F18-B1AE-AD75DF5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282-4C77-414B-9C90-D1CD34FF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4A06-76ED-46B1-8D75-54101E4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CD3C-4F7C-48B8-BFCC-3C3B3F8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E4C4-7637-4132-890B-84DC3D0A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2CD9-F9F3-4023-9DFE-081CF546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EC94-64A1-45F7-A683-7A001050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95872-ACC3-4E29-9492-A6A28729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EF3C9-68C6-450C-839D-2D4E9496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A92B9-E306-4A00-99C0-D4EDF8E1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20E0A-F4DA-4796-9162-29E07DC8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73010-2BBE-4237-935C-FCEF0BC9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0DB-D1A3-4BAB-A447-43171FA2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BFA2E-ECBD-410F-9050-1B1FC985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98A37-A3A8-43C6-99C0-7FA0053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C01C7-D9C1-424F-8F1D-9D86AA6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6A002-22CA-46CC-943B-2A953AFB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A3AD1-BE5C-40CE-8776-4807B22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7AB67-C9C9-4423-90DB-1C062682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BDB9C-8812-414B-93E4-A75E548B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F5CB-A4EA-4D18-ADB4-3C21587A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6D3B-7E9B-45BB-BB72-18E27430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87DB-8F0A-495B-9D58-DE82E920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791-1BC3-45C1-A027-23450238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9E7F-C6F3-466D-8F30-CB8CCCEF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73D0-A5F6-41C4-A8DE-8E4788B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2E07-80BC-42D2-944C-20C4B5E5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1883D-1F41-4423-BF5D-77231C5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9310-BD22-49DB-ACCD-17DAC80C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FD73-F654-4114-A765-0F990677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E676-2321-4277-96E4-0E77FBFF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5A005-2D37-47C3-934F-F0D3B3E6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CBA9-EEDF-4195-8AFF-FB7109D0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813-638D-41A9-A8CA-A0278C14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130-B56E-48BB-AB43-0C4C5854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3FF-FFDC-44A1-BFC7-83F8D03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485-E9BC-4D26-A2D1-DF45C57D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1D9-E5B9-40EA-B1D2-81A3446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E2F6-6DAE-4B76-B8F1-9F9CAB2FF30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7F4D-B9E1-4075-B009-3B7629B7D1B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9FC3-F2D4-4F57-AF09-59CC40AB845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E9ED-0441-488C-9EE4-22AF42F875A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Bacterial count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06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2" descr="C:\Users\Najola\Desktop\ksu\dilution.gif"/>
          <p:cNvPicPr/>
          <p:nvPr/>
        </p:nvPicPr>
        <p:blipFill>
          <a:blip r:embed="rId1"/>
          <a:stretch/>
        </p:blipFill>
        <p:spPr>
          <a:xfrm>
            <a:off x="1187280" y="1844640"/>
            <a:ext cx="70041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Principle of pour plate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37240" indent="-165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ample should be diluted successively with sterile water. The agar medium is maintained in molten state at 45° 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7240" indent="-165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e ml of each dilution (-5,-6,-7) is added to each sterile an empty labeled Petri dish, Then pour 9 ml molten agar (45°c) into above Petri dis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7240" indent="-165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contents are thoroughly mixed, and allowed to solidify. The dishes are incubated at suitable temperature 37c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7240" indent="-165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fter few days 24-48hrs , different kinds of microbes grow as separate colonies. Colonies are counted 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Pour plate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5573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dvantages 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es not require previously poured pl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ss work, less risk of contamin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aerobes and facultative anaerobes grow within the aga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isadvantages 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ating could kill some organis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Oxygen diffusion is not sufficient for obligate aerob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Spread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191628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eorgia"/>
              </a:rPr>
              <a:t>Spread plating metho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ce (0.1ml) of  each dilution(-5,-6,-7) onto solid aga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read with sterile glass or metal spread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ubate (minimum 24 hrs, usually 48 hr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onies are count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4973-1_05463_0500_5000-2"/>
          <p:cNvPicPr/>
          <p:nvPr/>
        </p:nvPicPr>
        <p:blipFill>
          <a:blip r:embed="rId1"/>
          <a:stretch/>
        </p:blipFill>
        <p:spPr>
          <a:xfrm>
            <a:off x="2000160" y="1214280"/>
            <a:ext cx="5214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Miles and Misra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89000"/>
            <a:ext cx="8229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vide plate into 3 sections -5,-6,-7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each section ,deliver 1 drop of the corresponding dilution using Pasteur pipette.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 not throw the pipette after finishi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calculate using 1ml of water, how many drops are delivered of 1ml wat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ubate the plate at 37c for 24 h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# Colony forming units (CFU) = count of bacter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grpSp>
        <p:nvGrpSpPr>
          <p:cNvPr id="243" name="Oval 3"/>
          <p:cNvGrpSpPr/>
          <p:nvPr/>
        </p:nvGrpSpPr>
        <p:grpSpPr>
          <a:xfrm>
            <a:off x="2846520" y="2523960"/>
            <a:ext cx="3378240" cy="3370320"/>
            <a:chOff x="2846520" y="2523960"/>
            <a:chExt cx="3378240" cy="3370320"/>
          </a:xfrm>
        </p:grpSpPr>
        <p:pic>
          <p:nvPicPr>
            <p:cNvPr id="244" name="Oval 3" descr=""/>
            <p:cNvPicPr/>
            <p:nvPr/>
          </p:nvPicPr>
          <p:blipFill>
            <a:blip r:embed="rId2"/>
            <a:stretch/>
          </p:blipFill>
          <p:spPr>
            <a:xfrm>
              <a:off x="2846520" y="2523960"/>
              <a:ext cx="3378240" cy="33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390840" y="3040200"/>
              <a:ext cx="2290680" cy="22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Straight Connector 5"/>
          <p:cNvSpPr/>
          <p:nvPr/>
        </p:nvSpPr>
        <p:spPr>
          <a:xfrm flipH="1">
            <a:off x="4500360" y="2565360"/>
            <a:ext cx="349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7"/>
          <p:cNvSpPr/>
          <p:nvPr/>
        </p:nvSpPr>
        <p:spPr>
          <a:xfrm>
            <a:off x="4500720" y="4149720"/>
            <a:ext cx="118080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0"/>
          <p:cNvSpPr/>
          <p:nvPr/>
        </p:nvSpPr>
        <p:spPr>
          <a:xfrm flipH="1">
            <a:off x="3348000" y="4149720"/>
            <a:ext cx="1152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3348000" y="364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4788000" y="36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421164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Calculation of Bacterial cou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im is to calculate how many colony forming units (C.F.U.) of organism which present in the original sampl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  = N/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 = number of bacter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 = number of colonies counted on a pl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 = dilution factor (either 1, 10 or 1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6064"/>
                </a:solidFill>
                <a:latin typeface="Trebuchet MS"/>
                <a:ea typeface="Arial"/>
              </a:rPr>
              <a:t>Calculation of pour plate method</a:t>
            </a:r>
            <a:r>
              <a:rPr b="1" lang="en-US" sz="4000" spc="-1" strike="noStrike">
                <a:solidFill>
                  <a:srgbClr val="326064"/>
                </a:solidFill>
                <a:latin typeface="Trebuchet MS"/>
                <a:ea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0 colonies                 in 1ml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i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in 1 ml of original s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no of bacteria in original sampl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00 x 1/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6064"/>
                </a:solidFill>
                <a:latin typeface="Trebuchet MS"/>
                <a:ea typeface="Arial"/>
              </a:rPr>
              <a:t>Calculation of spread plate metho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0 colonies                 in 0.1ml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in 1 ml of original s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no of bacteria in original sampl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50 x 1/ 1 x 0.1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50 x 10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ml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Total bacterial cou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determines the No. of both living and dead bacter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ch a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Nephelometric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Counting chamber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Trebuchet MS"/>
                <a:ea typeface="Arial"/>
              </a:rPr>
              <a:t>Calculation of miles and misra plate method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 colonies                 in a drop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in 1 ml of original s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1 ml of Pasteur pipette= 40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no of bacteria in original sampl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5 x 40/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2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ml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Nephelometric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Turbidit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acterial growth makes solution “turbid”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iculate objects such as bacteria will scatter light, The amount of scattering is proportional to cells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Nephlometer to determine the amou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 light scattered by a suspension of cell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214280" y="928800"/>
            <a:ext cx="6929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DMC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55640" y="1628640"/>
            <a:ext cx="7429680" cy="4857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Counting Chamber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Viable bacterial cou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determines the No. of living bacteria onl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mmon method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Pour plate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Spread ( surface)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- Miles and Misra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Arial"/>
              </a:rPr>
              <a:t>Pour plate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4043"/>
                </a:solidFill>
                <a:latin typeface="Georgia"/>
                <a:ea typeface="Times New Roman"/>
              </a:rPr>
              <a:t>Dilution:</a:t>
            </a:r>
            <a:r>
              <a:rPr b="1" lang="en-US" sz="2400" spc="-1" strike="noStrike">
                <a:solidFill>
                  <a:srgbClr val="22404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cause of the huge number of bacterial colonies and their small size, counting the number of bacteria in a sample can be difficult. bacterial samples must be diluted considerably to obtain reasonable coun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68280"/>
            <a:ext cx="82296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or nearly all environmental samples, a dilution step is neede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g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l of surface water contain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ells/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read 1 ml per plate: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,000,000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olonies too high, would fill surfa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0.1</a:t>
            </a: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ml per plate=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1,000</a:t>
            </a: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colonies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unt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0.001</a:t>
            </a: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ml per plate=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100</a:t>
            </a: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colonies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untable, but volume too small to measure accurate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Serial Dilutions of the S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we take one ml of the original sample and add it to 9 ml of sterile water, it will give 1:10 or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ilution of original sample, i.e. the original sample has been diluted to 1/10th. Similarly we may prepare 1:1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, 1:1,0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, 1:10,0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and so on dilutions of the original sampl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5:36:18Z</dcterms:created>
  <dc:creator>ksu</dc:creator>
  <dc:description/>
  <dc:language>en-US</dc:language>
  <cp:lastModifiedBy>Najola</cp:lastModifiedBy>
  <dcterms:modified xsi:type="dcterms:W3CDTF">2011-11-27T04:18:35Z</dcterms:modified>
  <cp:revision>83</cp:revision>
  <dc:subject/>
  <dc:title>Steps in Focusing Bright Field Microscope</dc:title>
</cp:coreProperties>
</file>