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B1540-DD06-4CF2-AE3A-4C75D9C81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A6BE0-32EE-4879-BD03-4168584D3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8585E-63D3-48FA-A668-6A5A0809D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75EB6-299E-4156-A0BC-07F625AE0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D6A55-6A99-4303-B8FC-6F043714B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18FAF-F146-4CE2-87E2-550EA74CB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CF7EA-AE5A-46F6-B95A-4B2285BAA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772FD-4B1B-495D-A51A-3A6B794B7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5BDAD-845E-4AFC-B56F-99E5292C0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53FCD-61A3-4B87-BD06-945D39C5F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FDD4B-5EE5-466F-93B4-63A24FA13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99640-7B2F-41D5-8029-E0D2BA49B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ED6B3-D65B-4839-BA16-7DED13984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24BE6-E860-4C1C-AE99-648F085F9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A722D-0A2D-4A82-97DB-38DF44963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30027-D28E-48BB-877F-5E006EB57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44EC9-F111-4F42-BA51-C8BD3256F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21DC441-1C16-4F85-AF05-2DA7B37F7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D77591-B760-47A0-B361-12910313D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F5259E2-3190-4293-9E62-CE5038FDE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42D164A-4872-44F0-B8C6-807E41E61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880566A-2BB0-4367-96F2-7575FFBA1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3B964-E8F5-4A20-9ED3-4FF445A51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985ED7F-646F-49B7-950D-40DC9769B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BBDB409-F69E-4C86-A106-88EE6B9CD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F7784A-3AD6-430B-B9FF-AFF038705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DED6A41-EEA1-4045-AC9A-635448376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283C746-3FED-470F-A1AB-30E06297A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98189EA-3702-4635-9B36-2C35E25F8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5FE4F78-B31B-4E4A-B2A1-EFD08A801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995154-AA73-40A9-A36C-AB8985487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04976F-404C-4B77-9553-4202C780A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41D708-D13F-4CC7-91D2-CCEA27F15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EF5AB-72FB-4F18-B38A-3EC109C9C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2BDF5E-0DF7-4D10-AC7F-A47523870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7B961F-7838-4EE2-AB3E-2620D2395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982EAF-99C0-4883-824A-E71D1E236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6B0716-F3AD-4A2C-95BD-7EA3A8072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3D1165-B8A7-4276-8F71-F93B545EB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6AD990-B545-427D-9AF1-93F3DB486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150EA2-C2BC-406A-82FA-5AC25DCB9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0D9ABE-1C4F-41FC-8E37-625EC44C2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DA292C-5550-4CE1-8D95-4F2C4B6C7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11E6A-03E0-4BFC-8F4C-9FE2CBCA1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482D5-91EA-41D4-BBE9-7DF8A8C5E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E7811-526A-413D-A980-960EE470D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88121-FCA3-4003-AB23-A92EEFEA8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EBD76-E983-47AE-A99E-7CEC29327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 algn="r" rtl="1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 algn="r" rtl="1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 algn="r" rtl="1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 algn="r" rtl="1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 algn="r" rtl="1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 algn="r" rtl="1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800" spc="-1" strike="noStrike">
                <a:solidFill>
                  <a:srgbClr val="438086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" spc="-1" strike="noStrike">
                <a:solidFill>
                  <a:srgbClr val="438086"/>
                </a:solidFill>
                <a:latin typeface="Arial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60094-CCAE-443E-98C6-C1E96C6BAB38}" type="slidenum">
              <a:rPr b="0" lang="ar-SA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ounded Rectangle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ounded Rectangle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 algn="r" rtl="1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 algn="r" rtl="1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 algn="r" rtl="1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 algn="r" rtl="1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 algn="r" rtl="1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 algn="r" rtl="1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800" spc="-1" strike="noStrike">
                <a:solidFill>
                  <a:srgbClr val="438086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" spc="-1" strike="noStrike">
                <a:solidFill>
                  <a:srgbClr val="438086"/>
                </a:solidFill>
                <a:latin typeface="Arial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25087-7807-4960-AD3C-45DBFA64757C}" type="slidenum">
              <a:rPr b="0" lang="ar-SA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 algn="r" rtl="1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 algn="r" rtl="1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 algn="r" rtl="1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 algn="r" rtl="1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 algn="r" rtl="1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 algn="r" rtl="1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800" spc="-1" strike="noStrike">
                <a:solidFill>
                  <a:srgbClr val="438086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" spc="-1" strike="noStrike">
                <a:solidFill>
                  <a:srgbClr val="438086"/>
                </a:solidFill>
                <a:latin typeface="Arial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5E93B-0883-44D1-809C-8ACAE99D1BB0}" type="slidenum">
              <a:rPr b="0" lang="ar-SA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 algn="r" rtl="1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 algn="r" rtl="1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 algn="r" rtl="1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 algn="r" rtl="1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 algn="r" rtl="1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 algn="r" rtl="1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800" spc="-1" strike="noStrike">
                <a:solidFill>
                  <a:srgbClr val="438086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" spc="-1" strike="noStrike">
                <a:solidFill>
                  <a:srgbClr val="438086"/>
                </a:solidFill>
                <a:latin typeface="Arial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197BB-8513-498F-B6A1-01BC9F52434D}" type="slidenum">
              <a:rPr b="0" lang="ar-SA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0" y="2143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4456"/>
                </a:solidFill>
                <a:latin typeface="Trebuchet MS"/>
                <a:ea typeface="Times New Roman"/>
              </a:rPr>
              <a:t>Bacterial count</a:t>
            </a:r>
            <a:endParaRPr b="0" lang="en-US" sz="5400" spc="-1" strike="noStrike">
              <a:solidFill>
                <a:srgbClr val="42445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1062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31" name="Picture 2" descr="C:\Users\Najola\Desktop\ksu\dilution.gif"/>
          <p:cNvPicPr/>
          <p:nvPr/>
        </p:nvPicPr>
        <p:blipFill>
          <a:blip r:embed="rId1"/>
          <a:stretch/>
        </p:blipFill>
        <p:spPr>
          <a:xfrm>
            <a:off x="1187280" y="1844640"/>
            <a:ext cx="7004160" cy="44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68360" y="765000"/>
            <a:ext cx="8229600" cy="93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  <a:ea typeface="Times New Roman"/>
              </a:rPr>
              <a:t>Principle of pour plate method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57200" y="1844280"/>
            <a:ext cx="8229600" cy="472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5000"/>
          </a:bodyPr>
          <a:p>
            <a:pPr marL="237240" indent="-16596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The sample should be diluted successively with sterile water. The agar medium is maintained in molten state at 45° c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37240" indent="-16596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One ml of each dilution (-5,-6,-7) is added to each sterile an empty labeled Petri dish, Then pour 9 ml molten agar (45°c) into above Petri dish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37240" indent="-16596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The contents are thoroughly mixed, and allowed to solidify. The dishes are incubated at suitable temperature 37c.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37240" indent="-16596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After few days 24-48hrs , different kinds of microbes grow as separate colonies. Colonies are counted 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  <a:ea typeface="Times New Roman"/>
              </a:rPr>
              <a:t>Pour plate method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71680" y="1557360"/>
            <a:ext cx="8229600" cy="45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Advantages :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Does not require previously poured plate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Less work, less risk of contamination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Anaerobes and facultative anaerobes grow within the agar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Disadvantages :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Heating could kill some organism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eorgia"/>
              </a:rPr>
              <a:t>Oxygen diffusion is not sufficient for obligate aerobe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r" rtl="1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  <a:ea typeface="Times New Roman"/>
              </a:rPr>
              <a:t>Spread method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68360" y="1916280"/>
            <a:ext cx="8229600" cy="432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Georgia"/>
              </a:rPr>
              <a:t>Spread plating method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Place (0.1ml) of  each dilution(-5,-6,-7) onto solid agar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Spread with sterile glass or metal spreader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Incubate (minimum 24 hrs, usually 48 hrs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Colonies are counted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r" rtl="1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5" descr="4973-1_05463_0500_5000-2"/>
          <p:cNvPicPr/>
          <p:nvPr/>
        </p:nvPicPr>
        <p:blipFill>
          <a:blip r:embed="rId1"/>
          <a:stretch/>
        </p:blipFill>
        <p:spPr>
          <a:xfrm>
            <a:off x="2000160" y="1214280"/>
            <a:ext cx="521496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  <a:ea typeface="Times New Roman"/>
              </a:rPr>
              <a:t>Miles and Misra</a:t>
            </a:r>
            <a:r>
              <a:rPr b="0" lang="en-US" sz="4000" spc="-1" strike="noStrike">
                <a:solidFill>
                  <a:srgbClr val="424456"/>
                </a:solidFill>
                <a:latin typeface="Trebuchet MS"/>
                <a:ea typeface="Times New Roman"/>
              </a:rPr>
              <a:t> 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989000"/>
            <a:ext cx="8229600" cy="458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Divide plate into 3 sections -5,-6,-7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To each section ,deliver 1 drop of the corresponding dilution using Pasteur pipette. </a:t>
            </a: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Do not throw the pipette after finishing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, calculate using 1ml of water, how many drops are delivered of 1ml water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Incubate the plate at 37c for 24 hrs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# Colony forming units (CFU) = count of bacteria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457200" y="2249640"/>
            <a:ext cx="8229600" cy="4324320"/>
          </a:xfrm>
          <a:prstGeom prst="rect">
            <a:avLst/>
          </a:prstGeom>
          <a:ln w="0">
            <a:noFill/>
          </a:ln>
        </p:spPr>
      </p:pic>
      <p:grpSp>
        <p:nvGrpSpPr>
          <p:cNvPr id="243" name="Oval 3"/>
          <p:cNvGrpSpPr/>
          <p:nvPr/>
        </p:nvGrpSpPr>
        <p:grpSpPr>
          <a:xfrm>
            <a:off x="2846520" y="2523960"/>
            <a:ext cx="3378240" cy="3370320"/>
            <a:chOff x="2846520" y="2523960"/>
            <a:chExt cx="3378240" cy="3370320"/>
          </a:xfrm>
        </p:grpSpPr>
        <p:pic>
          <p:nvPicPr>
            <p:cNvPr id="244" name="Oval 3" descr=""/>
            <p:cNvPicPr/>
            <p:nvPr/>
          </p:nvPicPr>
          <p:blipFill>
            <a:blip r:embed="rId2"/>
            <a:stretch/>
          </p:blipFill>
          <p:spPr>
            <a:xfrm>
              <a:off x="2846520" y="2523960"/>
              <a:ext cx="3378240" cy="337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5" name=""/>
            <p:cNvSpPr/>
            <p:nvPr/>
          </p:nvSpPr>
          <p:spPr>
            <a:xfrm>
              <a:off x="3390840" y="3040200"/>
              <a:ext cx="2290680" cy="229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Straight Connector 5"/>
          <p:cNvSpPr/>
          <p:nvPr/>
        </p:nvSpPr>
        <p:spPr>
          <a:xfrm flipH="1">
            <a:off x="4500360" y="2565360"/>
            <a:ext cx="34920" cy="158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Straight Connector 7"/>
          <p:cNvSpPr/>
          <p:nvPr/>
        </p:nvSpPr>
        <p:spPr>
          <a:xfrm>
            <a:off x="4500720" y="4149720"/>
            <a:ext cx="1180800" cy="118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Straight Connector 10"/>
          <p:cNvSpPr/>
          <p:nvPr/>
        </p:nvSpPr>
        <p:spPr>
          <a:xfrm flipH="1">
            <a:off x="3348000" y="4149720"/>
            <a:ext cx="115272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Box 12"/>
          <p:cNvSpPr/>
          <p:nvPr/>
        </p:nvSpPr>
        <p:spPr>
          <a:xfrm>
            <a:off x="3348000" y="364500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Box 13"/>
          <p:cNvSpPr/>
          <p:nvPr/>
        </p:nvSpPr>
        <p:spPr>
          <a:xfrm>
            <a:off x="4788000" y="364500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14"/>
          <p:cNvSpPr/>
          <p:nvPr/>
        </p:nvSpPr>
        <p:spPr>
          <a:xfrm>
            <a:off x="4211640" y="501336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  <a:ea typeface="Times New Roman"/>
              </a:rPr>
              <a:t>Calculation of Bacterial coun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68360" y="1484280"/>
            <a:ext cx="82296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The aim is to calculate how many colony forming units (C.F.U.) of organism which present in the original sample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X  = N/D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X = number of bacteri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N = number of colonies counted on a plat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D = dilution factor (either 1, 10 or 100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26064"/>
                </a:solidFill>
                <a:latin typeface="Trebuchet MS"/>
                <a:ea typeface="Arial"/>
              </a:rPr>
              <a:t>Calculation of pour plate method</a:t>
            </a:r>
            <a:r>
              <a:rPr b="1" lang="en-US" sz="4000" spc="-1" strike="noStrike">
                <a:solidFill>
                  <a:srgbClr val="326064"/>
                </a:solidFill>
                <a:latin typeface="Trebuchet MS"/>
                <a:ea typeface="Arial"/>
              </a:rPr>
              <a:t>:</a:t>
            </a:r>
            <a:br>
              <a:rPr sz="4000"/>
            </a:b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100 colonies                 in 1ml of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Georgia"/>
              </a:rPr>
              <a:t>-6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dilutio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       </a:t>
            </a: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                            in 1 ml of original sampl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X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(no of bacteria in original sample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X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= 100 x 1/ 1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Georgia"/>
              </a:rPr>
              <a:t>-6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= 100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Georgia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C.F.U/ m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= 1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Georgia"/>
              </a:rPr>
              <a:t>8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C.F.U/m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50920" y="83664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26064"/>
                </a:solidFill>
                <a:latin typeface="Trebuchet MS"/>
                <a:ea typeface="Arial"/>
              </a:rPr>
              <a:t>Calculation of spread plate method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7200" y="1916280"/>
            <a:ext cx="8229600" cy="465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50 colonies                 in 0.1ml of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Georgia"/>
              </a:rPr>
              <a:t>-6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dilutio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        </a:t>
            </a: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                         in 1 ml of original sampl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    </a:t>
            </a: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(no of bacteria in original sample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x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= 50 x 1/ 1 x 0.1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Georgia"/>
              </a:rPr>
              <a:t>-6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000000"/>
                </a:solidFill>
                <a:latin typeface="Georgia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= 50 x 10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Georgia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C.F.U/ m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= 5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Georgia"/>
              </a:rPr>
              <a:t>8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C.F.U/ml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  <a:ea typeface="Times New Roman"/>
              </a:rPr>
              <a:t>Total bacterial coun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It determines the No. of both living and dead bacteria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uch as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1- Nephelometric method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2- Counting chamber method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26064"/>
                </a:solidFill>
                <a:latin typeface="Trebuchet MS"/>
                <a:ea typeface="Arial"/>
              </a:rPr>
              <a:t>Calculation of miles and misra plate method</a:t>
            </a:r>
            <a:endParaRPr b="0" lang="en-US" sz="28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395280" y="177300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5 colonies                 in a drop of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Georgia"/>
              </a:rPr>
              <a:t>-6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dilutio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       </a:t>
            </a: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X 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                     in 1 ml of original sampl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Note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:1 ml of Pasteur pipette= 40 drop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(no of bacteria in original sample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   </a:t>
            </a: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= 5 x 40/ 1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Georgia"/>
              </a:rPr>
              <a:t>-6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000000"/>
                </a:solidFill>
                <a:latin typeface="Georgia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= 200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Georgia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C.F.U/ m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= 2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Georgia"/>
              </a:rPr>
              <a:t>8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C.F.U/ml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  <a:ea typeface="Times New Roman"/>
              </a:rPr>
              <a:t>Nephelometric method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Georgia"/>
              </a:rPr>
              <a:t>Turbidity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Bacterial growth makes solution “turbid”</a:t>
            </a:r>
            <a:r>
              <a:rPr b="1" lang="en-GB" sz="2800" spc="-1" strike="noStrike">
                <a:solidFill>
                  <a:srgbClr val="000000"/>
                </a:solidFill>
                <a:latin typeface="Georgia"/>
              </a:rPr>
              <a:t>.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Particulate objects such as bacteria will scatter light, The amount of scattering is proportional to cells number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Use Nephlometer to determine the amoun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of light scattered by a suspension of cells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1" descr=""/>
          <p:cNvPicPr/>
          <p:nvPr/>
        </p:nvPicPr>
        <p:blipFill>
          <a:blip r:embed="rId1"/>
          <a:stretch/>
        </p:blipFill>
        <p:spPr>
          <a:xfrm>
            <a:off x="1214280" y="928800"/>
            <a:ext cx="692964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5" descr="DMC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755640" y="1628640"/>
            <a:ext cx="7429680" cy="48578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95280" y="692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  <a:ea typeface="Times New Roman"/>
              </a:rPr>
              <a:t>Counting Chamber method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  <a:ea typeface="Times New Roman"/>
              </a:rPr>
              <a:t>Viable bacterial coun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It determines the No. of living bacteria only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e common methods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1- Pour plate method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2- Spread ( surface) method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3- Miles and Misra method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9528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  <a:ea typeface="Arial"/>
              </a:rPr>
              <a:t>Pour plate method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395280" y="155736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24043"/>
                </a:solidFill>
                <a:latin typeface="Georgia"/>
                <a:ea typeface="Times New Roman"/>
              </a:rPr>
              <a:t>Dilution:</a:t>
            </a:r>
            <a:r>
              <a:rPr b="1" lang="en-US" sz="2400" spc="-1" strike="noStrike">
                <a:solidFill>
                  <a:srgbClr val="224043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Because of the huge number of bacterial colonies and their small size, counting the number of bacteria in a sample can be difficult. bacterial samples must be diluted considerably to obtain reasonable counts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r" rtl="1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8360" y="4856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1268280"/>
            <a:ext cx="8229600" cy="530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For nearly all environmental samples, a dilution step is needed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e.g. </a:t>
            </a: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ml of surface water contains </a:t>
            </a: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1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Georgia"/>
              </a:rPr>
              <a:t>6</a:t>
            </a:r>
            <a:r>
              <a:rPr b="0" lang="en-US" sz="2800" spc="-1" strike="noStrike" baseline="30000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ells/m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pread 1 ml per plate: </a:t>
            </a: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1,000,000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colonies too high, would fill surface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1" lang="it-IT" sz="2800" spc="-1" strike="noStrike">
                <a:solidFill>
                  <a:srgbClr val="000000"/>
                </a:solidFill>
                <a:latin typeface="Georgia"/>
              </a:rPr>
              <a:t>0.1</a:t>
            </a:r>
            <a:r>
              <a:rPr b="0" lang="it-IT" sz="2800" spc="-1" strike="noStrike">
                <a:solidFill>
                  <a:srgbClr val="000000"/>
                </a:solidFill>
                <a:latin typeface="Georgia"/>
              </a:rPr>
              <a:t> ml per plate= </a:t>
            </a:r>
            <a:r>
              <a:rPr b="1" lang="it-IT" sz="2800" spc="-1" strike="noStrike">
                <a:solidFill>
                  <a:srgbClr val="000000"/>
                </a:solidFill>
                <a:latin typeface="Georgia"/>
              </a:rPr>
              <a:t>1,000</a:t>
            </a:r>
            <a:r>
              <a:rPr b="0" lang="it-IT" sz="2800" spc="-1" strike="noStrike">
                <a:solidFill>
                  <a:srgbClr val="000000"/>
                </a:solidFill>
                <a:latin typeface="Georgia"/>
              </a:rPr>
              <a:t> colonies </a:t>
            </a: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countabl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1" lang="it-IT" sz="2800" spc="-1" strike="noStrike">
                <a:solidFill>
                  <a:srgbClr val="000000"/>
                </a:solidFill>
                <a:latin typeface="Georgia"/>
              </a:rPr>
              <a:t>0.001</a:t>
            </a:r>
            <a:r>
              <a:rPr b="0" lang="it-IT" sz="2800" spc="-1" strike="noStrike">
                <a:solidFill>
                  <a:srgbClr val="000000"/>
                </a:solidFill>
                <a:latin typeface="Georgia"/>
              </a:rPr>
              <a:t> ml per plate= </a:t>
            </a:r>
            <a:r>
              <a:rPr b="1" lang="it-IT" sz="2800" spc="-1" strike="noStrike">
                <a:solidFill>
                  <a:srgbClr val="000000"/>
                </a:solidFill>
                <a:latin typeface="Georgia"/>
              </a:rPr>
              <a:t>100</a:t>
            </a:r>
            <a:r>
              <a:rPr b="0" lang="it-IT" sz="2800" spc="-1" strike="noStrike">
                <a:solidFill>
                  <a:srgbClr val="000000"/>
                </a:solidFill>
                <a:latin typeface="Georgia"/>
              </a:rPr>
              <a:t> colonies </a:t>
            </a: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countable, but volume too small to measure accurately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24456"/>
                </a:solidFill>
                <a:latin typeface="Trebuchet MS"/>
                <a:ea typeface="Times New Roman"/>
              </a:rPr>
              <a:t>Serial Dilutions of the Sampl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If we take one ml of the original sample and add it to 9 ml of sterile water, it will give 1:10 or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Georgia"/>
              </a:rPr>
              <a:t>-1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dilution of original sample, i.e. the original sample has been diluted to 1/10th. Similarly we may prepare 1:100 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Georgia"/>
              </a:rPr>
              <a:t>-2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), 1:1,000 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Georgia"/>
              </a:rPr>
              <a:t>-3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), 1:10,000 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Georgia"/>
              </a:rPr>
              <a:t>-4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) and so on dilutions of the original sample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5T05:36:18Z</dcterms:created>
  <dc:creator>ksu</dc:creator>
  <dc:description/>
  <dc:language>en-US</dc:language>
  <cp:lastModifiedBy>Najola</cp:lastModifiedBy>
  <dcterms:modified xsi:type="dcterms:W3CDTF">2011-11-27T04:18:35Z</dcterms:modified>
  <cp:revision>83</cp:revision>
  <dc:subject/>
  <dc:title>Steps in Focusing Bright Field Microscope</dc:title>
</cp:coreProperties>
</file>