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29.jpeg" ContentType="image/jpeg"/>
  <Override PartName="/ppt/media/image5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2.png" ContentType="image/png"/>
  <Override PartName="/ppt/media/image10.wmf" ContentType="image/x-wmf"/>
  <Override PartName="/ppt/media/image31.jpeg" ContentType="image/jpeg"/>
  <Override PartName="/ppt/media/image32.jpeg" ContentType="image/jpeg"/>
  <Override PartName="/ppt/media/image18.wmf" ContentType="image/x-wmf"/>
  <Override PartName="/ppt/media/image26.jpeg" ContentType="image/jpeg"/>
  <Override PartName="/ppt/media/image7.wmf" ContentType="image/x-wmf"/>
  <Override PartName="/ppt/media/image20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16.wmf" ContentType="image/x-wmf"/>
  <Override PartName="/ppt/media/image6.wmf" ContentType="image/x-wmf"/>
  <Override PartName="/ppt/media/image25.png" ContentType="image/png"/>
  <Override PartName="/ppt/media/image19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19DF-5BC8-4577-8CE7-CE0CF252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05BB-7DD7-4276-978F-524E5AF78D8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: 14-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code diction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what a given mRNA codon is, how can we find out what amino acid it codes for? This dictionary of the genetic code offers a way. In Figure 14.5, you saw that the codon CGU coded for the amino acid arginine (arg). Looking that up here, C is the first base (go to the C row along the “first base” line), G is the second base (go to the G column under the “second base” line) and U is the third (go to the codon parallel with the U in the “third base” lin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D87-AEA9-4055-91B4-FBD162E8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C6C3-A643-4595-994E-1AF48FFE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36B-FFA6-4BF8-9EFD-709E273F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AC3-1AEF-4711-A353-B5A88F77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54DF-FD12-4377-8C5F-9230214F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919-FDE8-4D5E-B595-62F8C7CF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F2CA-727F-4E05-8557-6916269B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FDD-984C-4A1B-B0E0-DD2B92AB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4912-4A70-4BF5-BF59-FB34C205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068-5E2E-4CEB-9D7D-C8D9EFDD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439-8138-4FF1-9B80-98A316A7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26A-AA3D-421D-9ED6-164F75CF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D009-4ADD-4EDB-ABF6-893F15065A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9-10</a:t>
            </a: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أحماض النووي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سمية النيوكليوتيدات الأحا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ولى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يسمى حمض مشتق من القاعدة النيتروجينية الداخلة في تركي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: حمض أدينيلك أو ديوكسي أدينيلك من الأد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جوانيليك أو ديوكسي جوانيليك من الجو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سايتيديليك أو ديوكسي سايتيديليك من السايتوز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يوريديليك من اليوراس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مض ديوكسي ثايميديليك من الثاي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ريقة الثانية: اسم النيوكليوسيد مضاف إلية ال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ثال: أدي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أو ديوكسي أدي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جوا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أو ديوكسي جوانوزي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وسف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رتباط النيوكلوتيد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4920" y="177336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رتبط النيوكليوتيدات في نفس السلسلة بواسطة الرابطة المسما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بالرابطة الفوسفاتية ثنائية الإس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062160" y="335772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- G - T -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72760" y="4294080"/>
            <a:ext cx="7669800" cy="2041920"/>
            <a:chOff x="572760" y="4294080"/>
            <a:chExt cx="7669800" cy="2041920"/>
          </a:xfrm>
        </p:grpSpPr>
        <p:grpSp>
          <p:nvGrpSpPr>
            <p:cNvPr id="113" name="Group 8"/>
            <p:cNvGrpSpPr/>
            <p:nvPr/>
          </p:nvGrpSpPr>
          <p:grpSpPr>
            <a:xfrm>
              <a:off x="1116000" y="4510080"/>
              <a:ext cx="6480360" cy="286920"/>
              <a:chOff x="1116000" y="4510080"/>
              <a:chExt cx="6480360" cy="286920"/>
            </a:xfrm>
          </p:grpSpPr>
          <p:sp>
            <p:nvSpPr>
              <p:cNvPr id="114" name="Line 9"/>
              <p:cNvSpPr/>
              <p:nvPr/>
            </p:nvSpPr>
            <p:spPr>
              <a:xfrm>
                <a:off x="1116000" y="4510080"/>
                <a:ext cx="648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Group 10"/>
              <p:cNvGrpSpPr/>
              <p:nvPr/>
            </p:nvGrpSpPr>
            <p:grpSpPr>
              <a:xfrm>
                <a:off x="1547640" y="4510080"/>
                <a:ext cx="5760360" cy="286920"/>
                <a:chOff x="1547640" y="4510080"/>
                <a:chExt cx="5760360" cy="286920"/>
              </a:xfrm>
            </p:grpSpPr>
            <p:sp>
              <p:nvSpPr>
                <p:cNvPr id="116" name="Line 11"/>
                <p:cNvSpPr/>
                <p:nvPr/>
              </p:nvSpPr>
              <p:spPr>
                <a:xfrm>
                  <a:off x="154764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2"/>
                <p:cNvSpPr/>
                <p:nvPr/>
              </p:nvSpPr>
              <p:spPr>
                <a:xfrm>
                  <a:off x="202788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>
                  <a:off x="250812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>
                  <a:off x="29883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>
                  <a:off x="346752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6"/>
                <p:cNvSpPr/>
                <p:nvPr/>
              </p:nvSpPr>
              <p:spPr>
                <a:xfrm>
                  <a:off x="39477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7"/>
                <p:cNvSpPr/>
                <p:nvPr/>
              </p:nvSpPr>
              <p:spPr>
                <a:xfrm>
                  <a:off x="44283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8"/>
                <p:cNvSpPr/>
                <p:nvPr/>
              </p:nvSpPr>
              <p:spPr>
                <a:xfrm>
                  <a:off x="490860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19"/>
                <p:cNvSpPr/>
                <p:nvPr/>
              </p:nvSpPr>
              <p:spPr>
                <a:xfrm>
                  <a:off x="53877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0"/>
                <p:cNvSpPr/>
                <p:nvPr/>
              </p:nvSpPr>
              <p:spPr>
                <a:xfrm>
                  <a:off x="586800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1"/>
                <p:cNvSpPr/>
                <p:nvPr/>
              </p:nvSpPr>
              <p:spPr>
                <a:xfrm>
                  <a:off x="634824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2"/>
                <p:cNvSpPr/>
                <p:nvPr/>
              </p:nvSpPr>
              <p:spPr>
                <a:xfrm>
                  <a:off x="682776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3"/>
                <p:cNvSpPr/>
                <p:nvPr/>
              </p:nvSpPr>
              <p:spPr>
                <a:xfrm>
                  <a:off x="7308000" y="451008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" name="Text Box 24"/>
            <p:cNvSpPr/>
            <p:nvPr/>
          </p:nvSpPr>
          <p:spPr>
            <a:xfrm>
              <a:off x="591480" y="429408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5"/>
            <p:cNvSpPr/>
            <p:nvPr/>
          </p:nvSpPr>
          <p:spPr>
            <a:xfrm>
              <a:off x="7668720" y="429732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26"/>
            <p:cNvSpPr/>
            <p:nvPr/>
          </p:nvSpPr>
          <p:spPr>
            <a:xfrm>
              <a:off x="133416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177588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228060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9"/>
            <p:cNvSpPr/>
            <p:nvPr/>
          </p:nvSpPr>
          <p:spPr>
            <a:xfrm>
              <a:off x="276372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30"/>
            <p:cNvSpPr/>
            <p:nvPr/>
          </p:nvSpPr>
          <p:spPr>
            <a:xfrm>
              <a:off x="327888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1"/>
            <p:cNvSpPr/>
            <p:nvPr/>
          </p:nvSpPr>
          <p:spPr>
            <a:xfrm>
              <a:off x="372060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2"/>
            <p:cNvSpPr/>
            <p:nvPr/>
          </p:nvSpPr>
          <p:spPr>
            <a:xfrm>
              <a:off x="420372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3"/>
            <p:cNvSpPr/>
            <p:nvPr/>
          </p:nvSpPr>
          <p:spPr>
            <a:xfrm>
              <a:off x="471852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4"/>
            <p:cNvSpPr/>
            <p:nvPr/>
          </p:nvSpPr>
          <p:spPr>
            <a:xfrm>
              <a:off x="517752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5"/>
            <p:cNvSpPr/>
            <p:nvPr/>
          </p:nvSpPr>
          <p:spPr>
            <a:xfrm>
              <a:off x="571644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6"/>
            <p:cNvSpPr/>
            <p:nvPr/>
          </p:nvSpPr>
          <p:spPr>
            <a:xfrm>
              <a:off x="6148440" y="4725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7"/>
            <p:cNvSpPr/>
            <p:nvPr/>
          </p:nvSpPr>
          <p:spPr>
            <a:xfrm>
              <a:off x="6617160" y="4725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8"/>
            <p:cNvSpPr/>
            <p:nvPr/>
          </p:nvSpPr>
          <p:spPr>
            <a:xfrm>
              <a:off x="7105320" y="4725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39"/>
            <p:cNvGrpSpPr/>
            <p:nvPr/>
          </p:nvGrpSpPr>
          <p:grpSpPr>
            <a:xfrm>
              <a:off x="1260000" y="5686560"/>
              <a:ext cx="6480360" cy="286920"/>
              <a:chOff x="1260000" y="5686560"/>
              <a:chExt cx="6480360" cy="286920"/>
            </a:xfrm>
          </p:grpSpPr>
          <p:sp>
            <p:nvSpPr>
              <p:cNvPr id="145" name="Line 40"/>
              <p:cNvSpPr/>
              <p:nvPr/>
            </p:nvSpPr>
            <p:spPr>
              <a:xfrm flipH="1">
                <a:off x="1260000" y="5973480"/>
                <a:ext cx="6480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41"/>
              <p:cNvGrpSpPr/>
              <p:nvPr/>
            </p:nvGrpSpPr>
            <p:grpSpPr>
              <a:xfrm>
                <a:off x="1548360" y="5686560"/>
                <a:ext cx="5760360" cy="286920"/>
                <a:chOff x="1548360" y="5686560"/>
                <a:chExt cx="5760360" cy="286920"/>
              </a:xfrm>
            </p:grpSpPr>
            <p:sp>
              <p:nvSpPr>
                <p:cNvPr id="147" name="Line 42"/>
                <p:cNvSpPr/>
                <p:nvPr/>
              </p:nvSpPr>
              <p:spPr>
                <a:xfrm flipV="1">
                  <a:off x="730872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3"/>
                <p:cNvSpPr/>
                <p:nvPr/>
              </p:nvSpPr>
              <p:spPr>
                <a:xfrm flipV="1">
                  <a:off x="682848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4"/>
                <p:cNvSpPr/>
                <p:nvPr/>
              </p:nvSpPr>
              <p:spPr>
                <a:xfrm flipV="1">
                  <a:off x="634824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5"/>
                <p:cNvSpPr/>
                <p:nvPr/>
              </p:nvSpPr>
              <p:spPr>
                <a:xfrm flipV="1">
                  <a:off x="58680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46"/>
                <p:cNvSpPr/>
                <p:nvPr/>
              </p:nvSpPr>
              <p:spPr>
                <a:xfrm flipV="1">
                  <a:off x="538884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47"/>
                <p:cNvSpPr/>
                <p:nvPr/>
              </p:nvSpPr>
              <p:spPr>
                <a:xfrm flipV="1">
                  <a:off x="49086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48"/>
                <p:cNvSpPr/>
                <p:nvPr/>
              </p:nvSpPr>
              <p:spPr>
                <a:xfrm flipV="1">
                  <a:off x="44280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49"/>
                <p:cNvSpPr/>
                <p:nvPr/>
              </p:nvSpPr>
              <p:spPr>
                <a:xfrm flipV="1">
                  <a:off x="394776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0"/>
                <p:cNvSpPr/>
                <p:nvPr/>
              </p:nvSpPr>
              <p:spPr>
                <a:xfrm flipV="1">
                  <a:off x="34686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1"/>
                <p:cNvSpPr/>
                <p:nvPr/>
              </p:nvSpPr>
              <p:spPr>
                <a:xfrm flipV="1">
                  <a:off x="298836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 flipV="1">
                  <a:off x="250812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 flipV="1">
                  <a:off x="202860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 flipV="1">
                  <a:off x="1548360" y="5686560"/>
                  <a:ext cx="0" cy="2869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Text Box 55"/>
            <p:cNvSpPr/>
            <p:nvPr/>
          </p:nvSpPr>
          <p:spPr>
            <a:xfrm>
              <a:off x="7700400" y="568152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6"/>
            <p:cNvSpPr/>
            <p:nvPr/>
          </p:nvSpPr>
          <p:spPr>
            <a:xfrm>
              <a:off x="572760" y="5754600"/>
              <a:ext cx="54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s-ES" sz="3200" spc="-1" strike="noStrike">
                  <a:solidFill>
                    <a:srgbClr val="000000"/>
                  </a:solidFill>
                  <a:latin typeface="Arial"/>
                </a:rPr>
                <a:t>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7"/>
            <p:cNvSpPr/>
            <p:nvPr/>
          </p:nvSpPr>
          <p:spPr>
            <a:xfrm>
              <a:off x="1368360" y="52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8"/>
            <p:cNvSpPr/>
            <p:nvPr/>
          </p:nvSpPr>
          <p:spPr>
            <a:xfrm>
              <a:off x="179280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9"/>
            <p:cNvSpPr/>
            <p:nvPr/>
          </p:nvSpPr>
          <p:spPr>
            <a:xfrm>
              <a:off x="2297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0"/>
            <p:cNvSpPr/>
            <p:nvPr/>
          </p:nvSpPr>
          <p:spPr>
            <a:xfrm>
              <a:off x="2729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1"/>
            <p:cNvSpPr/>
            <p:nvPr/>
          </p:nvSpPr>
          <p:spPr>
            <a:xfrm>
              <a:off x="3261960" y="52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62"/>
            <p:cNvSpPr/>
            <p:nvPr/>
          </p:nvSpPr>
          <p:spPr>
            <a:xfrm>
              <a:off x="3737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63"/>
            <p:cNvSpPr/>
            <p:nvPr/>
          </p:nvSpPr>
          <p:spPr>
            <a:xfrm>
              <a:off x="416952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64"/>
            <p:cNvSpPr/>
            <p:nvPr/>
          </p:nvSpPr>
          <p:spPr>
            <a:xfrm>
              <a:off x="4701600" y="5229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65"/>
            <p:cNvSpPr/>
            <p:nvPr/>
          </p:nvSpPr>
          <p:spPr>
            <a:xfrm>
              <a:off x="5211720" y="52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6"/>
            <p:cNvSpPr/>
            <p:nvPr/>
          </p:nvSpPr>
          <p:spPr>
            <a:xfrm>
              <a:off x="568224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67"/>
            <p:cNvSpPr/>
            <p:nvPr/>
          </p:nvSpPr>
          <p:spPr>
            <a:xfrm>
              <a:off x="611388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68"/>
            <p:cNvSpPr/>
            <p:nvPr/>
          </p:nvSpPr>
          <p:spPr>
            <a:xfrm>
              <a:off x="6651720" y="52290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9"/>
            <p:cNvSpPr/>
            <p:nvPr/>
          </p:nvSpPr>
          <p:spPr>
            <a:xfrm>
              <a:off x="7122240" y="522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5" name="Straight Arrow Connector 68"/>
          <p:cNvCxnSpPr/>
          <p:nvPr/>
        </p:nvCxnSpPr>
        <p:spPr>
          <a:xfrm>
            <a:off x="3563640" y="2781000"/>
            <a:ext cx="14472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Straight Arrow Connector 70"/>
          <p:cNvCxnSpPr/>
          <p:nvPr/>
        </p:nvCxnSpPr>
        <p:spPr>
          <a:xfrm>
            <a:off x="2626920" y="2852280"/>
            <a:ext cx="73800" cy="158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1619280" y="5591160"/>
            <a:ext cx="5445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صيغة البنائية لبعض النيوكليوتيد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7"/>
          <p:cNvGraphicFramePr/>
          <p:nvPr/>
        </p:nvGraphicFramePr>
        <p:xfrm>
          <a:off x="4859280" y="333360"/>
          <a:ext cx="3330720" cy="42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33360"/>
                    <a:ext cx="333072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8"/>
          <p:cNvGraphicFramePr/>
          <p:nvPr/>
        </p:nvGraphicFramePr>
        <p:xfrm>
          <a:off x="324000" y="334800"/>
          <a:ext cx="3232080" cy="417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334800"/>
                    <a:ext cx="3232080" cy="41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17"/>
          <p:cNvSpPr/>
          <p:nvPr/>
        </p:nvSpPr>
        <p:spPr>
          <a:xfrm>
            <a:off x="1042920" y="4702320"/>
            <a:ext cx="28893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دينوز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8"/>
          <p:cNvSpPr/>
          <p:nvPr/>
        </p:nvSpPr>
        <p:spPr>
          <a:xfrm>
            <a:off x="5640480" y="4702320"/>
            <a:ext cx="28922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وانوز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8"/>
          <p:cNvGraphicFramePr/>
          <p:nvPr/>
        </p:nvGraphicFramePr>
        <p:xfrm>
          <a:off x="4716360" y="404640"/>
          <a:ext cx="2818080" cy="33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404640"/>
                    <a:ext cx="28180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9"/>
          <p:cNvSpPr/>
          <p:nvPr/>
        </p:nvSpPr>
        <p:spPr>
          <a:xfrm>
            <a:off x="5105520" y="4218120"/>
            <a:ext cx="2995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ايتيد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11"/>
          <p:cNvGraphicFramePr/>
          <p:nvPr/>
        </p:nvGraphicFramePr>
        <p:xfrm>
          <a:off x="826920" y="477720"/>
          <a:ext cx="2756160" cy="331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8" name="Object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477720"/>
                    <a:ext cx="275616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 Box 12"/>
          <p:cNvSpPr/>
          <p:nvPr/>
        </p:nvSpPr>
        <p:spPr>
          <a:xfrm>
            <a:off x="539640" y="4221000"/>
            <a:ext cx="3811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دي أوكسي ثايميدين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- فوسف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1619280" y="5662440"/>
            <a:ext cx="5445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الصيغة البنائية لبعض النيوكليوتيد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4"/>
          <p:cNvGraphicFramePr/>
          <p:nvPr/>
        </p:nvGraphicFramePr>
        <p:xfrm>
          <a:off x="4859280" y="254160"/>
          <a:ext cx="2608200" cy="33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254160"/>
                    <a:ext cx="2608200" cy="33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10"/>
          <p:cNvSpPr/>
          <p:nvPr/>
        </p:nvSpPr>
        <p:spPr>
          <a:xfrm>
            <a:off x="4450680" y="205416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1"/>
          <p:cNvSpPr/>
          <p:nvPr/>
        </p:nvSpPr>
        <p:spPr>
          <a:xfrm flipH="1">
            <a:off x="4564080" y="2166840"/>
            <a:ext cx="3175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2"/>
          <p:cNvSpPr/>
          <p:nvPr/>
        </p:nvSpPr>
        <p:spPr>
          <a:xfrm>
            <a:off x="4067280" y="205416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3"/>
          <p:cNvSpPr/>
          <p:nvPr/>
        </p:nvSpPr>
        <p:spPr>
          <a:xfrm>
            <a:off x="4203720" y="205740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4"/>
          <p:cNvSpPr/>
          <p:nvPr/>
        </p:nvSpPr>
        <p:spPr>
          <a:xfrm>
            <a:off x="4203720" y="205884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5"/>
          <p:cNvSpPr/>
          <p:nvPr/>
        </p:nvSpPr>
        <p:spPr>
          <a:xfrm>
            <a:off x="4203720" y="206064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6"/>
          <p:cNvSpPr/>
          <p:nvPr/>
        </p:nvSpPr>
        <p:spPr>
          <a:xfrm>
            <a:off x="4203720" y="206388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7"/>
          <p:cNvSpPr/>
          <p:nvPr/>
        </p:nvSpPr>
        <p:spPr>
          <a:xfrm>
            <a:off x="4203720" y="206532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8"/>
          <p:cNvSpPr/>
          <p:nvPr/>
        </p:nvSpPr>
        <p:spPr>
          <a:xfrm>
            <a:off x="4203720" y="206676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9"/>
          <p:cNvSpPr/>
          <p:nvPr/>
        </p:nvSpPr>
        <p:spPr>
          <a:xfrm>
            <a:off x="4203720" y="206856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4209840" y="2166840"/>
            <a:ext cx="166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4433760" y="166356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>
            <a:off x="4570560" y="16668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4"/>
          <p:cNvSpPr/>
          <p:nvPr/>
        </p:nvSpPr>
        <p:spPr>
          <a:xfrm>
            <a:off x="4570560" y="167004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4570560" y="167148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6"/>
          <p:cNvSpPr/>
          <p:nvPr/>
        </p:nvSpPr>
        <p:spPr>
          <a:xfrm>
            <a:off x="4570560" y="167328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7"/>
          <p:cNvSpPr/>
          <p:nvPr/>
        </p:nvSpPr>
        <p:spPr>
          <a:xfrm>
            <a:off x="4570560" y="167472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28"/>
          <p:cNvSpPr/>
          <p:nvPr/>
        </p:nvSpPr>
        <p:spPr>
          <a:xfrm>
            <a:off x="4570560" y="167796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29"/>
          <p:cNvSpPr/>
          <p:nvPr/>
        </p:nvSpPr>
        <p:spPr>
          <a:xfrm>
            <a:off x="4570560" y="16794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30"/>
          <p:cNvSpPr/>
          <p:nvPr/>
        </p:nvSpPr>
        <p:spPr>
          <a:xfrm>
            <a:off x="4570560" y="168120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1"/>
          <p:cNvSpPr/>
          <p:nvPr/>
        </p:nvSpPr>
        <p:spPr>
          <a:xfrm flipV="1">
            <a:off x="4468680" y="1885680"/>
            <a:ext cx="180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2"/>
          <p:cNvSpPr/>
          <p:nvPr/>
        </p:nvSpPr>
        <p:spPr>
          <a:xfrm>
            <a:off x="4433760" y="24433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"/>
          <p:cNvSpPr/>
          <p:nvPr/>
        </p:nvSpPr>
        <p:spPr>
          <a:xfrm>
            <a:off x="4435560" y="227664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34"/>
          <p:cNvSpPr/>
          <p:nvPr/>
        </p:nvSpPr>
        <p:spPr>
          <a:xfrm>
            <a:off x="4505400" y="227664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5"/>
          <p:cNvSpPr/>
          <p:nvPr/>
        </p:nvSpPr>
        <p:spPr>
          <a:xfrm>
            <a:off x="3587040" y="20588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6"/>
          <p:cNvSpPr/>
          <p:nvPr/>
        </p:nvSpPr>
        <p:spPr>
          <a:xfrm flipH="1">
            <a:off x="3700440" y="2171880"/>
            <a:ext cx="317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7"/>
          <p:cNvSpPr/>
          <p:nvPr/>
        </p:nvSpPr>
        <p:spPr>
          <a:xfrm>
            <a:off x="3203640" y="205884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8"/>
          <p:cNvSpPr/>
          <p:nvPr/>
        </p:nvSpPr>
        <p:spPr>
          <a:xfrm>
            <a:off x="3132000" y="206208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39"/>
          <p:cNvSpPr/>
          <p:nvPr/>
        </p:nvSpPr>
        <p:spPr>
          <a:xfrm>
            <a:off x="3132000" y="206388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0"/>
          <p:cNvSpPr/>
          <p:nvPr/>
        </p:nvSpPr>
        <p:spPr>
          <a:xfrm>
            <a:off x="3132000" y="206532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1"/>
          <p:cNvSpPr/>
          <p:nvPr/>
        </p:nvSpPr>
        <p:spPr>
          <a:xfrm>
            <a:off x="3132000" y="2068560"/>
            <a:ext cx="77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2"/>
          <p:cNvSpPr/>
          <p:nvPr/>
        </p:nvSpPr>
        <p:spPr>
          <a:xfrm>
            <a:off x="3132000" y="2070000"/>
            <a:ext cx="77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46"/>
          <p:cNvSpPr/>
          <p:nvPr/>
        </p:nvSpPr>
        <p:spPr>
          <a:xfrm flipH="1">
            <a:off x="3346200" y="2171880"/>
            <a:ext cx="166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47"/>
          <p:cNvSpPr/>
          <p:nvPr/>
        </p:nvSpPr>
        <p:spPr>
          <a:xfrm>
            <a:off x="3570120" y="166860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8"/>
          <p:cNvSpPr/>
          <p:nvPr/>
        </p:nvSpPr>
        <p:spPr>
          <a:xfrm>
            <a:off x="3706920" y="167148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9"/>
          <p:cNvSpPr/>
          <p:nvPr/>
        </p:nvSpPr>
        <p:spPr>
          <a:xfrm>
            <a:off x="3706920" y="167472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0"/>
          <p:cNvSpPr/>
          <p:nvPr/>
        </p:nvSpPr>
        <p:spPr>
          <a:xfrm>
            <a:off x="3706920" y="167652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51"/>
          <p:cNvSpPr/>
          <p:nvPr/>
        </p:nvSpPr>
        <p:spPr>
          <a:xfrm>
            <a:off x="3706920" y="167796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52"/>
          <p:cNvSpPr/>
          <p:nvPr/>
        </p:nvSpPr>
        <p:spPr>
          <a:xfrm>
            <a:off x="3706920" y="16794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3"/>
          <p:cNvSpPr/>
          <p:nvPr/>
        </p:nvSpPr>
        <p:spPr>
          <a:xfrm>
            <a:off x="3706920" y="168264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4"/>
          <p:cNvSpPr/>
          <p:nvPr/>
        </p:nvSpPr>
        <p:spPr>
          <a:xfrm>
            <a:off x="3706920" y="168444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55"/>
          <p:cNvSpPr/>
          <p:nvPr/>
        </p:nvSpPr>
        <p:spPr>
          <a:xfrm>
            <a:off x="3706920" y="168588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56"/>
          <p:cNvSpPr/>
          <p:nvPr/>
        </p:nvSpPr>
        <p:spPr>
          <a:xfrm flipV="1">
            <a:off x="3605040" y="1890360"/>
            <a:ext cx="180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57"/>
          <p:cNvSpPr/>
          <p:nvPr/>
        </p:nvSpPr>
        <p:spPr>
          <a:xfrm>
            <a:off x="3570120" y="244800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8"/>
          <p:cNvSpPr/>
          <p:nvPr/>
        </p:nvSpPr>
        <p:spPr>
          <a:xfrm>
            <a:off x="3571920" y="228132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9"/>
          <p:cNvSpPr/>
          <p:nvPr/>
        </p:nvSpPr>
        <p:spPr>
          <a:xfrm>
            <a:off x="3641760" y="2281320"/>
            <a:ext cx="1440" cy="174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0"/>
          <p:cNvSpPr/>
          <p:nvPr/>
        </p:nvSpPr>
        <p:spPr>
          <a:xfrm>
            <a:off x="3130560" y="1549440"/>
            <a:ext cx="936720" cy="1224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61"/>
          <p:cNvSpPr/>
          <p:nvPr/>
        </p:nvSpPr>
        <p:spPr>
          <a:xfrm>
            <a:off x="4067280" y="1549440"/>
            <a:ext cx="792000" cy="1224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162"/>
          <p:cNvSpPr/>
          <p:nvPr/>
        </p:nvSpPr>
        <p:spPr>
          <a:xfrm>
            <a:off x="4859280" y="1549440"/>
            <a:ext cx="792360" cy="1224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63"/>
          <p:cNvSpPr/>
          <p:nvPr/>
        </p:nvSpPr>
        <p:spPr>
          <a:xfrm>
            <a:off x="5146560" y="378144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64"/>
          <p:cNvSpPr/>
          <p:nvPr/>
        </p:nvSpPr>
        <p:spPr>
          <a:xfrm>
            <a:off x="4138560" y="415620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65"/>
          <p:cNvSpPr/>
          <p:nvPr/>
        </p:nvSpPr>
        <p:spPr>
          <a:xfrm>
            <a:off x="2987640" y="450864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66"/>
          <p:cNvSpPr/>
          <p:nvPr/>
        </p:nvSpPr>
        <p:spPr>
          <a:xfrm>
            <a:off x="5992920" y="35132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67"/>
          <p:cNvSpPr/>
          <p:nvPr/>
        </p:nvSpPr>
        <p:spPr>
          <a:xfrm>
            <a:off x="5969160" y="3565440"/>
            <a:ext cx="688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8"/>
          <p:cNvSpPr/>
          <p:nvPr/>
        </p:nvSpPr>
        <p:spPr>
          <a:xfrm>
            <a:off x="5091840" y="3933720"/>
            <a:ext cx="662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9"/>
          <p:cNvSpPr/>
          <p:nvPr/>
        </p:nvSpPr>
        <p:spPr>
          <a:xfrm>
            <a:off x="4478400" y="4292640"/>
            <a:ext cx="741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0"/>
          <p:cNvSpPr/>
          <p:nvPr/>
        </p:nvSpPr>
        <p:spPr>
          <a:xfrm>
            <a:off x="395280" y="53578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P                                       ADP                                    AMP                          aden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71"/>
          <p:cNvSpPr/>
          <p:nvPr/>
        </p:nvSpPr>
        <p:spPr>
          <a:xfrm>
            <a:off x="1187280" y="558000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2"/>
          <p:cNvSpPr/>
          <p:nvPr/>
        </p:nvSpPr>
        <p:spPr>
          <a:xfrm>
            <a:off x="3851280" y="558000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73"/>
          <p:cNvSpPr/>
          <p:nvPr/>
        </p:nvSpPr>
        <p:spPr>
          <a:xfrm>
            <a:off x="6264360" y="5580000"/>
            <a:ext cx="1258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5"/>
          <p:cNvSpPr/>
          <p:nvPr/>
        </p:nvSpPr>
        <p:spPr>
          <a:xfrm>
            <a:off x="1546200" y="530064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0 k 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6"/>
          <p:cNvSpPr/>
          <p:nvPr/>
        </p:nvSpPr>
        <p:spPr>
          <a:xfrm>
            <a:off x="3951360" y="530064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0 k 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7"/>
          <p:cNvSpPr/>
          <p:nvPr/>
        </p:nvSpPr>
        <p:spPr>
          <a:xfrm>
            <a:off x="6300720" y="5307120"/>
            <a:ext cx="115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 k 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469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رتباط سلاسل الحامض النووي الديوكسي رايبوز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87280" y="4005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دنين + ثايمين         (رابطتين هيدروجينيتي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34920" y="2060640"/>
            <a:ext cx="85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ترتبط سلسلتان من الحامض النووي بواسطة روابط هيدروج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1148400" y="51926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جوانين + سيتوزين   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روابط هيدروجين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Nuceleic acid basepair"/>
          <p:cNvPicPr/>
          <p:nvPr/>
        </p:nvPicPr>
        <p:blipFill>
          <a:blip r:embed="rId2"/>
          <a:stretch/>
        </p:blipFill>
        <p:spPr>
          <a:xfrm>
            <a:off x="1692360" y="333360"/>
            <a:ext cx="4535280" cy="226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Guanin Cytosinbasepair"/>
          <p:cNvPicPr/>
          <p:nvPr/>
        </p:nvPicPr>
        <p:blipFill>
          <a:blip r:embed="rId3"/>
          <a:stretch/>
        </p:blipFill>
        <p:spPr>
          <a:xfrm>
            <a:off x="1763640" y="3141720"/>
            <a:ext cx="4710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Line 2"/>
          <p:cNvSpPr/>
          <p:nvPr/>
        </p:nvSpPr>
        <p:spPr>
          <a:xfrm>
            <a:off x="312408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"/>
          <p:cNvSpPr/>
          <p:nvPr/>
        </p:nvSpPr>
        <p:spPr>
          <a:xfrm>
            <a:off x="388620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464832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"/>
          <p:cNvSpPr/>
          <p:nvPr/>
        </p:nvSpPr>
        <p:spPr>
          <a:xfrm>
            <a:off x="541008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6172200" y="1828800"/>
            <a:ext cx="0" cy="182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 flipH="1" flipV="1">
            <a:off x="3123720" y="2209680"/>
            <a:ext cx="7621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 flipH="1" flipV="1">
            <a:off x="3885840" y="2209680"/>
            <a:ext cx="7621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 flipH="1" flipV="1">
            <a:off x="4648320" y="2209680"/>
            <a:ext cx="76176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 flipH="1" flipV="1">
            <a:off x="5409720" y="2209680"/>
            <a:ext cx="76212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3276720" y="2590920"/>
            <a:ext cx="30456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4038480" y="25909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15"/>
          <p:cNvSpPr/>
          <p:nvPr/>
        </p:nvSpPr>
        <p:spPr>
          <a:xfrm>
            <a:off x="4800600" y="25909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6"/>
          <p:cNvSpPr/>
          <p:nvPr/>
        </p:nvSpPr>
        <p:spPr>
          <a:xfrm>
            <a:off x="5562720" y="2590920"/>
            <a:ext cx="30456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7"/>
          <p:cNvSpPr/>
          <p:nvPr/>
        </p:nvSpPr>
        <p:spPr>
          <a:xfrm flipH="1" flipV="1">
            <a:off x="6171840" y="2247480"/>
            <a:ext cx="2286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8"/>
          <p:cNvSpPr/>
          <p:nvPr/>
        </p:nvSpPr>
        <p:spPr>
          <a:xfrm flipH="1" flipV="1">
            <a:off x="2895120" y="3238200"/>
            <a:ext cx="22860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319440" y="2492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04680" y="22525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2412000" y="298440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2589120" y="3124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5"/>
          <p:cNvSpPr/>
          <p:nvPr/>
        </p:nvSpPr>
        <p:spPr>
          <a:xfrm>
            <a:off x="2945520" y="1314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6"/>
          <p:cNvSpPr/>
          <p:nvPr/>
        </p:nvSpPr>
        <p:spPr>
          <a:xfrm>
            <a:off x="3701520" y="13161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7"/>
          <p:cNvSpPr/>
          <p:nvPr/>
        </p:nvSpPr>
        <p:spPr>
          <a:xfrm>
            <a:off x="4358160" y="131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"/>
          <p:cNvSpPr/>
          <p:nvPr/>
        </p:nvSpPr>
        <p:spPr>
          <a:xfrm>
            <a:off x="5221800" y="1316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9"/>
          <p:cNvSpPr/>
          <p:nvPr/>
        </p:nvSpPr>
        <p:spPr>
          <a:xfrm>
            <a:off x="6021720" y="1316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4"/>
          <p:cNvGrpSpPr/>
          <p:nvPr/>
        </p:nvGrpSpPr>
        <p:grpSpPr>
          <a:xfrm>
            <a:off x="-181080" y="981000"/>
            <a:ext cx="4702320" cy="5432400"/>
            <a:chOff x="-181080" y="981000"/>
            <a:chExt cx="4702320" cy="5432400"/>
          </a:xfrm>
        </p:grpSpPr>
        <p:sp>
          <p:nvSpPr>
            <p:cNvPr id="287" name="Text Box 5"/>
            <p:cNvSpPr/>
            <p:nvPr/>
          </p:nvSpPr>
          <p:spPr>
            <a:xfrm>
              <a:off x="-181080" y="5913360"/>
              <a:ext cx="47023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cs typeface="Akhbar MT"/>
                </a:rPr>
                <a:t>شكل (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7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-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6</a:t>
              </a:r>
              <a:r>
                <a:rPr b="1" lang="ar-SA" sz="1200" spc="-1" strike="noStrike">
                  <a:solidFill>
                    <a:srgbClr val="000000"/>
                  </a:solidFill>
                  <a:latin typeface="Times New Roman"/>
                  <a:ea typeface="Akhbar MT"/>
                </a:rPr>
                <a:t>): تركيب الحلزون المزدوج لـ </a:t>
              </a: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DNA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8" name="Picture 6" descr="DNA%20helix"/>
            <p:cNvPicPr/>
            <p:nvPr/>
          </p:nvPicPr>
          <p:blipFill>
            <a:blip r:embed="rId2"/>
            <a:stretch/>
          </p:blipFill>
          <p:spPr>
            <a:xfrm>
              <a:off x="1028880" y="981000"/>
              <a:ext cx="2280960" cy="4541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Picture 7" descr="dna"/>
          <p:cNvPicPr/>
          <p:nvPr/>
        </p:nvPicPr>
        <p:blipFill>
          <a:blip r:embed="rId3"/>
          <a:stretch/>
        </p:blipFill>
        <p:spPr>
          <a:xfrm>
            <a:off x="3924360" y="620640"/>
            <a:ext cx="4841640" cy="5653080"/>
          </a:xfrm>
          <a:prstGeom prst="rect">
            <a:avLst/>
          </a:prstGeom>
          <a:ln w="0">
            <a:noFill/>
          </a:ln>
        </p:spPr>
      </p:pic>
      <p:sp>
        <p:nvSpPr>
          <p:cNvPr id="290" name="Line 8"/>
          <p:cNvSpPr/>
          <p:nvPr/>
        </p:nvSpPr>
        <p:spPr>
          <a:xfrm>
            <a:off x="1042920" y="1341360"/>
            <a:ext cx="0" cy="2664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606600" y="2009880"/>
            <a:ext cx="723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Box 06-01"/>
          <p:cNvPicPr/>
          <p:nvPr/>
        </p:nvPicPr>
        <p:blipFill>
          <a:blip r:embed="rId2"/>
          <a:srcRect l="0" t="0" r="45826" b="0"/>
          <a:stretch/>
        </p:blipFill>
        <p:spPr>
          <a:xfrm>
            <a:off x="1332000" y="836640"/>
            <a:ext cx="1611360" cy="3967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Box 06-01"/>
          <p:cNvPicPr/>
          <p:nvPr/>
        </p:nvPicPr>
        <p:blipFill>
          <a:blip r:embed="rId3"/>
          <a:srcRect l="45831" t="0" r="0" b="0"/>
          <a:stretch/>
        </p:blipFill>
        <p:spPr>
          <a:xfrm>
            <a:off x="5462640" y="907920"/>
            <a:ext cx="1485720" cy="39672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9"/>
          <p:cNvSpPr/>
          <p:nvPr/>
        </p:nvSpPr>
        <p:spPr>
          <a:xfrm>
            <a:off x="5047920" y="531648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م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-DNA and A-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1450800" y="531828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سار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-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429000" y="162000"/>
            <a:ext cx="23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شكال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Arial"/>
                <a:cs typeface="PT Bold Heading"/>
              </a:rPr>
              <a:t>الأحماض النووي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3789000"/>
            <a:ext cx="882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يوجد نوعان من الأحماض النوو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ديوكسي ريبوز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4869000"/>
            <a:ext cx="820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684360" y="2349360"/>
            <a:ext cx="811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أحماض النووي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هي المادة الوراثية الموجودة داخل الخلية الحية والتي تضمن لها تناقل صفاتها الوراثية عند الإنقسام أو عند التكاث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2796120" y="401760"/>
            <a:ext cx="30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أشكال ال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57200" y="1263600"/>
          <a:ext cx="8229600" cy="3537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-D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مي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سا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شرة أزواج من القواعد في الل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أحد عشر زوجاً من القواعد في الل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إثنى عشر زوجاً من القواعد في الل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واعد عمودية على المحو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واعد  غيرعمودية على المحور ومائلة بزاوية </a:t>
                      </a: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يحدث عند تكرار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-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خواص الفيزيائية لل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aturation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غير التركيب الطبي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سخين يعمل على فك الروابط الهيدروجينية بين سلسلتي الحلزون مما يؤدي إلى فصلهما وبذلك تقل اللزوجة ويزيد الامتصاص الضوئي للأشعة فوق البنفسج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عرف درجة الحرارة التي يحدث عندها التغير الطبيعي بدرجة الإنصهار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تحد السلسلتان مرة أخرى عند التبري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خواص الفيزيائية للـ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523520"/>
            <a:ext cx="8856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كثا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زداد الكثافة بزيادة الجوانين والسايتوزين في الحلزون المزدوج (لماذا؟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ثافة الحلزون المزدوج أعلى من كثافة الشريط (لماذا؟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حجم والشك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ستقيم غير متفرع خيطي في الكائنات الراقية وحلقى في البكتري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14"/>
          <p:cNvGrpSpPr/>
          <p:nvPr/>
        </p:nvGrpSpPr>
        <p:grpSpPr>
          <a:xfrm>
            <a:off x="304920" y="5310360"/>
            <a:ext cx="8610480" cy="603000"/>
            <a:chOff x="304920" y="5310360"/>
            <a:chExt cx="8610480" cy="603000"/>
          </a:xfrm>
        </p:grpSpPr>
        <p:sp>
          <p:nvSpPr>
            <p:cNvPr id="304" name="Text Box 10"/>
            <p:cNvSpPr/>
            <p:nvPr/>
          </p:nvSpPr>
          <p:spPr>
            <a:xfrm>
              <a:off x="304920" y="5310360"/>
              <a:ext cx="861048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NA                       DNA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 (Arabic)"/>
                </a:rPr>
                <a:t>البروتينات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1"/>
            <p:cNvSpPr/>
            <p:nvPr/>
          </p:nvSpPr>
          <p:spPr>
            <a:xfrm flipH="1">
              <a:off x="5827680" y="558432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 flipH="1">
              <a:off x="2600280" y="558432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2"/>
          <p:cNvSpPr/>
          <p:nvPr/>
        </p:nvSpPr>
        <p:spPr>
          <a:xfrm>
            <a:off x="-495000" y="592200"/>
            <a:ext cx="1008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مض النووي الريبوز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51240" y="1959120"/>
            <a:ext cx="76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سو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m-RNA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2095920" y="2895480"/>
            <a:ext cx="70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ناقل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t-RNA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917640" y="3832200"/>
            <a:ext cx="821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يبوسومي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r-RNA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-642960" y="4797360"/>
            <a:ext cx="10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 Dogma of Molecular Genetics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بدأ المركزي للجينات الجزي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5"/>
          <p:cNvSpPr/>
          <p:nvPr/>
        </p:nvSpPr>
        <p:spPr>
          <a:xfrm>
            <a:off x="2851200" y="27288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mRNA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الرسول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79280" y="148428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-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مل الشفرة الوراثية من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في النواة إلى السيتوبلا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مثل كل ثلاث نيوكليوتيدات شفرة لحمض أميني وتسمى ”شفر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رجم الشفرة بعد ذلك إلى الأحماض الأمينية ثم البروتينات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ا يقل عدد النيوكليوتيدات عن ثلاثة أضعاف عدد الأحماض الأمينية المكونة للببتيد أو للبروتين المترجم (لماذا؟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كل بروتين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خاص به والذي يتحلل  بعد تصنيع البروتين، لذلك فعمر هذا الجزيء قصي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2515320" y="552600"/>
            <a:ext cx="35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ناقل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t-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08000" y="155736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صغر أنواع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كون من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نيوكليوتيد أحا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ثل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% من مجموع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قوم بنقل الأحماض الأمينية من السيتوبلازم إلى موقع ارتباطها في الريبوزومات حسب تسلسل الشفرة الوراث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حتوي على شفرة مضاد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cod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كملة للشفرة الوراثية في الرس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وجد على الأقل ناقل واحد لكل حمض أمين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ى عكس الرسول فإ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ا يتحلل بعد تصنيع البرو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tRNA2"/>
          <p:cNvPicPr/>
          <p:nvPr/>
        </p:nvPicPr>
        <p:blipFill>
          <a:blip r:embed="rId2"/>
          <a:stretch/>
        </p:blipFill>
        <p:spPr>
          <a:xfrm>
            <a:off x="1547640" y="1447920"/>
            <a:ext cx="6229440" cy="424008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2871000" y="185760"/>
            <a:ext cx="35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ناقل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t-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6264360" y="429408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6552720" y="424188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غصا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8"/>
          <p:cNvSpPr/>
          <p:nvPr/>
        </p:nvSpPr>
        <p:spPr>
          <a:xfrm flipH="1">
            <a:off x="4535640" y="40068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018680" y="443880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ق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 flipH="1" flipV="1">
            <a:off x="6840000" y="3718080"/>
            <a:ext cx="7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3710520" y="573408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PT Bold Heading"/>
              </a:rPr>
              <a:t>الشفرة المضا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5688000" y="1557360"/>
            <a:ext cx="504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804480" y="1125360"/>
            <a:ext cx="30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cs typeface="PT Bold Heading"/>
              </a:rPr>
              <a:t>موضع إرتباط الحمض الأمين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رايبوسومي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r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كبر الأنواع  حجما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محتوى ا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جد مرتبط ببروتينات نووية (الرايبوسو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عكس الرسول فإن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N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 يتحلل بعد تصنيع البروت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0" y="2131920"/>
            <a:ext cx="9144000" cy="352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ar-KW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KW" sz="48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كيمياء حيوية عامة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(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BCH 10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PT Bold Heading"/>
              </a:rPr>
              <a:t>)</a:t>
            </a:r>
            <a:br>
              <a:rPr sz="4800"/>
            </a:b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أيض الأحماض النووية</a:t>
            </a:r>
            <a:br>
              <a:rPr sz="5400"/>
            </a:br>
            <a:r>
              <a:rPr b="1" lang="ar-SA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UCLEIC ACID METABO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8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304920" y="5705640"/>
            <a:ext cx="8610480" cy="603000"/>
            <a:chOff x="304920" y="5705640"/>
            <a:chExt cx="8610480" cy="603000"/>
          </a:xfrm>
        </p:grpSpPr>
        <p:sp>
          <p:nvSpPr>
            <p:cNvPr id="332" name="Text Box 3"/>
            <p:cNvSpPr/>
            <p:nvPr/>
          </p:nvSpPr>
          <p:spPr>
            <a:xfrm>
              <a:off x="304920" y="5705640"/>
              <a:ext cx="8610480" cy="60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just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NA                       DNA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 (Arabic)"/>
                </a:rPr>
                <a:t>البروتينات </a:t>
              </a:r>
              <a:r>
                <a:rPr b="0" lang="ar-SA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4"/>
            <p:cNvSpPr/>
            <p:nvPr/>
          </p:nvSpPr>
          <p:spPr>
            <a:xfrm flipH="1">
              <a:off x="5827680" y="597960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5"/>
            <p:cNvSpPr/>
            <p:nvPr/>
          </p:nvSpPr>
          <p:spPr>
            <a:xfrm flipH="1">
              <a:off x="2600280" y="5979600"/>
              <a:ext cx="1581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Text Box 6"/>
          <p:cNvSpPr/>
          <p:nvPr/>
        </p:nvSpPr>
        <p:spPr>
          <a:xfrm>
            <a:off x="-360000" y="592200"/>
            <a:ext cx="99162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حامض النووي الريبوز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وجد ثلاثة أنواع من ال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2581920" y="2492280"/>
            <a:ext cx="68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سو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m-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004200" y="3141720"/>
            <a:ext cx="636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ناقل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t-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007000" y="3789360"/>
            <a:ext cx="74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حامض نووي ريبوزي ريبوسومي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r-RNA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108000" y="4686480"/>
            <a:ext cx="883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كم العلاقة بين ال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 ال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البروتينات ما يسمى ب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entral Dogma of Molecular Genetics </a:t>
            </a:r>
            <a:r>
              <a:rPr b="1" lang="ar-SA" sz="2400" spc="-1" strike="noStrike">
                <a:solidFill>
                  <a:srgbClr val="002060"/>
                </a:solidFill>
                <a:latin typeface="Arial"/>
              </a:rPr>
              <a:t>المبدأ المركزي للجينات الجزي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3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303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تركيب الأحماض النووية</a:t>
            </a:r>
            <a:br>
              <a:rPr sz="66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تتكون الأحماض النووية من وحدات تسمى نيوكلوتيد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572000" y="4005360"/>
            <a:ext cx="432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قاعدة نيتروج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08000" y="4005360"/>
            <a:ext cx="30970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سكر خماس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835280" y="5302080"/>
            <a:ext cx="4321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جموعة فوس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3"/>
          <p:cNvGrpSpPr/>
          <p:nvPr/>
        </p:nvGrpSpPr>
        <p:grpSpPr>
          <a:xfrm>
            <a:off x="2101320" y="3500280"/>
            <a:ext cx="4270680" cy="1719360"/>
            <a:chOff x="2101320" y="3500280"/>
            <a:chExt cx="4270680" cy="1719360"/>
          </a:xfrm>
        </p:grpSpPr>
        <p:sp>
          <p:nvSpPr>
            <p:cNvPr id="66" name="AutoShape 7"/>
            <p:cNvSpPr/>
            <p:nvPr/>
          </p:nvSpPr>
          <p:spPr>
            <a:xfrm rot="5400000">
              <a:off x="4020480" y="1580760"/>
              <a:ext cx="432000" cy="4270680"/>
            </a:xfrm>
            <a:custGeom>
              <a:avLst/>
              <a:gdLst>
                <a:gd name="textAreaLeft" fmla="*/ 276120 w 432000"/>
                <a:gd name="textAreaRight" fmla="*/ 432360 w 432000"/>
                <a:gd name="textAreaTop" fmla="*/ 111240 h 4270680"/>
                <a:gd name="textAreaBottom" fmla="*/ 4159440 h 427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8"/>
            <p:cNvSpPr/>
            <p:nvPr/>
          </p:nvSpPr>
          <p:spPr>
            <a:xfrm>
              <a:off x="4233960" y="3600360"/>
              <a:ext cx="0" cy="16192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Oval 9"/>
          <p:cNvSpPr/>
          <p:nvPr/>
        </p:nvSpPr>
        <p:spPr>
          <a:xfrm>
            <a:off x="900000" y="2060640"/>
            <a:ext cx="676908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</a:rPr>
              <a:t>النيكليوتيدا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12480" y="1267920"/>
            <a:ext cx="85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ضاع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حدث في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فيه يتم إنشاء نسخة مطابقة للمادة الوراثية الموجودة في الكروموسوم تمهيداً لإنقسام الخلية لخليتين يحتوي كل منها على نفس العدد من الكروموسوم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س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فيه يتم عمل نسخة لجزء من ال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وجود غالباً في النواة والمحتوي على مورث (جين) أو مجموعة من المورثات لينت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ذي ينتقل بعد ذلك للسيتوبلاز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رجم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فيها يتم ترجمة الشفرة الوراثية الموجودة في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إلى بروتين وذلك عن طريق الرايبوسوم المحتوي عل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يث يقوم بتكوين الروابط الببتيدية بين الاحماض الأمينية التي يحملها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الترتيب الذي يحدده الرس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ضاعف الـ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واجد ال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في شكلين اما كشريط واحد او مزدوج واما في شكل مستقيم او دائر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وجد ثلاثة أشكال من التضاع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ضاعف شبه المحاف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servative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ضاعف ثنائي الاتجاه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ضاعف شبه المتواص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discontinuous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semiconservative3"/>
          <p:cNvPicPr/>
          <p:nvPr/>
        </p:nvPicPr>
        <p:blipFill>
          <a:blip r:embed="rId1"/>
          <a:stretch/>
        </p:blipFill>
        <p:spPr>
          <a:xfrm>
            <a:off x="2514600" y="981000"/>
            <a:ext cx="1612800" cy="53816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721440" y="3062160"/>
            <a:ext cx="21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120680" y="1371600"/>
            <a:ext cx="18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509040" y="4572000"/>
            <a:ext cx="197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4572000" y="1125360"/>
            <a:ext cx="4114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cc"/>
                </a:solidFill>
                <a:latin typeface="Comic Sans MS"/>
              </a:rPr>
              <a:t>تم وصفها عن طريق ميسلسون وستال </a:t>
            </a:r>
            <a:r>
              <a:rPr b="1" lang="en-US" sz="2400" spc="-1" strike="noStrike">
                <a:solidFill>
                  <a:srgbClr val="0000cc"/>
                </a:solidFill>
                <a:latin typeface="Comic Sans MS"/>
              </a:rPr>
              <a:t>Meselson &amp; Sta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هى طريقة بسيطة وتوضح كيفية مضاعفة الحامض النوو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فيها ينفصل الشريطان عن طريق فك الروابط الهيدروجينية ويقوم كل شريط ببناء شريط مكمل 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ميت بالطريقة الشبه محافظة للتضاعف نظرا لأنه يتم الحفاظ جزئيا  على الحلزون الأبوى المزدوج أثناء تضاعف الحامض النوو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554040" y="115920"/>
            <a:ext cx="79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تضاعف شبه المحاف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conservative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Rep fork"/>
          <p:cNvPicPr/>
          <p:nvPr/>
        </p:nvPicPr>
        <p:blipFill>
          <a:blip r:embed="rId1"/>
          <a:stretch/>
        </p:blipFill>
        <p:spPr>
          <a:xfrm>
            <a:off x="1008000" y="3306600"/>
            <a:ext cx="6443640" cy="31132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3"/>
          <p:cNvSpPr/>
          <p:nvPr/>
        </p:nvSpPr>
        <p:spPr>
          <a:xfrm>
            <a:off x="685080" y="281160"/>
            <a:ext cx="82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ضاعف ثنائي الاتجا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directional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3448800" y="4149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شوكة التضاع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671640" y="637524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أصل التضاع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55640" y="1125360"/>
            <a:ext cx="764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تم انفصال شريطي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ن المنتصف ليتكون ما يشبه الفقاعة أو البالونة ويقوم كل شريط بتكوين شريط آخر مكمل ل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سع الفقاعة في الإتجاهين حتى تصل للأطراف فينفصل الزوجين كل منهما يحتوي على شريطين من ال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237960" y="404640"/>
            <a:ext cx="570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</a:rPr>
              <a:t>في حالة الكروموسوم البكتيري الحلقي يتم التضاعف ثنائي الإتجاه ويتكون شكل يشبه الحرف اللاتيني ثيت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3"/>
          <p:cNvGrpSpPr/>
          <p:nvPr/>
        </p:nvGrpSpPr>
        <p:grpSpPr>
          <a:xfrm>
            <a:off x="784080" y="1908000"/>
            <a:ext cx="4916520" cy="2492280"/>
            <a:chOff x="784080" y="1908000"/>
            <a:chExt cx="4916520" cy="2492280"/>
          </a:xfrm>
        </p:grpSpPr>
        <p:sp>
          <p:nvSpPr>
            <p:cNvPr id="357" name="AutoShape 4"/>
            <p:cNvSpPr/>
            <p:nvPr/>
          </p:nvSpPr>
          <p:spPr>
            <a:xfrm>
              <a:off x="2006280" y="3088800"/>
              <a:ext cx="549360" cy="273240"/>
            </a:xfrm>
            <a:prstGeom prst="rightArrow">
              <a:avLst>
                <a:gd name="adj1" fmla="val 50000"/>
                <a:gd name="adj2" fmla="val 50264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5"/>
            <p:cNvSpPr/>
            <p:nvPr/>
          </p:nvSpPr>
          <p:spPr>
            <a:xfrm>
              <a:off x="1146240" y="230004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Arial"/>
                </a:rPr>
                <a:t>or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6"/>
            <p:cNvSpPr/>
            <p:nvPr/>
          </p:nvSpPr>
          <p:spPr>
            <a:xfrm>
              <a:off x="1116360" y="3763800"/>
              <a:ext cx="50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200" spc="-1" strike="noStrike">
                  <a:solidFill>
                    <a:srgbClr val="000000"/>
                  </a:solidFill>
                  <a:latin typeface="Arial"/>
                </a:rPr>
                <a:t>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Group 7"/>
            <p:cNvGrpSpPr/>
            <p:nvPr/>
          </p:nvGrpSpPr>
          <p:grpSpPr>
            <a:xfrm>
              <a:off x="784080" y="2679480"/>
              <a:ext cx="1074600" cy="1077840"/>
              <a:chOff x="784080" y="2679480"/>
              <a:chExt cx="1074600" cy="1077840"/>
            </a:xfrm>
          </p:grpSpPr>
          <p:sp>
            <p:nvSpPr>
              <p:cNvPr id="361" name="Oval 8"/>
              <p:cNvSpPr/>
              <p:nvPr/>
            </p:nvSpPr>
            <p:spPr>
              <a:xfrm>
                <a:off x="844200" y="2739600"/>
                <a:ext cx="952560" cy="955800"/>
              </a:xfrm>
              <a:prstGeom prst="ellipse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9"/>
              <p:cNvSpPr/>
              <p:nvPr/>
            </p:nvSpPr>
            <p:spPr>
              <a:xfrm>
                <a:off x="784080" y="2679480"/>
                <a:ext cx="1074600" cy="1077840"/>
              </a:xfrm>
              <a:prstGeom prst="ellipse">
                <a:avLst/>
              </a:prstGeom>
              <a:noFill/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Oval 10"/>
            <p:cNvSpPr/>
            <p:nvPr/>
          </p:nvSpPr>
          <p:spPr>
            <a:xfrm>
              <a:off x="2703240" y="2657160"/>
              <a:ext cx="1076400" cy="107784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11"/>
            <p:cNvSpPr/>
            <p:nvPr/>
          </p:nvSpPr>
          <p:spPr>
            <a:xfrm rot="18865800">
              <a:off x="2972880" y="2617200"/>
              <a:ext cx="514440" cy="51444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14440"/>
                <a:gd name="textAreaBottom" fmla="*/ 514800 h 514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rc 12"/>
            <p:cNvSpPr/>
            <p:nvPr/>
          </p:nvSpPr>
          <p:spPr>
            <a:xfrm flipV="1" rot="2734200">
              <a:off x="2973240" y="2682360"/>
              <a:ext cx="514080" cy="514440"/>
            </a:xfrm>
            <a:custGeom>
              <a:avLst/>
              <a:gdLst>
                <a:gd name="textAreaLeft" fmla="*/ 0 w 514080"/>
                <a:gd name="textAreaRight" fmla="*/ 514080 w 514080"/>
                <a:gd name="textAreaTop" fmla="*/ -360 h 514440"/>
                <a:gd name="textAreaBottom" fmla="*/ 514440 h 514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rc 13"/>
            <p:cNvSpPr/>
            <p:nvPr/>
          </p:nvSpPr>
          <p:spPr>
            <a:xfrm rot="8578800">
              <a:off x="2774520" y="2740680"/>
              <a:ext cx="971280" cy="92700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fill="none" w="42962" h="40970">
                  <a:moveTo>
                    <a:pt x="-1" y="18408"/>
                  </a:moveTo>
                  <a:cubicBezTo>
                    <a:pt x="1579" y="7829"/>
                    <a:pt x="10665" y="-1"/>
                    <a:pt x="21362" y="0"/>
                  </a:cubicBezTo>
                  <a:cubicBezTo>
                    <a:pt x="33291" y="0"/>
                    <a:pt x="42962" y="9670"/>
                    <a:pt x="42962" y="21600"/>
                  </a:cubicBezTo>
                  <a:cubicBezTo>
                    <a:pt x="42962" y="29823"/>
                    <a:pt x="38292" y="37332"/>
                    <a:pt x="30918" y="40970"/>
                  </a:cubicBezTo>
                </a:path>
                <a:path stroke="0" w="42962" h="40970">
                  <a:moveTo>
                    <a:pt x="-1" y="18408"/>
                  </a:moveTo>
                  <a:cubicBezTo>
                    <a:pt x="1579" y="7829"/>
                    <a:pt x="10665" y="-1"/>
                    <a:pt x="21362" y="0"/>
                  </a:cubicBezTo>
                  <a:cubicBezTo>
                    <a:pt x="33291" y="0"/>
                    <a:pt x="42962" y="9670"/>
                    <a:pt x="42962" y="21600"/>
                  </a:cubicBezTo>
                  <a:cubicBezTo>
                    <a:pt x="42962" y="29823"/>
                    <a:pt x="38292" y="37332"/>
                    <a:pt x="30918" y="40970"/>
                  </a:cubicBezTo>
                  <a:lnTo>
                    <a:pt x="21362" y="21600"/>
                  </a:lnTo>
                  <a:lnTo>
                    <a:pt x="-1" y="18408"/>
                  </a:lnTo>
                  <a:close/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rc 14"/>
            <p:cNvSpPr/>
            <p:nvPr/>
          </p:nvSpPr>
          <p:spPr>
            <a:xfrm flipV="1" rot="2734200">
              <a:off x="2932560" y="2644200"/>
              <a:ext cx="625680" cy="642960"/>
            </a:xfrm>
            <a:custGeom>
              <a:avLst/>
              <a:gdLst>
                <a:gd name="textAreaLeft" fmla="*/ 0 w 625680"/>
                <a:gd name="textAreaRight" fmla="*/ 626040 w 625680"/>
                <a:gd name="textAreaTop" fmla="*/ 360 h 642960"/>
                <a:gd name="textAreaBottom" fmla="*/ 643680 h 642960"/>
              </a:gdLst>
              <a:ahLst/>
              <a:rect l="textAreaLeft" t="textAreaTop" r="textAreaRight" b="textAreaBottom"/>
              <a:pathLst>
                <a:path fill="none" w="26291" h="26994">
                  <a:moveTo>
                    <a:pt x="-1" y="515"/>
                  </a:moveTo>
                  <a:cubicBezTo>
                    <a:pt x="1540" y="172"/>
                    <a:pt x="3113" y="-1"/>
                    <a:pt x="4691" y="0"/>
                  </a:cubicBezTo>
                  <a:cubicBezTo>
                    <a:pt x="16620" y="0"/>
                    <a:pt x="26291" y="9670"/>
                    <a:pt x="26291" y="21600"/>
                  </a:cubicBezTo>
                  <a:cubicBezTo>
                    <a:pt x="26291" y="23419"/>
                    <a:pt x="26061" y="25232"/>
                    <a:pt x="25606" y="26994"/>
                  </a:cubicBezTo>
                </a:path>
                <a:path stroke="0" w="26291" h="26994">
                  <a:moveTo>
                    <a:pt x="-1" y="515"/>
                  </a:moveTo>
                  <a:cubicBezTo>
                    <a:pt x="1540" y="172"/>
                    <a:pt x="3113" y="-1"/>
                    <a:pt x="4691" y="0"/>
                  </a:cubicBezTo>
                  <a:cubicBezTo>
                    <a:pt x="16620" y="0"/>
                    <a:pt x="26291" y="9670"/>
                    <a:pt x="26291" y="21600"/>
                  </a:cubicBezTo>
                  <a:cubicBezTo>
                    <a:pt x="26291" y="23419"/>
                    <a:pt x="26061" y="25232"/>
                    <a:pt x="25606" y="26994"/>
                  </a:cubicBezTo>
                  <a:lnTo>
                    <a:pt x="4691" y="21600"/>
                  </a:lnTo>
                  <a:lnTo>
                    <a:pt x="-1" y="515"/>
                  </a:lnTo>
                  <a:close/>
                </a:path>
              </a:pathLst>
            </a:custGeom>
            <a:noFill/>
            <a:ln w="3816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4686120" y="2034720"/>
              <a:ext cx="952560" cy="9543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6"/>
            <p:cNvSpPr/>
            <p:nvPr/>
          </p:nvSpPr>
          <p:spPr>
            <a:xfrm>
              <a:off x="4625640" y="1974600"/>
              <a:ext cx="1074960" cy="107640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7"/>
            <p:cNvSpPr/>
            <p:nvPr/>
          </p:nvSpPr>
          <p:spPr>
            <a:xfrm>
              <a:off x="4686120" y="3344400"/>
              <a:ext cx="952560" cy="954360"/>
            </a:xfrm>
            <a:prstGeom prst="ellipse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4625640" y="3284280"/>
              <a:ext cx="1074960" cy="1076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9"/>
            <p:cNvSpPr/>
            <p:nvPr/>
          </p:nvSpPr>
          <p:spPr>
            <a:xfrm>
              <a:off x="3927240" y="3088800"/>
              <a:ext cx="549360" cy="273240"/>
            </a:xfrm>
            <a:prstGeom prst="rightArrow">
              <a:avLst>
                <a:gd name="adj1" fmla="val 50000"/>
                <a:gd name="adj2" fmla="val 50264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0"/>
            <p:cNvSpPr/>
            <p:nvPr/>
          </p:nvSpPr>
          <p:spPr>
            <a:xfrm>
              <a:off x="1274760" y="3659040"/>
              <a:ext cx="55440" cy="1411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1263600" y="2617560"/>
              <a:ext cx="1126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22"/>
            <p:cNvSpPr/>
            <p:nvPr/>
          </p:nvSpPr>
          <p:spPr>
            <a:xfrm>
              <a:off x="3187440" y="3041280"/>
              <a:ext cx="1126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23"/>
            <p:cNvSpPr/>
            <p:nvPr/>
          </p:nvSpPr>
          <p:spPr>
            <a:xfrm>
              <a:off x="3187440" y="2603160"/>
              <a:ext cx="1126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4"/>
            <p:cNvSpPr/>
            <p:nvPr/>
          </p:nvSpPr>
          <p:spPr>
            <a:xfrm>
              <a:off x="3240000" y="3634920"/>
              <a:ext cx="55440" cy="1414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25"/>
            <p:cNvSpPr/>
            <p:nvPr/>
          </p:nvSpPr>
          <p:spPr>
            <a:xfrm>
              <a:off x="5092560" y="1908000"/>
              <a:ext cx="11412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26"/>
            <p:cNvSpPr/>
            <p:nvPr/>
          </p:nvSpPr>
          <p:spPr>
            <a:xfrm>
              <a:off x="5101920" y="3222360"/>
              <a:ext cx="114480" cy="198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7"/>
            <p:cNvSpPr/>
            <p:nvPr/>
          </p:nvSpPr>
          <p:spPr>
            <a:xfrm>
              <a:off x="5130720" y="2952360"/>
              <a:ext cx="57240" cy="1429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8"/>
            <p:cNvSpPr/>
            <p:nvPr/>
          </p:nvSpPr>
          <p:spPr>
            <a:xfrm>
              <a:off x="5149800" y="4258800"/>
              <a:ext cx="56880" cy="14148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Picture 29" descr=""/>
          <p:cNvPicPr/>
          <p:nvPr/>
        </p:nvPicPr>
        <p:blipFill>
          <a:blip r:embed="rId1"/>
          <a:stretch/>
        </p:blipFill>
        <p:spPr>
          <a:xfrm>
            <a:off x="6208560" y="311040"/>
            <a:ext cx="2821320" cy="390852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0"/>
          <p:cNvSpPr/>
          <p:nvPr/>
        </p:nvSpPr>
        <p:spPr>
          <a:xfrm>
            <a:off x="213840" y="4746600"/>
            <a:ext cx="616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Bidirectional Replication Produ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99"/>
                </a:solidFill>
                <a:latin typeface="Arial"/>
              </a:rPr>
              <a:t>a Theta  Intermed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31"/>
          <p:cNvGrpSpPr/>
          <p:nvPr/>
        </p:nvGrpSpPr>
        <p:grpSpPr>
          <a:xfrm>
            <a:off x="6856560" y="4333320"/>
            <a:ext cx="2437920" cy="2305440"/>
            <a:chOff x="6856560" y="4333320"/>
            <a:chExt cx="2437920" cy="2305440"/>
          </a:xfrm>
        </p:grpSpPr>
        <p:sp>
          <p:nvSpPr>
            <p:cNvPr id="385" name="Arc 32"/>
            <p:cNvSpPr/>
            <p:nvPr/>
          </p:nvSpPr>
          <p:spPr>
            <a:xfrm rot="20720400">
              <a:off x="7080480" y="4774680"/>
              <a:ext cx="1017360" cy="569880"/>
            </a:xfrm>
            <a:custGeom>
              <a:avLst/>
              <a:gdLst>
                <a:gd name="textAreaLeft" fmla="*/ 0 w 1017360"/>
                <a:gd name="textAreaRight" fmla="*/ 1017720 w 101736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fill="none" w="23253" h="21600">
                  <a:moveTo>
                    <a:pt x="-1" y="5565"/>
                  </a:moveTo>
                  <a:cubicBezTo>
                    <a:pt x="3969" y="1983"/>
                    <a:pt x="9126" y="-1"/>
                    <a:pt x="14473" y="0"/>
                  </a:cubicBezTo>
                  <a:cubicBezTo>
                    <a:pt x="17498" y="0"/>
                    <a:pt x="20489" y="635"/>
                    <a:pt x="23253" y="1865"/>
                  </a:cubicBezTo>
                </a:path>
                <a:path stroke="0" w="23253" h="21600">
                  <a:moveTo>
                    <a:pt x="-1" y="5565"/>
                  </a:moveTo>
                  <a:cubicBezTo>
                    <a:pt x="3969" y="1983"/>
                    <a:pt x="9126" y="-1"/>
                    <a:pt x="14473" y="0"/>
                  </a:cubicBezTo>
                  <a:cubicBezTo>
                    <a:pt x="17498" y="0"/>
                    <a:pt x="20489" y="635"/>
                    <a:pt x="23253" y="1865"/>
                  </a:cubicBezTo>
                  <a:lnTo>
                    <a:pt x="14473" y="21600"/>
                  </a:lnTo>
                  <a:lnTo>
                    <a:pt x="-1" y="55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3"/>
            <p:cNvSpPr/>
            <p:nvPr/>
          </p:nvSpPr>
          <p:spPr>
            <a:xfrm>
              <a:off x="6856560" y="4637160"/>
              <a:ext cx="1208160" cy="20016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rc 34"/>
            <p:cNvSpPr/>
            <p:nvPr/>
          </p:nvSpPr>
          <p:spPr>
            <a:xfrm rot="7311000">
              <a:off x="7094880" y="4533840"/>
              <a:ext cx="914400" cy="8463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fill="none" w="21600" h="19994">
                  <a:moveTo>
                    <a:pt x="8171" y="-1"/>
                  </a:moveTo>
                  <a:cubicBezTo>
                    <a:pt x="16292" y="3318"/>
                    <a:pt x="21600" y="11220"/>
                    <a:pt x="21600" y="19994"/>
                  </a:cubicBezTo>
                </a:path>
                <a:path stroke="0" w="21600" h="19994">
                  <a:moveTo>
                    <a:pt x="8171" y="-1"/>
                  </a:moveTo>
                  <a:cubicBezTo>
                    <a:pt x="16292" y="3318"/>
                    <a:pt x="21600" y="11220"/>
                    <a:pt x="21600" y="19994"/>
                  </a:cubicBezTo>
                  <a:lnTo>
                    <a:pt x="0" y="19994"/>
                  </a:lnTo>
                  <a:lnTo>
                    <a:pt x="8171" y="-1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5"/>
            <p:cNvSpPr/>
            <p:nvPr/>
          </p:nvSpPr>
          <p:spPr>
            <a:xfrm>
              <a:off x="7923600" y="4348080"/>
              <a:ext cx="137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lica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rc 36"/>
            <p:cNvSpPr/>
            <p:nvPr/>
          </p:nvSpPr>
          <p:spPr>
            <a:xfrm rot="6617400">
              <a:off x="7567560" y="4255920"/>
              <a:ext cx="461880" cy="9000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00000"/>
                <a:gd name="textAreaBottom" fmla="*/ 900360 h 900000"/>
              </a:gdLst>
              <a:ahLst/>
              <a:rect l="textAreaLeft" t="textAreaTop" r="textAreaRight" b="textAreaBottom"/>
              <a:pathLst>
                <a:path fill="none" w="10905" h="21278">
                  <a:moveTo>
                    <a:pt x="3713" y="-1"/>
                  </a:moveTo>
                  <a:cubicBezTo>
                    <a:pt x="6248" y="441"/>
                    <a:pt x="8683" y="1333"/>
                    <a:pt x="10905" y="2632"/>
                  </a:cubicBezTo>
                </a:path>
                <a:path stroke="0" w="10905" h="21278">
                  <a:moveTo>
                    <a:pt x="3713" y="-1"/>
                  </a:moveTo>
                  <a:cubicBezTo>
                    <a:pt x="6248" y="441"/>
                    <a:pt x="8683" y="1333"/>
                    <a:pt x="10905" y="2632"/>
                  </a:cubicBezTo>
                  <a:lnTo>
                    <a:pt x="0" y="21278"/>
                  </a:lnTo>
                  <a:lnTo>
                    <a:pt x="3713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37"/>
            <p:cNvSpPr/>
            <p:nvPr/>
          </p:nvSpPr>
          <p:spPr>
            <a:xfrm rot="13772400">
              <a:off x="7975440" y="4965480"/>
              <a:ext cx="146160" cy="127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38"/>
            <p:cNvSpPr/>
            <p:nvPr/>
          </p:nvSpPr>
          <p:spPr>
            <a:xfrm rot="14562000">
              <a:off x="6972120" y="5009760"/>
              <a:ext cx="146160" cy="127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2" name="Straight Arrow Connector 39"/>
          <p:cNvCxnSpPr/>
          <p:nvPr/>
        </p:nvCxnSpPr>
        <p:spPr>
          <a:xfrm>
            <a:off x="2268360" y="1773000"/>
            <a:ext cx="7200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GA30_06"/>
          <p:cNvPicPr/>
          <p:nvPr/>
        </p:nvPicPr>
        <p:blipFill>
          <a:blip r:embed="rId1"/>
          <a:srcRect l="12202" t="21670" r="13768" b="45223"/>
          <a:stretch/>
        </p:blipFill>
        <p:spPr>
          <a:xfrm>
            <a:off x="0" y="3141720"/>
            <a:ext cx="9109080" cy="281124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9"/>
          <p:cNvSpPr/>
          <p:nvPr/>
        </p:nvSpPr>
        <p:spPr>
          <a:xfrm>
            <a:off x="178200" y="260280"/>
            <a:ext cx="82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ضاعف شبه المتواص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Semidiscontinuous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808200" y="367524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4d4d4d"/>
                </a:solidFill>
                <a:latin typeface="Arial"/>
                <a:cs typeface="PT Bold Heading"/>
              </a:rPr>
              <a:t>الشريط القائ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-377280" y="4334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d4d4d"/>
                </a:solidFill>
                <a:latin typeface="Arial"/>
                <a:cs typeface="PT Bold Heading"/>
              </a:rPr>
              <a:t>الشريط المتخلف أو المتأخ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941040" y="52261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4d4d4d"/>
                </a:solidFill>
                <a:latin typeface="Arial"/>
                <a:cs typeface="PT Bold Heading"/>
              </a:rPr>
              <a:t>قطع أوكازاك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6"/>
          <p:cNvSpPr/>
          <p:nvPr/>
        </p:nvSpPr>
        <p:spPr>
          <a:xfrm>
            <a:off x="179280" y="907920"/>
            <a:ext cx="8337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يتم التضاعف من أحد طرفي الشريط ويتم بشكلي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في الإتجاة من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ويتم التضاعف بشكل سريع ويسمى الشريط بهذه الحالة بالشريط القائ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ing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- تضاعف في الشريط الأخر ويكون على هيئة أجزاء أو قطع سميت بقطع أوكازاكي ويسمى الشريط في هذه الحالة بالشريط المتأخر أو المتخلف أو المتلك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ging st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Rep fork2"/>
          <p:cNvPicPr/>
          <p:nvPr/>
        </p:nvPicPr>
        <p:blipFill>
          <a:blip r:embed="rId1"/>
          <a:stretch/>
        </p:blipFill>
        <p:spPr>
          <a:xfrm>
            <a:off x="228600" y="987480"/>
            <a:ext cx="8583480" cy="49989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4648320" y="123336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4648320" y="534816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iscontinu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أنواع إنزيم البوليميريز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(الانزيم المضاعف للـ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يوجد ثلاثة أنواع من الإنزيم وجميعها يحتاج إلى باديء عبارة عن قطعة من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يقوم بتحفيز إضافة نيوكليوتيد للسلسلة النامية ل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كما يقوم بإصلاح وترميم التالف م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ير معروف الوظيفة ويعتقد أنه يقوم بإصلاح وترميم التالف من ا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II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ظيفته تجميع قطع ال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كونة ال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612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1561680" y="11318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3421800" y="113184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5305320" y="113184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7168680" y="11318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464760" y="18986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462600" y="297324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461880" y="403704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453600" y="512280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1"/>
          <p:cNvSpPr/>
          <p:nvPr/>
        </p:nvSpPr>
        <p:spPr>
          <a:xfrm>
            <a:off x="8287920" y="226368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8298000" y="201312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>
            <a:off x="8298720" y="176040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8287920" y="15098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8287920" y="550080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6"/>
          <p:cNvSpPr/>
          <p:nvPr/>
        </p:nvSpPr>
        <p:spPr>
          <a:xfrm>
            <a:off x="8298000" y="524844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7"/>
          <p:cNvSpPr/>
          <p:nvPr/>
        </p:nvSpPr>
        <p:spPr>
          <a:xfrm>
            <a:off x="8298720" y="499752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8"/>
          <p:cNvSpPr/>
          <p:nvPr/>
        </p:nvSpPr>
        <p:spPr>
          <a:xfrm>
            <a:off x="8287920" y="474516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9"/>
          <p:cNvSpPr/>
          <p:nvPr/>
        </p:nvSpPr>
        <p:spPr>
          <a:xfrm>
            <a:off x="8287920" y="44132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8298000" y="416232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1"/>
          <p:cNvSpPr/>
          <p:nvPr/>
        </p:nvSpPr>
        <p:spPr>
          <a:xfrm>
            <a:off x="8298720" y="390996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8287920" y="365904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8287920" y="332748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8298000" y="3076560"/>
            <a:ext cx="295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8298720" y="2824200"/>
            <a:ext cx="293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8287920" y="2573280"/>
            <a:ext cx="313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861840" y="15048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866160" y="175752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9"/>
          <p:cNvSpPr/>
          <p:nvPr/>
        </p:nvSpPr>
        <p:spPr>
          <a:xfrm>
            <a:off x="864000" y="201312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0"/>
          <p:cNvSpPr/>
          <p:nvPr/>
        </p:nvSpPr>
        <p:spPr>
          <a:xfrm>
            <a:off x="861840" y="22590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1"/>
          <p:cNvSpPr/>
          <p:nvPr/>
        </p:nvSpPr>
        <p:spPr>
          <a:xfrm>
            <a:off x="872640" y="25732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2"/>
          <p:cNvSpPr/>
          <p:nvPr/>
        </p:nvSpPr>
        <p:spPr>
          <a:xfrm>
            <a:off x="876960" y="282420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869760" y="30765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34"/>
          <p:cNvSpPr/>
          <p:nvPr/>
        </p:nvSpPr>
        <p:spPr>
          <a:xfrm>
            <a:off x="866160" y="33274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5"/>
          <p:cNvSpPr/>
          <p:nvPr/>
        </p:nvSpPr>
        <p:spPr>
          <a:xfrm>
            <a:off x="871920" y="36590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6"/>
          <p:cNvSpPr/>
          <p:nvPr/>
        </p:nvSpPr>
        <p:spPr>
          <a:xfrm>
            <a:off x="869760" y="39099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7"/>
          <p:cNvSpPr/>
          <p:nvPr/>
        </p:nvSpPr>
        <p:spPr>
          <a:xfrm>
            <a:off x="869040" y="416232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38"/>
          <p:cNvSpPr/>
          <p:nvPr/>
        </p:nvSpPr>
        <p:spPr>
          <a:xfrm>
            <a:off x="865440" y="44132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9"/>
          <p:cNvSpPr/>
          <p:nvPr/>
        </p:nvSpPr>
        <p:spPr>
          <a:xfrm>
            <a:off x="861840" y="474516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0"/>
          <p:cNvSpPr/>
          <p:nvPr/>
        </p:nvSpPr>
        <p:spPr>
          <a:xfrm>
            <a:off x="866160" y="499752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1"/>
          <p:cNvSpPr/>
          <p:nvPr/>
        </p:nvSpPr>
        <p:spPr>
          <a:xfrm>
            <a:off x="865440" y="52484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2"/>
          <p:cNvSpPr/>
          <p:nvPr/>
        </p:nvSpPr>
        <p:spPr>
          <a:xfrm>
            <a:off x="861840" y="55008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43"/>
          <p:cNvSpPr/>
          <p:nvPr/>
        </p:nvSpPr>
        <p:spPr>
          <a:xfrm>
            <a:off x="1541520" y="1612800"/>
            <a:ext cx="136440" cy="40032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400320"/>
              <a:gd name="textAreaBottom" fmla="*/ 3898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4"/>
          <p:cNvSpPr/>
          <p:nvPr/>
        </p:nvSpPr>
        <p:spPr>
          <a:xfrm>
            <a:off x="1547640" y="3773520"/>
            <a:ext cx="136800" cy="663480"/>
          </a:xfrm>
          <a:custGeom>
            <a:avLst/>
            <a:gdLst>
              <a:gd name="textAreaLeft" fmla="*/ 0 w 136800"/>
              <a:gd name="textAreaRight" fmla="*/ 49320 w 136800"/>
              <a:gd name="textAreaTop" fmla="*/ 17280 h 663480"/>
              <a:gd name="textAreaBottom" fmla="*/ 646200 h 66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5"/>
          <p:cNvSpPr/>
          <p:nvPr/>
        </p:nvSpPr>
        <p:spPr>
          <a:xfrm>
            <a:off x="1538280" y="2698920"/>
            <a:ext cx="249120" cy="903240"/>
          </a:xfrm>
          <a:custGeom>
            <a:avLst/>
            <a:gdLst>
              <a:gd name="textAreaLeft" fmla="*/ 0 w 249120"/>
              <a:gd name="textAreaRight" fmla="*/ 90000 w 24912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6"/>
          <p:cNvSpPr/>
          <p:nvPr/>
        </p:nvSpPr>
        <p:spPr>
          <a:xfrm>
            <a:off x="1844640" y="1623960"/>
            <a:ext cx="529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7"/>
          <p:cNvSpPr/>
          <p:nvPr/>
        </p:nvSpPr>
        <p:spPr>
          <a:xfrm>
            <a:off x="1882080" y="2127240"/>
            <a:ext cx="456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1875600" y="2954160"/>
            <a:ext cx="4568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9"/>
          <p:cNvSpPr/>
          <p:nvPr/>
        </p:nvSpPr>
        <p:spPr>
          <a:xfrm>
            <a:off x="1549440" y="211608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0"/>
          <p:cNvSpPr/>
          <p:nvPr/>
        </p:nvSpPr>
        <p:spPr>
          <a:xfrm>
            <a:off x="1914120" y="3922560"/>
            <a:ext cx="383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1"/>
          <p:cNvSpPr/>
          <p:nvPr/>
        </p:nvSpPr>
        <p:spPr>
          <a:xfrm>
            <a:off x="1511640" y="4421160"/>
            <a:ext cx="1101240" cy="3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Black"/>
              </a:rPr>
              <a:t>met (star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52"/>
          <p:cNvSpPr/>
          <p:nvPr/>
        </p:nvSpPr>
        <p:spPr>
          <a:xfrm>
            <a:off x="1547640" y="484812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3"/>
          <p:cNvSpPr/>
          <p:nvPr/>
        </p:nvSpPr>
        <p:spPr>
          <a:xfrm>
            <a:off x="1887480" y="5111640"/>
            <a:ext cx="435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4"/>
          <p:cNvSpPr/>
          <p:nvPr/>
        </p:nvSpPr>
        <p:spPr>
          <a:xfrm>
            <a:off x="2717280" y="150984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5"/>
          <p:cNvSpPr/>
          <p:nvPr/>
        </p:nvSpPr>
        <p:spPr>
          <a:xfrm>
            <a:off x="2721600" y="176040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6"/>
          <p:cNvSpPr/>
          <p:nvPr/>
        </p:nvSpPr>
        <p:spPr>
          <a:xfrm>
            <a:off x="2720880" y="201312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7"/>
          <p:cNvSpPr/>
          <p:nvPr/>
        </p:nvSpPr>
        <p:spPr>
          <a:xfrm>
            <a:off x="2717280" y="22636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726280" y="257328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9"/>
          <p:cNvSpPr/>
          <p:nvPr/>
        </p:nvSpPr>
        <p:spPr>
          <a:xfrm>
            <a:off x="2737080" y="2824200"/>
            <a:ext cx="5500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0"/>
          <p:cNvSpPr/>
          <p:nvPr/>
        </p:nvSpPr>
        <p:spPr>
          <a:xfrm>
            <a:off x="2729880" y="3076560"/>
            <a:ext cx="551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1"/>
          <p:cNvSpPr/>
          <p:nvPr/>
        </p:nvSpPr>
        <p:spPr>
          <a:xfrm>
            <a:off x="2726280" y="332748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2"/>
          <p:cNvSpPr/>
          <p:nvPr/>
        </p:nvSpPr>
        <p:spPr>
          <a:xfrm>
            <a:off x="2720880" y="365904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3"/>
          <p:cNvSpPr/>
          <p:nvPr/>
        </p:nvSpPr>
        <p:spPr>
          <a:xfrm>
            <a:off x="2736360" y="3909960"/>
            <a:ext cx="551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4"/>
          <p:cNvSpPr/>
          <p:nvPr/>
        </p:nvSpPr>
        <p:spPr>
          <a:xfrm>
            <a:off x="2735640" y="4162320"/>
            <a:ext cx="552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5"/>
          <p:cNvSpPr/>
          <p:nvPr/>
        </p:nvSpPr>
        <p:spPr>
          <a:xfrm>
            <a:off x="2720880" y="441324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6"/>
          <p:cNvSpPr/>
          <p:nvPr/>
        </p:nvSpPr>
        <p:spPr>
          <a:xfrm>
            <a:off x="2717280" y="474516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7"/>
          <p:cNvSpPr/>
          <p:nvPr/>
        </p:nvSpPr>
        <p:spPr>
          <a:xfrm>
            <a:off x="2726280" y="499752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68"/>
          <p:cNvSpPr/>
          <p:nvPr/>
        </p:nvSpPr>
        <p:spPr>
          <a:xfrm>
            <a:off x="2720880" y="524844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69"/>
          <p:cNvSpPr/>
          <p:nvPr/>
        </p:nvSpPr>
        <p:spPr>
          <a:xfrm>
            <a:off x="2717280" y="550080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0"/>
          <p:cNvSpPr/>
          <p:nvPr/>
        </p:nvSpPr>
        <p:spPr>
          <a:xfrm>
            <a:off x="3376440" y="161280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71"/>
          <p:cNvSpPr/>
          <p:nvPr/>
        </p:nvSpPr>
        <p:spPr>
          <a:xfrm>
            <a:off x="3376440" y="268776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2"/>
          <p:cNvSpPr/>
          <p:nvPr/>
        </p:nvSpPr>
        <p:spPr>
          <a:xfrm>
            <a:off x="3376440" y="376236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73"/>
          <p:cNvSpPr/>
          <p:nvPr/>
        </p:nvSpPr>
        <p:spPr>
          <a:xfrm>
            <a:off x="3376440" y="4853160"/>
            <a:ext cx="249480" cy="903240"/>
          </a:xfrm>
          <a:custGeom>
            <a:avLst/>
            <a:gdLst>
              <a:gd name="textAreaLeft" fmla="*/ 0 w 249480"/>
              <a:gd name="textAreaRight" fmla="*/ 90000 w 24948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4"/>
          <p:cNvSpPr/>
          <p:nvPr/>
        </p:nvSpPr>
        <p:spPr>
          <a:xfrm>
            <a:off x="3804840" y="1874880"/>
            <a:ext cx="461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5"/>
          <p:cNvSpPr/>
          <p:nvPr/>
        </p:nvSpPr>
        <p:spPr>
          <a:xfrm>
            <a:off x="3793320" y="2949480"/>
            <a:ext cx="4964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6"/>
          <p:cNvSpPr/>
          <p:nvPr/>
        </p:nvSpPr>
        <p:spPr>
          <a:xfrm>
            <a:off x="3817080" y="4024440"/>
            <a:ext cx="447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7"/>
          <p:cNvSpPr/>
          <p:nvPr/>
        </p:nvSpPr>
        <p:spPr>
          <a:xfrm>
            <a:off x="3817800" y="5122800"/>
            <a:ext cx="446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8"/>
          <p:cNvSpPr/>
          <p:nvPr/>
        </p:nvSpPr>
        <p:spPr>
          <a:xfrm>
            <a:off x="4611960" y="15098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9"/>
          <p:cNvSpPr/>
          <p:nvPr/>
        </p:nvSpPr>
        <p:spPr>
          <a:xfrm>
            <a:off x="4616280" y="176040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0"/>
          <p:cNvSpPr/>
          <p:nvPr/>
        </p:nvSpPr>
        <p:spPr>
          <a:xfrm>
            <a:off x="4615560" y="201312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1"/>
          <p:cNvSpPr/>
          <p:nvPr/>
        </p:nvSpPr>
        <p:spPr>
          <a:xfrm>
            <a:off x="4611960" y="226368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2"/>
          <p:cNvSpPr/>
          <p:nvPr/>
        </p:nvSpPr>
        <p:spPr>
          <a:xfrm>
            <a:off x="4622760" y="257328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83"/>
          <p:cNvSpPr/>
          <p:nvPr/>
        </p:nvSpPr>
        <p:spPr>
          <a:xfrm>
            <a:off x="4620600" y="2824200"/>
            <a:ext cx="551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84"/>
          <p:cNvSpPr/>
          <p:nvPr/>
        </p:nvSpPr>
        <p:spPr>
          <a:xfrm>
            <a:off x="4631040" y="3076560"/>
            <a:ext cx="552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5"/>
          <p:cNvSpPr/>
          <p:nvPr/>
        </p:nvSpPr>
        <p:spPr>
          <a:xfrm>
            <a:off x="4616280" y="332748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6"/>
          <p:cNvSpPr/>
          <p:nvPr/>
        </p:nvSpPr>
        <p:spPr>
          <a:xfrm>
            <a:off x="4615560" y="365904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7"/>
          <p:cNvSpPr/>
          <p:nvPr/>
        </p:nvSpPr>
        <p:spPr>
          <a:xfrm>
            <a:off x="4631040" y="3909960"/>
            <a:ext cx="5529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8"/>
          <p:cNvSpPr/>
          <p:nvPr/>
        </p:nvSpPr>
        <p:spPr>
          <a:xfrm>
            <a:off x="4622040" y="441324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9"/>
          <p:cNvSpPr/>
          <p:nvPr/>
        </p:nvSpPr>
        <p:spPr>
          <a:xfrm>
            <a:off x="4630320" y="4173480"/>
            <a:ext cx="554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0"/>
          <p:cNvSpPr/>
          <p:nvPr/>
        </p:nvSpPr>
        <p:spPr>
          <a:xfrm>
            <a:off x="4607280" y="474516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1"/>
          <p:cNvSpPr/>
          <p:nvPr/>
        </p:nvSpPr>
        <p:spPr>
          <a:xfrm>
            <a:off x="4616280" y="499752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92"/>
          <p:cNvSpPr/>
          <p:nvPr/>
        </p:nvSpPr>
        <p:spPr>
          <a:xfrm>
            <a:off x="4615560" y="524844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3"/>
          <p:cNvSpPr/>
          <p:nvPr/>
        </p:nvSpPr>
        <p:spPr>
          <a:xfrm>
            <a:off x="4611960" y="550080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94"/>
          <p:cNvSpPr/>
          <p:nvPr/>
        </p:nvSpPr>
        <p:spPr>
          <a:xfrm>
            <a:off x="5310360" y="264168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5"/>
          <p:cNvSpPr/>
          <p:nvPr/>
        </p:nvSpPr>
        <p:spPr>
          <a:xfrm>
            <a:off x="5318280" y="3144960"/>
            <a:ext cx="134640" cy="399960"/>
          </a:xfrm>
          <a:custGeom>
            <a:avLst/>
            <a:gdLst>
              <a:gd name="textAreaLeft" fmla="*/ 0 w 134640"/>
              <a:gd name="textAreaRight" fmla="*/ 48600 w 1346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96"/>
          <p:cNvSpPr/>
          <p:nvPr/>
        </p:nvSpPr>
        <p:spPr>
          <a:xfrm>
            <a:off x="5310360" y="485316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7"/>
          <p:cNvSpPr/>
          <p:nvPr/>
        </p:nvSpPr>
        <p:spPr>
          <a:xfrm>
            <a:off x="5318280" y="5356080"/>
            <a:ext cx="134640" cy="400320"/>
          </a:xfrm>
          <a:custGeom>
            <a:avLst/>
            <a:gdLst>
              <a:gd name="textAreaLeft" fmla="*/ 0 w 134640"/>
              <a:gd name="textAreaRight" fmla="*/ 48600 w 134640"/>
              <a:gd name="textAreaTop" fmla="*/ 10440 h 400320"/>
              <a:gd name="textAreaBottom" fmla="*/ 3898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98"/>
          <p:cNvSpPr/>
          <p:nvPr/>
        </p:nvSpPr>
        <p:spPr>
          <a:xfrm>
            <a:off x="5321160" y="376236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99"/>
          <p:cNvSpPr/>
          <p:nvPr/>
        </p:nvSpPr>
        <p:spPr>
          <a:xfrm>
            <a:off x="5327640" y="426564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00"/>
          <p:cNvSpPr/>
          <p:nvPr/>
        </p:nvSpPr>
        <p:spPr>
          <a:xfrm>
            <a:off x="5322960" y="1612800"/>
            <a:ext cx="135000" cy="40032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400320"/>
              <a:gd name="textAreaBottom" fmla="*/ 3898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01"/>
          <p:cNvSpPr/>
          <p:nvPr/>
        </p:nvSpPr>
        <p:spPr>
          <a:xfrm>
            <a:off x="5700240" y="1619280"/>
            <a:ext cx="426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y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2"/>
          <p:cNvSpPr/>
          <p:nvPr/>
        </p:nvSpPr>
        <p:spPr>
          <a:xfrm>
            <a:off x="5615640" y="2013120"/>
            <a:ext cx="583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3"/>
          <p:cNvSpPr/>
          <p:nvPr/>
        </p:nvSpPr>
        <p:spPr>
          <a:xfrm>
            <a:off x="5615640" y="2263680"/>
            <a:ext cx="583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4"/>
          <p:cNvSpPr/>
          <p:nvPr/>
        </p:nvSpPr>
        <p:spPr>
          <a:xfrm>
            <a:off x="5688360" y="2652840"/>
            <a:ext cx="4399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05"/>
          <p:cNvSpPr/>
          <p:nvPr/>
        </p:nvSpPr>
        <p:spPr>
          <a:xfrm>
            <a:off x="5674320" y="3156120"/>
            <a:ext cx="467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06"/>
          <p:cNvSpPr/>
          <p:nvPr/>
        </p:nvSpPr>
        <p:spPr>
          <a:xfrm>
            <a:off x="5662800" y="3773520"/>
            <a:ext cx="502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07"/>
          <p:cNvSpPr/>
          <p:nvPr/>
        </p:nvSpPr>
        <p:spPr>
          <a:xfrm>
            <a:off x="5704560" y="4276800"/>
            <a:ext cx="418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108"/>
          <p:cNvSpPr/>
          <p:nvPr/>
        </p:nvSpPr>
        <p:spPr>
          <a:xfrm>
            <a:off x="5656320" y="4870440"/>
            <a:ext cx="502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09"/>
          <p:cNvSpPr/>
          <p:nvPr/>
        </p:nvSpPr>
        <p:spPr>
          <a:xfrm>
            <a:off x="5674320" y="5373720"/>
            <a:ext cx="4672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10"/>
          <p:cNvSpPr/>
          <p:nvPr/>
        </p:nvSpPr>
        <p:spPr>
          <a:xfrm>
            <a:off x="6470640" y="150984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11"/>
          <p:cNvSpPr/>
          <p:nvPr/>
        </p:nvSpPr>
        <p:spPr>
          <a:xfrm>
            <a:off x="6479640" y="176040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2"/>
          <p:cNvSpPr/>
          <p:nvPr/>
        </p:nvSpPr>
        <p:spPr>
          <a:xfrm>
            <a:off x="6485400" y="201312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3"/>
          <p:cNvSpPr/>
          <p:nvPr/>
        </p:nvSpPr>
        <p:spPr>
          <a:xfrm>
            <a:off x="6470640" y="226368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U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14"/>
          <p:cNvSpPr/>
          <p:nvPr/>
        </p:nvSpPr>
        <p:spPr>
          <a:xfrm>
            <a:off x="6486120" y="25732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5"/>
          <p:cNvSpPr/>
          <p:nvPr/>
        </p:nvSpPr>
        <p:spPr>
          <a:xfrm>
            <a:off x="6490440" y="2824200"/>
            <a:ext cx="5698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16"/>
          <p:cNvSpPr/>
          <p:nvPr/>
        </p:nvSpPr>
        <p:spPr>
          <a:xfrm>
            <a:off x="6489720" y="30765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7"/>
          <p:cNvSpPr/>
          <p:nvPr/>
        </p:nvSpPr>
        <p:spPr>
          <a:xfrm>
            <a:off x="6486120" y="332748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C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8"/>
          <p:cNvSpPr/>
          <p:nvPr/>
        </p:nvSpPr>
        <p:spPr>
          <a:xfrm>
            <a:off x="6485400" y="36590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19"/>
          <p:cNvSpPr/>
          <p:nvPr/>
        </p:nvSpPr>
        <p:spPr>
          <a:xfrm>
            <a:off x="6495840" y="3909960"/>
            <a:ext cx="571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20"/>
          <p:cNvSpPr/>
          <p:nvPr/>
        </p:nvSpPr>
        <p:spPr>
          <a:xfrm>
            <a:off x="6489000" y="4173480"/>
            <a:ext cx="5727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1"/>
          <p:cNvSpPr/>
          <p:nvPr/>
        </p:nvSpPr>
        <p:spPr>
          <a:xfrm>
            <a:off x="6485400" y="440208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A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2"/>
          <p:cNvSpPr/>
          <p:nvPr/>
        </p:nvSpPr>
        <p:spPr>
          <a:xfrm>
            <a:off x="6470640" y="474516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3"/>
          <p:cNvSpPr/>
          <p:nvPr/>
        </p:nvSpPr>
        <p:spPr>
          <a:xfrm>
            <a:off x="6486120" y="4997520"/>
            <a:ext cx="589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4"/>
          <p:cNvSpPr/>
          <p:nvPr/>
        </p:nvSpPr>
        <p:spPr>
          <a:xfrm>
            <a:off x="6485400" y="5248440"/>
            <a:ext cx="5911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5"/>
          <p:cNvSpPr/>
          <p:nvPr/>
        </p:nvSpPr>
        <p:spPr>
          <a:xfrm>
            <a:off x="6475320" y="5500800"/>
            <a:ext cx="609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ce082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336699"/>
                </a:solidFill>
                <a:latin typeface="Arial Black"/>
              </a:rPr>
              <a:t>G</a:t>
            </a:r>
            <a:r>
              <a:rPr b="0" lang="en-US" sz="1600" spc="-1" strike="noStrike">
                <a:solidFill>
                  <a:srgbClr val="2a882a"/>
                </a:solidFill>
                <a:latin typeface="Arial Black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126"/>
          <p:cNvSpPr/>
          <p:nvPr/>
        </p:nvSpPr>
        <p:spPr>
          <a:xfrm>
            <a:off x="7110360" y="2687760"/>
            <a:ext cx="250920" cy="903240"/>
          </a:xfrm>
          <a:custGeom>
            <a:avLst/>
            <a:gdLst>
              <a:gd name="textAreaLeft" fmla="*/ 0 w 250920"/>
              <a:gd name="textAreaRight" fmla="*/ 90720 w 250920"/>
              <a:gd name="textAreaTop" fmla="*/ 23400 h 903240"/>
              <a:gd name="textAreaBottom" fmla="*/ 879840 h 90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27"/>
          <p:cNvSpPr/>
          <p:nvPr/>
        </p:nvSpPr>
        <p:spPr>
          <a:xfrm>
            <a:off x="7121520" y="4863960"/>
            <a:ext cx="249120" cy="903600"/>
          </a:xfrm>
          <a:custGeom>
            <a:avLst/>
            <a:gdLst>
              <a:gd name="textAreaLeft" fmla="*/ 0 w 249120"/>
              <a:gd name="textAreaRight" fmla="*/ 90000 w 249120"/>
              <a:gd name="textAreaTop" fmla="*/ 23400 h 903600"/>
              <a:gd name="textAreaBottom" fmla="*/ 880200 h 90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128"/>
          <p:cNvSpPr/>
          <p:nvPr/>
        </p:nvSpPr>
        <p:spPr>
          <a:xfrm>
            <a:off x="7149960" y="376236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129"/>
          <p:cNvSpPr/>
          <p:nvPr/>
        </p:nvSpPr>
        <p:spPr>
          <a:xfrm>
            <a:off x="7156440" y="4265640"/>
            <a:ext cx="136440" cy="399960"/>
          </a:xfrm>
          <a:custGeom>
            <a:avLst/>
            <a:gdLst>
              <a:gd name="textAreaLeft" fmla="*/ 0 w 136440"/>
              <a:gd name="textAreaRight" fmla="*/ 49320 w 13644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30"/>
          <p:cNvSpPr/>
          <p:nvPr/>
        </p:nvSpPr>
        <p:spPr>
          <a:xfrm>
            <a:off x="7149960" y="1623960"/>
            <a:ext cx="135000" cy="399960"/>
          </a:xfrm>
          <a:custGeom>
            <a:avLst/>
            <a:gdLst>
              <a:gd name="textAreaLeft" fmla="*/ 0 w 135000"/>
              <a:gd name="textAreaRight" fmla="*/ 48600 w 135000"/>
              <a:gd name="textAreaTop" fmla="*/ 10440 h 399960"/>
              <a:gd name="textAreaBottom" fmla="*/ 389520 h 39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31"/>
          <p:cNvSpPr/>
          <p:nvPr/>
        </p:nvSpPr>
        <p:spPr>
          <a:xfrm>
            <a:off x="7565400" y="1635120"/>
            <a:ext cx="4644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32"/>
          <p:cNvSpPr/>
          <p:nvPr/>
        </p:nvSpPr>
        <p:spPr>
          <a:xfrm>
            <a:off x="7499880" y="2013120"/>
            <a:ext cx="5832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3"/>
          <p:cNvSpPr/>
          <p:nvPr/>
        </p:nvSpPr>
        <p:spPr>
          <a:xfrm>
            <a:off x="7574760" y="2263680"/>
            <a:ext cx="4474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34"/>
          <p:cNvSpPr/>
          <p:nvPr/>
        </p:nvSpPr>
        <p:spPr>
          <a:xfrm>
            <a:off x="7553520" y="2949480"/>
            <a:ext cx="488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5"/>
          <p:cNvSpPr/>
          <p:nvPr/>
        </p:nvSpPr>
        <p:spPr>
          <a:xfrm>
            <a:off x="7560720" y="3762360"/>
            <a:ext cx="4611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6"/>
          <p:cNvSpPr/>
          <p:nvPr/>
        </p:nvSpPr>
        <p:spPr>
          <a:xfrm>
            <a:off x="7553520" y="4276800"/>
            <a:ext cx="4885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7"/>
          <p:cNvSpPr/>
          <p:nvPr/>
        </p:nvSpPr>
        <p:spPr>
          <a:xfrm>
            <a:off x="7570080" y="5133960"/>
            <a:ext cx="446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8"/>
          <p:cNvSpPr/>
          <p:nvPr/>
        </p:nvSpPr>
        <p:spPr>
          <a:xfrm rot="16200000">
            <a:off x="-320040" y="3468600"/>
            <a:ext cx="108756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irst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39"/>
          <p:cNvSpPr/>
          <p:nvPr/>
        </p:nvSpPr>
        <p:spPr>
          <a:xfrm rot="5400000">
            <a:off x="8320680" y="3494520"/>
            <a:ext cx="117432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rd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40"/>
          <p:cNvSpPr/>
          <p:nvPr/>
        </p:nvSpPr>
        <p:spPr>
          <a:xfrm>
            <a:off x="3840840" y="704880"/>
            <a:ext cx="1371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cond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1523880" y="1209600"/>
            <a:ext cx="5486400" cy="529128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دريب على ترجمة الشفرة الوراث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7162920" y="61722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.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2746440" y="4952880"/>
            <a:ext cx="637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754640" y="4343400"/>
            <a:ext cx="50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5029560" y="1143000"/>
            <a:ext cx="15645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cribed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8"/>
          <p:cNvSpPr/>
          <p:nvPr/>
        </p:nvSpPr>
        <p:spPr>
          <a:xfrm>
            <a:off x="6066000" y="4952880"/>
            <a:ext cx="637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op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9"/>
          <p:cNvSpPr/>
          <p:nvPr/>
        </p:nvSpPr>
        <p:spPr>
          <a:xfrm rot="16200000">
            <a:off x="2971800" y="4343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360"/>
              <a:gd name="textAreaBottom" fmla="*/ 97776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785120" y="5181480"/>
            <a:ext cx="1003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1"/>
          <p:cNvSpPr/>
          <p:nvPr/>
        </p:nvSpPr>
        <p:spPr>
          <a:xfrm>
            <a:off x="4801320" y="3124080"/>
            <a:ext cx="11559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1754640" y="2057400"/>
            <a:ext cx="509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3"/>
          <p:cNvSpPr/>
          <p:nvPr/>
        </p:nvSpPr>
        <p:spPr>
          <a:xfrm rot="16200000">
            <a:off x="4038480" y="434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720"/>
              <a:gd name="textAreaBottom" fmla="*/ 9781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4"/>
          <p:cNvSpPr/>
          <p:nvPr/>
        </p:nvSpPr>
        <p:spPr>
          <a:xfrm rot="16200000">
            <a:off x="5181480" y="434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720"/>
              <a:gd name="textAreaBottom" fmla="*/ 9781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5"/>
          <p:cNvSpPr/>
          <p:nvPr/>
        </p:nvSpPr>
        <p:spPr>
          <a:xfrm rot="16200000">
            <a:off x="6248160" y="43426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00 h 990720"/>
              <a:gd name="textAreaBottom" fmla="*/ 97812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45"/>
                  <a:pt x="10800" y="889"/>
                </a:cubicBezTo>
                <a:lnTo>
                  <a:pt x="10800" y="9911"/>
                </a:lnTo>
                <a:cubicBezTo>
                  <a:pt x="10800" y="10356"/>
                  <a:pt x="5400" y="10800"/>
                  <a:pt x="0" y="10800"/>
                </a:cubicBezTo>
                <a:cubicBezTo>
                  <a:pt x="5400" y="10800"/>
                  <a:pt x="10800" y="11245"/>
                  <a:pt x="10800" y="11689"/>
                </a:cubicBezTo>
                <a:lnTo>
                  <a:pt x="10800" y="20711"/>
                </a:lnTo>
                <a:cubicBezTo>
                  <a:pt x="10800" y="21156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1218240" y="6095880"/>
            <a:ext cx="1046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7"/>
          <p:cNvSpPr/>
          <p:nvPr/>
        </p:nvSpPr>
        <p:spPr>
          <a:xfrm flipH="1">
            <a:off x="4648320" y="1295280"/>
            <a:ext cx="380880" cy="381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  <a:cs typeface="PT Bold Heading"/>
              </a:rPr>
              <a:t>القواعد النيتروجين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771640" y="2349360"/>
            <a:ext cx="583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أدنين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A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جوانين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ثايمين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سيتوزين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2556000" y="2637000"/>
            <a:ext cx="215640" cy="2447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63720 h 2447640"/>
              <a:gd name="textAreaBottom" fmla="*/ 2383920 h 24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1465920" y="378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68360" y="570240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أما ف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R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تم استبدال الثايم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باليوراسي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268360" y="1819440"/>
            <a:ext cx="61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PT Bold Heading"/>
              </a:rPr>
              <a:t>في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 يوجد أربعة قواعد نيتروجي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5"/>
          <p:cNvGraphicFramePr/>
          <p:nvPr/>
        </p:nvGraphicFramePr>
        <p:xfrm>
          <a:off x="3276720" y="189000"/>
          <a:ext cx="2663640" cy="234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89000"/>
                    <a:ext cx="266364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5292720" y="2841480"/>
          <a:ext cx="2847960" cy="2468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92720" y="2841480"/>
                    <a:ext cx="2847960" cy="24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1265400" y="2703600"/>
          <a:ext cx="2485800" cy="2746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65400" y="2703600"/>
                    <a:ext cx="2485800" cy="27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8"/>
          <p:cNvSpPr/>
          <p:nvPr/>
        </p:nvSpPr>
        <p:spPr>
          <a:xfrm>
            <a:off x="3851280" y="2708280"/>
            <a:ext cx="1317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يور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516720" y="5661000"/>
            <a:ext cx="1316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جو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19280" y="5661000"/>
            <a:ext cx="1317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أد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13"/>
          <p:cNvGraphicFramePr/>
          <p:nvPr/>
        </p:nvGraphicFramePr>
        <p:xfrm>
          <a:off x="395280" y="2781360"/>
          <a:ext cx="1965240" cy="252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781360"/>
                    <a:ext cx="1965240" cy="25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4"/>
          <p:cNvGraphicFramePr/>
          <p:nvPr/>
        </p:nvGraphicFramePr>
        <p:xfrm>
          <a:off x="3333600" y="115920"/>
          <a:ext cx="1893960" cy="273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33600" y="115920"/>
                    <a:ext cx="18939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5"/>
          <p:cNvSpPr/>
          <p:nvPr/>
        </p:nvSpPr>
        <p:spPr>
          <a:xfrm>
            <a:off x="1692360" y="1125360"/>
            <a:ext cx="1231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بريميد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611280" y="5699160"/>
            <a:ext cx="12319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سايتوز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7"/>
          <p:cNvGraphicFramePr/>
          <p:nvPr/>
        </p:nvGraphicFramePr>
        <p:xfrm>
          <a:off x="3540240" y="2844720"/>
          <a:ext cx="2400120" cy="2397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40240" y="2844720"/>
                    <a:ext cx="2400120" cy="23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8"/>
          <p:cNvGraphicFramePr/>
          <p:nvPr/>
        </p:nvGraphicFramePr>
        <p:xfrm>
          <a:off x="7072200" y="2868480"/>
          <a:ext cx="1830600" cy="234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3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72200" y="2868480"/>
                    <a:ext cx="183060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19"/>
          <p:cNvSpPr/>
          <p:nvPr/>
        </p:nvSpPr>
        <p:spPr>
          <a:xfrm>
            <a:off x="3954600" y="5699160"/>
            <a:ext cx="12319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ثاي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259760" y="5699160"/>
            <a:ext cx="12301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يوراسي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كر الخماس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55640" y="364500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ديوكسي ريبوزي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DN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)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0920" y="2060640"/>
            <a:ext cx="85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ريبوزي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(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RN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PT Bold Heading"/>
              </a:rPr>
              <a:t>)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826920" y="2060640"/>
            <a:ext cx="3556080" cy="170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5292720" y="2060640"/>
            <a:ext cx="3390840" cy="1646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625320" y="4302000"/>
            <a:ext cx="81946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ايبوز منقوص الأكسج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Akhbar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-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Akhbar MT"/>
              </a:rPr>
              <a:t>رايبو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D Deoxyribose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D Rib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نيوكليوسيد والنيوكليوت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يوكليوسيد (قاعدة نيتروجينية + سكر خما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يوكليوتيد (قاعدة نيتروجينية + سكر خماسي + فوسف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نيوكليوتيد (نيوكليوسيد + فوسف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كون ارتباط القاعدة النيتروجينية بالسكر بواسطة رابطة جلايكوزيدية نيتروجينية بين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ذرة الكربون رقم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السك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ذرة النيتروج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 rot="5400000">
            <a:off x="4389840" y="4256640"/>
            <a:ext cx="360360" cy="2016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7"/>
                </a:lnTo>
                <a:cubicBezTo>
                  <a:pt x="10800" y="10087"/>
                  <a:pt x="5400" y="10987"/>
                  <a:pt x="0" y="10987"/>
                </a:cubicBezTo>
                <a:cubicBezTo>
                  <a:pt x="5400" y="10987"/>
                  <a:pt x="10800" y="11887"/>
                  <a:pt x="10800" y="127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196160" y="555768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ق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ي البريميدي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50160" y="5564160"/>
            <a:ext cx="27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رق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في البيوري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0:37:29Z</dcterms:created>
  <dc:creator>farid</dc:creator>
  <dc:description/>
  <dc:language>en-US</dc:language>
  <cp:lastModifiedBy>ksu</cp:lastModifiedBy>
  <dcterms:modified xsi:type="dcterms:W3CDTF">2014-01-12T05:46:30Z</dcterms:modified>
  <cp:revision>67</cp:revision>
  <dc:subject/>
  <dc:title>كيمياء حيوية  الأحماض النووية</dc:title>
</cp:coreProperties>
</file>