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29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32.jpeg" ContentType="image/jpeg"/>
  <Override PartName="/ppt/media/image18.wmf" ContentType="image/x-wmf"/>
  <Override PartName="/ppt/media/image26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4BF-91BE-4D32-BA05-5A98F952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334-74A2-4EAC-838A-304B1E10D0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: 14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code diction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what a given mRNA codon is, how can we find out what amino acid it codes for? This dictionary of the genetic code offers a way. In Figure 14.5, you saw that the codon CGU coded for the amino acid arginine (arg). Looking that up here, C is the first base (go to the C row along the “first base” line), G is the second base (go to the G column under the “second base” line) and U is the third (go to the codon parallel with the U in the “third base” lin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E6D-280E-49FE-935A-08FE5D7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EB6-5A3D-48BB-92B2-E97284F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883-6C27-40B8-BD5C-635117A3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2D1-A8B1-44C6-97F5-2655CBEA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545-1334-4844-A1AC-F2C2A7E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6D5-9711-41A6-AC5B-0893210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CAB-FFC2-43B0-BB70-2DBD5BD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4F5-B724-4897-AEBB-27F0D31F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102-FC1A-46ED-A81D-F488336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20-8A76-4A41-9D61-F4DB28C3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6D5-3190-46E2-9426-63B0481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7E8-A1D9-4E02-866E-F42928F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F4DC-B71B-4133-A588-208A12DAB6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9-10</a:t>
            </a: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أحماض النوو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سمية النيوكليوتيدات الأح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ولى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سمى حمض مشتق من القاعدة النيتروجينية الداخلة في تركي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: حمض أدينيلك أو ديوكسي أدينيلك من الأد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جوانيليك أو ديوكسي جوانيليك من الج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سايتيديليك أو ديوكسي سايتيديليك من السايتوز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يوريديليك من اليورا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ديوكسي ثايميديليك من الثاي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ثانية: اسم النيوكليوسيد مضاف إلية ال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: أدي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أو ديوكسي أدي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وا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أو ديوكسي جوا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رتباط النيوكلوتيد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4920" y="17733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رتبط النيوكليوتيدات في نفس السلسلة بواسطة الرابطة المسم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بالرابطة الفوسفاتية ثنائية الإس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62160" y="3357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- G - T -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72760" y="4294080"/>
            <a:ext cx="7669800" cy="2041920"/>
            <a:chOff x="572760" y="4294080"/>
            <a:chExt cx="7669800" cy="2041920"/>
          </a:xfrm>
        </p:grpSpPr>
        <p:grpSp>
          <p:nvGrpSpPr>
            <p:cNvPr id="113" name="Group 8"/>
            <p:cNvGrpSpPr/>
            <p:nvPr/>
          </p:nvGrpSpPr>
          <p:grpSpPr>
            <a:xfrm>
              <a:off x="1116000" y="4510080"/>
              <a:ext cx="6480360" cy="286920"/>
              <a:chOff x="1116000" y="4510080"/>
              <a:chExt cx="6480360" cy="286920"/>
            </a:xfrm>
          </p:grpSpPr>
          <p:sp>
            <p:nvSpPr>
              <p:cNvPr id="114" name="Line 9"/>
              <p:cNvSpPr/>
              <p:nvPr/>
            </p:nvSpPr>
            <p:spPr>
              <a:xfrm>
                <a:off x="1116000" y="4510080"/>
                <a:ext cx="648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0"/>
              <p:cNvGrpSpPr/>
              <p:nvPr/>
            </p:nvGrpSpPr>
            <p:grpSpPr>
              <a:xfrm>
                <a:off x="1547640" y="4510080"/>
                <a:ext cx="5760360" cy="286920"/>
                <a:chOff x="1547640" y="4510080"/>
                <a:chExt cx="5760360" cy="286920"/>
              </a:xfrm>
            </p:grpSpPr>
            <p:sp>
              <p:nvSpPr>
                <p:cNvPr id="116" name="Line 11"/>
                <p:cNvSpPr/>
                <p:nvPr/>
              </p:nvSpPr>
              <p:spPr>
                <a:xfrm>
                  <a:off x="154764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"/>
                <p:cNvSpPr/>
                <p:nvPr/>
              </p:nvSpPr>
              <p:spPr>
                <a:xfrm>
                  <a:off x="202788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>
                  <a:off x="250812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>
                  <a:off x="29883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>
                  <a:off x="346752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6"/>
                <p:cNvSpPr/>
                <p:nvPr/>
              </p:nvSpPr>
              <p:spPr>
                <a:xfrm>
                  <a:off x="394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7"/>
                <p:cNvSpPr/>
                <p:nvPr/>
              </p:nvSpPr>
              <p:spPr>
                <a:xfrm>
                  <a:off x="44283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8"/>
                <p:cNvSpPr/>
                <p:nvPr/>
              </p:nvSpPr>
              <p:spPr>
                <a:xfrm>
                  <a:off x="49086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9"/>
                <p:cNvSpPr/>
                <p:nvPr/>
              </p:nvSpPr>
              <p:spPr>
                <a:xfrm>
                  <a:off x="538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0"/>
                <p:cNvSpPr/>
                <p:nvPr/>
              </p:nvSpPr>
              <p:spPr>
                <a:xfrm>
                  <a:off x="58680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1"/>
                <p:cNvSpPr/>
                <p:nvPr/>
              </p:nvSpPr>
              <p:spPr>
                <a:xfrm>
                  <a:off x="634824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2"/>
                <p:cNvSpPr/>
                <p:nvPr/>
              </p:nvSpPr>
              <p:spPr>
                <a:xfrm>
                  <a:off x="682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3"/>
                <p:cNvSpPr/>
                <p:nvPr/>
              </p:nvSpPr>
              <p:spPr>
                <a:xfrm>
                  <a:off x="73080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Text Box 24"/>
            <p:cNvSpPr/>
            <p:nvPr/>
          </p:nvSpPr>
          <p:spPr>
            <a:xfrm>
              <a:off x="591480" y="429408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7668720" y="429732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6"/>
            <p:cNvSpPr/>
            <p:nvPr/>
          </p:nvSpPr>
          <p:spPr>
            <a:xfrm>
              <a:off x="133416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177588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228060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276372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0"/>
            <p:cNvSpPr/>
            <p:nvPr/>
          </p:nvSpPr>
          <p:spPr>
            <a:xfrm>
              <a:off x="327888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372060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20372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3"/>
            <p:cNvSpPr/>
            <p:nvPr/>
          </p:nvSpPr>
          <p:spPr>
            <a:xfrm>
              <a:off x="471852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4"/>
            <p:cNvSpPr/>
            <p:nvPr/>
          </p:nvSpPr>
          <p:spPr>
            <a:xfrm>
              <a:off x="517752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5"/>
            <p:cNvSpPr/>
            <p:nvPr/>
          </p:nvSpPr>
          <p:spPr>
            <a:xfrm>
              <a:off x="571644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6"/>
            <p:cNvSpPr/>
            <p:nvPr/>
          </p:nvSpPr>
          <p:spPr>
            <a:xfrm>
              <a:off x="614844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7"/>
            <p:cNvSpPr/>
            <p:nvPr/>
          </p:nvSpPr>
          <p:spPr>
            <a:xfrm>
              <a:off x="661716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8"/>
            <p:cNvSpPr/>
            <p:nvPr/>
          </p:nvSpPr>
          <p:spPr>
            <a:xfrm>
              <a:off x="710532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9"/>
            <p:cNvGrpSpPr/>
            <p:nvPr/>
          </p:nvGrpSpPr>
          <p:grpSpPr>
            <a:xfrm>
              <a:off x="1260000" y="5686560"/>
              <a:ext cx="6480360" cy="286920"/>
              <a:chOff x="1260000" y="5686560"/>
              <a:chExt cx="6480360" cy="286920"/>
            </a:xfrm>
          </p:grpSpPr>
          <p:sp>
            <p:nvSpPr>
              <p:cNvPr id="145" name="Line 40"/>
              <p:cNvSpPr/>
              <p:nvPr/>
            </p:nvSpPr>
            <p:spPr>
              <a:xfrm flipH="1">
                <a:off x="1260000" y="5973480"/>
                <a:ext cx="648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41"/>
              <p:cNvGrpSpPr/>
              <p:nvPr/>
            </p:nvGrpSpPr>
            <p:grpSpPr>
              <a:xfrm>
                <a:off x="1548360" y="5686560"/>
                <a:ext cx="5760360" cy="286920"/>
                <a:chOff x="1548360" y="5686560"/>
                <a:chExt cx="5760360" cy="286920"/>
              </a:xfrm>
            </p:grpSpPr>
            <p:sp>
              <p:nvSpPr>
                <p:cNvPr id="147" name="Line 42"/>
                <p:cNvSpPr/>
                <p:nvPr/>
              </p:nvSpPr>
              <p:spPr>
                <a:xfrm flipV="1">
                  <a:off x="730872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3"/>
                <p:cNvSpPr/>
                <p:nvPr/>
              </p:nvSpPr>
              <p:spPr>
                <a:xfrm flipV="1">
                  <a:off x="682848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4"/>
                <p:cNvSpPr/>
                <p:nvPr/>
              </p:nvSpPr>
              <p:spPr>
                <a:xfrm flipV="1">
                  <a:off x="634824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5"/>
                <p:cNvSpPr/>
                <p:nvPr/>
              </p:nvSpPr>
              <p:spPr>
                <a:xfrm flipV="1">
                  <a:off x="58680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6"/>
                <p:cNvSpPr/>
                <p:nvPr/>
              </p:nvSpPr>
              <p:spPr>
                <a:xfrm flipV="1">
                  <a:off x="538884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7"/>
                <p:cNvSpPr/>
                <p:nvPr/>
              </p:nvSpPr>
              <p:spPr>
                <a:xfrm flipV="1">
                  <a:off x="490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8"/>
                <p:cNvSpPr/>
                <p:nvPr/>
              </p:nvSpPr>
              <p:spPr>
                <a:xfrm flipV="1">
                  <a:off x="44280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9"/>
                <p:cNvSpPr/>
                <p:nvPr/>
              </p:nvSpPr>
              <p:spPr>
                <a:xfrm flipV="1">
                  <a:off x="39477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0"/>
                <p:cNvSpPr/>
                <p:nvPr/>
              </p:nvSpPr>
              <p:spPr>
                <a:xfrm flipV="1">
                  <a:off x="346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1"/>
                <p:cNvSpPr/>
                <p:nvPr/>
              </p:nvSpPr>
              <p:spPr>
                <a:xfrm flipV="1">
                  <a:off x="29883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 flipV="1">
                  <a:off x="250812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 flipV="1">
                  <a:off x="202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 flipV="1">
                  <a:off x="15483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Text Box 55"/>
            <p:cNvSpPr/>
            <p:nvPr/>
          </p:nvSpPr>
          <p:spPr>
            <a:xfrm>
              <a:off x="7700400" y="568152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6"/>
            <p:cNvSpPr/>
            <p:nvPr/>
          </p:nvSpPr>
          <p:spPr>
            <a:xfrm>
              <a:off x="572760" y="575460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7"/>
            <p:cNvSpPr/>
            <p:nvPr/>
          </p:nvSpPr>
          <p:spPr>
            <a:xfrm>
              <a:off x="136836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8"/>
            <p:cNvSpPr/>
            <p:nvPr/>
          </p:nvSpPr>
          <p:spPr>
            <a:xfrm>
              <a:off x="179280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9"/>
            <p:cNvSpPr/>
            <p:nvPr/>
          </p:nvSpPr>
          <p:spPr>
            <a:xfrm>
              <a:off x="2297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0"/>
            <p:cNvSpPr/>
            <p:nvPr/>
          </p:nvSpPr>
          <p:spPr>
            <a:xfrm>
              <a:off x="2729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1"/>
            <p:cNvSpPr/>
            <p:nvPr/>
          </p:nvSpPr>
          <p:spPr>
            <a:xfrm>
              <a:off x="3261960" y="52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2"/>
            <p:cNvSpPr/>
            <p:nvPr/>
          </p:nvSpPr>
          <p:spPr>
            <a:xfrm>
              <a:off x="3737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3"/>
            <p:cNvSpPr/>
            <p:nvPr/>
          </p:nvSpPr>
          <p:spPr>
            <a:xfrm>
              <a:off x="4169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4"/>
            <p:cNvSpPr/>
            <p:nvPr/>
          </p:nvSpPr>
          <p:spPr>
            <a:xfrm>
              <a:off x="4701600" y="52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5"/>
            <p:cNvSpPr/>
            <p:nvPr/>
          </p:nvSpPr>
          <p:spPr>
            <a:xfrm>
              <a:off x="521172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6"/>
            <p:cNvSpPr/>
            <p:nvPr/>
          </p:nvSpPr>
          <p:spPr>
            <a:xfrm>
              <a:off x="568224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7"/>
            <p:cNvSpPr/>
            <p:nvPr/>
          </p:nvSpPr>
          <p:spPr>
            <a:xfrm>
              <a:off x="611388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8"/>
            <p:cNvSpPr/>
            <p:nvPr/>
          </p:nvSpPr>
          <p:spPr>
            <a:xfrm>
              <a:off x="665172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9"/>
            <p:cNvSpPr/>
            <p:nvPr/>
          </p:nvSpPr>
          <p:spPr>
            <a:xfrm>
              <a:off x="712224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5" name="Straight Arrow Connector 68"/>
          <p:cNvCxnSpPr/>
          <p:nvPr/>
        </p:nvCxnSpPr>
        <p:spPr>
          <a:xfrm>
            <a:off x="3563640" y="2781000"/>
            <a:ext cx="14472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Straight Arrow Connector 70"/>
          <p:cNvCxnSpPr/>
          <p:nvPr/>
        </p:nvCxnSpPr>
        <p:spPr>
          <a:xfrm>
            <a:off x="2626920" y="2852280"/>
            <a:ext cx="7380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619280" y="5591160"/>
            <a:ext cx="5445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صيغة البنائية لبعض النيوكليوتيد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7"/>
          <p:cNvGraphicFramePr/>
          <p:nvPr/>
        </p:nvGraphicFramePr>
        <p:xfrm>
          <a:off x="4859280" y="333360"/>
          <a:ext cx="333072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3360"/>
                    <a:ext cx="33307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8"/>
          <p:cNvGraphicFramePr/>
          <p:nvPr/>
        </p:nvGraphicFramePr>
        <p:xfrm>
          <a:off x="324000" y="334800"/>
          <a:ext cx="3232080" cy="417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34800"/>
                    <a:ext cx="323208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7"/>
          <p:cNvSpPr/>
          <p:nvPr/>
        </p:nvSpPr>
        <p:spPr>
          <a:xfrm>
            <a:off x="1042920" y="4702320"/>
            <a:ext cx="2889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دينوز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640480" y="4702320"/>
            <a:ext cx="2892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وانوز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8"/>
          <p:cNvGraphicFramePr/>
          <p:nvPr/>
        </p:nvGraphicFramePr>
        <p:xfrm>
          <a:off x="4716360" y="404640"/>
          <a:ext cx="281808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404640"/>
                    <a:ext cx="28180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9"/>
          <p:cNvSpPr/>
          <p:nvPr/>
        </p:nvSpPr>
        <p:spPr>
          <a:xfrm>
            <a:off x="5105520" y="4218120"/>
            <a:ext cx="2995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ايتيد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11"/>
          <p:cNvGraphicFramePr/>
          <p:nvPr/>
        </p:nvGraphicFramePr>
        <p:xfrm>
          <a:off x="826920" y="477720"/>
          <a:ext cx="275616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77720"/>
                    <a:ext cx="2756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12"/>
          <p:cNvSpPr/>
          <p:nvPr/>
        </p:nvSpPr>
        <p:spPr>
          <a:xfrm>
            <a:off x="539640" y="4221000"/>
            <a:ext cx="3811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دي أوكسي ثايميد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619280" y="5662440"/>
            <a:ext cx="5445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صيغة البنائية لبعض النيوكليوتيد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4859280" y="254160"/>
          <a:ext cx="2608200" cy="33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4160"/>
                    <a:ext cx="2608200" cy="33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10"/>
          <p:cNvSpPr/>
          <p:nvPr/>
        </p:nvSpPr>
        <p:spPr>
          <a:xfrm>
            <a:off x="4450680" y="20541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1"/>
          <p:cNvSpPr/>
          <p:nvPr/>
        </p:nvSpPr>
        <p:spPr>
          <a:xfrm flipH="1">
            <a:off x="4564080" y="2166840"/>
            <a:ext cx="3175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2"/>
          <p:cNvSpPr/>
          <p:nvPr/>
        </p:nvSpPr>
        <p:spPr>
          <a:xfrm>
            <a:off x="4067280" y="205416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3"/>
          <p:cNvSpPr/>
          <p:nvPr/>
        </p:nvSpPr>
        <p:spPr>
          <a:xfrm>
            <a:off x="4203720" y="205740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4"/>
          <p:cNvSpPr/>
          <p:nvPr/>
        </p:nvSpPr>
        <p:spPr>
          <a:xfrm>
            <a:off x="4203720" y="205884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5"/>
          <p:cNvSpPr/>
          <p:nvPr/>
        </p:nvSpPr>
        <p:spPr>
          <a:xfrm>
            <a:off x="4203720" y="206064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6"/>
          <p:cNvSpPr/>
          <p:nvPr/>
        </p:nvSpPr>
        <p:spPr>
          <a:xfrm>
            <a:off x="4203720" y="206388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7"/>
          <p:cNvSpPr/>
          <p:nvPr/>
        </p:nvSpPr>
        <p:spPr>
          <a:xfrm>
            <a:off x="4203720" y="206532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8"/>
          <p:cNvSpPr/>
          <p:nvPr/>
        </p:nvSpPr>
        <p:spPr>
          <a:xfrm>
            <a:off x="4203720" y="206676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9"/>
          <p:cNvSpPr/>
          <p:nvPr/>
        </p:nvSpPr>
        <p:spPr>
          <a:xfrm>
            <a:off x="4203720" y="206856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4209840" y="2166840"/>
            <a:ext cx="166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4433760" y="166356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>
            <a:off x="4570560" y="16668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4"/>
          <p:cNvSpPr/>
          <p:nvPr/>
        </p:nvSpPr>
        <p:spPr>
          <a:xfrm>
            <a:off x="4570560" y="167004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4570560" y="16714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6"/>
          <p:cNvSpPr/>
          <p:nvPr/>
        </p:nvSpPr>
        <p:spPr>
          <a:xfrm>
            <a:off x="4570560" y="167328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7"/>
          <p:cNvSpPr/>
          <p:nvPr/>
        </p:nvSpPr>
        <p:spPr>
          <a:xfrm>
            <a:off x="4570560" y="167472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8"/>
          <p:cNvSpPr/>
          <p:nvPr/>
        </p:nvSpPr>
        <p:spPr>
          <a:xfrm>
            <a:off x="4570560" y="167796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9"/>
          <p:cNvSpPr/>
          <p:nvPr/>
        </p:nvSpPr>
        <p:spPr>
          <a:xfrm>
            <a:off x="4570560" y="16794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0"/>
          <p:cNvSpPr/>
          <p:nvPr/>
        </p:nvSpPr>
        <p:spPr>
          <a:xfrm>
            <a:off x="4570560" y="168120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1"/>
          <p:cNvSpPr/>
          <p:nvPr/>
        </p:nvSpPr>
        <p:spPr>
          <a:xfrm flipV="1">
            <a:off x="4468680" y="1885680"/>
            <a:ext cx="180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2"/>
          <p:cNvSpPr/>
          <p:nvPr/>
        </p:nvSpPr>
        <p:spPr>
          <a:xfrm>
            <a:off x="4433760" y="24433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"/>
          <p:cNvSpPr/>
          <p:nvPr/>
        </p:nvSpPr>
        <p:spPr>
          <a:xfrm>
            <a:off x="4435560" y="227664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4"/>
          <p:cNvSpPr/>
          <p:nvPr/>
        </p:nvSpPr>
        <p:spPr>
          <a:xfrm>
            <a:off x="4505400" y="227664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5"/>
          <p:cNvSpPr/>
          <p:nvPr/>
        </p:nvSpPr>
        <p:spPr>
          <a:xfrm>
            <a:off x="3587040" y="20588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6"/>
          <p:cNvSpPr/>
          <p:nvPr/>
        </p:nvSpPr>
        <p:spPr>
          <a:xfrm flipH="1">
            <a:off x="3700440" y="2171880"/>
            <a:ext cx="317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7"/>
          <p:cNvSpPr/>
          <p:nvPr/>
        </p:nvSpPr>
        <p:spPr>
          <a:xfrm>
            <a:off x="3203640" y="205884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8"/>
          <p:cNvSpPr/>
          <p:nvPr/>
        </p:nvSpPr>
        <p:spPr>
          <a:xfrm>
            <a:off x="3132000" y="206208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39"/>
          <p:cNvSpPr/>
          <p:nvPr/>
        </p:nvSpPr>
        <p:spPr>
          <a:xfrm>
            <a:off x="3132000" y="206388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0"/>
          <p:cNvSpPr/>
          <p:nvPr/>
        </p:nvSpPr>
        <p:spPr>
          <a:xfrm>
            <a:off x="3132000" y="206532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1"/>
          <p:cNvSpPr/>
          <p:nvPr/>
        </p:nvSpPr>
        <p:spPr>
          <a:xfrm>
            <a:off x="3132000" y="206856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2"/>
          <p:cNvSpPr/>
          <p:nvPr/>
        </p:nvSpPr>
        <p:spPr>
          <a:xfrm>
            <a:off x="3132000" y="207000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6"/>
          <p:cNvSpPr/>
          <p:nvPr/>
        </p:nvSpPr>
        <p:spPr>
          <a:xfrm flipH="1">
            <a:off x="3346200" y="2171880"/>
            <a:ext cx="166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7"/>
          <p:cNvSpPr/>
          <p:nvPr/>
        </p:nvSpPr>
        <p:spPr>
          <a:xfrm>
            <a:off x="3570120" y="166860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8"/>
          <p:cNvSpPr/>
          <p:nvPr/>
        </p:nvSpPr>
        <p:spPr>
          <a:xfrm>
            <a:off x="3706920" y="16714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9"/>
          <p:cNvSpPr/>
          <p:nvPr/>
        </p:nvSpPr>
        <p:spPr>
          <a:xfrm>
            <a:off x="3706920" y="167472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0"/>
          <p:cNvSpPr/>
          <p:nvPr/>
        </p:nvSpPr>
        <p:spPr>
          <a:xfrm>
            <a:off x="3706920" y="167652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1"/>
          <p:cNvSpPr/>
          <p:nvPr/>
        </p:nvSpPr>
        <p:spPr>
          <a:xfrm>
            <a:off x="3706920" y="167796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2"/>
          <p:cNvSpPr/>
          <p:nvPr/>
        </p:nvSpPr>
        <p:spPr>
          <a:xfrm>
            <a:off x="3706920" y="16794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3"/>
          <p:cNvSpPr/>
          <p:nvPr/>
        </p:nvSpPr>
        <p:spPr>
          <a:xfrm>
            <a:off x="3706920" y="168264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4"/>
          <p:cNvSpPr/>
          <p:nvPr/>
        </p:nvSpPr>
        <p:spPr>
          <a:xfrm>
            <a:off x="3706920" y="168444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5"/>
          <p:cNvSpPr/>
          <p:nvPr/>
        </p:nvSpPr>
        <p:spPr>
          <a:xfrm>
            <a:off x="3706920" y="16858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6"/>
          <p:cNvSpPr/>
          <p:nvPr/>
        </p:nvSpPr>
        <p:spPr>
          <a:xfrm flipV="1">
            <a:off x="3605040" y="1890360"/>
            <a:ext cx="180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7"/>
          <p:cNvSpPr/>
          <p:nvPr/>
        </p:nvSpPr>
        <p:spPr>
          <a:xfrm>
            <a:off x="3570120" y="244800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8"/>
          <p:cNvSpPr/>
          <p:nvPr/>
        </p:nvSpPr>
        <p:spPr>
          <a:xfrm>
            <a:off x="3571920" y="228132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9"/>
          <p:cNvSpPr/>
          <p:nvPr/>
        </p:nvSpPr>
        <p:spPr>
          <a:xfrm>
            <a:off x="3641760" y="228132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0"/>
          <p:cNvSpPr/>
          <p:nvPr/>
        </p:nvSpPr>
        <p:spPr>
          <a:xfrm>
            <a:off x="3130560" y="1549440"/>
            <a:ext cx="9367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1"/>
          <p:cNvSpPr/>
          <p:nvPr/>
        </p:nvSpPr>
        <p:spPr>
          <a:xfrm>
            <a:off x="4067280" y="1549440"/>
            <a:ext cx="792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62"/>
          <p:cNvSpPr/>
          <p:nvPr/>
        </p:nvSpPr>
        <p:spPr>
          <a:xfrm>
            <a:off x="4859280" y="1549440"/>
            <a:ext cx="79236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3"/>
          <p:cNvSpPr/>
          <p:nvPr/>
        </p:nvSpPr>
        <p:spPr>
          <a:xfrm>
            <a:off x="5146560" y="378144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64"/>
          <p:cNvSpPr/>
          <p:nvPr/>
        </p:nvSpPr>
        <p:spPr>
          <a:xfrm>
            <a:off x="4138560" y="41562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5"/>
          <p:cNvSpPr/>
          <p:nvPr/>
        </p:nvSpPr>
        <p:spPr>
          <a:xfrm>
            <a:off x="2987640" y="450864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6"/>
          <p:cNvSpPr/>
          <p:nvPr/>
        </p:nvSpPr>
        <p:spPr>
          <a:xfrm>
            <a:off x="5992920" y="3513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7"/>
          <p:cNvSpPr/>
          <p:nvPr/>
        </p:nvSpPr>
        <p:spPr>
          <a:xfrm>
            <a:off x="5969160" y="3565440"/>
            <a:ext cx="68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8"/>
          <p:cNvSpPr/>
          <p:nvPr/>
        </p:nvSpPr>
        <p:spPr>
          <a:xfrm>
            <a:off x="5091840" y="3933720"/>
            <a:ext cx="662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9"/>
          <p:cNvSpPr/>
          <p:nvPr/>
        </p:nvSpPr>
        <p:spPr>
          <a:xfrm>
            <a:off x="4478400" y="4292640"/>
            <a:ext cx="74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0"/>
          <p:cNvSpPr/>
          <p:nvPr/>
        </p:nvSpPr>
        <p:spPr>
          <a:xfrm>
            <a:off x="395280" y="53578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                                      ADP                                    AMP                          aden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71"/>
          <p:cNvSpPr/>
          <p:nvPr/>
        </p:nvSpPr>
        <p:spPr>
          <a:xfrm>
            <a:off x="1187280" y="558000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2"/>
          <p:cNvSpPr/>
          <p:nvPr/>
        </p:nvSpPr>
        <p:spPr>
          <a:xfrm>
            <a:off x="3851280" y="558000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73"/>
          <p:cNvSpPr/>
          <p:nvPr/>
        </p:nvSpPr>
        <p:spPr>
          <a:xfrm>
            <a:off x="6264360" y="5580000"/>
            <a:ext cx="12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5"/>
          <p:cNvSpPr/>
          <p:nvPr/>
        </p:nvSpPr>
        <p:spPr>
          <a:xfrm>
            <a:off x="1546200" y="5300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6"/>
          <p:cNvSpPr/>
          <p:nvPr/>
        </p:nvSpPr>
        <p:spPr>
          <a:xfrm>
            <a:off x="3951360" y="5300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7"/>
          <p:cNvSpPr/>
          <p:nvPr/>
        </p:nvSpPr>
        <p:spPr>
          <a:xfrm>
            <a:off x="6300720" y="530712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46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رتباط سلاسل الحامض النووي الديوكسي رايبوز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87280" y="4005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دنين + ثايمين         (رابطتين هيدروجينيتي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4920" y="2060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ترتبط سلسلتان من الحامض النووي بواسطة روابط هيدروج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8400" y="51926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جوانين + سيتوزين  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روابط هيدروجين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Nuceleic acid basepair"/>
          <p:cNvPicPr/>
          <p:nvPr/>
        </p:nvPicPr>
        <p:blipFill>
          <a:blip r:embed="rId2"/>
          <a:stretch/>
        </p:blipFill>
        <p:spPr>
          <a:xfrm>
            <a:off x="1692360" y="333360"/>
            <a:ext cx="4535280" cy="226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Guanin Cytosinbasepair"/>
          <p:cNvPicPr/>
          <p:nvPr/>
        </p:nvPicPr>
        <p:blipFill>
          <a:blip r:embed="rId3"/>
          <a:stretch/>
        </p:blipFill>
        <p:spPr>
          <a:xfrm>
            <a:off x="1763640" y="3141720"/>
            <a:ext cx="4710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2"/>
          <p:cNvSpPr/>
          <p:nvPr/>
        </p:nvSpPr>
        <p:spPr>
          <a:xfrm>
            <a:off x="312408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388620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464832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41008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17220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 flipH="1" flipV="1">
            <a:off x="312372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 flipV="1">
            <a:off x="388584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 flipH="1" flipV="1">
            <a:off x="4648320" y="2209680"/>
            <a:ext cx="76176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H="1" flipV="1">
            <a:off x="540972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3276720" y="2590920"/>
            <a:ext cx="30456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4038480" y="25909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4800600" y="25909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5562720" y="2590920"/>
            <a:ext cx="30456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7"/>
          <p:cNvSpPr/>
          <p:nvPr/>
        </p:nvSpPr>
        <p:spPr>
          <a:xfrm flipH="1" flipV="1">
            <a:off x="6171840" y="2247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8"/>
          <p:cNvSpPr/>
          <p:nvPr/>
        </p:nvSpPr>
        <p:spPr>
          <a:xfrm flipH="1" flipV="1">
            <a:off x="2895120" y="3238200"/>
            <a:ext cx="22860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319440" y="2492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04680" y="22525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2412000" y="2984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2589120" y="312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2945520" y="1314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701520" y="1316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358160" y="131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5221800" y="131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021720" y="131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4"/>
          <p:cNvGrpSpPr/>
          <p:nvPr/>
        </p:nvGrpSpPr>
        <p:grpSpPr>
          <a:xfrm>
            <a:off x="-181080" y="981000"/>
            <a:ext cx="4702320" cy="5432400"/>
            <a:chOff x="-181080" y="981000"/>
            <a:chExt cx="4702320" cy="5432400"/>
          </a:xfrm>
        </p:grpSpPr>
        <p:sp>
          <p:nvSpPr>
            <p:cNvPr id="287" name="Text Box 5"/>
            <p:cNvSpPr/>
            <p:nvPr/>
          </p:nvSpPr>
          <p:spPr>
            <a:xfrm>
              <a:off x="-181080" y="5913360"/>
              <a:ext cx="4702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cs typeface="Akhbar MT"/>
                </a:rPr>
                <a:t>شكل (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7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-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6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): تركيب الحلزون المزدوج لـ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NA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6" descr="DNA%20helix"/>
            <p:cNvPicPr/>
            <p:nvPr/>
          </p:nvPicPr>
          <p:blipFill>
            <a:blip r:embed="rId2"/>
            <a:stretch/>
          </p:blipFill>
          <p:spPr>
            <a:xfrm>
              <a:off x="1028880" y="981000"/>
              <a:ext cx="2280960" cy="45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Picture 7" descr="dna"/>
          <p:cNvPicPr/>
          <p:nvPr/>
        </p:nvPicPr>
        <p:blipFill>
          <a:blip r:embed="rId3"/>
          <a:stretch/>
        </p:blipFill>
        <p:spPr>
          <a:xfrm>
            <a:off x="3924360" y="620640"/>
            <a:ext cx="4841640" cy="5653080"/>
          </a:xfrm>
          <a:prstGeom prst="rect">
            <a:avLst/>
          </a:prstGeom>
          <a:ln w="0">
            <a:noFill/>
          </a:ln>
        </p:spPr>
      </p:pic>
      <p:sp>
        <p:nvSpPr>
          <p:cNvPr id="290" name="Line 8"/>
          <p:cNvSpPr/>
          <p:nvPr/>
        </p:nvSpPr>
        <p:spPr>
          <a:xfrm>
            <a:off x="1042920" y="134136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06600" y="2009880"/>
            <a:ext cx="72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Box 06-01"/>
          <p:cNvPicPr/>
          <p:nvPr/>
        </p:nvPicPr>
        <p:blipFill>
          <a:blip r:embed="rId2"/>
          <a:srcRect l="0" t="0" r="45826" b="0"/>
          <a:stretch/>
        </p:blipFill>
        <p:spPr>
          <a:xfrm>
            <a:off x="1332000" y="836640"/>
            <a:ext cx="1611360" cy="3967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Box 06-01"/>
          <p:cNvPicPr/>
          <p:nvPr/>
        </p:nvPicPr>
        <p:blipFill>
          <a:blip r:embed="rId3"/>
          <a:srcRect l="45831" t="0" r="0" b="0"/>
          <a:stretch/>
        </p:blipFill>
        <p:spPr>
          <a:xfrm>
            <a:off x="5462640" y="907920"/>
            <a:ext cx="1485720" cy="3967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5047920" y="53164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م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-DNA and A-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450800" y="531828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س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429000" y="1620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شكال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Arial"/>
                <a:cs typeface="PT Bold Heading"/>
              </a:rPr>
              <a:t>الأحماض النوو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3789000"/>
            <a:ext cx="882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يوجد نوعان من الأحماض النو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ديوكسي ريبوز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486900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2349360"/>
            <a:ext cx="81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حماض النووي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هي المادة الوراثية الموجودة داخل الخلية الحية والتي تضمن لها تناقل صفاتها الوراثية عند الإنقسام أو عند التكاث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2796120" y="40176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شكال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263600"/>
          <a:ext cx="8229600" cy="353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شرة أزواج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حد عشر زوجاً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ثنى عشر زوجاً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واعد عمودية على المح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واعد  غيرعمودية على المحور ومائلة بزاوية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حدث عند تكرار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-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واص الفيزيائية لل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aturation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غير التركيب الطبي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سخين يعمل على فك الروابط الهيدروجينية بين سلسلتي الحلزون مما يؤدي إلى فصلهما وبذلك تقل اللزوجة ويزيد الامتصاص الضوئي للأشعة فوق البنفسج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عرف درجة الحرارة التي يحدث عندها التغير الطبيعي بدرجة الإنصها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حد السلسلتان مرة أخرى عند التبري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واص الفيزيائية لل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523520"/>
            <a:ext cx="8856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كث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زداد الكثافة بزيادة الجوانين والسايتوزين في الحلزون المزدوج (لماذا؟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ثافة الحلزون المزدوج أعلى من كثافة الشريط (لماذا؟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حجم والشك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ستقيم غير متفرع خيطي في الكائنات الراقية وحلقى في البكتر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4"/>
          <p:cNvGrpSpPr/>
          <p:nvPr/>
        </p:nvGrpSpPr>
        <p:grpSpPr>
          <a:xfrm>
            <a:off x="304920" y="5310360"/>
            <a:ext cx="8610480" cy="603000"/>
            <a:chOff x="304920" y="5310360"/>
            <a:chExt cx="8610480" cy="603000"/>
          </a:xfrm>
        </p:grpSpPr>
        <p:sp>
          <p:nvSpPr>
            <p:cNvPr id="304" name="Text Box 10"/>
            <p:cNvSpPr/>
            <p:nvPr/>
          </p:nvSpPr>
          <p:spPr>
            <a:xfrm>
              <a:off x="304920" y="5310360"/>
              <a:ext cx="861048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NA                       DNA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 (Arabic)"/>
                </a:rPr>
                <a:t>البروتينات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 flipH="1">
              <a:off x="5827680" y="558432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 flipH="1">
              <a:off x="2600280" y="558432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2"/>
          <p:cNvSpPr/>
          <p:nvPr/>
        </p:nvSpPr>
        <p:spPr>
          <a:xfrm>
            <a:off x="-495000" y="592200"/>
            <a:ext cx="100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مض النووي الريبوز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51240" y="195912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سو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m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095920" y="2895480"/>
            <a:ext cx="70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ناق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t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917640" y="3832200"/>
            <a:ext cx="82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يبوسومي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r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-642960" y="4797360"/>
            <a:ext cx="10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Dogma of Molecular Genetic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بدأ المركزي للجينات الجزي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2851200" y="27288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mRNA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رسول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280" y="148428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-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مل الشفرة الوراثية من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ي النواة إلى 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مثل كل ثلاث نيوكليوتيدات شفرة لحمض أميني وتسمى ”شف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رجم الشفرة بعد ذلك إلى الأحماض الأمينية ثم البروتينات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 يقل عدد النيوكليوتيدات عن ثلاثة أضعاف عدد الأحماض الأمينية المكونة للببتيد أو للبروتين المترجم (لماذا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كل بروتي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خاص به والذي يتحلل  بعد تصنيع البروتين، لذلك فعمر هذا الجزيء قصي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2515320" y="552600"/>
            <a:ext cx="35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ناقل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t-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08000" y="155736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صغر أنواع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كون 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يوكليوتيد أحا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% من مجموع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قوم بنقل الأحماض الأمينية من السيتوبلازم إلى موقع ارتباطها في الريبوزومات حسب تسلسل الشفرة الوراث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توي على شفرة مضاد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كملة للشفرة الوراثية في الرس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وجد على الأقل ناقل واحد لكل حمض أمي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 عكس الرسول فإ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ا يتحلل بعد تصنيع البرو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tRNA2"/>
          <p:cNvPicPr/>
          <p:nvPr/>
        </p:nvPicPr>
        <p:blipFill>
          <a:blip r:embed="rId2"/>
          <a:stretch/>
        </p:blipFill>
        <p:spPr>
          <a:xfrm>
            <a:off x="1547640" y="1447920"/>
            <a:ext cx="6229440" cy="4240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2871000" y="185760"/>
            <a:ext cx="35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ناقل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t-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6264360" y="429408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552720" y="42418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غص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 flipH="1">
            <a:off x="4535640" y="40068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018680" y="44388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ق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H="1" flipV="1">
            <a:off x="6840000" y="3718080"/>
            <a:ext cx="7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3710520" y="57340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شفرة المضا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5688000" y="155736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804480" y="112536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موضع إرتباط الحمض الأمي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رايبوسومي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r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بر الأنواع  حجم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محتوى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جد مرتبط ببروتينات نووية (الرايبوسو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عكس الرسول فإ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يتحلل بعد تصنيع البروت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131920"/>
            <a:ext cx="914400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KW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KW" sz="48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كيمياء حيوية عامة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BCH 10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)</a:t>
            </a:r>
            <a:br>
              <a:rPr sz="4800"/>
            </a:b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أيض الأحماض النووية</a:t>
            </a:r>
            <a:br>
              <a:rPr sz="5400"/>
            </a:br>
            <a:r>
              <a:rPr b="1" lang="ar-SA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304920" y="5705640"/>
            <a:ext cx="8610480" cy="603000"/>
            <a:chOff x="304920" y="5705640"/>
            <a:chExt cx="8610480" cy="603000"/>
          </a:xfrm>
        </p:grpSpPr>
        <p:sp>
          <p:nvSpPr>
            <p:cNvPr id="332" name="Text Box 3"/>
            <p:cNvSpPr/>
            <p:nvPr/>
          </p:nvSpPr>
          <p:spPr>
            <a:xfrm>
              <a:off x="304920" y="5705640"/>
              <a:ext cx="861048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NA                       DNA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 (Arabic)"/>
                </a:rPr>
                <a:t>البروتينات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"/>
            <p:cNvSpPr/>
            <p:nvPr/>
          </p:nvSpPr>
          <p:spPr>
            <a:xfrm flipH="1">
              <a:off x="5827680" y="597960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"/>
            <p:cNvSpPr/>
            <p:nvPr/>
          </p:nvSpPr>
          <p:spPr>
            <a:xfrm flipH="1">
              <a:off x="2600280" y="597960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6"/>
          <p:cNvSpPr/>
          <p:nvPr/>
        </p:nvSpPr>
        <p:spPr>
          <a:xfrm>
            <a:off x="-360000" y="592200"/>
            <a:ext cx="99162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مض النووي الريبوز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جد ثلاثة أنواع من ال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2581920" y="2492280"/>
            <a:ext cx="68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سو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m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004200" y="314172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ناق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t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007000" y="3789360"/>
            <a:ext cx="74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يبوسومي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r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08000" y="4686480"/>
            <a:ext cx="883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كم العلاقة بين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بروتينات ما يسمى ب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entral Dogma of Molecular Genetics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المبدأ المركزي للجينات الجزي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03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تركيب الأحماض النووية</a:t>
            </a:r>
            <a:br>
              <a:rPr sz="66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تكون الأحماض النووية من وحدات تسمى نيوكلوتي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572000" y="4005360"/>
            <a:ext cx="43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قاعدة نيتروج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08000" y="4005360"/>
            <a:ext cx="309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سكر خماس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835280" y="530208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فوس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2101320" y="3500280"/>
            <a:ext cx="4270680" cy="1719360"/>
            <a:chOff x="2101320" y="3500280"/>
            <a:chExt cx="4270680" cy="1719360"/>
          </a:xfrm>
        </p:grpSpPr>
        <p:sp>
          <p:nvSpPr>
            <p:cNvPr id="66" name="AutoShape 7"/>
            <p:cNvSpPr/>
            <p:nvPr/>
          </p:nvSpPr>
          <p:spPr>
            <a:xfrm rot="5400000">
              <a:off x="4020480" y="1580760"/>
              <a:ext cx="432000" cy="4270680"/>
            </a:xfrm>
            <a:custGeom>
              <a:avLst/>
              <a:gdLst>
                <a:gd name="textAreaLeft" fmla="*/ 276120 w 432000"/>
                <a:gd name="textAreaRight" fmla="*/ 432360 w 432000"/>
                <a:gd name="textAreaTop" fmla="*/ 111240 h 4270680"/>
                <a:gd name="textAreaBottom" fmla="*/ 4159440 h 42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>
              <a:off x="4233960" y="3600360"/>
              <a:ext cx="0" cy="1619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9"/>
          <p:cNvSpPr/>
          <p:nvPr/>
        </p:nvSpPr>
        <p:spPr>
          <a:xfrm>
            <a:off x="900000" y="2060640"/>
            <a:ext cx="67690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النيكليوتيد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2480" y="1267920"/>
            <a:ext cx="85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ضاع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دث في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فيه يتم إنشاء نسخة مطابقة للمادة الوراثية الموجودة في الكروموسوم تمهيداً لإنقسام الخلية لخليتين يحتوي كل منها على نفس العدد من الكروموس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س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فيه يتم عمل نسخة لجزء من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وجود غالباً في النواة والمحتوي على مورث (جين) أو مجموعة من المورثات لينت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ذي ينتقل بعد ذلك للسيتوبلاز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رجم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فيها يتم ترجمة الشفرة الوراثية الموجودة ف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إلى بروتين وذلك عن طريق الرايبوسوم المحتوي ع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يث يقوم بتكوين الروابط الببتيدية بين الاحماض الأمينية التي يحمل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ترتيب الذي يحدده الرس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ضاعف ال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واجد ال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 شكلين اما كشريط واحد او مزدوج واما في شكل مستقيم او دائ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وجد ثلاثة أشكال من التضاع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شبه المحاف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servativ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ثنائي الاتجا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شبه المتواص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discontinuous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semiconservative3"/>
          <p:cNvPicPr/>
          <p:nvPr/>
        </p:nvPicPr>
        <p:blipFill>
          <a:blip r:embed="rId1"/>
          <a:stretch/>
        </p:blipFill>
        <p:spPr>
          <a:xfrm>
            <a:off x="2514600" y="981000"/>
            <a:ext cx="1612800" cy="53816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721440" y="306216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120680" y="1371600"/>
            <a:ext cx="18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09040" y="4572000"/>
            <a:ext cx="197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72000" y="1125360"/>
            <a:ext cx="4114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cc"/>
                </a:solidFill>
                <a:latin typeface="Comic Sans MS"/>
              </a:rPr>
              <a:t>تم وصفها عن طريق ميسلسون وستال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Meselson &amp; St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ى طريقة بسيطة وتوضح كيفية مضاعفة الحامض النوو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فيها ينفصل الشريطان عن طريق فك الروابط الهيدروجينية ويقوم كل شريط ببناء شريط مكمل 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ميت بالطريقة الشبه محافظة للتضاعف نظرا لأنه يتم الحفاظ جزئيا  على الحلزون الأبوى المزدوج أثناء تضاعف الحامض النو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54040" y="115920"/>
            <a:ext cx="79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ضاعف شبه المحاف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servative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Rep fork"/>
          <p:cNvPicPr/>
          <p:nvPr/>
        </p:nvPicPr>
        <p:blipFill>
          <a:blip r:embed="rId1"/>
          <a:stretch/>
        </p:blipFill>
        <p:spPr>
          <a:xfrm>
            <a:off x="1008000" y="3306600"/>
            <a:ext cx="6443640" cy="3113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685080" y="281160"/>
            <a:ext cx="82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ضاعف ثنائ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directional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448800" y="4149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شوكة التضاع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671640" y="63752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صل التضاع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55640" y="1125360"/>
            <a:ext cx="764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انفصال شريطي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ن المنتصف ليتكون ما يشبه الفقاعة أو البالونة ويقوم كل شريط بتكوين شريط آخر مكمل 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سع الفقاعة في الإتجاهين حتى تصل للأطراف فينفصل الزوجين كل منهما يحتوي على شريطين من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37960" y="404640"/>
            <a:ext cx="570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في حالة الكروموسوم البكتيري الحلقي يتم التضاعف ثنائي الإتجاه ويتكون شكل يشبه الحرف اللاتيني ثيت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784080" y="1908000"/>
            <a:ext cx="4916520" cy="2492280"/>
            <a:chOff x="784080" y="1908000"/>
            <a:chExt cx="4916520" cy="2492280"/>
          </a:xfrm>
        </p:grpSpPr>
        <p:sp>
          <p:nvSpPr>
            <p:cNvPr id="357" name="AutoShape 4"/>
            <p:cNvSpPr/>
            <p:nvPr/>
          </p:nvSpPr>
          <p:spPr>
            <a:xfrm>
              <a:off x="2006280" y="3088800"/>
              <a:ext cx="549360" cy="273240"/>
            </a:xfrm>
            <a:prstGeom prst="rightArrow">
              <a:avLst>
                <a:gd name="adj1" fmla="val 50000"/>
                <a:gd name="adj2" fmla="val 50264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"/>
            <p:cNvSpPr/>
            <p:nvPr/>
          </p:nvSpPr>
          <p:spPr>
            <a:xfrm>
              <a:off x="1146240" y="23000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Arial"/>
                </a:rPr>
                <a:t>o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6"/>
            <p:cNvSpPr/>
            <p:nvPr/>
          </p:nvSpPr>
          <p:spPr>
            <a:xfrm>
              <a:off x="1116360" y="3763800"/>
              <a:ext cx="50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Arial"/>
                </a:rPr>
                <a:t>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7"/>
            <p:cNvGrpSpPr/>
            <p:nvPr/>
          </p:nvGrpSpPr>
          <p:grpSpPr>
            <a:xfrm>
              <a:off x="784080" y="2679480"/>
              <a:ext cx="1074600" cy="1077840"/>
              <a:chOff x="784080" y="2679480"/>
              <a:chExt cx="1074600" cy="1077840"/>
            </a:xfrm>
          </p:grpSpPr>
          <p:sp>
            <p:nvSpPr>
              <p:cNvPr id="361" name="Oval 8"/>
              <p:cNvSpPr/>
              <p:nvPr/>
            </p:nvSpPr>
            <p:spPr>
              <a:xfrm>
                <a:off x="844200" y="2739600"/>
                <a:ext cx="952560" cy="95580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9"/>
              <p:cNvSpPr/>
              <p:nvPr/>
            </p:nvSpPr>
            <p:spPr>
              <a:xfrm>
                <a:off x="784080" y="2679480"/>
                <a:ext cx="1074600" cy="107784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Oval 10"/>
            <p:cNvSpPr/>
            <p:nvPr/>
          </p:nvSpPr>
          <p:spPr>
            <a:xfrm>
              <a:off x="2703240" y="2657160"/>
              <a:ext cx="1076400" cy="107784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11"/>
            <p:cNvSpPr/>
            <p:nvPr/>
          </p:nvSpPr>
          <p:spPr>
            <a:xfrm rot="18865800">
              <a:off x="2972880" y="2617200"/>
              <a:ext cx="514440" cy="5144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rc 12"/>
            <p:cNvSpPr/>
            <p:nvPr/>
          </p:nvSpPr>
          <p:spPr>
            <a:xfrm flipV="1" rot="2734200">
              <a:off x="2973240" y="2682360"/>
              <a:ext cx="514080" cy="51444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-360 h 514440"/>
                <a:gd name="textAreaBottom" fmla="*/ 514440 h 514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13"/>
            <p:cNvSpPr/>
            <p:nvPr/>
          </p:nvSpPr>
          <p:spPr>
            <a:xfrm rot="8578800">
              <a:off x="2774520" y="2740680"/>
              <a:ext cx="971280" cy="92700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fill="none" w="42962" h="40970">
                  <a:moveTo>
                    <a:pt x="-1" y="18408"/>
                  </a:moveTo>
                  <a:cubicBezTo>
                    <a:pt x="1579" y="7829"/>
                    <a:pt x="10665" y="-1"/>
                    <a:pt x="21362" y="0"/>
                  </a:cubicBezTo>
                  <a:cubicBezTo>
                    <a:pt x="33291" y="0"/>
                    <a:pt x="42962" y="9670"/>
                    <a:pt x="42962" y="21600"/>
                  </a:cubicBezTo>
                  <a:cubicBezTo>
                    <a:pt x="42962" y="29823"/>
                    <a:pt x="38292" y="37332"/>
                    <a:pt x="30918" y="40970"/>
                  </a:cubicBezTo>
                </a:path>
                <a:path stroke="0" w="42962" h="40970">
                  <a:moveTo>
                    <a:pt x="-1" y="18408"/>
                  </a:moveTo>
                  <a:cubicBezTo>
                    <a:pt x="1579" y="7829"/>
                    <a:pt x="10665" y="-1"/>
                    <a:pt x="21362" y="0"/>
                  </a:cubicBezTo>
                  <a:cubicBezTo>
                    <a:pt x="33291" y="0"/>
                    <a:pt x="42962" y="9670"/>
                    <a:pt x="42962" y="21600"/>
                  </a:cubicBezTo>
                  <a:cubicBezTo>
                    <a:pt x="42962" y="29823"/>
                    <a:pt x="38292" y="37332"/>
                    <a:pt x="30918" y="40970"/>
                  </a:cubicBezTo>
                  <a:lnTo>
                    <a:pt x="21362" y="21600"/>
                  </a:lnTo>
                  <a:lnTo>
                    <a:pt x="-1" y="18408"/>
                  </a:lnTo>
                  <a:close/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14"/>
            <p:cNvSpPr/>
            <p:nvPr/>
          </p:nvSpPr>
          <p:spPr>
            <a:xfrm flipV="1" rot="2734200">
              <a:off x="2932560" y="2644200"/>
              <a:ext cx="625680" cy="64296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360 h 642960"/>
                <a:gd name="textAreaBottom" fmla="*/ 643680 h 642960"/>
              </a:gdLst>
              <a:ahLst/>
              <a:rect l="textAreaLeft" t="textAreaTop" r="textAreaRight" b="textAreaBottom"/>
              <a:pathLst>
                <a:path fill="none" w="26291" h="26994">
                  <a:moveTo>
                    <a:pt x="-1" y="515"/>
                  </a:moveTo>
                  <a:cubicBezTo>
                    <a:pt x="1540" y="172"/>
                    <a:pt x="3113" y="-1"/>
                    <a:pt x="4691" y="0"/>
                  </a:cubicBezTo>
                  <a:cubicBezTo>
                    <a:pt x="16620" y="0"/>
                    <a:pt x="26291" y="9670"/>
                    <a:pt x="26291" y="21600"/>
                  </a:cubicBezTo>
                  <a:cubicBezTo>
                    <a:pt x="26291" y="23419"/>
                    <a:pt x="26061" y="25232"/>
                    <a:pt x="25606" y="26994"/>
                  </a:cubicBezTo>
                </a:path>
                <a:path stroke="0" w="26291" h="26994">
                  <a:moveTo>
                    <a:pt x="-1" y="515"/>
                  </a:moveTo>
                  <a:cubicBezTo>
                    <a:pt x="1540" y="172"/>
                    <a:pt x="3113" y="-1"/>
                    <a:pt x="4691" y="0"/>
                  </a:cubicBezTo>
                  <a:cubicBezTo>
                    <a:pt x="16620" y="0"/>
                    <a:pt x="26291" y="9670"/>
                    <a:pt x="26291" y="21600"/>
                  </a:cubicBezTo>
                  <a:cubicBezTo>
                    <a:pt x="26291" y="23419"/>
                    <a:pt x="26061" y="25232"/>
                    <a:pt x="25606" y="26994"/>
                  </a:cubicBezTo>
                  <a:lnTo>
                    <a:pt x="4691" y="21600"/>
                  </a:lnTo>
                  <a:lnTo>
                    <a:pt x="-1" y="515"/>
                  </a:lnTo>
                  <a:close/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4686120" y="2034720"/>
              <a:ext cx="952560" cy="95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6"/>
            <p:cNvSpPr/>
            <p:nvPr/>
          </p:nvSpPr>
          <p:spPr>
            <a:xfrm>
              <a:off x="4625640" y="1974600"/>
              <a:ext cx="1074960" cy="107640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7"/>
            <p:cNvSpPr/>
            <p:nvPr/>
          </p:nvSpPr>
          <p:spPr>
            <a:xfrm>
              <a:off x="4686120" y="3344400"/>
              <a:ext cx="952560" cy="9543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4625640" y="3284280"/>
              <a:ext cx="1074960" cy="1076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9"/>
            <p:cNvSpPr/>
            <p:nvPr/>
          </p:nvSpPr>
          <p:spPr>
            <a:xfrm>
              <a:off x="3927240" y="3088800"/>
              <a:ext cx="549360" cy="273240"/>
            </a:xfrm>
            <a:prstGeom prst="rightArrow">
              <a:avLst>
                <a:gd name="adj1" fmla="val 50000"/>
                <a:gd name="adj2" fmla="val 50264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1274760" y="3659040"/>
              <a:ext cx="55440" cy="1411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1263600" y="261756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2"/>
            <p:cNvSpPr/>
            <p:nvPr/>
          </p:nvSpPr>
          <p:spPr>
            <a:xfrm>
              <a:off x="3187440" y="304128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3"/>
            <p:cNvSpPr/>
            <p:nvPr/>
          </p:nvSpPr>
          <p:spPr>
            <a:xfrm>
              <a:off x="3187440" y="260316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3240000" y="3634920"/>
              <a:ext cx="55440" cy="141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5092560" y="1908000"/>
              <a:ext cx="11412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5101920" y="3222360"/>
              <a:ext cx="1144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5130720" y="2952360"/>
              <a:ext cx="57240" cy="142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5149800" y="4258800"/>
              <a:ext cx="56880" cy="141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29" descr=""/>
          <p:cNvPicPr/>
          <p:nvPr/>
        </p:nvPicPr>
        <p:blipFill>
          <a:blip r:embed="rId1"/>
          <a:stretch/>
        </p:blipFill>
        <p:spPr>
          <a:xfrm>
            <a:off x="6208560" y="311040"/>
            <a:ext cx="2821320" cy="390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0"/>
          <p:cNvSpPr/>
          <p:nvPr/>
        </p:nvSpPr>
        <p:spPr>
          <a:xfrm>
            <a:off x="213840" y="4746600"/>
            <a:ext cx="61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Bidirectional Replication Produ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a Theta  Inter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1"/>
          <p:cNvGrpSpPr/>
          <p:nvPr/>
        </p:nvGrpSpPr>
        <p:grpSpPr>
          <a:xfrm>
            <a:off x="6856560" y="4333320"/>
            <a:ext cx="2437920" cy="2305440"/>
            <a:chOff x="6856560" y="4333320"/>
            <a:chExt cx="2437920" cy="2305440"/>
          </a:xfrm>
        </p:grpSpPr>
        <p:sp>
          <p:nvSpPr>
            <p:cNvPr id="385" name="Arc 32"/>
            <p:cNvSpPr/>
            <p:nvPr/>
          </p:nvSpPr>
          <p:spPr>
            <a:xfrm rot="20720400">
              <a:off x="7080480" y="4774680"/>
              <a:ext cx="1017360" cy="56988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fill="none" w="23253" h="21600">
                  <a:moveTo>
                    <a:pt x="-1" y="5565"/>
                  </a:moveTo>
                  <a:cubicBezTo>
                    <a:pt x="3969" y="1983"/>
                    <a:pt x="9126" y="-1"/>
                    <a:pt x="14473" y="0"/>
                  </a:cubicBezTo>
                  <a:cubicBezTo>
                    <a:pt x="17498" y="0"/>
                    <a:pt x="20489" y="635"/>
                    <a:pt x="23253" y="1865"/>
                  </a:cubicBezTo>
                </a:path>
                <a:path stroke="0" w="23253" h="21600">
                  <a:moveTo>
                    <a:pt x="-1" y="5565"/>
                  </a:moveTo>
                  <a:cubicBezTo>
                    <a:pt x="3969" y="1983"/>
                    <a:pt x="9126" y="-1"/>
                    <a:pt x="14473" y="0"/>
                  </a:cubicBezTo>
                  <a:cubicBezTo>
                    <a:pt x="17498" y="0"/>
                    <a:pt x="20489" y="635"/>
                    <a:pt x="23253" y="1865"/>
                  </a:cubicBezTo>
                  <a:lnTo>
                    <a:pt x="14473" y="21600"/>
                  </a:lnTo>
                  <a:lnTo>
                    <a:pt x="-1" y="55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6856560" y="4637160"/>
              <a:ext cx="1208160" cy="2001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34"/>
            <p:cNvSpPr/>
            <p:nvPr/>
          </p:nvSpPr>
          <p:spPr>
            <a:xfrm rot="7311000">
              <a:off x="7094880" y="4533840"/>
              <a:ext cx="914400" cy="8463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fill="none" w="21600" h="19994">
                  <a:moveTo>
                    <a:pt x="8171" y="-1"/>
                  </a:moveTo>
                  <a:cubicBezTo>
                    <a:pt x="16292" y="3318"/>
                    <a:pt x="21600" y="11220"/>
                    <a:pt x="21600" y="19994"/>
                  </a:cubicBezTo>
                </a:path>
                <a:path stroke="0" w="21600" h="19994">
                  <a:moveTo>
                    <a:pt x="8171" y="-1"/>
                  </a:moveTo>
                  <a:cubicBezTo>
                    <a:pt x="16292" y="3318"/>
                    <a:pt x="21600" y="11220"/>
                    <a:pt x="21600" y="19994"/>
                  </a:cubicBezTo>
                  <a:lnTo>
                    <a:pt x="0" y="19994"/>
                  </a:lnTo>
                  <a:lnTo>
                    <a:pt x="8171" y="-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23600" y="434808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lic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36"/>
            <p:cNvSpPr/>
            <p:nvPr/>
          </p:nvSpPr>
          <p:spPr>
            <a:xfrm rot="6617400">
              <a:off x="7567560" y="4255920"/>
              <a:ext cx="461880" cy="900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fill="none" w="10905" h="21278">
                  <a:moveTo>
                    <a:pt x="3713" y="-1"/>
                  </a:moveTo>
                  <a:cubicBezTo>
                    <a:pt x="6248" y="441"/>
                    <a:pt x="8683" y="1333"/>
                    <a:pt x="10905" y="2632"/>
                  </a:cubicBezTo>
                </a:path>
                <a:path stroke="0" w="10905" h="21278">
                  <a:moveTo>
                    <a:pt x="3713" y="-1"/>
                  </a:moveTo>
                  <a:cubicBezTo>
                    <a:pt x="6248" y="441"/>
                    <a:pt x="8683" y="1333"/>
                    <a:pt x="10905" y="2632"/>
                  </a:cubicBezTo>
                  <a:lnTo>
                    <a:pt x="0" y="21278"/>
                  </a:lnTo>
                  <a:lnTo>
                    <a:pt x="3713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7"/>
            <p:cNvSpPr/>
            <p:nvPr/>
          </p:nvSpPr>
          <p:spPr>
            <a:xfrm rot="13772400">
              <a:off x="7975440" y="4965480"/>
              <a:ext cx="14616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8"/>
            <p:cNvSpPr/>
            <p:nvPr/>
          </p:nvSpPr>
          <p:spPr>
            <a:xfrm rot="14562000">
              <a:off x="6972120" y="5009760"/>
              <a:ext cx="14616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2" name="Straight Arrow Connector 39"/>
          <p:cNvCxnSpPr/>
          <p:nvPr/>
        </p:nvCxnSpPr>
        <p:spPr>
          <a:xfrm>
            <a:off x="2268360" y="1773000"/>
            <a:ext cx="7200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GA30_06"/>
          <p:cNvPicPr/>
          <p:nvPr/>
        </p:nvPicPr>
        <p:blipFill>
          <a:blip r:embed="rId1"/>
          <a:srcRect l="12202" t="21670" r="13768" b="45223"/>
          <a:stretch/>
        </p:blipFill>
        <p:spPr>
          <a:xfrm>
            <a:off x="0" y="3141720"/>
            <a:ext cx="9109080" cy="2811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"/>
          <p:cNvSpPr/>
          <p:nvPr/>
        </p:nvSpPr>
        <p:spPr>
          <a:xfrm>
            <a:off x="178200" y="260280"/>
            <a:ext cx="82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ضاعف شبه المتواص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Semidiscontinuous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808200" y="36752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4d4d4d"/>
                </a:solidFill>
                <a:latin typeface="Arial"/>
                <a:cs typeface="PT Bold Heading"/>
              </a:rPr>
              <a:t>الشريط القائ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-377280" y="4334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d4d4d"/>
                </a:solidFill>
                <a:latin typeface="Arial"/>
                <a:cs typeface="PT Bold Heading"/>
              </a:rPr>
              <a:t>الشريط المتخلف أو المتأخ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941040" y="52261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d4d4d"/>
                </a:solidFill>
                <a:latin typeface="Arial"/>
                <a:cs typeface="PT Bold Heading"/>
              </a:rPr>
              <a:t>قطع أوكازاك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179280" y="907920"/>
            <a:ext cx="833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تم التضاعف من أحد طرفي الشريط ويتم بشكلي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الإتجاة م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يتم التضاعف بشكل سريع ويسمى الشريط بهذه الحالة بالشريط القائ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 تضاعف في الشريط الأخر ويكون على هيئة أجزاء أو قطع سميت بقطع أوكازاكي ويسمى الشريط في هذه الحالة بالشريط المتأخر أو المتخلف أو المتلك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ging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Rep fork2"/>
          <p:cNvPicPr/>
          <p:nvPr/>
        </p:nvPicPr>
        <p:blipFill>
          <a:blip r:embed="rId1"/>
          <a:stretch/>
        </p:blipFill>
        <p:spPr>
          <a:xfrm>
            <a:off x="228600" y="987480"/>
            <a:ext cx="8583480" cy="4998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4648320" y="123336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4648320" y="5348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s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نواع إنزيم البوليميريز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الانزيم المضاعف لل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وجد ثلاثة أنواع من الإنزيم وجميعها يحتاج إلى باديء عبارة عن قطعة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قوم بتحفيز إضافة نيوكليوتيد للسلسلة النامية ل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ما يقوم بإصلاح وترميم التالف م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عروف الوظيفة ويعتقد أنه يقوم بإصلاح وترميم التالف من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ظيفته تجميع قطع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كونة ال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612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1561680" y="1131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421800" y="113184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305320" y="11318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7168680" y="1131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64760" y="18986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62600" y="297324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461880" y="40370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453600" y="512280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87920" y="22636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8298000" y="201312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8298720" y="176040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8287920" y="1509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8287920" y="550080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8298000" y="52484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8298720" y="499752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8287920" y="474516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8287920" y="44132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8298000" y="416232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1"/>
          <p:cNvSpPr/>
          <p:nvPr/>
        </p:nvSpPr>
        <p:spPr>
          <a:xfrm>
            <a:off x="8298720" y="390996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8287920" y="36590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8287920" y="33274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8298000" y="307656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8298720" y="282420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8287920" y="25732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861840" y="1504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866160" y="175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864000" y="201312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0"/>
          <p:cNvSpPr/>
          <p:nvPr/>
        </p:nvSpPr>
        <p:spPr>
          <a:xfrm>
            <a:off x="861840" y="22590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1"/>
          <p:cNvSpPr/>
          <p:nvPr/>
        </p:nvSpPr>
        <p:spPr>
          <a:xfrm>
            <a:off x="872640" y="25732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876960" y="28242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869760" y="30765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866160" y="33274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5"/>
          <p:cNvSpPr/>
          <p:nvPr/>
        </p:nvSpPr>
        <p:spPr>
          <a:xfrm>
            <a:off x="871920" y="36590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869760" y="39099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7"/>
          <p:cNvSpPr/>
          <p:nvPr/>
        </p:nvSpPr>
        <p:spPr>
          <a:xfrm>
            <a:off x="869040" y="416232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8"/>
          <p:cNvSpPr/>
          <p:nvPr/>
        </p:nvSpPr>
        <p:spPr>
          <a:xfrm>
            <a:off x="865440" y="44132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9"/>
          <p:cNvSpPr/>
          <p:nvPr/>
        </p:nvSpPr>
        <p:spPr>
          <a:xfrm>
            <a:off x="861840" y="474516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0"/>
          <p:cNvSpPr/>
          <p:nvPr/>
        </p:nvSpPr>
        <p:spPr>
          <a:xfrm>
            <a:off x="866160" y="499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865440" y="52484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2"/>
          <p:cNvSpPr/>
          <p:nvPr/>
        </p:nvSpPr>
        <p:spPr>
          <a:xfrm>
            <a:off x="861840" y="5500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43"/>
          <p:cNvSpPr/>
          <p:nvPr/>
        </p:nvSpPr>
        <p:spPr>
          <a:xfrm>
            <a:off x="1541520" y="1612800"/>
            <a:ext cx="136440" cy="40032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4"/>
          <p:cNvSpPr/>
          <p:nvPr/>
        </p:nvSpPr>
        <p:spPr>
          <a:xfrm>
            <a:off x="1547640" y="3773520"/>
            <a:ext cx="136800" cy="663480"/>
          </a:xfrm>
          <a:custGeom>
            <a:avLst/>
            <a:gdLst>
              <a:gd name="textAreaLeft" fmla="*/ 0 w 136800"/>
              <a:gd name="textAreaRight" fmla="*/ 49320 w 136800"/>
              <a:gd name="textAreaTop" fmla="*/ 17280 h 663480"/>
              <a:gd name="textAreaBottom" fmla="*/ 64620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5"/>
          <p:cNvSpPr/>
          <p:nvPr/>
        </p:nvSpPr>
        <p:spPr>
          <a:xfrm>
            <a:off x="1538280" y="2698920"/>
            <a:ext cx="249120" cy="903240"/>
          </a:xfrm>
          <a:custGeom>
            <a:avLst/>
            <a:gdLst>
              <a:gd name="textAreaLeft" fmla="*/ 0 w 249120"/>
              <a:gd name="textAreaRight" fmla="*/ 90000 w 24912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6"/>
          <p:cNvSpPr/>
          <p:nvPr/>
        </p:nvSpPr>
        <p:spPr>
          <a:xfrm>
            <a:off x="1844640" y="1623960"/>
            <a:ext cx="529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7"/>
          <p:cNvSpPr/>
          <p:nvPr/>
        </p:nvSpPr>
        <p:spPr>
          <a:xfrm>
            <a:off x="1882080" y="2127240"/>
            <a:ext cx="456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1875600" y="2954160"/>
            <a:ext cx="456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9"/>
          <p:cNvSpPr/>
          <p:nvPr/>
        </p:nvSpPr>
        <p:spPr>
          <a:xfrm>
            <a:off x="1549440" y="211608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914120" y="3922560"/>
            <a:ext cx="383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511640" y="4421160"/>
            <a:ext cx="11012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met (star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2"/>
          <p:cNvSpPr/>
          <p:nvPr/>
        </p:nvSpPr>
        <p:spPr>
          <a:xfrm>
            <a:off x="1547640" y="484812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1887480" y="5111640"/>
            <a:ext cx="435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2717280" y="150984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721600" y="17604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2720880" y="201312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7"/>
          <p:cNvSpPr/>
          <p:nvPr/>
        </p:nvSpPr>
        <p:spPr>
          <a:xfrm>
            <a:off x="2717280" y="22636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726280" y="257328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9"/>
          <p:cNvSpPr/>
          <p:nvPr/>
        </p:nvSpPr>
        <p:spPr>
          <a:xfrm>
            <a:off x="2737080" y="2824200"/>
            <a:ext cx="550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0"/>
          <p:cNvSpPr/>
          <p:nvPr/>
        </p:nvSpPr>
        <p:spPr>
          <a:xfrm>
            <a:off x="2729880" y="307656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1"/>
          <p:cNvSpPr/>
          <p:nvPr/>
        </p:nvSpPr>
        <p:spPr>
          <a:xfrm>
            <a:off x="2726280" y="332748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2"/>
          <p:cNvSpPr/>
          <p:nvPr/>
        </p:nvSpPr>
        <p:spPr>
          <a:xfrm>
            <a:off x="2720880" y="36590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3"/>
          <p:cNvSpPr/>
          <p:nvPr/>
        </p:nvSpPr>
        <p:spPr>
          <a:xfrm>
            <a:off x="2736360" y="390996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4"/>
          <p:cNvSpPr/>
          <p:nvPr/>
        </p:nvSpPr>
        <p:spPr>
          <a:xfrm>
            <a:off x="2735640" y="416232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5"/>
          <p:cNvSpPr/>
          <p:nvPr/>
        </p:nvSpPr>
        <p:spPr>
          <a:xfrm>
            <a:off x="2720880" y="44132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6"/>
          <p:cNvSpPr/>
          <p:nvPr/>
        </p:nvSpPr>
        <p:spPr>
          <a:xfrm>
            <a:off x="2717280" y="474516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7"/>
          <p:cNvSpPr/>
          <p:nvPr/>
        </p:nvSpPr>
        <p:spPr>
          <a:xfrm>
            <a:off x="2726280" y="499752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8"/>
          <p:cNvSpPr/>
          <p:nvPr/>
        </p:nvSpPr>
        <p:spPr>
          <a:xfrm>
            <a:off x="2720880" y="52484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9"/>
          <p:cNvSpPr/>
          <p:nvPr/>
        </p:nvSpPr>
        <p:spPr>
          <a:xfrm>
            <a:off x="2717280" y="550080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0"/>
          <p:cNvSpPr/>
          <p:nvPr/>
        </p:nvSpPr>
        <p:spPr>
          <a:xfrm>
            <a:off x="3376440" y="161280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1"/>
          <p:cNvSpPr/>
          <p:nvPr/>
        </p:nvSpPr>
        <p:spPr>
          <a:xfrm>
            <a:off x="3376440" y="26877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2"/>
          <p:cNvSpPr/>
          <p:nvPr/>
        </p:nvSpPr>
        <p:spPr>
          <a:xfrm>
            <a:off x="3376440" y="37623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3"/>
          <p:cNvSpPr/>
          <p:nvPr/>
        </p:nvSpPr>
        <p:spPr>
          <a:xfrm>
            <a:off x="3376440" y="48531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4"/>
          <p:cNvSpPr/>
          <p:nvPr/>
        </p:nvSpPr>
        <p:spPr>
          <a:xfrm>
            <a:off x="3804840" y="1874880"/>
            <a:ext cx="461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5"/>
          <p:cNvSpPr/>
          <p:nvPr/>
        </p:nvSpPr>
        <p:spPr>
          <a:xfrm>
            <a:off x="3793320" y="2949480"/>
            <a:ext cx="496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6"/>
          <p:cNvSpPr/>
          <p:nvPr/>
        </p:nvSpPr>
        <p:spPr>
          <a:xfrm>
            <a:off x="3817080" y="4024440"/>
            <a:ext cx="44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7"/>
          <p:cNvSpPr/>
          <p:nvPr/>
        </p:nvSpPr>
        <p:spPr>
          <a:xfrm>
            <a:off x="3817800" y="5122800"/>
            <a:ext cx="446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8"/>
          <p:cNvSpPr/>
          <p:nvPr/>
        </p:nvSpPr>
        <p:spPr>
          <a:xfrm>
            <a:off x="4611960" y="15098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9"/>
          <p:cNvSpPr/>
          <p:nvPr/>
        </p:nvSpPr>
        <p:spPr>
          <a:xfrm>
            <a:off x="4616280" y="176040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4615560" y="201312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1"/>
          <p:cNvSpPr/>
          <p:nvPr/>
        </p:nvSpPr>
        <p:spPr>
          <a:xfrm>
            <a:off x="4611960" y="226368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2"/>
          <p:cNvSpPr/>
          <p:nvPr/>
        </p:nvSpPr>
        <p:spPr>
          <a:xfrm>
            <a:off x="4622760" y="257328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3"/>
          <p:cNvSpPr/>
          <p:nvPr/>
        </p:nvSpPr>
        <p:spPr>
          <a:xfrm>
            <a:off x="4620600" y="282420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4"/>
          <p:cNvSpPr/>
          <p:nvPr/>
        </p:nvSpPr>
        <p:spPr>
          <a:xfrm>
            <a:off x="4631040" y="307656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5"/>
          <p:cNvSpPr/>
          <p:nvPr/>
        </p:nvSpPr>
        <p:spPr>
          <a:xfrm>
            <a:off x="4616280" y="332748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4615560" y="36590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4631040" y="390996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8"/>
          <p:cNvSpPr/>
          <p:nvPr/>
        </p:nvSpPr>
        <p:spPr>
          <a:xfrm>
            <a:off x="4622040" y="44132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9"/>
          <p:cNvSpPr/>
          <p:nvPr/>
        </p:nvSpPr>
        <p:spPr>
          <a:xfrm>
            <a:off x="4630320" y="4173480"/>
            <a:ext cx="554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0"/>
          <p:cNvSpPr/>
          <p:nvPr/>
        </p:nvSpPr>
        <p:spPr>
          <a:xfrm>
            <a:off x="4607280" y="474516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1"/>
          <p:cNvSpPr/>
          <p:nvPr/>
        </p:nvSpPr>
        <p:spPr>
          <a:xfrm>
            <a:off x="4616280" y="499752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2"/>
          <p:cNvSpPr/>
          <p:nvPr/>
        </p:nvSpPr>
        <p:spPr>
          <a:xfrm>
            <a:off x="4615560" y="52484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3"/>
          <p:cNvSpPr/>
          <p:nvPr/>
        </p:nvSpPr>
        <p:spPr>
          <a:xfrm>
            <a:off x="4611960" y="550080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4"/>
          <p:cNvSpPr/>
          <p:nvPr/>
        </p:nvSpPr>
        <p:spPr>
          <a:xfrm>
            <a:off x="5310360" y="264168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5"/>
          <p:cNvSpPr/>
          <p:nvPr/>
        </p:nvSpPr>
        <p:spPr>
          <a:xfrm>
            <a:off x="5318280" y="3144960"/>
            <a:ext cx="134640" cy="399960"/>
          </a:xfrm>
          <a:custGeom>
            <a:avLst/>
            <a:gdLst>
              <a:gd name="textAreaLeft" fmla="*/ 0 w 134640"/>
              <a:gd name="textAreaRight" fmla="*/ 48600 w 1346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6"/>
          <p:cNvSpPr/>
          <p:nvPr/>
        </p:nvSpPr>
        <p:spPr>
          <a:xfrm>
            <a:off x="5310360" y="485316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7"/>
          <p:cNvSpPr/>
          <p:nvPr/>
        </p:nvSpPr>
        <p:spPr>
          <a:xfrm>
            <a:off x="5318280" y="5356080"/>
            <a:ext cx="134640" cy="400320"/>
          </a:xfrm>
          <a:custGeom>
            <a:avLst/>
            <a:gdLst>
              <a:gd name="textAreaLeft" fmla="*/ 0 w 134640"/>
              <a:gd name="textAreaRight" fmla="*/ 48600 w 13464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98"/>
          <p:cNvSpPr/>
          <p:nvPr/>
        </p:nvSpPr>
        <p:spPr>
          <a:xfrm>
            <a:off x="5321160" y="37623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99"/>
          <p:cNvSpPr/>
          <p:nvPr/>
        </p:nvSpPr>
        <p:spPr>
          <a:xfrm>
            <a:off x="5327640" y="426564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0"/>
          <p:cNvSpPr/>
          <p:nvPr/>
        </p:nvSpPr>
        <p:spPr>
          <a:xfrm>
            <a:off x="5322960" y="1612800"/>
            <a:ext cx="135000" cy="40032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1"/>
          <p:cNvSpPr/>
          <p:nvPr/>
        </p:nvSpPr>
        <p:spPr>
          <a:xfrm>
            <a:off x="5700240" y="1619280"/>
            <a:ext cx="426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2"/>
          <p:cNvSpPr/>
          <p:nvPr/>
        </p:nvSpPr>
        <p:spPr>
          <a:xfrm>
            <a:off x="5615640" y="201312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3"/>
          <p:cNvSpPr/>
          <p:nvPr/>
        </p:nvSpPr>
        <p:spPr>
          <a:xfrm>
            <a:off x="5615640" y="226368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4"/>
          <p:cNvSpPr/>
          <p:nvPr/>
        </p:nvSpPr>
        <p:spPr>
          <a:xfrm>
            <a:off x="5688360" y="2652840"/>
            <a:ext cx="439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5"/>
          <p:cNvSpPr/>
          <p:nvPr/>
        </p:nvSpPr>
        <p:spPr>
          <a:xfrm>
            <a:off x="5674320" y="3156120"/>
            <a:ext cx="46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6"/>
          <p:cNvSpPr/>
          <p:nvPr/>
        </p:nvSpPr>
        <p:spPr>
          <a:xfrm>
            <a:off x="5662800" y="3773520"/>
            <a:ext cx="50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7"/>
          <p:cNvSpPr/>
          <p:nvPr/>
        </p:nvSpPr>
        <p:spPr>
          <a:xfrm>
            <a:off x="5704560" y="4276800"/>
            <a:ext cx="418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8"/>
          <p:cNvSpPr/>
          <p:nvPr/>
        </p:nvSpPr>
        <p:spPr>
          <a:xfrm>
            <a:off x="5656320" y="4870440"/>
            <a:ext cx="50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9"/>
          <p:cNvSpPr/>
          <p:nvPr/>
        </p:nvSpPr>
        <p:spPr>
          <a:xfrm>
            <a:off x="5674320" y="5373720"/>
            <a:ext cx="46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0"/>
          <p:cNvSpPr/>
          <p:nvPr/>
        </p:nvSpPr>
        <p:spPr>
          <a:xfrm>
            <a:off x="6470640" y="150984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1"/>
          <p:cNvSpPr/>
          <p:nvPr/>
        </p:nvSpPr>
        <p:spPr>
          <a:xfrm>
            <a:off x="6479640" y="176040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2"/>
          <p:cNvSpPr/>
          <p:nvPr/>
        </p:nvSpPr>
        <p:spPr>
          <a:xfrm>
            <a:off x="6485400" y="201312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3"/>
          <p:cNvSpPr/>
          <p:nvPr/>
        </p:nvSpPr>
        <p:spPr>
          <a:xfrm>
            <a:off x="6470640" y="226368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4"/>
          <p:cNvSpPr/>
          <p:nvPr/>
        </p:nvSpPr>
        <p:spPr>
          <a:xfrm>
            <a:off x="6486120" y="25732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5"/>
          <p:cNvSpPr/>
          <p:nvPr/>
        </p:nvSpPr>
        <p:spPr>
          <a:xfrm>
            <a:off x="6490440" y="28242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6"/>
          <p:cNvSpPr/>
          <p:nvPr/>
        </p:nvSpPr>
        <p:spPr>
          <a:xfrm>
            <a:off x="6489720" y="30765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7"/>
          <p:cNvSpPr/>
          <p:nvPr/>
        </p:nvSpPr>
        <p:spPr>
          <a:xfrm>
            <a:off x="6486120" y="33274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8"/>
          <p:cNvSpPr/>
          <p:nvPr/>
        </p:nvSpPr>
        <p:spPr>
          <a:xfrm>
            <a:off x="6485400" y="36590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9"/>
          <p:cNvSpPr/>
          <p:nvPr/>
        </p:nvSpPr>
        <p:spPr>
          <a:xfrm>
            <a:off x="6495840" y="39099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20"/>
          <p:cNvSpPr/>
          <p:nvPr/>
        </p:nvSpPr>
        <p:spPr>
          <a:xfrm>
            <a:off x="6489000" y="417348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1"/>
          <p:cNvSpPr/>
          <p:nvPr/>
        </p:nvSpPr>
        <p:spPr>
          <a:xfrm>
            <a:off x="6485400" y="440208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2"/>
          <p:cNvSpPr/>
          <p:nvPr/>
        </p:nvSpPr>
        <p:spPr>
          <a:xfrm>
            <a:off x="6470640" y="474516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3"/>
          <p:cNvSpPr/>
          <p:nvPr/>
        </p:nvSpPr>
        <p:spPr>
          <a:xfrm>
            <a:off x="6486120" y="499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4"/>
          <p:cNvSpPr/>
          <p:nvPr/>
        </p:nvSpPr>
        <p:spPr>
          <a:xfrm>
            <a:off x="6485400" y="52484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5"/>
          <p:cNvSpPr/>
          <p:nvPr/>
        </p:nvSpPr>
        <p:spPr>
          <a:xfrm>
            <a:off x="6475320" y="5500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26"/>
          <p:cNvSpPr/>
          <p:nvPr/>
        </p:nvSpPr>
        <p:spPr>
          <a:xfrm>
            <a:off x="7110360" y="2687760"/>
            <a:ext cx="250920" cy="903240"/>
          </a:xfrm>
          <a:custGeom>
            <a:avLst/>
            <a:gdLst>
              <a:gd name="textAreaLeft" fmla="*/ 0 w 250920"/>
              <a:gd name="textAreaRight" fmla="*/ 90720 w 25092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7"/>
          <p:cNvSpPr/>
          <p:nvPr/>
        </p:nvSpPr>
        <p:spPr>
          <a:xfrm>
            <a:off x="7121520" y="4863960"/>
            <a:ext cx="249120" cy="903600"/>
          </a:xfrm>
          <a:custGeom>
            <a:avLst/>
            <a:gdLst>
              <a:gd name="textAreaLeft" fmla="*/ 0 w 249120"/>
              <a:gd name="textAreaRight" fmla="*/ 90000 w 249120"/>
              <a:gd name="textAreaTop" fmla="*/ 23400 h 903600"/>
              <a:gd name="textAreaBottom" fmla="*/ 880200 h 90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28"/>
          <p:cNvSpPr/>
          <p:nvPr/>
        </p:nvSpPr>
        <p:spPr>
          <a:xfrm>
            <a:off x="7149960" y="37623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9"/>
          <p:cNvSpPr/>
          <p:nvPr/>
        </p:nvSpPr>
        <p:spPr>
          <a:xfrm>
            <a:off x="7156440" y="426564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0"/>
          <p:cNvSpPr/>
          <p:nvPr/>
        </p:nvSpPr>
        <p:spPr>
          <a:xfrm>
            <a:off x="7149960" y="16239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1"/>
          <p:cNvSpPr/>
          <p:nvPr/>
        </p:nvSpPr>
        <p:spPr>
          <a:xfrm>
            <a:off x="7565400" y="1635120"/>
            <a:ext cx="464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32"/>
          <p:cNvSpPr/>
          <p:nvPr/>
        </p:nvSpPr>
        <p:spPr>
          <a:xfrm>
            <a:off x="7499880" y="201312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3"/>
          <p:cNvSpPr/>
          <p:nvPr/>
        </p:nvSpPr>
        <p:spPr>
          <a:xfrm>
            <a:off x="7574760" y="2263680"/>
            <a:ext cx="44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34"/>
          <p:cNvSpPr/>
          <p:nvPr/>
        </p:nvSpPr>
        <p:spPr>
          <a:xfrm>
            <a:off x="7553520" y="2949480"/>
            <a:ext cx="488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5"/>
          <p:cNvSpPr/>
          <p:nvPr/>
        </p:nvSpPr>
        <p:spPr>
          <a:xfrm>
            <a:off x="7560720" y="3762360"/>
            <a:ext cx="461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6"/>
          <p:cNvSpPr/>
          <p:nvPr/>
        </p:nvSpPr>
        <p:spPr>
          <a:xfrm>
            <a:off x="7553520" y="4276800"/>
            <a:ext cx="488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7"/>
          <p:cNvSpPr/>
          <p:nvPr/>
        </p:nvSpPr>
        <p:spPr>
          <a:xfrm>
            <a:off x="7570080" y="5133960"/>
            <a:ext cx="446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8"/>
          <p:cNvSpPr/>
          <p:nvPr/>
        </p:nvSpPr>
        <p:spPr>
          <a:xfrm rot="16200000">
            <a:off x="-320040" y="3468600"/>
            <a:ext cx="1087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rst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9"/>
          <p:cNvSpPr/>
          <p:nvPr/>
        </p:nvSpPr>
        <p:spPr>
          <a:xfrm rot="5400000">
            <a:off x="8320680" y="3494520"/>
            <a:ext cx="117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0"/>
          <p:cNvSpPr/>
          <p:nvPr/>
        </p:nvSpPr>
        <p:spPr>
          <a:xfrm>
            <a:off x="3840840" y="704880"/>
            <a:ext cx="1371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con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1523880" y="1209600"/>
            <a:ext cx="5486400" cy="52912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دريب على ترجمة الشفرة الوراث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71629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.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746440" y="4952880"/>
            <a:ext cx="63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754640" y="4343400"/>
            <a:ext cx="50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5029560" y="1143000"/>
            <a:ext cx="1564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cribed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066000" y="4952880"/>
            <a:ext cx="63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9"/>
          <p:cNvSpPr/>
          <p:nvPr/>
        </p:nvSpPr>
        <p:spPr>
          <a:xfrm rot="16200000">
            <a:off x="2971800" y="4343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360"/>
              <a:gd name="textAreaBottom" fmla="*/ 9777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785120" y="5181480"/>
            <a:ext cx="1003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4801320" y="3124080"/>
            <a:ext cx="11559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1754640" y="2057400"/>
            <a:ext cx="50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/>
          <p:cNvSpPr/>
          <p:nvPr/>
        </p:nvSpPr>
        <p:spPr>
          <a:xfrm rot="16200000">
            <a:off x="403848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4"/>
          <p:cNvSpPr/>
          <p:nvPr/>
        </p:nvSpPr>
        <p:spPr>
          <a:xfrm rot="16200000">
            <a:off x="518148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5"/>
          <p:cNvSpPr/>
          <p:nvPr/>
        </p:nvSpPr>
        <p:spPr>
          <a:xfrm rot="16200000">
            <a:off x="624816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1218240" y="6095880"/>
            <a:ext cx="1046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7"/>
          <p:cNvSpPr/>
          <p:nvPr/>
        </p:nvSpPr>
        <p:spPr>
          <a:xfrm flipH="1">
            <a:off x="4648320" y="1295280"/>
            <a:ext cx="38088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واعد النيتروجين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771640" y="2349360"/>
            <a:ext cx="58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أدنين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A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جوانين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ثايمين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سيتوزين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2556000" y="2637000"/>
            <a:ext cx="215640" cy="244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465920" y="378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68360" y="57024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ما ف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م استبدال الثايم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باليوراسي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268360" y="181944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وجد أربعة قواعد نيتروج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5"/>
          <p:cNvGraphicFramePr/>
          <p:nvPr/>
        </p:nvGraphicFramePr>
        <p:xfrm>
          <a:off x="3276720" y="189000"/>
          <a:ext cx="266364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89000"/>
                    <a:ext cx="266364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5292720" y="2841480"/>
          <a:ext cx="2847960" cy="246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2841480"/>
                    <a:ext cx="2847960" cy="24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1265400" y="2703600"/>
          <a:ext cx="2485800" cy="274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5400" y="2703600"/>
                    <a:ext cx="24858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3851280" y="2708280"/>
            <a:ext cx="1317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و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516720" y="5661000"/>
            <a:ext cx="1316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19280" y="5661000"/>
            <a:ext cx="131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د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3"/>
          <p:cNvGraphicFramePr/>
          <p:nvPr/>
        </p:nvGraphicFramePr>
        <p:xfrm>
          <a:off x="395280" y="2781360"/>
          <a:ext cx="1965240" cy="25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781360"/>
                    <a:ext cx="196524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4"/>
          <p:cNvGraphicFramePr/>
          <p:nvPr/>
        </p:nvGraphicFramePr>
        <p:xfrm>
          <a:off x="3333600" y="115920"/>
          <a:ext cx="1893960" cy="27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33600" y="115920"/>
                    <a:ext cx="18939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5"/>
          <p:cNvSpPr/>
          <p:nvPr/>
        </p:nvSpPr>
        <p:spPr>
          <a:xfrm>
            <a:off x="1692360" y="1125360"/>
            <a:ext cx="1231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يميد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11280" y="5699160"/>
            <a:ext cx="1231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ايتوز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540240" y="2844720"/>
          <a:ext cx="2400120" cy="239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40240" y="2844720"/>
                    <a:ext cx="240012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7072200" y="2868480"/>
          <a:ext cx="1830600" cy="234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72200" y="2868480"/>
                    <a:ext cx="18306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9"/>
          <p:cNvSpPr/>
          <p:nvPr/>
        </p:nvSpPr>
        <p:spPr>
          <a:xfrm>
            <a:off x="3954600" y="5699160"/>
            <a:ext cx="1231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اي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259760" y="5699160"/>
            <a:ext cx="1230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ورا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كر الخماس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55640" y="3645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ديوكسي ريبوزي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0920" y="206064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ريبوزي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RN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355608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5292720" y="2060640"/>
            <a:ext cx="339084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25320" y="4302000"/>
            <a:ext cx="81946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ايبوز منقوص الأكسج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ايب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D Deoxyribose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D Rib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يوكليوسيد والنيوكليوت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سيد (قاعدة نيتروجينية + سكر خما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تيد (قاعدة نيتروجينية + سكر خماسي + فوسف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تيد (نيوكليوسيد + فوسف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كون ارتباط القاعدة النيتروجينية بالسكر بواسطة رابطة جلايكوزيدية نيتروجينية بي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رة الكربون رقم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سك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ذرة النيتروج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 rot="5400000">
            <a:off x="4389840" y="4256640"/>
            <a:ext cx="360360" cy="20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7"/>
                </a:lnTo>
                <a:cubicBezTo>
                  <a:pt x="10800" y="10087"/>
                  <a:pt x="5400" y="10987"/>
                  <a:pt x="0" y="10987"/>
                </a:cubicBezTo>
                <a:cubicBezTo>
                  <a:pt x="5400" y="10987"/>
                  <a:pt x="10800" y="11887"/>
                  <a:pt x="10800" y="127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196160" y="55576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ق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ي البريميد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50160" y="556416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ق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ي البيور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0:37:29Z</dcterms:created>
  <dc:creator>farid</dc:creator>
  <dc:description/>
  <dc:language>en-US</dc:language>
  <cp:lastModifiedBy>ksu</cp:lastModifiedBy>
  <dcterms:modified xsi:type="dcterms:W3CDTF">2014-01-12T05:46:30Z</dcterms:modified>
  <cp:revision>67</cp:revision>
  <dc:subject/>
  <dc:title>كيمياء حيوية  الأحماض النووية</dc:title>
</cp:coreProperties>
</file>