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dt" idx="18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19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20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7369-E70B-4BA1-8B21-3E8B115A2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DE65-B2A0-47BF-ABC4-068D15B5BDD9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08ED-372B-4CAB-A511-C120F6DF7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DF7C-962C-4452-A803-FBF5407E24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5D1B-F6A4-4BB4-841A-EC26EAC54C1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1492-2F69-4BDA-AD79-852710ED5D9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D32A-6DAF-413F-9EDB-3D1B5F51B1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49C49-1A7E-4799-B387-508516379D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7B4A-9ED3-4A7F-9570-DAC7881284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4477-5480-4A38-AB84-8301E14B347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DB7AE-D21D-4856-A301-B6ACE0E833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D4B3-4E37-4BEB-80FE-E05A4BFE0C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BC8E-1005-4BC0-AACC-38D36F0AA7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B6335-2687-486F-871C-918206A53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38FC-17A0-450B-AB12-1B1CE2336E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BDD19-38D1-4943-9563-043B010B827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95492-E279-4CE5-9C87-DF652E1B4A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AB9D5-A452-4785-8FC6-2271D0D0CC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2F4F3-6CE8-4D37-A75A-E07E62303C5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FF055-0708-436B-B8B7-0FF44E7C4A7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7F74D-FD44-472B-957E-E64551C088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CEC9E-DF0E-4A7C-B152-92C7EB9173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B8CEF-5E24-44AC-A3B3-168D459E30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C10AD-D92F-4807-96DD-413E7387034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4ED18-2B72-4DC8-8A85-6C344912A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80D3-F320-4B82-A5E8-41165774C5E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79C63-708B-430D-958C-D8FF312987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11190-839F-4C00-B757-40DB6DDEC84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C4C53-2E0A-45A7-814A-B883B2CF4B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17FD1-29CD-445A-88CA-483AC4CF47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A8CBB-0C0F-4799-94E7-9F87E5DA78F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02699-62DC-4AC7-A099-B86CC4E6743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E1344-9F1D-4DCE-9DCD-A47BA4C2B8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1BCD2-B7D1-4564-B75F-9875B27BD63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A2CBC-F343-4659-B43D-E9E99BC573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5BD43-F16B-4342-899E-4105CA972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6D7D-8A95-41A4-AD51-C3F704EF4B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C0D43-5DF9-403A-ACD5-E053B66907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0C7E7-25D6-41E1-8B49-5BEEC9F5DB2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F157A-A248-4879-996C-43DAF9B41B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0848-F00F-476D-8DB7-B05C769E236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DD4D2-F2B7-4FD3-95C4-ED0D23B399C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9456-2D8D-41B9-BFB6-826B317A3BC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7240-3775-456B-8531-29E8BFF834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DB37-6040-4442-933D-213758D1C2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B9197-AD4B-4FF9-81F3-8E41DBEE093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87B5-D099-4BB3-B63B-B22140482C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D386-F583-4330-ACB0-6049DA89B98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30A5-5591-430C-B51F-FDCF7854CC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B7C9B-1A4E-4A9B-83B4-EDEF314577D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756A-E725-4F9C-B39A-AB70BB483E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DC70-FB12-4948-BF3A-CFC498452C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0F83-7473-46C4-B67A-F5AEAA7A9DC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ED5A2-0F69-46EA-B271-D818FBABE54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FB3044-4315-46CE-B1A7-2896E2B178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F4EE8-BF79-4EA1-B2AA-116DE72EF3B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F3DA7-C6FD-4AC6-9F19-0E32B7155D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22E75-B5C2-4FD0-8E67-180EC3F0D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E0D0-B221-4224-8754-8E149B6265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261CBD-E5B6-4AB4-97F4-F252C682204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504F6-797C-43C0-A213-D0D807CBC71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66B97-BAF9-4711-948A-4A8B0BE6B7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93D19-058B-4AB0-96AE-B5D0C0862C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8FF53-8456-4EE5-ADE1-068BBEE9A5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E1C9A-4974-4030-ABA0-403AD42CF3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A0E06-7A5B-4CBB-88BA-45FD619C193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8017A-4008-4BD1-8D92-F6401D7AFF4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C1387-3892-4E20-89EF-5316E88ACB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F12BE-D0FF-48ED-8F4A-01A502ED8E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9B81-9A0B-4C11-87A8-D0F349D5921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114E1-FAA1-40F9-9FAA-BF3A09E4559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FDAD6-9E1C-478B-802C-55A44DFFCA8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54319-A5C0-4053-9B6C-122739D6B8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9D17B-9A08-4283-BEB6-F7F6487803D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63E28-47C9-4CB2-8952-2A25881546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13EA30-3FF1-469B-81A0-5EA6837529C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E87CB-531A-40F5-AAAD-D22B60023AD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A6BCA-B2AC-4C06-B283-155CF2119B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5758E-45B0-4350-AFC1-B7D1DC531AA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4D33-ADD7-4FC2-9BD3-50003C965E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3719-CB69-4327-AE3E-B64EF8CC368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A6BA-7CF1-4F36-9A4B-5860A6BD2FE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5E5C-625C-4264-80C9-C989F9395D7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BC76-D893-4DEF-A2B9-53BD1DB573B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1183-700B-4C86-A040-A263E5816A0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83F5B-7614-472F-8BF3-3974A57ABCB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7E00E-ED2D-4985-BE29-B901CD52F58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D63B-523C-4B61-B170-0A4A5FD7D9C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CEFE-A2F6-40F9-9A96-8F049F40928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A69B-568D-4EE7-9B3F-F023E838317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50B7-687A-4A35-9660-F966753228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6192-D9CD-4EBD-AF6A-8A958DD2165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6A03-A7FF-4FF5-84CA-D4B3643401B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D047B-9507-4E2D-8E64-DAE940781D9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BE0B7-E637-4D47-A8B0-D07F47D5855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A21CB0-FDB3-4EED-BA41-8CB6B47332B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2EA12-BA3B-494C-B1A1-C138E9CFFFA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2C4D3D-1604-400D-8CF1-546A15E893E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D03B5-53B1-4263-956E-8E75ACE1FF3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424EC-4732-4997-8E77-607D75F2D6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A6307-3377-49A2-870C-4C935524E84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644C83-C1ED-40D5-8497-B55388F02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426B-2E70-4AC2-A80F-EB33B018C62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BA1D3-3289-4CC8-92E3-5F107C3506B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B006E-C54C-46BB-9469-0AACD104DB9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300527-4D01-48C4-BF39-D29E57DA648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0CC6C-95B3-47F3-9120-B033CE213CF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C27E8-855D-46BB-8CA5-CFFC396D29F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91D27-699C-46DB-B4F0-BC81059F544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10B5B7-E55A-4E9F-A770-1EAE6E4E7C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92748-92BA-48A8-B79F-18942949088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94593-8F89-47F4-B83B-22D2B3F69D8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9644F-4358-473F-A8C8-E654812C9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16BD-F3A1-4262-ACBC-45F08BE76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84CB-588A-4CA5-9C2E-343175D840F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F59AD-26A6-4B20-86E8-661BAC3237D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C2FF5-33B1-4D5B-AADA-FAF4D07BC78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2176F-D92C-4736-8128-A957A44BD6C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D869C-84AF-4BFA-8B97-137E7BB1634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F56BD-4B13-4B51-BC41-7877A4E694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06A3-24F4-4324-A503-AFA44BC952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3859-3D32-4A04-93A0-4466B93B0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4EF91-46DB-478C-A749-F179CE0257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BE14-83E0-48FA-AE93-771BA85C24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3B0-F896-441A-B0EC-91A7DB3EA7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D2C-EAD8-4B4C-AEF2-5E7B1B7912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B9D-2055-46A2-A208-71B06B914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894-42B2-434C-99AD-D83AE99F82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AF3-C2C7-4F5B-8720-91ACA9201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D362-CCDF-425A-A9D7-0DA8B5AF3D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686-2614-420C-B13E-1151C5CED9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D97-4DF5-4CD8-8566-C9E3A816AB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FD7-B696-4116-8766-1D683244A7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390-8077-4F05-B595-E6C923CBF3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8C7-53D8-451F-9BD7-2C41308547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76F-30F9-4F84-9ED3-BD191BCF7F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C21-73A3-47DB-A62A-50B23F9004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63CAA-A767-4449-8F63-52E516313A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E3C8-3A7A-42B2-B32F-E82A9489BF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FDB1A-58B2-461B-8FBF-E4B0B3E0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32E9-2BFA-4F8E-94BB-F960CBD03A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1B0C5-14CF-4635-9956-2A06008498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E04D0-5B63-4CAC-B24D-7957A6B2DB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CE3D8-6D84-4E78-8B5C-ECA706F799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9FAD0-28D6-49A4-8444-A938DC6853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FF0DC-030B-4C35-BA28-BCCD1D30C6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AA2B1-75FC-40DA-94EC-7B6EBE90BAE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05B9A-2085-49DD-98D1-C5045D4FC8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DBAF-CF79-46BF-9D36-CEB5A30942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07A2E-5F3F-46E4-8AC1-9F361D2DE5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749BC-FF9C-4A9C-BF6D-AB941AD99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A6DE-A50F-4D8B-B995-F9BACCF402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4831A-BF44-4736-8FB6-3DD5F00B614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4FBD-C37A-4E21-8BE6-BB916CF10F7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B1809-AA0E-4F0F-85E8-FA9F6B535F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946A6-E2BA-458D-86F0-762C631EFB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B38C-B204-4BE8-A7D7-FFB86B4138C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EDF18-D5FF-4104-AA65-D6C8ACD2C7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86EC0-B4A0-42A2-82AF-BDB25E995E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194E-1383-4920-83E9-A4409746BA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CB108-4A74-4A2F-9880-F36294898C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CD980-622B-45B7-AD7B-F9D2C4388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1886-6533-481E-B45E-9DF562420C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A3E6-DF15-41BC-8947-72143A93EC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EF7-DBA0-4BBE-8730-EBD29DD363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92C3-0945-4D29-A836-F96D515571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511-FAE1-4E65-BC14-AEAF9ABD0B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9D1-7FB3-4D26-A252-A104F00B2A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4D65-DDD5-4F14-9DF8-F71A96B090F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130-1544-4DA2-B9AE-599656326C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CFEC-0F1B-44BA-97E5-2D00DBCBE2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56F-6C94-4B0A-9CBF-7518375C12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0F4-AE97-429C-9238-FFFC267F1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DB36-ACA3-439F-9E8F-6BFA13537B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68F6-CABD-439E-A12C-EE2AAAA281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A41-EA7F-4662-8A95-3631F9EAD5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5CA5-9BAF-4099-ACBA-C654906E367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7C039-1CE4-41C0-89BA-669FDA8AEF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890EA-D16F-4F32-8200-20D10E241A6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9742D-5530-4A4E-B909-19C89CF297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FD41C-8CC2-44D1-9A91-9F70FF4B333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C1CB6-8F52-4D9C-B333-5259234C78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76B849-7519-4755-9716-BF79C523064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27671-D289-4607-80B5-751DE7FF9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20DE-4EC0-4857-80C2-6637549B1E8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41180-35C5-4000-8A13-D0D39D62F1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DD7BE-9083-4171-8C1A-D3EEBF1944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48643F-3F07-4E46-BEE9-AA2C053B42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645BB-C220-47AC-9405-562978791A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8592E-C421-4EA2-AC0C-1C83FBA420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00355-74FB-407B-A3B8-A2360E9E78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70306-2108-41E4-B6AB-E226C1BFAF3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BCC17-6459-4D2D-9EC8-CCF4F20F1CD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7B6DA-0197-4344-A87E-03E1875558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81DEF-45D2-414B-94AD-CB3664119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0152-2DC7-44CA-8C1E-274CF144761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01FE0-71CA-4AA0-8EE4-CBEBCC7B0B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3F429-29E2-4787-9804-E9D517E4FF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BD10F-998D-41CC-BC74-0A0EFBA006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8C41D-A670-4FB2-BF80-D90CAF4C4C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16A11-A894-4442-93D1-3C09DBBBFA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A2A73-FA6E-4E72-A860-284DFE221C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E72AC-15EA-4078-8D1B-020BAF33430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B63A-67EF-4F62-AB8E-089E8671AF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EB48-A1B5-4A96-99B4-BD7DD00CE95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395F-EAF4-48FA-A3DA-B02C8367C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DB3-D16E-4511-9597-E036C85B9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A9F-3422-4550-A079-04EC762EEEEC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C87A-D60B-4B73-9D26-699C2E18E82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121-9C79-49FA-9E45-B4DE404A8FD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BCB-ECE7-4AAE-A304-79CCA4D0D30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F63-DDC6-432B-A7AA-CE7D12B1369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EF15-092D-47EF-9CCF-EAB7AE226FAA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1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39F-EA07-4E4F-A7AC-D14D0DE713D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1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CB5-2AD2-4710-A3E6-4AD321F15B3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D9D-7584-4390-A5E2-DBC41504F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2A0-3DE6-43F5-8B97-B389C64C05A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880-3B55-4DB0-BAE2-4AC134196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5128-FBCB-4A28-8738-2EBDFEBEA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FE4-A37E-4AFE-8064-79D1211EE9E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5C1-D3F3-490E-9208-3E4B8FD304D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6BE-3BC4-40D3-B941-ABDA5FABDBC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5B7C-95C8-44C5-9314-5D6598EFA0B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630C-20FF-4C8A-B554-8755B41532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extended form of BNF not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pper-cas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letters represen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served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ord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wer-cas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letters represen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user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ord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s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choi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mong alternativ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urly brace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{ }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required elemen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uare brackets [ ]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 an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ptional element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dicates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ptional repetition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0 or more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CD4-3D0F-41E8-A89D-8974854BFE2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Literal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terals are constants used in SQL stat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non-numeric literals must be enclosed in single quotes (e.g. ‘London’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numeric literals must not be enclosed in quotes (e.g. 650.00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97F-66DC-4787-8049-DF8321EB34CE}" type="slidenum">
              <a:rPr b="1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1" name="Picture 3" descr="Tables.jpg"/>
          <p:cNvPicPr/>
          <p:nvPr/>
        </p:nvPicPr>
        <p:blipFill>
          <a:blip r:embed="rId1"/>
          <a:srcRect l="3159" t="0" r="105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A86-75B7-4B40-A07C-B5034F72BCB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[DISTINCT | ALL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{* | [columnExpression [AS newName]] [,...] }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bleName [alias] [, ...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WHE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GROUP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List]  [HAV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[ORDER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List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C18-4324-4706-9257-B55E1BC9FA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table(s) to be us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lters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ROUP B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ms groups of rows with sa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ING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lters groups subject to so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di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which columns are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pear in outpu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fies the order of the outpu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3AB-71DE-44BE-8D56-B48AF032BE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of the clauses cannot be chang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ly SELECT and FROM are mandato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C6C-4376-4A4D-8057-EA34359A078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  All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full details of all staff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address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osition, sex, DOB, salary,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* as an abbreviation for ‘all columns’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A19-E725-4ED3-998B-7D6B24ADFDC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  All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50" name="Picture 12" descr="DS3-Table 05-01"/>
          <p:cNvPicPr/>
          <p:nvPr/>
        </p:nvPicPr>
        <p:blipFill>
          <a:blip r:embed="rId1"/>
          <a:stretch/>
        </p:blipFill>
        <p:spPr>
          <a:xfrm>
            <a:off x="468360" y="1757520"/>
            <a:ext cx="7989840" cy="342396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D8B-23CC-43D2-B76C-E79963FD446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  Specific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 list of salaries for all staff, showing only  staff number, first and last names, and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CFFE-96DC-4B55-8815-434ACFA06E7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  Specific Columns, All Ro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758" name="Picture 6" descr="DS3-Table 05-02"/>
          <p:cNvPicPr/>
          <p:nvPr/>
        </p:nvPicPr>
        <p:blipFill>
          <a:blip r:embed="rId1"/>
          <a:stretch/>
        </p:blipFill>
        <p:spPr>
          <a:xfrm>
            <a:off x="1066680" y="1676520"/>
            <a:ext cx="5089680" cy="404640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161-B257-47CD-BAC3-D2C9EF8045B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6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urpose and importance of SQ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to retrieve data from single relation using SELEC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3E43-EEE8-4E13-BEAF-78421FB6EB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  Use of DISTIN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the property numbers of all properties that have been view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3" name="Picture 7" descr="DS3-Table 05-03a"/>
          <p:cNvPicPr/>
          <p:nvPr/>
        </p:nvPicPr>
        <p:blipFill>
          <a:blip r:embed="rId1"/>
          <a:stretch/>
        </p:blipFill>
        <p:spPr>
          <a:xfrm>
            <a:off x="5791320" y="3276720"/>
            <a:ext cx="2192040" cy="317664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856C-2B2B-40BE-B681-9F35D0BF90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3  Use of DISTINCT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DISTINCT to eliminate duplicat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DISTINCT property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68" name="Picture 1029" descr="DS3-Table 05-03b"/>
          <p:cNvPicPr/>
          <p:nvPr/>
        </p:nvPicPr>
        <p:blipFill>
          <a:blip r:embed="rId1"/>
          <a:stretch/>
        </p:blipFill>
        <p:spPr>
          <a:xfrm>
            <a:off x="2895480" y="3581280"/>
            <a:ext cx="1779840" cy="243864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642-4DA0-45E9-8B32-930F6D5CC4E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  Calculated Fiel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list of monthly salaries for all staff, showing staff number, first/last name, and 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/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73" name="Picture 4" descr="DS3-Table 05-04"/>
          <p:cNvPicPr/>
          <p:nvPr/>
        </p:nvPicPr>
        <p:blipFill>
          <a:blip r:embed="rId1"/>
          <a:stretch/>
        </p:blipFill>
        <p:spPr>
          <a:xfrm>
            <a:off x="1692360" y="3643200"/>
            <a:ext cx="4680000" cy="286380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5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C07-6B5D-466F-822E-56AEB1CF70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4  Calculated Fiel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name column, use AS claus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/12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 monthly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SQL expression in the SELECT list can specify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rived or calculated fiel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lumns referenced in the arithmetic expression must have a numeric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QL expression can involve + ,  -  ,  *  ,  /  ,  (  ,  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Date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SQL (DML)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3AD4-4A20-4B72-9DEE-31EF4F3C4405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Row Selection (WHERE clause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228600" y="1714680"/>
            <a:ext cx="86868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lause consists of five basic search conditi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mparison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mpare the value of one expression to the value of another expression (= , &lt;, &gt;, &lt;=, &gt;=, &lt; &gt;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ange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the value of an expression falls within a specified range of values (BETWEEN/ NOT BETWEEN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t membership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the value of an expression equals one of a set of values (IN/ NOT IN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ttern match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a string matches a specified pattern (LIKE/ NOT LIKE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ULL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est whether a column has null value (IS NULL/ IS NOT NULL)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6C4E-023A-46B0-9823-CC0E656439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5  Comparison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mpound comparison operators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ND, OR, NOT, ( 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rder of evaluation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1)Expression is evaluated left to right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2)Between bracket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3)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4)AND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5)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List all staff with a salary greater than 10,00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alary &gt; 10000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7" name="Picture 4" descr="DS3-Table 05-05"/>
          <p:cNvPicPr/>
          <p:nvPr/>
        </p:nvPicPr>
        <p:blipFill>
          <a:blip r:embed="rId1"/>
          <a:stretch/>
        </p:blipFill>
        <p:spPr>
          <a:xfrm>
            <a:off x="1143000" y="4010040"/>
            <a:ext cx="6705720" cy="25146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EBC-70F2-45ED-83E7-34D08E9726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6  Compound Comparison Search Condition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ddresses of all branch offices in London or Glasgow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city = ‘London’ OR city = ‘Glasgow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2" name="Picture 4" descr="DS3-Table 05-06"/>
          <p:cNvPicPr/>
          <p:nvPr/>
        </p:nvPicPr>
        <p:blipFill>
          <a:blip r:embed="rId1"/>
          <a:stretch/>
        </p:blipFill>
        <p:spPr>
          <a:xfrm>
            <a:off x="1600200" y="4221000"/>
            <a:ext cx="6500880" cy="21528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7AA-7490-4E11-B7F8-5029BD5CBF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staff with a salary between 20,000 and 30,000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BETWEEN 20000 AND 30000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0560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WEEN test includes the endpoints of ran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o any staff with a salary of 20000 or 30000 would be included in the resul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BCEE-692B-404C-89E1-CD843A10E42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00" name="Picture 1029" descr="DS3-Table 05-07"/>
          <p:cNvPicPr/>
          <p:nvPr/>
        </p:nvPicPr>
        <p:blipFill>
          <a:blip r:embed="rId1"/>
          <a:stretch/>
        </p:blipFill>
        <p:spPr>
          <a:xfrm>
            <a:off x="990720" y="1676520"/>
            <a:ext cx="6933960" cy="274140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6F22-07FB-4C3A-BED9-F45ACEB2D62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7  Range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so a negated version NOT BETWEE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WEEN does not add much to SQL’s expressive power. Could also writ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alary&gt;=20000 AND salary &lt;= 30000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ful, though, for a range of valu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FCA-CF9B-4F7F-82CC-BFF8E229E7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deally, database language should allow user to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reate the database and relation structures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erform insertion, modification, deletion of data from relations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erform simple and complex que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must be por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868-09C0-45FD-9009-4B8F22C4515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8  Set Membership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all managers and superviso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IN (‘Manager’, ‘Supervisor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09" name="Picture 5" descr="DS3-Table 05-08"/>
          <p:cNvPicPr/>
          <p:nvPr/>
        </p:nvPicPr>
        <p:blipFill>
          <a:blip r:embed="rId1"/>
          <a:stretch/>
        </p:blipFill>
        <p:spPr>
          <a:xfrm>
            <a:off x="1523880" y="3962520"/>
            <a:ext cx="5712120" cy="247644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5A46-B9EE-4C1E-B3F6-CF6B05ECAC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8  Set Membership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is a negated version (NOT IN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does not add much to SQL’s expressive power. Could have expressed this a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position=‘Manager’ 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osition=‘Supervisor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 is more efficient when set contains many valu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3824-D694-4315-9925-8C93FF1FC5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9  Pattern Match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14080" y="15238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all owners with the string ‘Glasgow’ in their addres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ownerNo, fName, lName, address, tel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ivateOwn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address LIKE ‘%Glasgow%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8" name="Picture 4" descr="DS3-Table 05-09"/>
          <p:cNvPicPr/>
          <p:nvPr/>
        </p:nvPicPr>
        <p:blipFill>
          <a:blip r:embed="rId1"/>
          <a:stretch/>
        </p:blipFill>
        <p:spPr>
          <a:xfrm>
            <a:off x="990720" y="4191120"/>
            <a:ext cx="6781680" cy="220968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A400-A4A1-4159-81E9-69AD3C7EF4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9  Pattern Match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451"/>
              </a:spcBef>
              <a:spcAft>
                <a:spcPts val="561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QL has two special pattern matching symbol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%: sequence of zero or more character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>
              <a:spcBef>
                <a:spcPts val="451"/>
              </a:spcBef>
              <a:spcAft>
                <a:spcPts val="56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_ (underscore): any single charact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spcBef>
                <a:spcPts val="56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LIKE ‘%Glasgow%’ means a sequence of characters of any length containing ‘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Glasgow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’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 algn="just">
              <a:spcBef>
                <a:spcPts val="56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ll other characters in the pattern represent themselves. For 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H%’ means the first character must be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, but the rest of the string can be anythin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H_ _ _’ means that there must be exactly four characters in the string, the first of which must be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%e’ means any sequence of characters, of length at least 1, with the last character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LIKE ‘%Glasgow%’ means a sequence of characters of any length  containing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Glasgow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-245520" algn="just">
              <a:spcBef>
                <a:spcPts val="56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dress  NOT LIKE ‘H%’ means the first character cannot be an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39000" indent="0" algn="just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D95F-0D58-40F9-815D-F48B5D5B1B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0  NULL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8093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details of all viewings on property PG4 where a comment has not been supplied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2 viewings for property PG4, one with and one without a comm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e to test for null explicitly using special keyword IS NUL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lientNo, viewDa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View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ropertyNo = ‘PG4’ AND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ent IS NULL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4A0-E448-4CF5-8E4C-80E8D09960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0  NULL Search Cond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6850080" cy="34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gated version (IS NOT NULL) can test for non-null valu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31" name="Picture 6" descr="C05NT10"/>
          <p:cNvPicPr/>
          <p:nvPr/>
        </p:nvPicPr>
        <p:blipFill>
          <a:blip r:embed="rId1"/>
          <a:stretch/>
        </p:blipFill>
        <p:spPr>
          <a:xfrm>
            <a:off x="1908000" y="1773360"/>
            <a:ext cx="3787920" cy="19382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35EB-9762-49E2-A4F1-F3A93C1460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1  Sing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876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llow the retrieved records to be ordered in ascending (ASC) or descending order (DESC) on any column or combination of colum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salaries for all staff, arranged in descending order of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sal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salary DESC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8C50-2FE8-45E4-825A-E390227F45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1  Sing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39" name="Picture 5" descr="DS3-Table 05-11"/>
          <p:cNvPicPr/>
          <p:nvPr/>
        </p:nvPicPr>
        <p:blipFill>
          <a:blip r:embed="rId1"/>
          <a:stretch/>
        </p:blipFill>
        <p:spPr>
          <a:xfrm>
            <a:off x="990720" y="1676520"/>
            <a:ext cx="4952880" cy="397008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86B-1EB7-4CB4-8112-10D0420001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duce abbreviated list of properties in order of property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, type, rooms, 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type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BD24-8AB8-4CFC-A53D-6CB52EC30B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47" name="Picture 1029" descr="DS3-Table 05-12a"/>
          <p:cNvPicPr/>
          <p:nvPr/>
        </p:nvPicPr>
        <p:blipFill>
          <a:blip r:embed="rId1"/>
          <a:stretch/>
        </p:blipFill>
        <p:spPr>
          <a:xfrm>
            <a:off x="1066680" y="1676520"/>
            <a:ext cx="4800600" cy="403056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9A50-E474-42C2-A08C-6AFE731C9C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is a transform-oriented language with 2 major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DL for defining database structu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DML for retrieving and updating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096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5280" indent="-3052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til SQL:1999, SQL did not contain flow of control commands. These had to be implemented using a programming or job-control language, or interactively by the decisions of us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81C8-F49D-4FE1-B9CB-43DE932FA7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22360" y="1557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ur flats in this list - as no minor sort key specified, system arranges these rows in any order it choo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arrange in order of rent, specify minor ord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propertyNo, type, rooms, 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type, rent DESC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B8D-662E-410F-95EB-4DF32A1BBBB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2  Multiple Column Order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855" name="Picture 6" descr="DS3-Table 05-12b"/>
          <p:cNvPicPr/>
          <p:nvPr/>
        </p:nvPicPr>
        <p:blipFill>
          <a:blip r:embed="rId1"/>
          <a:stretch/>
        </p:blipFill>
        <p:spPr>
          <a:xfrm>
            <a:off x="1066680" y="1676520"/>
            <a:ext cx="4800600" cy="407664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9B7A-2AC2-4F25-8AF0-AE34DBA45D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37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O standard defines five aggregate funct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turns number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sum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average of values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smallest value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urns largest value in specified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F4C8-F8E1-41BA-9E66-5EEF816B78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ach operates on a single column of a table and returns a single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, MIN, and MAX apply to numeric and non-numeric fields, but SUM and AVG may be used on numeric fields onl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part from COUNT(*), each function eliminates nulls first and operates only on remaining non-null valu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7CA4-9F69-4CE6-B5ED-33CEF7492A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38120" y="1557360"/>
            <a:ext cx="816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(*) counts all rows of a table, regardless of whether nulls or duplicate values occu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use DISTINCT before column name to eliminate duplicat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ISTINCT has no effect with MIN/MAX, but may have with SUM/AV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D7D1-542B-4988-BCA2-02FE0F39E30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Aggregat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01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ggregate functions can be used only in SELECT list and in HAVING clau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ELECT list includes an aggregate function and there is no GROUP BY clause, SELECT list cannot reference a column out with an aggregate function. For example, the following is illegal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COUNT(salar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31D6-9F67-4736-9B22-FF55E2E7D1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3  Use of COUNT(*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many properties cost more than £350 per month to rent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OUNT(*) AS myCou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rent &gt; 350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76" name="Picture 11" descr="C05NT13"/>
          <p:cNvPicPr/>
          <p:nvPr/>
        </p:nvPicPr>
        <p:blipFill>
          <a:blip r:embed="rId1"/>
          <a:stretch/>
        </p:blipFill>
        <p:spPr>
          <a:xfrm>
            <a:off x="5724360" y="3933720"/>
            <a:ext cx="2232360" cy="206244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A534-5451-457F-A79C-EFF79D4F52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4  Use of COUNT(DISTINCT)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w many different properties viewed in May ‘04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COUNT(DISTINCT propertyNo) AS myCou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View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viewDate BETWEEN ‘1-May-04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D ‘31-May-04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81" name="Picture 12" descr="C05NT14"/>
          <p:cNvPicPr/>
          <p:nvPr/>
        </p:nvPicPr>
        <p:blipFill>
          <a:blip r:embed="rId1"/>
          <a:stretch/>
        </p:blipFill>
        <p:spPr>
          <a:xfrm>
            <a:off x="5651640" y="3789360"/>
            <a:ext cx="1944720" cy="190332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1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725-9B07-4A7F-BD07-50FE6264C8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5  Use of COUNT and SUM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8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Managers and sum of their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COUNT(staffNo) AS myCount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position = ‘Manager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86" name="Picture 12" descr="C05NT15"/>
          <p:cNvPicPr/>
          <p:nvPr/>
        </p:nvPicPr>
        <p:blipFill>
          <a:blip r:embed="rId1"/>
          <a:stretch/>
        </p:blipFill>
        <p:spPr>
          <a:xfrm>
            <a:off x="4211640" y="4626000"/>
            <a:ext cx="3456000" cy="1863720"/>
          </a:xfrm>
          <a:prstGeom prst="rect">
            <a:avLst/>
          </a:prstGeom>
          <a:ln w="0">
            <a:noFill/>
          </a:ln>
        </p:spPr>
      </p:pic>
      <p:sp>
        <p:nvSpPr>
          <p:cNvPr id="887" name="Text Box 14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4F85-C5C8-4AF2-A611-29AB4D6889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6  Use of MIN, MAX, AV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minimum, maximum, and average staff sal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MIN(salary) AS myMin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AX(salary) AS myMax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VG(salary) AS myAv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1" name="Picture 13" descr="C05NT16"/>
          <p:cNvPicPr/>
          <p:nvPr/>
        </p:nvPicPr>
        <p:blipFill>
          <a:blip r:embed="rId1"/>
          <a:stretch/>
        </p:blipFill>
        <p:spPr>
          <a:xfrm>
            <a:off x="3851280" y="4581360"/>
            <a:ext cx="4105440" cy="165600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1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8C7C-F045-436B-B9A4-1978A72D248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is relatively easy to lear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is non-procedural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ou specify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formation you require, rather than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get i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 is essentially free-format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sentences do not have to be typed at particular location on scree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4B5F-A3BE-4B16-AE00-C1A83E28B8FB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0680" y="759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5" name="Rectangle 4"/>
          <p:cNvSpPr/>
          <p:nvPr/>
        </p:nvSpPr>
        <p:spPr>
          <a:xfrm>
            <a:off x="1219320" y="2666880"/>
            <a:ext cx="3047760" cy="2286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1220760" y="2286000"/>
            <a:ext cx="304812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6"/>
          <p:cNvSpPr/>
          <p:nvPr/>
        </p:nvSpPr>
        <p:spPr>
          <a:xfrm>
            <a:off x="1367640" y="34434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1393560" y="23004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N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8"/>
          <p:cNvSpPr/>
          <p:nvPr/>
        </p:nvSpPr>
        <p:spPr>
          <a:xfrm>
            <a:off x="2209680" y="2286000"/>
            <a:ext cx="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459520" y="3443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2519280" y="2286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Line 11"/>
          <p:cNvSpPr/>
          <p:nvPr/>
        </p:nvSpPr>
        <p:spPr>
          <a:xfrm>
            <a:off x="3276720" y="2286000"/>
            <a:ext cx="0" cy="2666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12"/>
          <p:cNvSpPr/>
          <p:nvPr/>
        </p:nvSpPr>
        <p:spPr>
          <a:xfrm>
            <a:off x="3354120" y="230040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ALARY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13"/>
          <p:cNvSpPr/>
          <p:nvPr/>
        </p:nvSpPr>
        <p:spPr>
          <a:xfrm>
            <a:off x="3368520" y="34434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14"/>
          <p:cNvSpPr/>
          <p:nvPr/>
        </p:nvSpPr>
        <p:spPr>
          <a:xfrm>
            <a:off x="1367640" y="37926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15"/>
          <p:cNvSpPr/>
          <p:nvPr/>
        </p:nvSpPr>
        <p:spPr>
          <a:xfrm>
            <a:off x="2434320" y="37926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2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16"/>
          <p:cNvSpPr/>
          <p:nvPr/>
        </p:nvSpPr>
        <p:spPr>
          <a:xfrm>
            <a:off x="3368520" y="3792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17"/>
          <p:cNvSpPr/>
          <p:nvPr/>
        </p:nvSpPr>
        <p:spPr>
          <a:xfrm>
            <a:off x="1371600" y="4533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18"/>
          <p:cNvSpPr/>
          <p:nvPr/>
        </p:nvSpPr>
        <p:spPr>
          <a:xfrm>
            <a:off x="2434320" y="41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4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19"/>
          <p:cNvSpPr/>
          <p:nvPr/>
        </p:nvSpPr>
        <p:spPr>
          <a:xfrm>
            <a:off x="3404880" y="4129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6019920" y="3367080"/>
            <a:ext cx="205560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6021360" y="2971800"/>
            <a:ext cx="20559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25"/>
          <p:cNvSpPr/>
          <p:nvPr/>
        </p:nvSpPr>
        <p:spPr>
          <a:xfrm>
            <a:off x="6400800" y="34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26"/>
          <p:cNvSpPr/>
          <p:nvPr/>
        </p:nvSpPr>
        <p:spPr>
          <a:xfrm>
            <a:off x="6192000" y="29718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un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Line 27"/>
          <p:cNvSpPr/>
          <p:nvPr/>
        </p:nvSpPr>
        <p:spPr>
          <a:xfrm>
            <a:off x="7085160" y="2986200"/>
            <a:ext cx="0" cy="1600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28"/>
          <p:cNvSpPr/>
          <p:nvPr/>
        </p:nvSpPr>
        <p:spPr>
          <a:xfrm>
            <a:off x="7315920" y="29862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u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Text Box 29"/>
          <p:cNvSpPr/>
          <p:nvPr/>
        </p:nvSpPr>
        <p:spPr>
          <a:xfrm>
            <a:off x="7176960" y="34434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4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Text Box 31"/>
          <p:cNvSpPr/>
          <p:nvPr/>
        </p:nvSpPr>
        <p:spPr>
          <a:xfrm>
            <a:off x="6400800" y="3792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32"/>
          <p:cNvSpPr/>
          <p:nvPr/>
        </p:nvSpPr>
        <p:spPr>
          <a:xfrm>
            <a:off x="7176960" y="3792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34"/>
          <p:cNvSpPr/>
          <p:nvPr/>
        </p:nvSpPr>
        <p:spPr>
          <a:xfrm>
            <a:off x="6400800" y="41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5"/>
          <p:cNvSpPr/>
          <p:nvPr/>
        </p:nvSpPr>
        <p:spPr>
          <a:xfrm>
            <a:off x="7176960" y="41292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52"/>
          <p:cNvSpPr/>
          <p:nvPr/>
        </p:nvSpPr>
        <p:spPr>
          <a:xfrm>
            <a:off x="1367640" y="3124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53"/>
          <p:cNvSpPr/>
          <p:nvPr/>
        </p:nvSpPr>
        <p:spPr>
          <a:xfrm>
            <a:off x="1367640" y="28195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54"/>
          <p:cNvSpPr/>
          <p:nvPr/>
        </p:nvSpPr>
        <p:spPr>
          <a:xfrm>
            <a:off x="1367640" y="41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005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55"/>
          <p:cNvSpPr/>
          <p:nvPr/>
        </p:nvSpPr>
        <p:spPr>
          <a:xfrm>
            <a:off x="2440440" y="3124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1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56"/>
          <p:cNvSpPr/>
          <p:nvPr/>
        </p:nvSpPr>
        <p:spPr>
          <a:xfrm>
            <a:off x="2440440" y="2819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G3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57"/>
          <p:cNvSpPr/>
          <p:nvPr/>
        </p:nvSpPr>
        <p:spPr>
          <a:xfrm>
            <a:off x="2462760" y="4540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9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58"/>
          <p:cNvSpPr/>
          <p:nvPr/>
        </p:nvSpPr>
        <p:spPr>
          <a:xfrm>
            <a:off x="3404880" y="4540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59"/>
          <p:cNvSpPr/>
          <p:nvPr/>
        </p:nvSpPr>
        <p:spPr>
          <a:xfrm>
            <a:off x="3368520" y="3124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60"/>
          <p:cNvSpPr/>
          <p:nvPr/>
        </p:nvSpPr>
        <p:spPr>
          <a:xfrm>
            <a:off x="3354120" y="28195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00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61"/>
          <p:cNvSpPr/>
          <p:nvPr/>
        </p:nvSpPr>
        <p:spPr>
          <a:xfrm>
            <a:off x="4419720" y="2819520"/>
            <a:ext cx="75960" cy="914400"/>
          </a:xfrm>
          <a:custGeom>
            <a:avLst/>
            <a:gdLst>
              <a:gd name="textAreaLeft" fmla="*/ 0 w 75960"/>
              <a:gd name="textAreaRight" fmla="*/ 2736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62"/>
          <p:cNvSpPr/>
          <p:nvPr/>
        </p:nvSpPr>
        <p:spPr>
          <a:xfrm>
            <a:off x="4343400" y="388620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AutoShape 63"/>
          <p:cNvSpPr/>
          <p:nvPr/>
        </p:nvSpPr>
        <p:spPr>
          <a:xfrm>
            <a:off x="4343400" y="45720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4"/>
          <p:cNvSpPr/>
          <p:nvPr/>
        </p:nvSpPr>
        <p:spPr>
          <a:xfrm>
            <a:off x="4572000" y="3276720"/>
            <a:ext cx="137160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65"/>
          <p:cNvSpPr/>
          <p:nvPr/>
        </p:nvSpPr>
        <p:spPr>
          <a:xfrm flipV="1">
            <a:off x="4495680" y="3962160"/>
            <a:ext cx="14479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66"/>
          <p:cNvSpPr/>
          <p:nvPr/>
        </p:nvSpPr>
        <p:spPr>
          <a:xfrm flipV="1">
            <a:off x="4572000" y="4343400"/>
            <a:ext cx="137160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A1F0-B825-476F-A8A9-999556D0C5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14440" y="155736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se GROUP BY clause to get sub-tota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and GROUP BY closely integrated: each item in SELECT list must b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ingle-valued per group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and SELECT clause may only contai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na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gregate func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sta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pression involving combinations of the abo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F23-D38A-46FE-A560-795BBAD3210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ELECT Statement - Group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l column names in SELECT list must appear in GROUP BY clause unless name is used only in an aggregate function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WHERE is used with GROUP BY, WHERE is applied first, then groups are formed from remaining rows satisfying predic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SO considers two nulls to be equal for purposes of GROUP B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24F-5A15-436C-A78D-266FEDEC37A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7  Use of GROUP B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39640" y="152388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number of staff in each branch and their total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ranchNo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UNT(staffNo) AS myCount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ROUP BY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RDER BY branchNo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232-8ECE-4094-86B3-BB3D2FBFF7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7  Use of GROUP B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51" name="Picture 6" descr="C05NT17"/>
          <p:cNvPicPr/>
          <p:nvPr/>
        </p:nvPicPr>
        <p:blipFill>
          <a:blip r:embed="rId1"/>
          <a:stretch/>
        </p:blipFill>
        <p:spPr>
          <a:xfrm>
            <a:off x="1187280" y="1700280"/>
            <a:ext cx="5400720" cy="275904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C68-FC8F-4F29-AABC-155AD0DC43C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ed Groupings – HAVING claus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AVING clause is designed for use with GROUP BY to restrict groups that appear in final result tabl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 to WHERE, but WHERE filters individual rows whereas HAVING filters group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lumn names in HAVING clause must also appear in the GROUP BY list or be contained within an aggregate func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7166-DC2D-4F13-836B-95AA49D4B2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8  Use of HAV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10840" y="1557360"/>
            <a:ext cx="794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each branch with more than 1 member of staff, find number of staff in each branch and sum of their salar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 algn="just">
              <a:lnSpc>
                <a:spcPts val="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branchNo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UNT(staffNo) AS myCount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M(salary) AS my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OUP BY branch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AVING COUNT(staffNo) &gt;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74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branch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B5C0-5B4F-4ED8-849C-1C3DE775C9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8  Use of HAVING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63" name="Picture 6" descr="C05NT18"/>
          <p:cNvPicPr/>
          <p:nvPr/>
        </p:nvPicPr>
        <p:blipFill>
          <a:blip r:embed="rId1"/>
          <a:stretch/>
        </p:blipFill>
        <p:spPr>
          <a:xfrm>
            <a:off x="826920" y="1700280"/>
            <a:ext cx="5400720" cy="23842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BDB-BCA3-4347-AAA3-1C45859AA5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ubqueri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46040" y="1557360"/>
            <a:ext cx="801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ome SQL statements can have a SELECT embedded within them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subselect can be used in WHERE and HAVING clauses of an outer SELECT, where it is called a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subque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nested quer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selects may also appear in INSERT, UPDATE, and DELETE statement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876"/>
              </a:spcBef>
              <a:spcAft>
                <a:spcPts val="876"/>
              </a:spcAft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query always enclosed in parenthe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just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71D7-B366-4E23-A853-9502949506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staff who work in branch at ‘163 Main St’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ranchNo 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SELECT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street = ‘163 Main St’)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3DB0-AA7B-423D-8D1B-743FA5856A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ists of standard English word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1) CREATE TABLE Staff(staffNo VARCHAR(5)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lName VARCHAR(15)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alary DECIMAL(7,2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2) INSERT INTO Staff VALUES (‘SG16’, ‘Brown’, 8300)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3) SELECT staffNo, lName, salar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alary &gt; 10000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20C-436B-4BDC-A6EC-5A7E4FB6D06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ner SELECT finds branch number for branch at ‘163 Main St’ (‘B003’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uter SELECT then retrieves details of all staff who work at this branch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uter SELECT then becom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LECT staffNo, fName, lName, 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HERE branchNo = ‘B003’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E12-4041-43D3-A79B-DA157704C1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19  Subquery with Equa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79" name="Picture 5" descr="DS3-Table 05-19"/>
          <p:cNvPicPr/>
          <p:nvPr/>
        </p:nvPicPr>
        <p:blipFill>
          <a:blip r:embed="rId1"/>
          <a:stretch/>
        </p:blipFill>
        <p:spPr>
          <a:xfrm>
            <a:off x="990720" y="1676520"/>
            <a:ext cx="5638680" cy="31035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0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62B-246F-4D95-A855-01DEBE3549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ist all staff whose salary is greater than the average salary, and show by how muc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lary – (SELECT AVG(salary) FROM Staff) As SalDi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AVG(salary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7C69-48FA-4696-84D0-CC37B4D5F1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not write ‘WHERE salary &gt; AVG(salary)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stead, use subquery to find average salary (17000), and then use outer SELECT to find those staff with salary greater than thi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ELECT staffNo, fName, lName, position,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salary – 17000 As salDi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WHERE salary &gt; 17000;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3176-8797-479C-869F-CE5C16D510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0  Subquery with Aggregat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991" name="Picture 5" descr="DS3-Table 05-20"/>
          <p:cNvPicPr/>
          <p:nvPr/>
        </p:nvPicPr>
        <p:blipFill>
          <a:blip r:embed="rId1"/>
          <a:stretch/>
        </p:blipFill>
        <p:spPr>
          <a:xfrm>
            <a:off x="990720" y="1676520"/>
            <a:ext cx="6750000" cy="304308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0EE-8338-47DA-90C4-ABA242B6C2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ubquery Rul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DER BY clause may not be used in a subquery (although it may be used in outermost SELEC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ubquery SELECT list must consist of a single column name or expression, except for subqueries that use EXI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y default, column names refer to table name in FROM clause of subquery. Can refer to a table in FROM using an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lia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n subquery is an operand in a comparison, subquery must appear on right-hand s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81B3-66FF-4DAA-86DF-C44E07CD76A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1  Nested subquery: use of 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PERTYFORRENT (pno, street, area, city, pcode, type, rooms, rent,s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STAFF (sno, fname, lname, position, sex, DOB, salary, b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RANCH (bno, street, city, postcod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ist properties handled by staff at ‘163 Main St’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LECT propertyNo, street, city, postcode, type, rooms, 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PropertyForR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taffNo 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ELECT staff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branchNo =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ELECT branch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ROM Bran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97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WHERE street = ‘163 Main St’)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848F-9733-4EAE-9109-C78ADD0639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1  Nested subquery: use of I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03" name="Picture 5" descr="DS3-Table 05-21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292716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C7EA-1197-421D-9973-9394BCB632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NY and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8280" y="1557360"/>
            <a:ext cx="8001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Y and ALL may be used with subqueries that produce a single column of number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ith ALL, condition will only be true if it is satisfied b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values produced by subque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ith ANY, condition will be true if it is satisfied by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n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values produced by subque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f subquery is empty, ALL returns true, ANY returns fal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OME may be used in place of AN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AED8-C7E2-468A-B1FD-D218BD59AF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2  Use of ANY/SOM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staff whose salary is larger than salary of at least one member of staff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 SO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ranchNo =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0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1BB-73E2-472A-A6FE-BA384A1A208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Objectives of SQ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52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n be used by range of users including DBAs, management, application developers, and other types of end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ISO standard now exists for SQL, making it both the formal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de fact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tandard language for relational database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CF84-EAC9-49DE-98AD-D05D161102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2  Use of ANY/SOM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ner query produces set {12000, 18000, 24000} and outer query selects those staff whose salaries are greater than any of the values in this se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16" name="Picture 5" descr="DS3-Table 05-22"/>
          <p:cNvPicPr/>
          <p:nvPr/>
        </p:nvPicPr>
        <p:blipFill>
          <a:blip r:embed="rId1"/>
          <a:stretch/>
        </p:blipFill>
        <p:spPr>
          <a:xfrm>
            <a:off x="990720" y="3200400"/>
            <a:ext cx="6750000" cy="299556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6DD1-ACE8-49D0-B4CD-C92A0B0A60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3  Use of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14080" y="1557360"/>
            <a:ext cx="8018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nd staff whose salary is larger than salary of every member of staff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ECT staffNo, fName, lName, position,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salary &gt; 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SELECT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ERE branchNo = ‘B003’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F1B-F262-4D16-AD9D-65954853740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6.23  Use of ALL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024" name="Picture 5" descr="DS3-Table 05-23"/>
          <p:cNvPicPr/>
          <p:nvPr/>
        </p:nvPicPr>
        <p:blipFill>
          <a:blip r:embed="rId1"/>
          <a:stretch/>
        </p:blipFill>
        <p:spPr>
          <a:xfrm>
            <a:off x="539640" y="1628640"/>
            <a:ext cx="6696360" cy="2435400"/>
          </a:xfrm>
          <a:prstGeom prst="rect">
            <a:avLst/>
          </a:prstGeom>
          <a:ln w="0">
            <a:noFill/>
          </a:ln>
        </p:spPr>
      </p:pic>
      <p:sp>
        <p:nvSpPr>
          <p:cNvPr id="102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472-DA95-46BF-A656-B752347B080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statement consists of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served word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user-defined word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rved words are a fixed part of SQL and must be spelt exactly as required and cannot be split across lin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er-defined words are made up by user and represent names of various database objects such as relations, columns,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B5AB-A672-42BE-A807-BC13979260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riting SQL Command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st components of an SQL statement are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e insensitiv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, except for literal character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ore readable with indentation and lineation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ach clause should begin on a new lin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 of a clause should line up with start of other claus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f clause has several parts, should each appear on a separate line and be indented under start of claus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5 of textbook
Database Systems: A Practical Approach to Design, Implementation, and Management</dc:description>
  <dc:language>en-US</dc:language>
  <cp:lastModifiedBy>A.Alnuaim</cp:lastModifiedBy>
  <cp:lastPrinted>1998-06-08T15:17:53Z</cp:lastPrinted>
  <dcterms:modified xsi:type="dcterms:W3CDTF">2017-04-17T06:05:41Z</dcterms:modified>
  <cp:revision>192</cp:revision>
  <dc:subject>Database Systems</dc:subject>
  <dc:title>Chapter 5</dc:title>
</cp:coreProperties>
</file>