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dt" idx="18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19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20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B56-8C10-48D5-8717-03537B2A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77D-9ADC-4533-B14B-912FA35C46D6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65AC-AAA1-48FE-AC09-F6EEE8154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C33B-84B3-480A-990E-D7B7CF0812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AA9C-8D12-4B1A-9405-552E177E9F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1269-731F-4BB3-A5A9-E8C3D4AC4D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BC21-1310-4735-B16B-612711B7AA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1848-AF30-45F0-BF2A-DD215C9DCA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D37B-817F-4F5A-A67C-ADF75E7150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534D-A854-4CA4-95F3-FB3A81E3ED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FA4F-0DE4-427A-B4DE-9AEAB768F1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9B29-9E29-47EA-A16F-EC79F303D0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0421-E993-48DB-BE6F-82B4CF63D4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AF0EF-05DE-4FDF-8D3F-FC2157C43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90A9-4DD2-4197-AA16-2D72F068C2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62364-A3AF-4F46-858A-DAB12726E5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33646-3F79-49FA-B22A-45918727A3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E8159-DA35-4731-A012-6230026EAB1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47BD0-98C1-4CEE-99D5-5F7BF0207E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F5341-C8FD-45CC-9F1A-184605F60B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19E00-B654-4FFA-9D3A-9F5D09D1B0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CB3B9-CEBA-4A68-A20E-8FB72B07FCD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29EBC-26B9-4AF4-81DC-0FE46BC5B8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C7182-A96C-4F3E-B453-3D235DAA5F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A291B-C5BD-4F52-ADAF-AFE62EEAA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7C86-10C4-45E4-ABC9-53B0148E2FA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BE06C-5378-47C8-A428-E737699378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C9A19-5C5A-4451-8607-648C4E0CB3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4E21F-87C6-4EA1-A218-832CF76750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05D48-5FD4-49E4-939F-DA0722B0616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F7395-6073-45D8-86E6-597787FA14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B4E03-75E6-47BA-BA20-EB240EBE5A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AC987-EAD9-4775-AEB5-25AFFC915A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AF265-944A-4FBE-AB23-BAEE7E43F4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57D8C-4DFA-4260-8172-C60220CE832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8B478-35D4-4D35-8558-DBF8A9245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66FD-E42A-412E-9730-AF23DC73F5E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5986E-9017-4349-A2BE-9380CEB924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2A884-FFF0-4023-AD00-97CD393DBC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D7860-702A-4D31-9758-D9F0B3DB65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A0C7-BC06-46E0-B2C6-D0199580308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35A1-51A8-4386-A75E-F229EF6177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904B-7CC0-4CB1-865A-B89736FBB74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B698-4894-4F15-B57C-FD59E30383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06F8-7296-4394-B9A6-137C560CB4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76D6-525C-459E-8E6D-5F486B41D66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FCDA-09D4-4C6F-90D0-E41453EF58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4200-9580-4966-88C2-C69AAE2C89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D5C7-55BF-4830-A40E-353D0162F8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54FF-3D3A-4C34-A33B-C5E28044B8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A908-2326-4B1B-95FA-BDAB85E57C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2EF4-F70C-4F7E-A9B8-F1853CFBF0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0700-695B-4177-9F2C-48440AB722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F807D-61AA-40B2-B5D6-D526DF2620A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2BA66-E6DC-44F0-9F6F-FB2D88D0B9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4EC11-7B3A-493A-8C49-B1AFFAC4CF4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418EB-F982-4711-8B15-A7F29DFEEA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6BD29-EEC9-4D19-B713-A93220E9DA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AC0B-49F2-4AE2-807D-904AF23D27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C6961-E3CC-445A-9441-CB384C1C24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7A00F5-9143-44E3-BF86-ECFADD6B240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996E4-9FE7-4F47-BF84-16E1B0CDF5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8A5B8-AB78-4A61-9695-BA4C3288CC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3650B-B8F4-4169-B216-B18E18F0529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73DE2-6A36-45E9-8925-BE2033B47EB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566A3F-BB26-4D35-A50B-2E5586A7B73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03054-1868-4A10-AE8E-D7F228BE5DF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311DC-4B32-402D-9164-481561C527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6F19B-FF0C-43C3-923F-A388437C0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BA15-56D2-401D-9E44-A8048A8949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5A760-13FD-42E0-B89A-2C1CFBAA354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5C6E3-A466-47EF-8A3B-ED292D3CBEE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54B6D-17E2-4DF5-B8BB-FE1C634B030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F66E0-2F27-4ED5-B822-A7F6F49A3A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7C644-0453-4A6A-8ED6-AC3B39537C7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355E9-A931-4C93-8C0B-A4D2E521311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B051E-9A90-4383-AA8E-034B0708DF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63FFF-E1D0-4AD1-8D29-210AE5A3C79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F8221-C367-4852-BBBD-3EDB3C9C9F7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7A4A-1251-4CD9-BAD0-85339F4612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21E5-A135-42AF-BDED-5A05262EF3E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96A0-502A-4F7E-AB28-41D663A666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F8E3-B2DD-43BC-9590-73FFFB64A9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1A6F-9566-4BDB-956F-EAE8FBCBF25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3B02-980D-4252-ABF1-0C98710050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73EA-12BA-41D2-A9DE-01F5147A95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028A-6C60-4F4C-AE49-4A8FF4CCAA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F226-9745-42E0-98A1-5BE0BABE414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FB0A5-7F76-405A-A6B9-824BC227348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C544-D68E-4ECE-B00B-42B1EA44B75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FE25-8DCA-4A3F-AEBB-294688518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30F1-F958-471B-A2FB-38B3102692E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D009-8C22-4E8F-B4D1-6CCDD18F4B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E3BC4-2B00-446C-B76B-484067356B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93C4E-11AF-410B-8F42-B562901CFF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71E2C-A92D-4A7C-8D34-FDE7F092417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13B0D-5431-492C-81FA-E636B6B5E08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6B8C8-F711-4332-B55B-E0D071CDD3B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C7151-7CE2-48E6-954A-54D1D56FE7B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FDA70-75DB-456D-AA48-2A9DA28083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99000-F200-4552-8B69-2D3B54D41B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BD1F5-BD7B-45DA-A758-A543BD3FA9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AB25-6089-441A-8440-0F1B24C2FA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47D154-3B27-4E8E-BCA9-99F944D14AA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DA4CA-9DD7-4FD4-A721-43B946A2DA2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E4075-9F87-455E-A2C1-2888830D0D5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C0C39-E0CC-4827-8FF1-2981AF5F7E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FFAA7-B65B-43CB-BDA9-F85EBF9D123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0D033-E1E3-483D-8C72-C1A71BDE1B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73B28-D116-45D6-916B-31EE36A8C96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4B5D7-5C6A-497C-928C-B658CD20FB0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5430D-62BC-4256-93F8-06FA0923ADB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DEFE0-EE59-47C6-B541-CD2638065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D7D6-0AFD-4AA2-B9C6-66158B1A1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31B0-5B79-4FCF-B8AB-367E8D5E61C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753FF-2D01-45A2-AA53-19EE434BD92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55584-518B-409F-A503-8EC4A9B805C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1A798-4A4E-4760-9C4B-DF86349226C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EEA8A-0AA5-413B-BAC5-553383F48A7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C278A-D1C8-4E5C-8CDC-A01FDD87DF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820E-B6B0-42D7-93C6-C4F4D508F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6C40-9B26-47DD-B749-B2596DD9E6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C562-FF54-42D5-8413-3F711E4F4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A272-112A-429C-9AEF-30945BF63B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202-B74C-4993-AE8E-062FE66A85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257-0460-4E4D-8820-3DB9EEAE0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99E-B681-4886-B432-A13A001DD0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429-BA80-4B26-B365-1F6FAC90AA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336-3B33-4883-B45A-57B0C88D0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61EE-A7CB-4FC5-8DEE-10A3EAFE66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BB7-B9CA-46D0-ABCC-0D4C393760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F26-6B80-4EA5-9CAF-4765A23AE6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998-F81B-4DB2-A074-B48198F2BB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2AB-6F78-4EE9-92F4-9C2FB3CB33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47D-F117-4DE4-A8FB-EE9274E4FA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C4E-B526-4B4F-A664-503ECFC08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12C-AA67-4E23-976D-6A3E3FFEF0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F242-A113-4D0F-8A7D-893D359D2F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7AAFC-F226-4A35-9BDB-7EFCFA4C87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892C4-2534-4B65-A509-B7D2C55DE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471F-EB6C-4A27-B5D5-26475B7BAB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1D96E-39AC-40BD-B7EE-DA3BFF0FD6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1D5F-CFA4-4ABF-9D37-15EB1AC95A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EC936-D00C-4881-B382-337996B83C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F1956-B297-4E25-BC26-07D2B45A59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0ABA-BBB9-4CB8-A9E1-3B4EA62AF3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166B4-7BA7-427B-A18F-0C60C7E3E2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4E74-E83A-4648-82C5-BDBC913716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9CCC-5F2B-4D93-9895-E7E8F2182B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3338C-D34D-467A-98D1-67A8C0E40A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FE056-B75B-4C26-B5C9-BE06B2BD4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8C7F-073C-46D0-A59A-74F0D6FC23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D51B7-AF69-449F-A550-1B36978337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3B19D-D430-4D5B-A6D0-DFD7FFCBD0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662D4-46A1-4023-A527-51D646CB75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5BBD-A773-4BBB-B2AD-15878E49B3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A5FC2-803D-4F2C-8A68-4FB2E26C5C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BBEBB-14DA-42EA-A2AE-F179C40077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3F54-25F6-4013-80EA-BD4E1C5A9C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12535-68C8-4E70-BE7D-42E3881F17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48865-912E-43B3-97B6-F40A0DC77F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B4FD7-12B4-4CF9-901B-F0CFFC4A4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9B49-7D8B-479C-9A73-9ECE25B264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AB87C-4DE7-4EF7-ADA3-035413CCF0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6A7F-30F2-4CDC-9E5E-4F8023B30B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58F-9796-4A11-AE21-9CCBA7A71D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BF6D-D33D-4D0C-95EC-536FC55E4C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3FA4-9A32-4F7B-9E0C-7F35CB1F27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F2C5-04E8-424E-98C2-3D10FD7F0C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0D2E-BC1D-4C43-B27C-750D23F30B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2BA-A027-4D35-9B90-D0AE2FA1F0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2DF-575B-4114-A4C5-A94A6B31DC0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3FA-D30F-46A2-A918-D7CE2A55F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AD5F-D2FF-4DB6-9408-5C3483086F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5D8-CA8E-4F47-8CE5-62E42B7C7F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B13F-DE24-481A-89BC-4634699A4A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631-FCB7-44B4-8C30-C43B6D3898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8B0D5-9B18-47B2-B922-3C7CD15D70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9C509-8F98-42D9-BC5F-BD48B55966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39CDE-CD0C-44AD-A249-CE4C9C70E4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590C7-59E2-4E3A-8A8E-0B6C990468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9A375-26E4-4A90-B4DB-9263B379E2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E760E-5961-45F5-AFD5-436A1110FD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3D56F-D750-40DC-923A-044E881F0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FF10-94D2-42D2-B24F-E39AC8A551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C2E79-27E6-4EDF-BDA9-1C8EF66AF7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48539-2321-496E-A5D3-67D9B9C02A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D62D9-61E3-48AD-B837-E3D93D5DA0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2C101-DCA4-4273-B7F1-E0490F1D05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36BA4-BABD-4211-9B22-4BEB50848E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CD617-AA6E-4B25-A5FC-14823538C3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64AF-D5C1-4A3A-9261-B6835AE76B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CD65B-9C23-4886-8770-397E4DECE8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D191F-7638-48B6-A1DE-B571303631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7FC72-6EB5-4C71-88C9-127A90A88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7C54-50ED-4401-98B7-06CCED422CA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99CBD-9421-4D28-819E-9AC36D2170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99D54-F0A6-4653-AB67-9DA0F9F686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C3F15-42DF-4CAE-8C9C-B8B2436F76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C4B8A-674F-493D-9E76-44F199CA36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AC2B3-F5DD-4D95-A679-29121BABBB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6908E-C77C-49D8-832E-DE287536DE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D2850-013E-4045-B3D7-7E40258DF9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3F0F-3CD1-47AD-9E8D-A4D3AB8707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26B2-D6B6-459C-B578-1D95D34936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CEA2-9923-4F84-9C1A-7DA1A80D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6D1-09D0-450B-BCBA-45AF55580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B5B9-DF20-4941-9D7E-9F1486A47D8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6ED-6EA8-4506-B9E3-C6CE9B7AD68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162F-B0BF-48B7-B01E-4026AC0D751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B32-037D-491F-8BF4-323A6AAAF22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4DA-8DCF-46BB-9FDB-F53D01D16F7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A87-58D3-444F-9181-9B617460BCE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1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5AAD-0ED1-4201-AECC-7B654B35547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1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93C3-8C56-4274-9E34-B43DE0284E3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E3DB-E3B5-4CC0-AFB9-89207671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E16-CFC0-4D68-B2BE-3AA3A07530E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922-6C67-4AB2-9AD4-7A304A559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366-FE57-449B-A7CE-2F65C475F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558-40EB-440E-9277-1DCDBD4AE93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9B6-87DE-4E39-AD6B-BA65B7BF86C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ACE7-C956-45D9-92CE-DA573A2DE45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7762-89A6-4462-94FD-AE7EA5BBC7B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D9A1-E880-416B-B6AF-3325E1838CC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extended form of BNF not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per-cas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letters represen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served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ord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wer-cas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letters represen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user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ord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s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choi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mong alternativ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urly brace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{ }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quired elemen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uare brackets [ ]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 an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ptional elemen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s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ptional repetition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0 or more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F38E-3EFB-43AB-B48E-66F7C290E4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Literal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terals are constants used in SQL stat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non-numeric literals must be enclosed in single quotes (e.g. ‘London’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numeric literals must not be enclosed in quotes (e.g. 650.00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EEF9-95AB-477E-A7F6-75215277E5EA}" type="slidenum"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" name="Picture 3" descr="Tables.jpg"/>
          <p:cNvPicPr/>
          <p:nvPr/>
        </p:nvPicPr>
        <p:blipFill>
          <a:blip r:embed="rId1"/>
          <a:srcRect l="3159" t="0" r="10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37F2-5940-49D7-9FE2-7D2928F7EA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[DISTINCT | ALL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{* | [columnExpression [AS newName]] [,...] }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bleName [alias] [, ...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GROUP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List]  [HAV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ORDER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List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72D-E0BE-49F3-928D-8C32BDD8D77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table(s) to be us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lters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ROUP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ms groups of rows with sa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lters groups subject to so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which columns are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pear in outpu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the order of the outpu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A66-AF83-4DDC-853A-13F40F68BC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of the clauses cannot be chang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ly SELECT and FROM are mandato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31F4-72C8-4BDE-9FB8-12396E87FD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  All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full details of all staff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address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sition, sex, DOB, salary,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* as an abbreviation for ‘all columns’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736-131D-461C-9234-68929DBBE1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  All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50" name="Picture 12" descr="DS3-Table 05-01"/>
          <p:cNvPicPr/>
          <p:nvPr/>
        </p:nvPicPr>
        <p:blipFill>
          <a:blip r:embed="rId1"/>
          <a:stretch/>
        </p:blipFill>
        <p:spPr>
          <a:xfrm>
            <a:off x="468360" y="1757520"/>
            <a:ext cx="7989840" cy="34239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4B9-AB9E-4B70-A741-C9D6F0AF93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  Specific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 list of salaries for all staff, showing only  staff number, first and last names, and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7DA-F269-49BC-89AA-D157C096EE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  Specific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58" name="Picture 6" descr="DS3-Table 05-02"/>
          <p:cNvPicPr/>
          <p:nvPr/>
        </p:nvPicPr>
        <p:blipFill>
          <a:blip r:embed="rId1"/>
          <a:stretch/>
        </p:blipFill>
        <p:spPr>
          <a:xfrm>
            <a:off x="1066680" y="1676520"/>
            <a:ext cx="5089680" cy="40464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9E0-DBE2-478C-A1D0-38A8A51702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6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urpose and importance of SQ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retrieve data from single relation using SELEC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AFFE-8108-4588-8CF3-F290F216B8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  Use of DISTIN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the property numbers of all properties that have been view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3" name="Picture 7" descr="DS3-Table 05-03a"/>
          <p:cNvPicPr/>
          <p:nvPr/>
        </p:nvPicPr>
        <p:blipFill>
          <a:blip r:embed="rId1"/>
          <a:stretch/>
        </p:blipFill>
        <p:spPr>
          <a:xfrm>
            <a:off x="5791320" y="3276720"/>
            <a:ext cx="2192040" cy="317664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3762-487F-4B8E-9CCB-C339D99626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  Use of DISTIN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DISTINCT to eliminate duplicat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DISTINCT property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8" name="Picture 1029" descr="DS3-Table 05-03b"/>
          <p:cNvPicPr/>
          <p:nvPr/>
        </p:nvPicPr>
        <p:blipFill>
          <a:blip r:embed="rId1"/>
          <a:stretch/>
        </p:blipFill>
        <p:spPr>
          <a:xfrm>
            <a:off x="2895480" y="3581280"/>
            <a:ext cx="1779840" cy="24386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075-DB17-4173-8E82-75E09CFA15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  Calculated Fiel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list of monthly salaries for all staff, showing staff number, first/last name, and 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/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73" name="Picture 4" descr="DS3-Table 05-04"/>
          <p:cNvPicPr/>
          <p:nvPr/>
        </p:nvPicPr>
        <p:blipFill>
          <a:blip r:embed="rId1"/>
          <a:stretch/>
        </p:blipFill>
        <p:spPr>
          <a:xfrm>
            <a:off x="1692360" y="3643200"/>
            <a:ext cx="4680000" cy="286380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5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4E52-6C66-408D-8D25-7E4EB7E032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  Calculated Fiel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name column, use AS claus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/12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 monthly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SQL expression in the SELECT list can specify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rived or calculated fiel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lumns referenced in the arithmetic expression must have a numeric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QL expression can involve + ,  -  ,  *  ,  /  ,  (  ,  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Date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SQL (DML)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BFE-A51A-4E00-A2B2-96DAAC6CFCC1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Row Selection (WHERE clause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228600" y="1714680"/>
            <a:ext cx="86868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lause consists of five basic search condi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mparison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mpare the value of one expression to the value of another expression (= , &lt;, &gt;, &lt;=, &gt;=, &lt; &gt;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an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the value of an expression falls within a specified range of values (BETWEEN/ NOT BETWEEN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t membership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the value of an expression equals one of a set of values (IN/ NOT IN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ttern match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a string matches a specified pattern (LIKE/ NOT LIKE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ULL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a column has null value (IS NULL/ IS NOT NULL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CFF-F9FA-4437-A655-2F8FBA5A8D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5  Comparison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mpound comparison operators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ND, OR, NOT, ( 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rder of evaluation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1)Expression is evaluated left to right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2)Between bracket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3)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4)AND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5)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List all staff with a salary greater than 10,00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alary &gt; 10000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7" name="Picture 4" descr="DS3-Table 05-05"/>
          <p:cNvPicPr/>
          <p:nvPr/>
        </p:nvPicPr>
        <p:blipFill>
          <a:blip r:embed="rId1"/>
          <a:stretch/>
        </p:blipFill>
        <p:spPr>
          <a:xfrm>
            <a:off x="1143000" y="4010040"/>
            <a:ext cx="6705720" cy="25146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260-F81E-4A8B-85BB-C8F46BCB1E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6  Compound Comparison Search Condition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ddresses of all branch offices in London or Glasgow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= ‘London’ OR city = ‘Glasgow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2" name="Picture 4" descr="DS3-Table 05-06"/>
          <p:cNvPicPr/>
          <p:nvPr/>
        </p:nvPicPr>
        <p:blipFill>
          <a:blip r:embed="rId1"/>
          <a:stretch/>
        </p:blipFill>
        <p:spPr>
          <a:xfrm>
            <a:off x="1600200" y="4221000"/>
            <a:ext cx="6500880" cy="21528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843-BB30-4C41-A92F-F628C7CF67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staff with a salary between 20,000 and 30,000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BETWEEN 20000 AND 30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WEEN test includes the endpoints of r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 any staff with a salary of 20000 or 30000 would be included in the resul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4AF-CECB-4ED3-88A7-A11B0E6C47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00" name="Picture 1029" descr="DS3-Table 05-07"/>
          <p:cNvPicPr/>
          <p:nvPr/>
        </p:nvPicPr>
        <p:blipFill>
          <a:blip r:embed="rId1"/>
          <a:stretch/>
        </p:blipFill>
        <p:spPr>
          <a:xfrm>
            <a:off x="990720" y="1676520"/>
            <a:ext cx="6933960" cy="2741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A58E-8B6C-4FED-AB7F-72B6871796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so a negated version NOT BETWEE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WEEN does not add much to SQL’s expressive power. Could also writ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alary&gt;=20000 AND salary &lt;= 30000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ful, though, for a range of valu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3777-1711-4883-8949-F7D73FAF26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deally, database language should allow user t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reate the database and relation structures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erform insertion, modification, deletion of data from relations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erform simple and complex que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must be por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DF77-2486-4A37-A646-84097ADCD5E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8  Set Membership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managers and superviso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IN (‘Manager’, ‘Supervisor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09" name="Picture 5" descr="DS3-Table 05-08"/>
          <p:cNvPicPr/>
          <p:nvPr/>
        </p:nvPicPr>
        <p:blipFill>
          <a:blip r:embed="rId1"/>
          <a:stretch/>
        </p:blipFill>
        <p:spPr>
          <a:xfrm>
            <a:off x="1523880" y="3962520"/>
            <a:ext cx="5712120" cy="24764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EBF-6356-4D82-9B4B-A4B785FE19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8  Set Membership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is a negated version (NOT IN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does not add much to SQL’s expressive power. Could have expressed this a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position=‘Manager’ 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sition=‘Supervisor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is more efficient when set contains many valu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910-B7DF-469B-B6E9-100A292EE7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9  Pattern Match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1408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all owners with the string ‘Glasgow’ in their addres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ownerNo, fName, lName, address, tel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ivateOwn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address LIKE ‘%Glasgow%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8" name="Picture 4" descr="DS3-Table 05-09"/>
          <p:cNvPicPr/>
          <p:nvPr/>
        </p:nvPicPr>
        <p:blipFill>
          <a:blip r:embed="rId1"/>
          <a:stretch/>
        </p:blipFill>
        <p:spPr>
          <a:xfrm>
            <a:off x="990720" y="4191120"/>
            <a:ext cx="6781680" cy="220968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8B67-36DA-43B2-A085-899DE5FF1C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9  Pattern Match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451"/>
              </a:spcBef>
              <a:spcAft>
                <a:spcPts val="561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QL has two special pattern matching symbol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%: sequence of zero or more character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spcBef>
                <a:spcPts val="451"/>
              </a:spcBef>
              <a:spcAft>
                <a:spcPts val="56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_ (underscore): any single charact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spcBef>
                <a:spcPts val="56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LIKE ‘%Glasgow%’ means a sequence of characters of any length containing ‘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Glasgow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’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spcBef>
                <a:spcPts val="56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ll other characters in the pattern represent themselves. For 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H%’ means the first character must be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, but the rest of the string can be anythin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H_ _ _’ means that there must be exactly four characters in the string, the first of which must be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%e’ means any sequence of characters, of length at least 1, with the last character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%Glasgow%’ means a sequence of characters of any length  containing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Glasgo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 NOT LIKE ‘H%’ means the first character cannot be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B288-2656-4F07-8561-30C0BAE782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0  NULL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809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details of all viewings on property PG4 where a comment has not been suppli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2 viewings for property PG4, one with and one without a comm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e to test for null explicitly using special keyword IS NUL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lientNo, viewD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ropertyNo = ‘PG4’ AN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ent IS NULL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819-B2BA-44FD-9937-8CB286D1D4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0  NULL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6850080" cy="34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gated version (IS NOT NULL) can test for non-null valu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31" name="Picture 6" descr="C05NT10"/>
          <p:cNvPicPr/>
          <p:nvPr/>
        </p:nvPicPr>
        <p:blipFill>
          <a:blip r:embed="rId1"/>
          <a:stretch/>
        </p:blipFill>
        <p:spPr>
          <a:xfrm>
            <a:off x="1908000" y="1773360"/>
            <a:ext cx="3787920" cy="19382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0E10-EC69-494A-9762-6C2AF5123D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1  Sing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876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llow the retrieved records to be ordered in ascending (ASC) or descending order (DESC) on any column or combination of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salaries for all staff, arranged in descending order of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salary DESC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343-7E6A-4964-884F-82A82F8AFD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1  Sing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9" name="Picture 5" descr="DS3-Table 05-11"/>
          <p:cNvPicPr/>
          <p:nvPr/>
        </p:nvPicPr>
        <p:blipFill>
          <a:blip r:embed="rId1"/>
          <a:stretch/>
        </p:blipFill>
        <p:spPr>
          <a:xfrm>
            <a:off x="990720" y="1676520"/>
            <a:ext cx="4952880" cy="397008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5D2-2E6A-495B-ACBD-FBBB5FECEC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bbreviated list of properties in order of property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, type, rooms, 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typ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48F-6D4A-40C4-970C-7EB74C2196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47" name="Picture 1029" descr="DS3-Table 05-12a"/>
          <p:cNvPicPr/>
          <p:nvPr/>
        </p:nvPicPr>
        <p:blipFill>
          <a:blip r:embed="rId1"/>
          <a:stretch/>
        </p:blipFill>
        <p:spPr>
          <a:xfrm>
            <a:off x="1066680" y="1676520"/>
            <a:ext cx="4800600" cy="403056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DA6-6449-493D-B4FB-3DC6266A92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is a transform-oriented language with 2 major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DL for defining database structu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ML for retrieving and updating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til SQL:1999, SQL did not contain flow of control commands. These had to be implemented using a programming or job-control language, or interactively by the decisions of us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A82F-B6C7-4583-9893-2F93E66A0A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22360" y="1557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ur flats in this list - as no minor sort key specified, system arranges these rows in any order it choo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arrange in order of rent, specify minor ord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, type, rooms, 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type, rent DESC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B0A-931C-4ECC-B3B8-066E096DBA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55" name="Picture 6" descr="DS3-Table 05-12b"/>
          <p:cNvPicPr/>
          <p:nvPr/>
        </p:nvPicPr>
        <p:blipFill>
          <a:blip r:embed="rId1"/>
          <a:stretch/>
        </p:blipFill>
        <p:spPr>
          <a:xfrm>
            <a:off x="1066680" y="1676520"/>
            <a:ext cx="4800600" cy="407664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E45F-D272-4EA7-9F97-8D293F68A7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37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O standard defines five aggregate funct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turns number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sum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average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smallest value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largest value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492-2D80-4512-A2E0-5170304BD0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ach operates on a single column of a table and returns a single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, MIN, and MAX apply to numeric and non-numeric fields, but SUM and AVG may be used on numeric fields onl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art from COUNT(*), each function eliminates nulls first and operates only on remaining non-null valu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7FD-A552-4C10-9BC7-63C96A6F16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1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(*) counts all rows of a table, regardless of whether nulls or duplicate values occu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DISTINCT before column name to eliminate duplicat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ISTINCT has no effect with MIN/MAX, but may have with SUM/AV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D7EA-66E4-4DD8-BDE1-559E3D302F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01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ggregate functions can be used only in SELECT list and in HAVING clau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ELECT list includes an aggregate function and there is no GROUP BY clause, SELECT list cannot reference a column out with an aggregate function. For example, the following is illega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COUNT(salar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B1DB-899E-4F33-876C-D8691B0267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3  Use of COUNT(*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many properties cost more than £350 per month to rent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OUNT(*) AS myCou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rent &gt; 350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76" name="Picture 11" descr="C05NT13"/>
          <p:cNvPicPr/>
          <p:nvPr/>
        </p:nvPicPr>
        <p:blipFill>
          <a:blip r:embed="rId1"/>
          <a:stretch/>
        </p:blipFill>
        <p:spPr>
          <a:xfrm>
            <a:off x="5724360" y="3933720"/>
            <a:ext cx="2232360" cy="206244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DB4-BF1A-466F-9083-D686DE5E9F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4  Use of COUNT(DISTINC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many different properties viewed in May ‘04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COUNT(DISTINCT propertyNo) AS myCou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View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viewDate BETWEEN ‘1-May-04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D ‘31-May-04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81" name="Picture 12" descr="C05NT14"/>
          <p:cNvPicPr/>
          <p:nvPr/>
        </p:nvPicPr>
        <p:blipFill>
          <a:blip r:embed="rId1"/>
          <a:stretch/>
        </p:blipFill>
        <p:spPr>
          <a:xfrm>
            <a:off x="5651640" y="3789360"/>
            <a:ext cx="1944720" cy="190332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1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DEB-FF92-48A4-B72A-35161C566F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5  Use of COUNT and SUM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8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Managers and sum of their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OUNT(staffNo) AS myCount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= ‘Manager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86" name="Picture 12" descr="C05NT15"/>
          <p:cNvPicPr/>
          <p:nvPr/>
        </p:nvPicPr>
        <p:blipFill>
          <a:blip r:embed="rId1"/>
          <a:stretch/>
        </p:blipFill>
        <p:spPr>
          <a:xfrm>
            <a:off x="4211640" y="4626000"/>
            <a:ext cx="3456000" cy="186372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14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A17-036E-474B-A32B-B8C87C0083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6  Use of MIN, MAX, AV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minimum, maximum, and average staff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MIN(salary) AS myMin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AX(salary) AS myMax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VG(salary) AS myAv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1" name="Picture 13" descr="C05NT16"/>
          <p:cNvPicPr/>
          <p:nvPr/>
        </p:nvPicPr>
        <p:blipFill>
          <a:blip r:embed="rId1"/>
          <a:stretch/>
        </p:blipFill>
        <p:spPr>
          <a:xfrm>
            <a:off x="3851280" y="4581360"/>
            <a:ext cx="4105440" cy="165600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A6E-E606-44EE-ACF7-C1B8073047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is relatively easy to lear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is non-procedural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ou specify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formation you require, rather than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get i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is essentially free-format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sentences do not have to be typed at particular location on scree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F96-C7FB-4AC7-9959-A9C412DD8AC4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0680" y="759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1219320" y="2666880"/>
            <a:ext cx="3047760" cy="2286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1220760" y="2286000"/>
            <a:ext cx="304812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1367640" y="34434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1393560" y="23004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N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8"/>
          <p:cNvSpPr/>
          <p:nvPr/>
        </p:nvSpPr>
        <p:spPr>
          <a:xfrm>
            <a:off x="2209680" y="2286000"/>
            <a:ext cx="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459520" y="3443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2519280" y="2286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11"/>
          <p:cNvSpPr/>
          <p:nvPr/>
        </p:nvSpPr>
        <p:spPr>
          <a:xfrm>
            <a:off x="3276720" y="2286000"/>
            <a:ext cx="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2"/>
          <p:cNvSpPr/>
          <p:nvPr/>
        </p:nvSpPr>
        <p:spPr>
          <a:xfrm>
            <a:off x="3354120" y="23004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ALARY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13"/>
          <p:cNvSpPr/>
          <p:nvPr/>
        </p:nvSpPr>
        <p:spPr>
          <a:xfrm>
            <a:off x="3368520" y="34434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14"/>
          <p:cNvSpPr/>
          <p:nvPr/>
        </p:nvSpPr>
        <p:spPr>
          <a:xfrm>
            <a:off x="1367640" y="37926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15"/>
          <p:cNvSpPr/>
          <p:nvPr/>
        </p:nvSpPr>
        <p:spPr>
          <a:xfrm>
            <a:off x="2434320" y="37926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2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16"/>
          <p:cNvSpPr/>
          <p:nvPr/>
        </p:nvSpPr>
        <p:spPr>
          <a:xfrm>
            <a:off x="3368520" y="3792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1371600" y="4533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18"/>
          <p:cNvSpPr/>
          <p:nvPr/>
        </p:nvSpPr>
        <p:spPr>
          <a:xfrm>
            <a:off x="2434320" y="41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4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19"/>
          <p:cNvSpPr/>
          <p:nvPr/>
        </p:nvSpPr>
        <p:spPr>
          <a:xfrm>
            <a:off x="3404880" y="4129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6019920" y="3367080"/>
            <a:ext cx="205560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6021360" y="2971800"/>
            <a:ext cx="20559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25"/>
          <p:cNvSpPr/>
          <p:nvPr/>
        </p:nvSpPr>
        <p:spPr>
          <a:xfrm>
            <a:off x="6400800" y="34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26"/>
          <p:cNvSpPr/>
          <p:nvPr/>
        </p:nvSpPr>
        <p:spPr>
          <a:xfrm>
            <a:off x="6192000" y="29718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un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27"/>
          <p:cNvSpPr/>
          <p:nvPr/>
        </p:nvSpPr>
        <p:spPr>
          <a:xfrm>
            <a:off x="7085160" y="2986200"/>
            <a:ext cx="0" cy="1600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28"/>
          <p:cNvSpPr/>
          <p:nvPr/>
        </p:nvSpPr>
        <p:spPr>
          <a:xfrm>
            <a:off x="7315920" y="29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u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Text Box 29"/>
          <p:cNvSpPr/>
          <p:nvPr/>
        </p:nvSpPr>
        <p:spPr>
          <a:xfrm>
            <a:off x="7176960" y="34434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4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31"/>
          <p:cNvSpPr/>
          <p:nvPr/>
        </p:nvSpPr>
        <p:spPr>
          <a:xfrm>
            <a:off x="6400800" y="379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32"/>
          <p:cNvSpPr/>
          <p:nvPr/>
        </p:nvSpPr>
        <p:spPr>
          <a:xfrm>
            <a:off x="7176960" y="3792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34"/>
          <p:cNvSpPr/>
          <p:nvPr/>
        </p:nvSpPr>
        <p:spPr>
          <a:xfrm>
            <a:off x="6400800" y="41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5"/>
          <p:cNvSpPr/>
          <p:nvPr/>
        </p:nvSpPr>
        <p:spPr>
          <a:xfrm>
            <a:off x="7176960" y="4129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52"/>
          <p:cNvSpPr/>
          <p:nvPr/>
        </p:nvSpPr>
        <p:spPr>
          <a:xfrm>
            <a:off x="1367640" y="3124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53"/>
          <p:cNvSpPr/>
          <p:nvPr/>
        </p:nvSpPr>
        <p:spPr>
          <a:xfrm>
            <a:off x="1367640" y="28195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54"/>
          <p:cNvSpPr/>
          <p:nvPr/>
        </p:nvSpPr>
        <p:spPr>
          <a:xfrm>
            <a:off x="1367640" y="41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55"/>
          <p:cNvSpPr/>
          <p:nvPr/>
        </p:nvSpPr>
        <p:spPr>
          <a:xfrm>
            <a:off x="2440440" y="3124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1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56"/>
          <p:cNvSpPr/>
          <p:nvPr/>
        </p:nvSpPr>
        <p:spPr>
          <a:xfrm>
            <a:off x="2440440" y="2819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3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57"/>
          <p:cNvSpPr/>
          <p:nvPr/>
        </p:nvSpPr>
        <p:spPr>
          <a:xfrm>
            <a:off x="2462760" y="4540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9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58"/>
          <p:cNvSpPr/>
          <p:nvPr/>
        </p:nvSpPr>
        <p:spPr>
          <a:xfrm>
            <a:off x="3404880" y="4540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59"/>
          <p:cNvSpPr/>
          <p:nvPr/>
        </p:nvSpPr>
        <p:spPr>
          <a:xfrm>
            <a:off x="3368520" y="3124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60"/>
          <p:cNvSpPr/>
          <p:nvPr/>
        </p:nvSpPr>
        <p:spPr>
          <a:xfrm>
            <a:off x="3354120" y="28195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61"/>
          <p:cNvSpPr/>
          <p:nvPr/>
        </p:nvSpPr>
        <p:spPr>
          <a:xfrm>
            <a:off x="4419720" y="281952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62"/>
          <p:cNvSpPr/>
          <p:nvPr/>
        </p:nvSpPr>
        <p:spPr>
          <a:xfrm>
            <a:off x="4343400" y="388620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AutoShape 63"/>
          <p:cNvSpPr/>
          <p:nvPr/>
        </p:nvSpPr>
        <p:spPr>
          <a:xfrm>
            <a:off x="434340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4"/>
          <p:cNvSpPr/>
          <p:nvPr/>
        </p:nvSpPr>
        <p:spPr>
          <a:xfrm>
            <a:off x="4572000" y="3276720"/>
            <a:ext cx="137160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65"/>
          <p:cNvSpPr/>
          <p:nvPr/>
        </p:nvSpPr>
        <p:spPr>
          <a:xfrm flipV="1">
            <a:off x="4495680" y="3962160"/>
            <a:ext cx="14479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66"/>
          <p:cNvSpPr/>
          <p:nvPr/>
        </p:nvSpPr>
        <p:spPr>
          <a:xfrm flipV="1">
            <a:off x="4572000" y="4343400"/>
            <a:ext cx="137160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6F6-342B-49F7-9596-809B897835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GROUP BY clause to get sub-tota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and GROUP BY closely integrated: each item in SELECT list must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ingle-valued per group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and SELECT clause may only contai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na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gregate func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a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pression involving combinations of the abo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EDF-3DFF-4F73-887B-6B5CBECAB55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column names in SELECT list must appear in GROUP BY clause unless name is used only in an aggregate func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WHERE is used with GROUP BY, WHERE is applied first, then groups are formed from remaining rows satisfying predic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O considers two nulls to be equal for purposes of GROUP B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38C-ACCC-4AB9-8895-8F6814C726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7  Use of GROUP B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39640" y="152388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staff in each branch and their total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ranchNo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(staffNo) AS myCount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ROUP BY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branchNo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119-E9BC-44E0-8495-6BC4E135BA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7  Use of GROUP B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51" name="Picture 6" descr="C05NT17"/>
          <p:cNvPicPr/>
          <p:nvPr/>
        </p:nvPicPr>
        <p:blipFill>
          <a:blip r:embed="rId1"/>
          <a:stretch/>
        </p:blipFill>
        <p:spPr>
          <a:xfrm>
            <a:off x="1187280" y="1700280"/>
            <a:ext cx="5400720" cy="275904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33E-E3EC-4D8F-974F-737D2699EB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ed Groupings – HAVING claus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ING clause is designed for use with GROUP BY to restrict groups that appear in final result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 to WHERE, but WHERE filters individual rows whereas HAVING filters group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 names in HAVING clause must also appear in the GROUP BY list or be contained within an aggregate func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11C-DCC2-4382-824D-32B2DB97A9A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8  Use of HAV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794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each branch with more than 1 member of staff, find number of staff in each branch and sum of their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ts val="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branchNo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UNT(staffNo) AS myCount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OUP BY branch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AVING COUNT(staffNo) &gt;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branch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45B-EEEB-4FA2-8D31-3AD28E0870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8  Use of HAV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63" name="Picture 6" descr="C05NT18"/>
          <p:cNvPicPr/>
          <p:nvPr/>
        </p:nvPicPr>
        <p:blipFill>
          <a:blip r:embed="rId1"/>
          <a:stretch/>
        </p:blipFill>
        <p:spPr>
          <a:xfrm>
            <a:off x="826920" y="1700280"/>
            <a:ext cx="5400720" cy="23842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69A-7237-4ED8-AC9B-65C4F84E1B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ub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ome SQL statements can have a SELECT embedded within them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subselect can be used in WHERE and HAVING clauses of an outer SELECT, where it is called a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ubque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nested que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selects may also appear in INSERT, UPDATE, and DELETE stat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query always enclosed in parenthe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just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70E-E434-439B-987E-F34EE5E3D5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staff who work in branch at ‘163 Main St’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ranchNo 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treet = ‘163 Main St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F84-B93A-4489-9975-5FC3C656E2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ists of standard English word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) CREATE TABLE Staff(staffNo VARCHAR(5)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lName VARCHAR(15)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alary DECIMAL(7,2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) INSERT INTO Staff VALUES (‘SG16’, ‘Brown’, 8300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3) SELECT staffNo, lName, salar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alary &gt; 10000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B8D-A853-45F8-8510-69E14E1ED1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ner SELECT finds branch number for branch at ‘163 Main St’ (‘B003’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uter SELECT then retrieves details of all staff who work at this branch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uter SELECT then becom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ranchNo = ‘B003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536-9409-4934-B78D-B8B58C6AFD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79" name="Picture 5" descr="DS3-Table 05-19"/>
          <p:cNvPicPr/>
          <p:nvPr/>
        </p:nvPicPr>
        <p:blipFill>
          <a:blip r:embed="rId1"/>
          <a:stretch/>
        </p:blipFill>
        <p:spPr>
          <a:xfrm>
            <a:off x="990720" y="1676520"/>
            <a:ext cx="5638680" cy="31035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46A-E704-4B88-9994-41E6AD2CC1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ist all staff whose salary is greater than the average salary, and show by how mu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lary – (SELECT AVG(salary) FROM Staff) As SalDi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AVG(salary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EFD-D5B9-4643-AE02-2F07A5BD51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not write ‘WHERE salary &gt; AVG(salary)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tead, use subquery to find average salary (17000), and then use outer SELECT to find those staff with salary greater than thi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staffNo, fName, lName, position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alary – 17000 As salDi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alary &gt; 17000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204-D0A9-47B7-8069-6DC0784ABB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91" name="Picture 5" descr="DS3-Table 05-20"/>
          <p:cNvPicPr/>
          <p:nvPr/>
        </p:nvPicPr>
        <p:blipFill>
          <a:blip r:embed="rId1"/>
          <a:stretch/>
        </p:blipFill>
        <p:spPr>
          <a:xfrm>
            <a:off x="990720" y="1676520"/>
            <a:ext cx="6750000" cy="304308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B5E-A910-4C47-AD2B-7EC855C7F9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ubquery Rul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clause may not be used in a subquery (although it may be used in outermost SELEC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bquery SELECT list must consist of a single column name or expression, except for subqueries that use EXI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y default, column names refer to table name in FROM clause of subquery. Can refer to a table in FROM using an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lia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n subquery is an operand in a comparison, subquery must appear on right-hand s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ACF-2715-4114-9848-A9D7111B38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1  Nested subquery: use of 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PERTYFORRENT (pno, street, area, city, pcode, type, rooms, rent,s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TAFF (sno, fname, lname, position, sex, DOB, salary, b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RANCH (bno, street, city, postcod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properties handled by staff at ‘163 Main St’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LECT propertyNo, street, city, postcode, type, rooms,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taffNo 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ELECT staff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branchNo =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ELECT branch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treet = ‘163 Main St’)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E04F-50F7-4A60-95BA-C284D5C4072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1  Nested subquery: use of 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03" name="Picture 5" descr="DS3-Table 05-21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292716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C2E4-CA29-4EDC-9102-314B0AB525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NY and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8280" y="155736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Y and ALL may be used with subqueries that produce a single column of numb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ith ALL, condition will only be true if it is satisfied b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values produced by subque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ith ANY, condition will be true if it is satisfied b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n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values produced by subque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ubquery is empty, ALL returns true, ANY returns fal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OME may be used in place of AN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6804-233A-4429-BF66-C10BC6DC17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2  Use of ANY/SOM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staff whose salary is larger than salary of at least one member of staff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 SO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ranchNo =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0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80D-030E-4ED5-99F0-B0B7850026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52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be used by range of users including DBAs, management, application developers, and other types of end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ISO standard now exists for SQL, making it both the formal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e fact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tandard language for relational databas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69B-DA79-4526-9AA3-104072F8BC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2  Use of ANY/SOM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ner query produces set {12000, 18000, 24000} and outer query selects those staff whose salaries are greater than any of the values in this se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6" name="Picture 5" descr="DS3-Table 05-22"/>
          <p:cNvPicPr/>
          <p:nvPr/>
        </p:nvPicPr>
        <p:blipFill>
          <a:blip r:embed="rId1"/>
          <a:stretch/>
        </p:blipFill>
        <p:spPr>
          <a:xfrm>
            <a:off x="990720" y="3200400"/>
            <a:ext cx="6750000" cy="299556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644E-9738-4B09-8489-041FCAA86E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3  Use of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01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staff whose salary is larger than salary of every member of staff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 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ranchNo =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426-AF62-48E7-9964-EF8F30EBE9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3  Use of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24" name="Picture 5" descr="DS3-Table 05-23"/>
          <p:cNvPicPr/>
          <p:nvPr/>
        </p:nvPicPr>
        <p:blipFill>
          <a:blip r:embed="rId1"/>
          <a:stretch/>
        </p:blipFill>
        <p:spPr>
          <a:xfrm>
            <a:off x="539640" y="1628640"/>
            <a:ext cx="6696360" cy="243540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2DA-BB34-4569-B8B6-6B034131CE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statement consists o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served word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user-defined word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rved words are a fixed part of SQL and must be spelt exactly as required and cannot be split across lin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er-defined words are made up by user and represent names of various database objects such as relations, columns,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317-4D8D-4B5F-9217-ACA467A6DD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st components of an SQL statement ar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e insensitiv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except for literal character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re readable with indentation and line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clause should begin on a new lin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 of a clause should line up with start of other clau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f clause has several parts, should each appear on a separate line and be indented under start of claus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5 of textbook
Database Systems: A Practical Approach to Design, Implementation, and Management</dc:description>
  <dc:language>en-US</dc:language>
  <cp:lastModifiedBy>A.Alnuaim</cp:lastModifiedBy>
  <cp:lastPrinted>1998-06-08T15:17:53Z</cp:lastPrinted>
  <dcterms:modified xsi:type="dcterms:W3CDTF">2017-04-17T06:05:41Z</dcterms:modified>
  <cp:revision>192</cp:revision>
  <dc:subject>Database Systems</dc:subject>
  <dc:title>Chapter 5</dc:title>
</cp:coreProperties>
</file>