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1.wmf" ContentType="image/x-wmf"/>
  <Override PartName="/ppt/media/image29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1.wmf" ContentType="image/x-wmf"/>
  <Override PartName="/ppt/media/image28.png" ContentType="image/png"/>
  <Override PartName="/ppt/media/image30.png" ContentType="image/png"/>
  <Override PartName="/ppt/media/image3.jpeg" ContentType="image/jpeg"/>
  <Override PartName="/ppt/media/image14.png" ContentType="image/png"/>
  <Override PartName="/ppt/media/image15.png" ContentType="image/png"/>
  <Override PartName="/ppt/media/image18.jpeg" ContentType="image/jpeg"/>
  <Override PartName="/ppt/media/image26.png" ContentType="image/png"/>
  <Override PartName="/ppt/media/image25.png" ContentType="image/png"/>
  <Override PartName="/ppt/media/image61.png" ContentType="image/png"/>
  <Override PartName="/ppt/media/image59.wmf" ContentType="image/x-wmf"/>
  <Override PartName="/ppt/media/image24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21.png" ContentType="image/png"/>
  <Override PartName="/ppt/media/image58.png" ContentType="image/png"/>
  <Override PartName="/ppt/media/image60.png" ContentType="image/png"/>
  <Override PartName="/ppt/media/image2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9.png" ContentType="image/png"/>
  <Override PartName="/ppt/media/image7.png" ContentType="image/png"/>
  <Override PartName="/ppt/media/image41.wmf" ContentType="image/x-wmf"/>
  <Override PartName="/ppt/media/image13.png" ContentType="image/png"/>
  <Override PartName="/ppt/media/image32.png" ContentType="image/png"/>
  <Override PartName="/ppt/media/image33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4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40226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 rtl="1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 382 Geotechnical Engineering 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4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rtl="1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ar-SA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EB4BC2-3DD2-4EF4-8E85-78BAE7696E79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ooter Placeholder 3"/>
          <p:cNvSpPr/>
          <p:nvPr/>
        </p:nvSpPr>
        <p:spPr>
          <a:xfrm>
            <a:off x="40226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 rtl="1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 382 Geotechnical Engineering 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4"/>
          <p:cNvSpPr/>
          <p:nvPr/>
        </p:nvSpPr>
        <p:spPr>
          <a:xfrm>
            <a:off x="14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rtl="1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6D97F52-CC21-455C-8BF0-432904E169BE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4FB-247C-4C5E-9C7E-A7E0F8D4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0CE-BF01-4431-93A5-301AF188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7890-1511-4703-9942-F4613657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D233-78DD-4386-B0FF-CADE7759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E52-0F96-423B-9B4A-36FAAD3E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BBFB-5D5F-4AC6-A5BB-CD3E9E35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14BF-267B-44B7-B3B4-BC7EBE67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019-B55B-4A85-9EBA-9FB6F920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F27E-68E2-41AE-B8D2-E8468960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59D-F710-4BC8-9E4A-40F104E3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083D-0220-4E53-A28C-2B7F4B61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52DA-7D92-4F3E-B830-B09342E3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C46D-A810-494F-AD1F-2BD6F88E73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6.png"/><Relationship Id="rId4" Type="http://schemas.openxmlformats.org/officeDocument/2006/relationships/image" Target="../media/image30.png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wmf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610000" y="2759040"/>
            <a:ext cx="37731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MEABILIT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755640" y="957240"/>
            <a:ext cx="6985080" cy="3887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4" name="Text Box 6"/>
          <p:cNvSpPr/>
          <p:nvPr/>
        </p:nvSpPr>
        <p:spPr>
          <a:xfrm>
            <a:off x="186120" y="189000"/>
            <a:ext cx="66225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riation of Velocity with Hydraulic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90440" y="5013360"/>
            <a:ext cx="839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en the hydraulic gradient is increased gradually, the flow remains laminar in Zones I and II, and the velocity, </a:t>
            </a:r>
            <a:r>
              <a:rPr b="1" lang="en-US" sz="1800" spc="-1" strike="noStrike">
                <a:solidFill>
                  <a:srgbClr val="000000"/>
                </a:solidFill>
                <a:latin typeface="CoreTTI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bears a linear relationship to the hydraulic gradient. At a higher hydraulic gradient, the flow becomes turbulent (Zone III). When the hydraulic gradient is decreased, laminar flow conditions exist only in Zone 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30200" y="878040"/>
            <a:ext cx="6985080" cy="3887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7" name="Text Box 6"/>
          <p:cNvSpPr/>
          <p:nvPr/>
        </p:nvSpPr>
        <p:spPr>
          <a:xfrm>
            <a:off x="186120" y="189000"/>
            <a:ext cx="66225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riation of Velocity with Hydraulic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42920" y="4997520"/>
            <a:ext cx="88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ig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adient the flow will be turbulent and the relationship between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ll not be linear. Hence Eq. 2 may not be valid.  This is the case in gravels and very coarse sands. However, in most soil the flow of water through the voids can be consider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MIN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Eq. 2 is val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170000" y="1401840"/>
            <a:ext cx="6048360" cy="2776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5222880" y="865080"/>
            <a:ext cx="2959200" cy="1073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 rot="18754200">
            <a:off x="2497680" y="125424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Darcy’s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04400" y="92160"/>
            <a:ext cx="78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Is Darcy's law valid for very low hydraulic gradients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50840" y="60213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nclusion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Darcy’s law is valid even for very low hydraulic gradi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32200" y="7113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o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1763640" y="1773360"/>
                <a:ext cx="93528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1"/>
          <p:cNvSpPr/>
          <p:nvPr/>
        </p:nvSpPr>
        <p:spPr>
          <a:xfrm>
            <a:off x="493560" y="4257720"/>
            <a:ext cx="802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These equations imply that for very low hydraulic gradients, the relationship between </a:t>
            </a:r>
            <a:r>
              <a:rPr b="1" lang="en-US" sz="1600" spc="-1" strike="noStrike">
                <a:solidFill>
                  <a:srgbClr val="7030a0"/>
                </a:solidFill>
                <a:latin typeface="CoreTTI"/>
              </a:rPr>
              <a:t>v 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and </a:t>
            </a:r>
            <a:r>
              <a:rPr b="1" i="1" lang="en-US" sz="1600" spc="-1" strike="noStrike">
                <a:solidFill>
                  <a:srgbClr val="7030a0"/>
                </a:solidFill>
                <a:latin typeface="Times-Italic"/>
              </a:rPr>
              <a:t>i 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is nonlinear (only study by Hansbo, 196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09520" y="5027760"/>
            <a:ext cx="846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veral other studies refute the preceding findings. Mitchell (1976) discussed these studies in detail. Taking all points into consideration, he concluded that Darcy’s law is val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79280" y="765000"/>
            <a:ext cx="83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is the cross-sectional area through which flow is occurring, the flow rate, q, is determin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79280" y="223920"/>
            <a:ext cx="29070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OW RATE (Flu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1258920" y="1628640"/>
                <a:ext cx="11523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5"/>
              <p:cNvSpPr txBox="1"/>
              <p:nvPr/>
            </p:nvSpPr>
            <p:spPr>
              <a:xfrm>
                <a:off x="884160" y="2349360"/>
                <a:ext cx="19004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i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Text Box 6"/>
          <p:cNvSpPr/>
          <p:nvPr/>
        </p:nvSpPr>
        <p:spPr>
          <a:xfrm>
            <a:off x="252360" y="198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3280" y="3068640"/>
            <a:ext cx="32288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Y OF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24000" y="3573360"/>
            <a:ext cx="83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flow occurs over a period of time t, the total quantity of water Q flowing during this period can be foun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9"/>
              <p:cNvSpPr txBox="1"/>
              <p:nvPr/>
            </p:nvSpPr>
            <p:spPr>
              <a:xfrm>
                <a:off x="1979640" y="4687920"/>
                <a:ext cx="11509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971640" y="5695920"/>
                <a:ext cx="28432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iA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Text Box 11"/>
          <p:cNvSpPr/>
          <p:nvPr/>
        </p:nvSpPr>
        <p:spPr>
          <a:xfrm>
            <a:off x="396720" y="4991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4121280" y="4724280"/>
            <a:ext cx="4843440" cy="1923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ll terms in Eq. (5) are easily measured or determined excep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 Next we will discuss techniques in evaluat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 But first we will address some important concepts regard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aulic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adie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60200" y="353880"/>
            <a:ext cx="88934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 determine the quantity of flow, two parameter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hydraulic conductivit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how permeable the soil med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hydraulic gradien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how large is the driving h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684360" y="4221000"/>
            <a:ext cx="4392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514440" indent="-514440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boratory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eld Testing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mpirical Equation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84360" y="2733840"/>
            <a:ext cx="684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From the head loss and geometry….. (1-D  c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Flow net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xt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pter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……….(2D c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329760" y="3613320"/>
            <a:ext cx="43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determined us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02760" y="2205000"/>
            <a:ext cx="334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an be determ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219640" y="836640"/>
            <a:ext cx="3672000" cy="2346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5" name="Text Box 7"/>
          <p:cNvSpPr/>
          <p:nvPr/>
        </p:nvSpPr>
        <p:spPr>
          <a:xfrm>
            <a:off x="180720" y="115920"/>
            <a:ext cx="4211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ads &amp; Hydraulic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2"/>
          <a:stretch/>
        </p:blipFill>
        <p:spPr>
          <a:xfrm>
            <a:off x="5219640" y="4011480"/>
            <a:ext cx="3600360" cy="2300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7" name="Text Box 10"/>
          <p:cNvSpPr/>
          <p:nvPr/>
        </p:nvSpPr>
        <p:spPr>
          <a:xfrm>
            <a:off x="0" y="1197000"/>
            <a:ext cx="51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rding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rnoulli'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quation, the total energy available, described as a measurabl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alled head) above a reference datum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1" descr=""/>
          <p:cNvPicPr/>
          <p:nvPr/>
        </p:nvPicPr>
        <p:blipFill>
          <a:blip r:embed="rId3"/>
          <a:stretch/>
        </p:blipFill>
        <p:spPr>
          <a:xfrm>
            <a:off x="611280" y="2781360"/>
            <a:ext cx="3816360" cy="1619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9" name="Picture 12" descr=""/>
          <p:cNvPicPr/>
          <p:nvPr/>
        </p:nvPicPr>
        <p:blipFill>
          <a:blip r:embed="rId4"/>
          <a:stretch/>
        </p:blipFill>
        <p:spPr>
          <a:xfrm>
            <a:off x="324000" y="4645080"/>
            <a:ext cx="4535280" cy="18637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3"/>
          <p:cNvSpPr/>
          <p:nvPr/>
        </p:nvSpPr>
        <p:spPr>
          <a:xfrm>
            <a:off x="295200" y="649440"/>
            <a:ext cx="3168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66"/>
                </a:solidFill>
                <a:latin typeface="Arial"/>
              </a:rPr>
              <a:t>Bernoulli’s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4502880" y="3341520"/>
            <a:ext cx="6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50920" y="189000"/>
            <a:ext cx="808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oils seepage velocity is normally very small (further if it is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squa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ha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ELOCITY 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be neglected. Therefore, the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 any point is given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4000" y="3500280"/>
            <a:ext cx="3382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he pressure head at a point can be measured by inserting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EZOMETER TUBE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into the pipe. The level will rise to a level representing the current pressure head at the that point.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(If the flow is steady and the velocity head 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2087640" cy="114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5" name="Text Box 6"/>
          <p:cNvSpPr/>
          <p:nvPr/>
        </p:nvSpPr>
        <p:spPr>
          <a:xfrm>
            <a:off x="2701800" y="2421000"/>
            <a:ext cx="5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3851280" y="1844640"/>
            <a:ext cx="5119560" cy="4608720"/>
          </a:xfrm>
          <a:prstGeom prst="rect">
            <a:avLst/>
          </a:prstGeom>
          <a:ln w="0">
            <a:noFill/>
          </a:ln>
        </p:spPr>
      </p:pic>
      <p:sp>
        <p:nvSpPr>
          <p:cNvPr id="147" name="Oval 1"/>
          <p:cNvSpPr/>
          <p:nvPr/>
        </p:nvSpPr>
        <p:spPr>
          <a:xfrm>
            <a:off x="4932360" y="4610160"/>
            <a:ext cx="360360" cy="288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8"/>
          <p:cNvSpPr/>
          <p:nvPr/>
        </p:nvSpPr>
        <p:spPr>
          <a:xfrm>
            <a:off x="7020000" y="5516640"/>
            <a:ext cx="360360" cy="288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Arrow Connector 3"/>
          <p:cNvCxnSpPr/>
          <p:nvPr/>
        </p:nvCxnSpPr>
        <p:spPr>
          <a:xfrm flipH="1" flipV="1">
            <a:off x="6928920" y="4479120"/>
            <a:ext cx="307440" cy="1051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0" name="Straight Arrow Connector 13"/>
          <p:cNvCxnSpPr/>
          <p:nvPr/>
        </p:nvCxnSpPr>
        <p:spPr>
          <a:xfrm flipV="1">
            <a:off x="5074920" y="4018680"/>
            <a:ext cx="811800" cy="605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50920" y="170028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ss of head between point A and B is given b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79280" y="115920"/>
            <a:ext cx="45180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iezometric Levels or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0920" y="63180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leve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which water rises in the piezometer tubes situated at points A and B are know as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iezometric leve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points A and B, resp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826920" y="2206800"/>
            <a:ext cx="439272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55" name="Object 10"/>
              <p:cNvSpPr txBox="1"/>
              <p:nvPr/>
            </p:nvSpPr>
            <p:spPr>
              <a:xfrm>
                <a:off x="5651640" y="2133720"/>
                <a:ext cx="28796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h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6" name="Picture 19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3527640" cy="302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7" name="Text Box 22"/>
          <p:cNvSpPr/>
          <p:nvPr/>
        </p:nvSpPr>
        <p:spPr>
          <a:xfrm>
            <a:off x="8524800" y="2425680"/>
            <a:ext cx="5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250920" y="4748040"/>
            <a:ext cx="496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the SLOPE of the ENERGY LINE defined by the free surface of flowing water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EN CHANNEL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the slope of the PIEZOMETRIC HEADS or LEVELS between two point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NFINED FL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250920" y="3141720"/>
            <a:ext cx="444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ydraulic gradient (or head loss) is as defined before  express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25"/>
              <p:cNvSpPr txBox="1"/>
              <p:nvPr/>
            </p:nvSpPr>
            <p:spPr>
              <a:xfrm>
                <a:off x="3132000" y="3881520"/>
                <a:ext cx="7923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h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Text Box 26"/>
          <p:cNvSpPr/>
          <p:nvPr/>
        </p:nvSpPr>
        <p:spPr>
          <a:xfrm>
            <a:off x="4141440" y="4005360"/>
            <a:ext cx="5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030" descr="pic 1"/>
          <p:cNvPicPr/>
          <p:nvPr/>
        </p:nvPicPr>
        <p:blipFill>
          <a:blip r:embed="rId1"/>
          <a:stretch/>
        </p:blipFill>
        <p:spPr>
          <a:xfrm>
            <a:off x="755640" y="496800"/>
            <a:ext cx="5367240" cy="58165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044"/>
          <p:cNvSpPr/>
          <p:nvPr/>
        </p:nvSpPr>
        <p:spPr>
          <a:xfrm>
            <a:off x="3708360" y="2133720"/>
            <a:ext cx="86364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 (Arabic)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 (Arabic)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5383080" y="465120"/>
            <a:ext cx="343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cky ca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 always to look a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otal 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1"/>
          <p:cNvSpPr/>
          <p:nvPr/>
        </p:nvSpPr>
        <p:spPr>
          <a:xfrm>
            <a:off x="4486320" y="2332080"/>
            <a:ext cx="344520" cy="23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6"/>
          <p:cNvSpPr/>
          <p:nvPr/>
        </p:nvSpPr>
        <p:spPr>
          <a:xfrm>
            <a:off x="2193840" y="2589120"/>
            <a:ext cx="344520" cy="23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43"/>
          <p:cNvSpPr/>
          <p:nvPr/>
        </p:nvSpPr>
        <p:spPr>
          <a:xfrm>
            <a:off x="1789200" y="2425680"/>
            <a:ext cx="10080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 (Arabic)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 (Arabic)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447840" y="549360"/>
            <a:ext cx="808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andpipe referred to a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IEZOME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used for measuring pressure. It operates by converting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es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more readily measurabl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va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47840" y="2060640"/>
            <a:ext cx="80848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antity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s called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iezometric hea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iezometric lev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tal hea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it is the head that would be measured by a piezometer referenced to some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dat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47840" y="3573360"/>
            <a:ext cx="80848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v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water column in the standpipe i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TAL HEAD (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+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ereas the actual height of rise of the water column in the standpipe is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ESSURE 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81800" y="44280"/>
            <a:ext cx="1782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mark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53960" y="5889600"/>
            <a:ext cx="80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most often convenient to establish the datum plane at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ail wa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v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468360" y="51292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evation hea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a point = Extent of that point from the da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rcRect l="0" t="0" r="790" b="0"/>
          <a:stretch/>
        </p:blipFill>
        <p:spPr>
          <a:xfrm>
            <a:off x="330120" y="1052640"/>
            <a:ext cx="7947000" cy="4000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955920" y="41497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958800" y="54180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ight Arrow 1"/>
          <p:cNvSpPr/>
          <p:nvPr/>
        </p:nvSpPr>
        <p:spPr>
          <a:xfrm>
            <a:off x="6156360" y="5465880"/>
            <a:ext cx="792000" cy="366480"/>
          </a:xfrm>
          <a:prstGeom prst="rightArrow">
            <a:avLst>
              <a:gd name="adj1" fmla="val 50000"/>
              <a:gd name="adj2" fmla="val 49825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231840" y="135000"/>
            <a:ext cx="19591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3600360" y="1800360"/>
            <a:ext cx="1368360" cy="252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"/>
          <p:cNvSpPr/>
          <p:nvPr/>
        </p:nvSpPr>
        <p:spPr>
          <a:xfrm flipV="1">
            <a:off x="4968720" y="143964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"/>
          <p:cNvSpPr/>
          <p:nvPr/>
        </p:nvSpPr>
        <p:spPr>
          <a:xfrm flipV="1">
            <a:off x="3600360" y="143964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3600360" y="431964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4211640" y="1727280"/>
            <a:ext cx="14616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4211640" y="2952720"/>
            <a:ext cx="14616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8"/>
          <p:cNvSpPr/>
          <p:nvPr/>
        </p:nvSpPr>
        <p:spPr>
          <a:xfrm>
            <a:off x="4211640" y="4032360"/>
            <a:ext cx="14616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817800" y="3887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817800" y="2808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746520" y="1584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2016000" y="5111640"/>
            <a:ext cx="61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7398360" y="47466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"/>
          <p:cNvSpPr/>
          <p:nvPr/>
        </p:nvSpPr>
        <p:spPr>
          <a:xfrm>
            <a:off x="5329080" y="410364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6"/>
          <p:cNvSpPr/>
          <p:nvPr/>
        </p:nvSpPr>
        <p:spPr>
          <a:xfrm>
            <a:off x="5329080" y="1800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7"/>
          <p:cNvSpPr/>
          <p:nvPr/>
        </p:nvSpPr>
        <p:spPr>
          <a:xfrm>
            <a:off x="5689440" y="1800360"/>
            <a:ext cx="0" cy="2303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8"/>
          <p:cNvSpPr/>
          <p:nvPr/>
        </p:nvSpPr>
        <p:spPr>
          <a:xfrm>
            <a:off x="5689440" y="410364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9"/>
          <p:cNvSpPr/>
          <p:nvPr/>
        </p:nvSpPr>
        <p:spPr>
          <a:xfrm>
            <a:off x="6337440" y="3024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0"/>
          <p:cNvSpPr/>
          <p:nvPr/>
        </p:nvSpPr>
        <p:spPr>
          <a:xfrm>
            <a:off x="6337440" y="1800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1"/>
          <p:cNvSpPr/>
          <p:nvPr/>
        </p:nvSpPr>
        <p:spPr>
          <a:xfrm>
            <a:off x="6697800" y="3024360"/>
            <a:ext cx="0" cy="2087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6697800" y="1800360"/>
            <a:ext cx="0" cy="1224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>
            <a:off x="2736720" y="1800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3024360" y="1800360"/>
            <a:ext cx="0" cy="3311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6"/>
          <p:cNvSpPr/>
          <p:nvPr/>
        </p:nvSpPr>
        <p:spPr>
          <a:xfrm>
            <a:off x="1800360" y="1800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7"/>
          <p:cNvSpPr/>
          <p:nvPr/>
        </p:nvSpPr>
        <p:spPr>
          <a:xfrm>
            <a:off x="2232000" y="1800360"/>
            <a:ext cx="0" cy="3311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8"/>
          <p:cNvSpPr/>
          <p:nvPr/>
        </p:nvSpPr>
        <p:spPr>
          <a:xfrm rot="16200000">
            <a:off x="2405880" y="3136320"/>
            <a:ext cx="62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e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9"/>
          <p:cNvSpPr/>
          <p:nvPr/>
        </p:nvSpPr>
        <p:spPr>
          <a:xfrm rot="16200000">
            <a:off x="5165280" y="4401360"/>
            <a:ext cx="62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e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0"/>
          <p:cNvSpPr/>
          <p:nvPr/>
        </p:nvSpPr>
        <p:spPr>
          <a:xfrm rot="16200000">
            <a:off x="4981320" y="2794320"/>
            <a:ext cx="847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p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2"/>
          <p:cNvSpPr/>
          <p:nvPr/>
        </p:nvSpPr>
        <p:spPr>
          <a:xfrm rot="16200000">
            <a:off x="6060600" y="3803400"/>
            <a:ext cx="847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e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3"/>
          <p:cNvSpPr/>
          <p:nvPr/>
        </p:nvSpPr>
        <p:spPr>
          <a:xfrm rot="16200000">
            <a:off x="6060600" y="2219040"/>
            <a:ext cx="847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p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4"/>
          <p:cNvSpPr/>
          <p:nvPr/>
        </p:nvSpPr>
        <p:spPr>
          <a:xfrm rot="16200000">
            <a:off x="513360" y="330048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tal Head at A, B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5"/>
          <p:cNvSpPr/>
          <p:nvPr/>
        </p:nvSpPr>
        <p:spPr>
          <a:xfrm>
            <a:off x="108720" y="60660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Examp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7"/>
          <p:cNvSpPr/>
          <p:nvPr/>
        </p:nvSpPr>
        <p:spPr>
          <a:xfrm>
            <a:off x="-720" y="50760"/>
            <a:ext cx="3112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llustration of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"/>
          <p:cNvSpPr/>
          <p:nvPr/>
        </p:nvSpPr>
        <p:spPr>
          <a:xfrm>
            <a:off x="3666240" y="5732640"/>
            <a:ext cx="340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 always to look at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otal 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2109960" y="378000"/>
            <a:ext cx="6697440" cy="3565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4716360" y="4292640"/>
            <a:ext cx="4140360" cy="2168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3"/>
          <a:stretch/>
        </p:blipFill>
        <p:spPr>
          <a:xfrm>
            <a:off x="539640" y="4300560"/>
            <a:ext cx="3907080" cy="2033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10" name="Text Box 6"/>
          <p:cNvSpPr/>
          <p:nvPr/>
        </p:nvSpPr>
        <p:spPr>
          <a:xfrm>
            <a:off x="-6840" y="11916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Examp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55600" y="189000"/>
            <a:ext cx="6202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CHARGE AND SEEPAGE VELO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24000" y="857160"/>
            <a:ext cx="83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q. (1), v is the discharg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(apparen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epage velocity of water based on the gross cross-sectional area of the soil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3851280" y="1773360"/>
                <a:ext cx="9349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Text Box 5"/>
          <p:cNvSpPr/>
          <p:nvPr/>
        </p:nvSpPr>
        <p:spPr>
          <a:xfrm>
            <a:off x="324000" y="2997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water cannot be flowing through solid particles but only through the voids or pores between the gr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24000" y="43448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vera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elocity at which the water flows through the soil pores is obtain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2050920" y="5229360"/>
                <a:ext cx="10083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Text Box 8"/>
          <p:cNvSpPr/>
          <p:nvPr/>
        </p:nvSpPr>
        <p:spPr>
          <a:xfrm>
            <a:off x="831960" y="6200640"/>
            <a:ext cx="456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EEPAGE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5149800" y="1967040"/>
            <a:ext cx="7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3781440" y="5351400"/>
            <a:ext cx="7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1" descr="soil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093080" y="1700280"/>
            <a:ext cx="1071360" cy="1225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58760" y="189000"/>
            <a:ext cx="880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the law of conservation of mass (for incompressive steady state flow, this low reduces to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QUATION OF CONTINU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we get (or from Eqs. (10), (1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3"/>
              <p:cNvSpPr txBox="1"/>
              <p:nvPr/>
            </p:nvSpPr>
            <p:spPr>
              <a:xfrm>
                <a:off x="1187280" y="1628640"/>
                <a:ext cx="18543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1476360" y="5589720"/>
                <a:ext cx="91440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6"/>
              <p:cNvSpPr txBox="1"/>
              <p:nvPr/>
            </p:nvSpPr>
            <p:spPr>
              <a:xfrm>
                <a:off x="5003640" y="5589720"/>
                <a:ext cx="24098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</m:e>
                    </m:d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5" name="Picture 7" descr=""/>
          <p:cNvPicPr/>
          <p:nvPr/>
        </p:nvPicPr>
        <p:blipFill>
          <a:blip r:embed="rId1"/>
          <a:stretch/>
        </p:blipFill>
        <p:spPr>
          <a:xfrm>
            <a:off x="3419640" y="1711440"/>
            <a:ext cx="5724360" cy="2098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6" name="Object 8"/>
              <p:cNvSpPr txBox="1"/>
              <p:nvPr/>
            </p:nvSpPr>
            <p:spPr>
              <a:xfrm>
                <a:off x="1258920" y="4005360"/>
                <a:ext cx="17161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Text Box 9"/>
          <p:cNvSpPr/>
          <p:nvPr/>
        </p:nvSpPr>
        <p:spPr>
          <a:xfrm>
            <a:off x="326160" y="22766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0"/>
              <p:cNvSpPr txBox="1"/>
              <p:nvPr/>
            </p:nvSpPr>
            <p:spPr>
              <a:xfrm>
                <a:off x="1268280" y="2708280"/>
                <a:ext cx="11620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Text Box 11"/>
          <p:cNvSpPr/>
          <p:nvPr/>
        </p:nvSpPr>
        <p:spPr>
          <a:xfrm>
            <a:off x="406080" y="3573360"/>
            <a:ext cx="39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ith the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471600" y="508464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3"/>
          <p:cNvSpPr/>
          <p:nvPr/>
        </p:nvSpPr>
        <p:spPr>
          <a:xfrm>
            <a:off x="2771640" y="6035760"/>
            <a:ext cx="208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7597800" y="5780160"/>
            <a:ext cx="7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182160" y="101520"/>
            <a:ext cx="1683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14200" y="620640"/>
            <a:ext cx="831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q. (12) indicates the relationship between the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ischarge velocity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eepage velocity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214200" y="1268280"/>
            <a:ext cx="831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nce 0%&lt; n &lt; 100%, it follows that seepage velocity is always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greater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than the discharge (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uperficia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 velo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214200" y="2744640"/>
            <a:ext cx="83185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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t only because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A but also because the flow is not straight –line, and must follow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ORTUOU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paths around the grains. (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Recall the continuity equatio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14200" y="2031840"/>
            <a:ext cx="831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s also called the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pparent seepag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elocity. It is a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uperficial, ficti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ut convenient engineering velocity. (Also called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velocity of approac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519280" y="5084640"/>
            <a:ext cx="6408720" cy="16592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216000" y="3789360"/>
            <a:ext cx="8316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e use the term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averag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seepage velocity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because on the microscopic scale the water seeping through a soil follows a very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ortuou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path between solid particles. However macroscopically we assume that the flow path in 1-D is a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raight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2627280" y="3068640"/>
            <a:ext cx="5905440" cy="31431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241" name="Text Box 5"/>
          <p:cNvSpPr/>
          <p:nvPr/>
        </p:nvSpPr>
        <p:spPr>
          <a:xfrm>
            <a:off x="162720" y="11592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Exampl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611280" y="146880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800000"/>
              </a:buClr>
              <a:buFont typeface="Arial"/>
              <a:buAutoNum type="romanLcPeriod"/>
              <a:tabLst>
                <a:tab algn="l" pos="1038574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he amount of flow through the soil per h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800000"/>
              </a:buClr>
              <a:buFont typeface="Arial"/>
              <a:buAutoNum type="romanLcPeriod"/>
              <a:tabLst>
                <a:tab algn="l" pos="1038574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he pore water pressure in kN/m</a:t>
            </a:r>
            <a:r>
              <a:rPr b="1" lang="en-US" sz="2000" spc="-1" strike="noStrike" baseline="30000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at points B, C, and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800000"/>
              </a:buClr>
              <a:buFont typeface="Arial"/>
              <a:buAutoNum type="romanLcPeriod"/>
              <a:tabLst>
                <a:tab algn="l" pos="1038574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he discharge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800000"/>
              </a:buClr>
              <a:buFont typeface="Arial"/>
              <a:buAutoNum type="romanLcPeriod"/>
              <a:tabLst>
                <a:tab algn="l" pos="1038574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he seepage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395280" y="69228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horizontal cylinder of soil shown below has a coefficient of permeability of 0.01 cm/sec and a void ratio of 0.70. Determine: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181080" y="333360"/>
            <a:ext cx="61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 Q= vA = kiA =0.01X(5/10)X10 = 0.05 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s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80 cm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/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253080" y="1844640"/>
            <a:ext cx="4059000" cy="30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= 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9.81 -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(B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.1 X 9.81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0.981 kN/m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 = 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(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9.81 -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(C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.075 X 9.81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0.736 kN/m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= 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9.81 -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(D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.05 X 9.81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0.491 kN/m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4611600" y="3849840"/>
            <a:ext cx="4362480" cy="2269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1403280" y="885960"/>
            <a:ext cx="1577880" cy="863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48" name="Rectangle 5"/>
          <p:cNvSpPr/>
          <p:nvPr/>
        </p:nvSpPr>
        <p:spPr>
          <a:xfrm>
            <a:off x="179280" y="461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. v = k I = 0.01 X 5/10 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0.005 cm/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179280" y="5388120"/>
            <a:ext cx="6121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.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 (1+e)/e = 0.005 (1+0.7)/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0.012 cm/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3"/>
          <a:stretch/>
        </p:blipFill>
        <p:spPr>
          <a:xfrm>
            <a:off x="4371840" y="1104840"/>
            <a:ext cx="4637160" cy="2468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249480" y="115920"/>
            <a:ext cx="349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ydraulic 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95280" y="549360"/>
            <a:ext cx="81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he Hydraulic conductivity depends on several factors, most of which are listed be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447840" y="1808280"/>
            <a:ext cx="57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e siz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395280" y="2816280"/>
            <a:ext cx="47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395280" y="3284640"/>
            <a:ext cx="47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gree of 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395280" y="3911760"/>
            <a:ext cx="47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ble layer thick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13"/>
              <p:cNvSpPr txBox="1"/>
              <p:nvPr/>
            </p:nvSpPr>
            <p:spPr>
              <a:xfrm>
                <a:off x="3995640" y="3860640"/>
                <a:ext cx="79236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4"/>
              <p:cNvSpPr txBox="1"/>
              <p:nvPr/>
            </p:nvSpPr>
            <p:spPr>
              <a:xfrm>
                <a:off x="3586320" y="3357720"/>
                <a:ext cx="7696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α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15"/>
              <p:cNvSpPr txBox="1"/>
              <p:nvPr/>
            </p:nvSpPr>
            <p:spPr>
              <a:xfrm>
                <a:off x="2362320" y="2870280"/>
                <a:ext cx="7696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α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Text Box 16"/>
          <p:cNvSpPr/>
          <p:nvPr/>
        </p:nvSpPr>
        <p:spPr>
          <a:xfrm>
            <a:off x="409680" y="450864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il structure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loccula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ucture has highe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per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uctur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7"/>
          <p:cNvSpPr/>
          <p:nvPr/>
        </p:nvSpPr>
        <p:spPr>
          <a:xfrm>
            <a:off x="409680" y="5732640"/>
            <a:ext cx="47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cosity of the perme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409680" y="624852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sity and concentration of the perme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409680" y="5300640"/>
            <a:ext cx="47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onic concent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0"/>
          <p:cNvSpPr/>
          <p:nvPr/>
        </p:nvSpPr>
        <p:spPr>
          <a:xfrm>
            <a:off x="447840" y="1341360"/>
            <a:ext cx="57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in siz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95280" y="2311560"/>
            <a:ext cx="57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ghness of mineral 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2"/>
          <p:cNvSpPr/>
          <p:nvPr/>
        </p:nvSpPr>
        <p:spPr>
          <a:xfrm>
            <a:off x="231840" y="5229360"/>
            <a:ext cx="8531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20"/>
          <p:cNvSpPr/>
          <p:nvPr/>
        </p:nvSpPr>
        <p:spPr>
          <a:xfrm>
            <a:off x="250920" y="2708280"/>
            <a:ext cx="8531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 rot="16200000">
            <a:off x="-141480" y="1808280"/>
            <a:ext cx="867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2"/>
          <p:cNvSpPr/>
          <p:nvPr/>
        </p:nvSpPr>
        <p:spPr>
          <a:xfrm rot="16200000">
            <a:off x="-109440" y="3854880"/>
            <a:ext cx="8038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V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3"/>
          <p:cNvSpPr/>
          <p:nvPr/>
        </p:nvSpPr>
        <p:spPr>
          <a:xfrm rot="16200000">
            <a:off x="-317520" y="5806800"/>
            <a:ext cx="1220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Perme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398520" y="404640"/>
            <a:ext cx="33444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ypical values of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611280" y="1397160"/>
          <a:ext cx="7632720" cy="4305240"/>
        </p:xfrm>
        <a:graphic>
          <a:graphicData uri="http://schemas.openxmlformats.org/drawingml/2006/table">
            <a:tbl>
              <a:tblPr/>
              <a:tblGrid>
                <a:gridCol w="3127320"/>
                <a:gridCol w="2135160"/>
                <a:gridCol w="2370240"/>
              </a:tblGrid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il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(cm/se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n Gra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n coarse s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e s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ty sand, si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e silt, clayey si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y, silty cl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ally imperme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611280" y="2421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eability is a </a:t>
            </a:r>
            <a:r>
              <a:rPr b="1" lang="en-US" sz="2400" spc="-1" strike="noStrike">
                <a:solidFill>
                  <a:srgbClr val="7575d1"/>
                </a:solidFill>
                <a:latin typeface="Arial"/>
              </a:rPr>
              <a:t>por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hydraulic conductivity, and is a property of the porous media only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 the flu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\kappa"/>
          <p:cNvPicPr/>
          <p:nvPr/>
        </p:nvPicPr>
        <p:blipFill>
          <a:blip r:embed="rId1"/>
          <a:stretch/>
        </p:blipFill>
        <p:spPr>
          <a:xfrm>
            <a:off x="-3359160" y="2909880"/>
            <a:ext cx="95400" cy="85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 \kappa = K \frac {\mu} {\rho g}"/>
          <p:cNvPicPr/>
          <p:nvPr/>
        </p:nvPicPr>
        <p:blipFill>
          <a:blip r:embed="rId2"/>
          <a:stretch/>
        </p:blipFill>
        <p:spPr>
          <a:xfrm>
            <a:off x="-3746520" y="3246480"/>
            <a:ext cx="733320" cy="3808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5"/>
          <p:cNvSpPr/>
          <p:nvPr/>
        </p:nvSpPr>
        <p:spPr>
          <a:xfrm>
            <a:off x="369000" y="209520"/>
            <a:ext cx="824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rinsic Permeability vs Hydraulic Con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611280" y="83664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efficient of proportionality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q. (3) is called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ydraulic conductiv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 term coefficient of permeability is also sometimes used as a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synony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hydraulic conductivity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3"/>
          <a:stretch/>
        </p:blipFill>
        <p:spPr>
          <a:xfrm>
            <a:off x="1908000" y="4587840"/>
            <a:ext cx="1513080" cy="1042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79" name="Picture 11" descr=""/>
          <p:cNvPicPr/>
          <p:nvPr/>
        </p:nvPicPr>
        <p:blipFill>
          <a:blip r:embed="rId4"/>
          <a:stretch/>
        </p:blipFill>
        <p:spPr>
          <a:xfrm>
            <a:off x="3564000" y="4378320"/>
            <a:ext cx="4321080" cy="127152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611280" y="35924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aulic conductiv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a soil is related to the properties of the fluid flown through it b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4491000" y="5649840"/>
            <a:ext cx="38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ntrinsic permeability. Depends </a:t>
            </a: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only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 on properties of the solid matrix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"/>
          <p:cNvSpPr/>
          <p:nvPr/>
        </p:nvSpPr>
        <p:spPr>
          <a:xfrm>
            <a:off x="468360" y="6399360"/>
            <a:ext cx="78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Times-Italic"/>
              </a:rPr>
              <a:t>absolute permeabilit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 expressed in units of </a:t>
            </a:r>
            <a:r>
              <a:rPr b="1" i="1" lang="en-US" sz="1800" spc="-1" strike="noStrike">
                <a:solidFill>
                  <a:srgbClr val="000000"/>
                </a:solidFill>
                <a:latin typeface="Times-Italic"/>
              </a:rPr>
              <a:t>L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 That is 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631080" y="6029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f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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/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31840" y="135000"/>
            <a:ext cx="19591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50920" y="639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ils are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perme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ue to the existence of interconnected vo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soil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71640" y="1700280"/>
            <a:ext cx="1762200" cy="201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" name="Picture 13" descr="1-s2"/>
          <p:cNvPicPr/>
          <p:nvPr/>
        </p:nvPicPr>
        <p:blipFill>
          <a:blip r:embed="rId2"/>
          <a:stretch/>
        </p:blipFill>
        <p:spPr>
          <a:xfrm>
            <a:off x="5292720" y="1916280"/>
            <a:ext cx="3456000" cy="200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3"/>
          <a:stretch/>
        </p:blipFill>
        <p:spPr>
          <a:xfrm>
            <a:off x="3059280" y="1773360"/>
            <a:ext cx="2170080" cy="223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7"/>
          <p:cNvSpPr/>
          <p:nvPr/>
        </p:nvSpPr>
        <p:spPr>
          <a:xfrm>
            <a:off x="324000" y="4113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f the most important consideration in soil mechanics is the </a:t>
            </a:r>
            <a:r>
              <a:rPr b="1" lang="en-US" sz="2400" spc="-1" strike="noStrike">
                <a:solidFill>
                  <a:srgbClr val="7575d1"/>
                </a:solidFill>
                <a:latin typeface="Arial"/>
              </a:rPr>
              <a:t>effects of wa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soil on its engineering properties, and hence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324000" y="537372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of geotechnical engineering problems somehow have water associated with them in various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3348000" y="3716280"/>
            <a:ext cx="5543640" cy="2949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4068720" y="333360"/>
            <a:ext cx="3132360" cy="1079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3"/>
          <a:stretch/>
        </p:blipFill>
        <p:spPr>
          <a:xfrm>
            <a:off x="684360" y="260280"/>
            <a:ext cx="1584000" cy="1092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87" name="Line 8"/>
          <p:cNvSpPr/>
          <p:nvPr/>
        </p:nvSpPr>
        <p:spPr>
          <a:xfrm>
            <a:off x="2413080" y="765000"/>
            <a:ext cx="1297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4"/>
          <a:stretch/>
        </p:blipFill>
        <p:spPr>
          <a:xfrm>
            <a:off x="468360" y="2349360"/>
            <a:ext cx="2895480" cy="12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89" name="Rectangle 1"/>
          <p:cNvSpPr/>
          <p:nvPr/>
        </p:nvSpPr>
        <p:spPr>
          <a:xfrm>
            <a:off x="3852720" y="5791320"/>
            <a:ext cx="1943280" cy="2872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468360" y="1557360"/>
            <a:ext cx="8155080" cy="684360"/>
            <a:chOff x="468360" y="1557360"/>
            <a:chExt cx="8155080" cy="684360"/>
          </a:xfrm>
        </p:grpSpPr>
        <p:pic>
          <p:nvPicPr>
            <p:cNvPr id="291" name="Picture 1" descr=""/>
            <p:cNvPicPr/>
            <p:nvPr/>
          </p:nvPicPr>
          <p:blipFill>
            <a:blip r:embed="rId5"/>
            <a:stretch/>
          </p:blipFill>
          <p:spPr>
            <a:xfrm>
              <a:off x="468360" y="1557360"/>
              <a:ext cx="815508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Rectangle 2"/>
            <p:cNvSpPr/>
            <p:nvPr/>
          </p:nvSpPr>
          <p:spPr>
            <a:xfrm>
              <a:off x="5383800" y="1850760"/>
              <a:ext cx="1907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254160" y="209520"/>
            <a:ext cx="1287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No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95280" y="4221000"/>
            <a:ext cx="815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t of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same as velocity i.e. distance/time. Hence hydraulic conductivity is sometimes defined a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Superficial velocity of water flowing through soil under unit hydraulic grad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95280" y="836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Intrinsic Perme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measure of how well a porous media transmits a fluid. It has nothing to do with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luid itsel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t is measured in (length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95280" y="213372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Hydraulic Conductiv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measure of how easily water moves through the porous media. It depends not only on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rme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matrix, but also is a func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lu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t is a measure of (length)/(ti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2627280" y="2997360"/>
            <a:ext cx="4680000" cy="350496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5"/>
          <p:cNvSpPr/>
          <p:nvPr/>
        </p:nvSpPr>
        <p:spPr>
          <a:xfrm>
            <a:off x="684360" y="692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ypically cannot be correlated with porosity. For example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a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ver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igh porosi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ow permeab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684360" y="155736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within a single lithologic type (such as sandstone)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reases with increasing poros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254520" y="63360"/>
            <a:ext cx="1467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84360" y="24210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most natural formations,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anges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o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rec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1188360" y="3687840"/>
            <a:ext cx="1134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1"/>
          <p:cNvSpPr/>
          <p:nvPr/>
        </p:nvSpPr>
        <p:spPr>
          <a:xfrm>
            <a:off x="2340000" y="386064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 rot="5400000">
            <a:off x="998280" y="4695480"/>
            <a:ext cx="1171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3"/>
          <p:cNvSpPr/>
          <p:nvPr/>
        </p:nvSpPr>
        <p:spPr>
          <a:xfrm>
            <a:off x="1908000" y="429264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494640" y="279360"/>
            <a:ext cx="8421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Determination of the Coefficients of Perme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92040" y="955800"/>
            <a:ext cx="75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efficient of permeability can be determin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564480" y="1628640"/>
            <a:ext cx="533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the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om empirical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om Consolidation test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(CE 48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611640" y="3500280"/>
            <a:ext cx="202788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.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39640" y="405612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vice called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ermeame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used in the laboratory. There are two standard types of laboratory test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1188360" y="5343480"/>
            <a:ext cx="38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he constant-hea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he falling-hea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5688000" y="3141720"/>
            <a:ext cx="3456000" cy="31716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3"/>
          <p:cNvSpPr/>
          <p:nvPr/>
        </p:nvSpPr>
        <p:spPr>
          <a:xfrm>
            <a:off x="308880" y="135000"/>
            <a:ext cx="58302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STANT-HEAD TEST (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STM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2434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374920" cy="530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"/>
          <p:cNvSpPr/>
          <p:nvPr/>
        </p:nvSpPr>
        <p:spPr>
          <a:xfrm>
            <a:off x="386640" y="882720"/>
            <a:ext cx="70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otal volume of water collected can be expressed 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6" descr=""/>
          <p:cNvPicPr/>
          <p:nvPr/>
        </p:nvPicPr>
        <p:blipFill>
          <a:blip r:embed="rId3"/>
          <a:stretch/>
        </p:blipFill>
        <p:spPr>
          <a:xfrm>
            <a:off x="5292720" y="1270080"/>
            <a:ext cx="1224000" cy="92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17" name="Line 7"/>
          <p:cNvSpPr/>
          <p:nvPr/>
        </p:nvSpPr>
        <p:spPr>
          <a:xfrm>
            <a:off x="3419640" y="1628640"/>
            <a:ext cx="151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253080" y="3017880"/>
            <a:ext cx="112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Notes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50920" y="3575160"/>
            <a:ext cx="53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ater used in the test should be de-a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250920" y="4292640"/>
            <a:ext cx="53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test is more suitable for soils with high k (i,e. gravels, sand, coarse silts)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250920" y="5375160"/>
            <a:ext cx="53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est applies a constant head of water to each end of a soil in a 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ermeame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450360" y="20080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1377720" y="2127240"/>
            <a:ext cx="571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= volume of water col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= area of cross section of the soil speci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 = Duration of water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3"/>
          <p:cNvSpPr/>
          <p:nvPr/>
        </p:nvSpPr>
        <p:spPr>
          <a:xfrm>
            <a:off x="6452640" y="41403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110880" y="92160"/>
            <a:ext cx="33264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LLING-HEA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3298680" cy="51548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4"/>
          <p:cNvSpPr/>
          <p:nvPr/>
        </p:nvSpPr>
        <p:spPr>
          <a:xfrm>
            <a:off x="246240" y="620640"/>
            <a:ext cx="47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elocity of fall in the standpipe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5"/>
              <p:cNvSpPr txBox="1"/>
              <p:nvPr/>
            </p:nvSpPr>
            <p:spPr>
              <a:xfrm>
                <a:off x="250920" y="981000"/>
                <a:ext cx="11509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9" name="Text Box 6"/>
          <p:cNvSpPr/>
          <p:nvPr/>
        </p:nvSpPr>
        <p:spPr>
          <a:xfrm>
            <a:off x="1835280" y="10587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–ve means a decreasing value of h a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creases (a “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fal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 he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249480" y="1971720"/>
            <a:ext cx="26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Flow into the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8"/>
              <p:cNvSpPr txBox="1"/>
              <p:nvPr/>
            </p:nvSpPr>
            <p:spPr>
              <a:xfrm>
                <a:off x="3203640" y="1700280"/>
                <a:ext cx="15094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2" name="Text Box 9"/>
          <p:cNvSpPr/>
          <p:nvPr/>
        </p:nvSpPr>
        <p:spPr>
          <a:xfrm>
            <a:off x="250920" y="2781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 cross-sectional area of the standp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248760" y="3411360"/>
            <a:ext cx="29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Flow out of the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2"/>
              <p:cNvSpPr txBox="1"/>
              <p:nvPr/>
            </p:nvSpPr>
            <p:spPr>
              <a:xfrm>
                <a:off x="3306600" y="3141720"/>
                <a:ext cx="21290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Text Box 13"/>
          <p:cNvSpPr/>
          <p:nvPr/>
        </p:nvSpPr>
        <p:spPr>
          <a:xfrm>
            <a:off x="250920" y="4076640"/>
            <a:ext cx="468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continuity equation 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ou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4"/>
              <p:cNvSpPr txBox="1"/>
              <p:nvPr/>
            </p:nvSpPr>
            <p:spPr>
              <a:xfrm>
                <a:off x="539640" y="4437000"/>
                <a:ext cx="1944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Text Box 15"/>
          <p:cNvSpPr/>
          <p:nvPr/>
        </p:nvSpPr>
        <p:spPr>
          <a:xfrm>
            <a:off x="611280" y="5950080"/>
            <a:ext cx="23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ing y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16"/>
              <p:cNvSpPr txBox="1"/>
              <p:nvPr/>
            </p:nvSpPr>
            <p:spPr>
              <a:xfrm>
                <a:off x="3409920" y="5924520"/>
                <a:ext cx="17478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9" name="Text Box 14"/>
          <p:cNvSpPr/>
          <p:nvPr/>
        </p:nvSpPr>
        <p:spPr>
          <a:xfrm>
            <a:off x="6292800" y="263520"/>
            <a:ext cx="281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: The test applies a constant head of water only at the discharge po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"/>
          <p:cNvSpPr/>
          <p:nvPr/>
        </p:nvSpPr>
        <p:spPr>
          <a:xfrm>
            <a:off x="395280" y="5281560"/>
            <a:ext cx="59770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Integration with limits of time from 0 to t and with limits of head difference  from h</a:t>
            </a:r>
            <a:r>
              <a:rPr b="1" i="1" lang="en-US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to h</a:t>
            </a:r>
            <a:r>
              <a:rPr b="1" i="1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g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"/>
          <p:cNvSpPr/>
          <p:nvPr/>
        </p:nvSpPr>
        <p:spPr>
          <a:xfrm>
            <a:off x="6356160" y="36100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06920" y="115920"/>
            <a:ext cx="47390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mitations of Laboratory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08000" y="620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il specimen is not representative of the natural depos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08000" y="1052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 of the boundary conditions due to the small size of the speci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08000" y="18860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bubbles may be trapped in the test specimen, or air may come out of solution of the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108000" y="2852640"/>
            <a:ext cx="8642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very small, say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m/sec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apo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ay affect the measu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108000" y="364500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 variation, especially in test of long duration, may affect the measu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08000" y="45100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gration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esting sands and si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108000" y="5084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xpedite the test, the laborator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aulic grad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h/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often mad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more, whereas in the field more realistic values may be on the order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.1 to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5C4E-7456-4A93-A2DE-268DBD4589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164520" y="115920"/>
            <a:ext cx="411264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I. From Consolidation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95280" y="692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way to fi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fine-grained soils is to conduct consolidation test and from its result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be found 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6"/>
              <p:cNvSpPr txBox="1"/>
              <p:nvPr/>
            </p:nvSpPr>
            <p:spPr>
              <a:xfrm>
                <a:off x="2843280" y="1628640"/>
                <a:ext cx="2376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4" name="Text Box 7"/>
          <p:cNvSpPr/>
          <p:nvPr/>
        </p:nvSpPr>
        <p:spPr>
          <a:xfrm>
            <a:off x="397080" y="234936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1258920" y="2781360"/>
            <a:ext cx="6356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Arial"/>
              </a:rPr>
              <a:t>v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 coefficient of volume compre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v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 coefficient of conso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395280" y="486900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very practical especially fo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ery-fine-grain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il where permeability test would take long period of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395280" y="3860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olidation of soils is addressed in the course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E 380 &amp; 48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ight Arrow 1"/>
          <p:cNvSpPr/>
          <p:nvPr/>
        </p:nvSpPr>
        <p:spPr>
          <a:xfrm rot="10800000">
            <a:off x="5508360" y="1902960"/>
            <a:ext cx="1204920" cy="2890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"/>
          <p:cNvSpPr/>
          <p:nvPr/>
        </p:nvSpPr>
        <p:spPr>
          <a:xfrm>
            <a:off x="6777000" y="1557360"/>
            <a:ext cx="225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From Terzaghi 1-D Theory of conso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33200" y="115920"/>
            <a:ext cx="648864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II. Empirical Relationships – Granular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2627280" y="620640"/>
            <a:ext cx="2303640" cy="812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362" name="Object 8"/>
              <p:cNvSpPr txBox="1"/>
              <p:nvPr/>
            </p:nvSpPr>
            <p:spPr>
              <a:xfrm>
                <a:off x="3132000" y="3787920"/>
                <a:ext cx="20163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Text Box 15"/>
          <p:cNvSpPr/>
          <p:nvPr/>
        </p:nvSpPr>
        <p:spPr>
          <a:xfrm>
            <a:off x="301320" y="61452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zen (19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1684440" y="1557360"/>
            <a:ext cx="50241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 = a constant that varies from 1.0 to 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= the effective size, in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302040" y="382428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zeny-Ca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5507280" y="386064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 = a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395640" y="15573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539640" y="227664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buClr>
                <a:srgbClr val="ff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r clean uniform s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buClr>
                <a:srgbClr val="ff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resence of even a small amount of silts and/or clay may change the value of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substanti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buClr>
                <a:srgbClr val="ff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 may vary substantially, and hence this equation is </a:t>
            </a:r>
            <a:r>
              <a:rPr b="0" lang="en-US" sz="2000" spc="-1" strike="noStrike" u="sng">
                <a:solidFill>
                  <a:srgbClr val="00b050"/>
                </a:solidFill>
                <a:uFillTx/>
                <a:latin typeface="Arial"/>
              </a:rPr>
              <a:t>not very rel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48040" y="506088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er and Awad (19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4" descr=""/>
          <p:cNvPicPr/>
          <p:nvPr/>
        </p:nvPicPr>
        <p:blipFill>
          <a:blip r:embed="rId2"/>
          <a:stretch/>
        </p:blipFill>
        <p:spPr>
          <a:xfrm>
            <a:off x="3924360" y="4797360"/>
            <a:ext cx="4103640" cy="1116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5"/>
          <p:cNvSpPr/>
          <p:nvPr/>
        </p:nvSpPr>
        <p:spPr>
          <a:xfrm>
            <a:off x="324360" y="547560"/>
            <a:ext cx="24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pi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6" descr=""/>
          <p:cNvPicPr/>
          <p:nvPr/>
        </p:nvPicPr>
        <p:blipFill>
          <a:blip r:embed="rId1"/>
          <a:stretch/>
        </p:blipFill>
        <p:spPr>
          <a:xfrm>
            <a:off x="3492360" y="333360"/>
            <a:ext cx="4249800" cy="11955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73" name="Text Box 22"/>
          <p:cNvSpPr/>
          <p:nvPr/>
        </p:nvSpPr>
        <p:spPr>
          <a:xfrm>
            <a:off x="318960" y="1820880"/>
            <a:ext cx="41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.S Department of Navy (197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3" descr=""/>
          <p:cNvPicPr/>
          <p:nvPr/>
        </p:nvPicPr>
        <p:blipFill>
          <a:blip r:embed="rId2"/>
          <a:stretch/>
        </p:blipFill>
        <p:spPr>
          <a:xfrm>
            <a:off x="2050920" y="2467080"/>
            <a:ext cx="4345200" cy="4390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" descr=""/>
          <p:cNvPicPr/>
          <p:nvPr/>
        </p:nvPicPr>
        <p:blipFill>
          <a:blip r:embed="rId3"/>
          <a:stretch/>
        </p:blipFill>
        <p:spPr>
          <a:xfrm>
            <a:off x="4518000" y="4721400"/>
            <a:ext cx="1387440" cy="1160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24"/>
          <p:cNvSpPr/>
          <p:nvPr/>
        </p:nvSpPr>
        <p:spPr>
          <a:xfrm>
            <a:off x="4462560" y="4721400"/>
            <a:ext cx="1420560" cy="1083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24000" y="189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eability is one of the most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import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il properties of interest to geotechnical engine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826920" y="51246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just">
              <a:buClr>
                <a:srgbClr val="ff00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ermeability of soils is required in solving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pumping seepage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water from construction excav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826920" y="414972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just">
              <a:buClr>
                <a:srgbClr val="ff00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stability of slopes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nd retaining walls can be greatly affected by the permeability of the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826920" y="2060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just">
              <a:buClr>
                <a:srgbClr val="ff00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ermeability influences the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rate of settlement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f a saturated soil under 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24000" y="11667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applications illustrate the importance of permeability in geotechnical desig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826920" y="292428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just">
              <a:buClr>
                <a:srgbClr val="ff00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he design of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earth dams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s very much based upon the permeability of the soils used.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 Filters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ade of soils are designed based upon their perme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735120" y="1125360"/>
            <a:ext cx="3362040" cy="1090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78" name="Text Box 5"/>
          <p:cNvSpPr/>
          <p:nvPr/>
        </p:nvSpPr>
        <p:spPr>
          <a:xfrm>
            <a:off x="104760" y="115920"/>
            <a:ext cx="648540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I. Empirical Relationships – Cohesive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325440" y="49680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aylor (19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"/>
          <p:cNvPicPr/>
          <p:nvPr/>
        </p:nvPicPr>
        <p:blipFill>
          <a:blip r:embed="rId2"/>
          <a:stretch/>
        </p:blipFill>
        <p:spPr>
          <a:xfrm>
            <a:off x="735120" y="2349360"/>
            <a:ext cx="6213240" cy="1092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81" name="Text Box 9"/>
          <p:cNvSpPr/>
          <p:nvPr/>
        </p:nvSpPr>
        <p:spPr>
          <a:xfrm>
            <a:off x="4500720" y="1052640"/>
            <a:ext cx="435600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Valid for e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less than about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he value of C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may be taken to be about 0.5e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1" descr=""/>
          <p:cNvPicPr/>
          <p:nvPr/>
        </p:nvPicPr>
        <p:blipFill>
          <a:blip r:embed="rId3"/>
          <a:stretch/>
        </p:blipFill>
        <p:spPr>
          <a:xfrm>
            <a:off x="5076720" y="3716280"/>
            <a:ext cx="3667320" cy="28796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2" descr=""/>
          <p:cNvPicPr/>
          <p:nvPr/>
        </p:nvPicPr>
        <p:blipFill>
          <a:blip r:embed="rId4"/>
          <a:stretch/>
        </p:blipFill>
        <p:spPr>
          <a:xfrm>
            <a:off x="1044720" y="4313160"/>
            <a:ext cx="2333520" cy="698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84" name="Text Box 13"/>
          <p:cNvSpPr/>
          <p:nvPr/>
        </p:nvSpPr>
        <p:spPr>
          <a:xfrm>
            <a:off x="394560" y="3740040"/>
            <a:ext cx="38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esri and Olson (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7" descr=""/>
          <p:cNvPicPr/>
          <p:nvPr/>
        </p:nvPicPr>
        <p:blipFill>
          <a:blip r:embed="rId1"/>
          <a:stretch/>
        </p:blipFill>
        <p:spPr>
          <a:xfrm>
            <a:off x="1116000" y="741240"/>
            <a:ext cx="2087640" cy="1025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86" name="Text Box 8"/>
          <p:cNvSpPr/>
          <p:nvPr/>
        </p:nvSpPr>
        <p:spPr>
          <a:xfrm>
            <a:off x="252000" y="189000"/>
            <a:ext cx="42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amarasinghe et al. (19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1" descr=""/>
          <p:cNvPicPr/>
          <p:nvPr/>
        </p:nvPicPr>
        <p:blipFill>
          <a:blip r:embed="rId2"/>
          <a:stretch/>
        </p:blipFill>
        <p:spPr>
          <a:xfrm>
            <a:off x="3780000" y="3141720"/>
            <a:ext cx="4537080" cy="335736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12"/>
          <p:cNvSpPr/>
          <p:nvPr/>
        </p:nvSpPr>
        <p:spPr>
          <a:xfrm>
            <a:off x="395280" y="187956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constants to be determined experiment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3"/>
          <p:cNvSpPr/>
          <p:nvPr/>
        </p:nvSpPr>
        <p:spPr>
          <a:xfrm>
            <a:off x="396000" y="261144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avenas et al. (198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4478040" y="3206880"/>
            <a:ext cx="256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I = Plasticity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F = Clay f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1" name="Object 7"/>
              <p:cNvSpPr txBox="1"/>
              <p:nvPr/>
            </p:nvSpPr>
            <p:spPr>
              <a:xfrm>
                <a:off x="539640" y="3995640"/>
                <a:ext cx="18716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den>
                        </m:f>
                      </m:e>
                    </m:d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Text Box 10"/>
          <p:cNvSpPr/>
          <p:nvPr/>
        </p:nvSpPr>
        <p:spPr>
          <a:xfrm>
            <a:off x="250920" y="2708280"/>
            <a:ext cx="432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e of flow of groundwater </a:t>
            </a:r>
            <a:r>
              <a:rPr b="1" lang="en-US" sz="2000" spc="-1" strike="noStrike" u="sng">
                <a:solidFill>
                  <a:srgbClr val="cc0066"/>
                </a:solidFill>
                <a:uFillTx/>
                <a:latin typeface="Arial"/>
              </a:rPr>
              <a:t>into the we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hich is equal to the rate of discharge from pumping can be express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3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973680" cy="2376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4" name="Object 5"/>
              <p:cNvSpPr txBox="1"/>
              <p:nvPr/>
            </p:nvSpPr>
            <p:spPr>
              <a:xfrm>
                <a:off x="250920" y="5743440"/>
                <a:ext cx="259236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95" name="Picture 16" descr=""/>
          <p:cNvPicPr/>
          <p:nvPr/>
        </p:nvPicPr>
        <p:blipFill>
          <a:blip r:embed="rId2"/>
          <a:stretch/>
        </p:blipFill>
        <p:spPr>
          <a:xfrm>
            <a:off x="5097600" y="5676840"/>
            <a:ext cx="2449440" cy="100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96" name="Picture 18" descr=""/>
          <p:cNvPicPr/>
          <p:nvPr/>
        </p:nvPicPr>
        <p:blipFill>
          <a:blip r:embed="rId3"/>
          <a:stretch/>
        </p:blipFill>
        <p:spPr>
          <a:xfrm>
            <a:off x="324000" y="4824360"/>
            <a:ext cx="2654280" cy="7952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15"/>
          <p:cNvSpPr/>
          <p:nvPr/>
        </p:nvSpPr>
        <p:spPr>
          <a:xfrm>
            <a:off x="104760" y="19080"/>
            <a:ext cx="291024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V. In Situ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179280" y="431640"/>
            <a:ext cx="84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important projects the in situ determination of permeability may be justifi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108000" y="1628640"/>
            <a:ext cx="85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d to determine the permeability of t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op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108000" y="2055960"/>
            <a:ext cx="85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ayer is permeable, unconfined, and underlain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mperme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106920" y="1197000"/>
            <a:ext cx="28249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. Unconfined aqui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"/>
          <p:cNvSpPr/>
          <p:nvPr/>
        </p:nvSpPr>
        <p:spPr>
          <a:xfrm>
            <a:off x="3044880" y="4184640"/>
            <a:ext cx="260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The steady state is established when the  water level in the test and observation wells becomes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3995640" y="1844640"/>
            <a:ext cx="4969080" cy="40021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6"/>
          <p:cNvSpPr/>
          <p:nvPr/>
        </p:nvSpPr>
        <p:spPr>
          <a:xfrm>
            <a:off x="375480" y="189000"/>
            <a:ext cx="2527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. Confined aqui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7"/>
              <p:cNvSpPr txBox="1"/>
              <p:nvPr/>
            </p:nvSpPr>
            <p:spPr>
              <a:xfrm>
                <a:off x="684360" y="1125360"/>
                <a:ext cx="25192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den>
                        </m:f>
                      </m:e>
                    </m:d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Text Box 8"/>
          <p:cNvSpPr/>
          <p:nvPr/>
        </p:nvSpPr>
        <p:spPr>
          <a:xfrm>
            <a:off x="302760" y="69228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ischarge is equal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9" descr=""/>
          <p:cNvPicPr/>
          <p:nvPr/>
        </p:nvPicPr>
        <p:blipFill>
          <a:blip r:embed="rId2"/>
          <a:stretch/>
        </p:blipFill>
        <p:spPr>
          <a:xfrm>
            <a:off x="395280" y="4567320"/>
            <a:ext cx="3240000" cy="1670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08" name="Rectangle 11"/>
          <p:cNvSpPr/>
          <p:nvPr/>
        </p:nvSpPr>
        <p:spPr>
          <a:xfrm>
            <a:off x="5057640" y="4149720"/>
            <a:ext cx="2880000" cy="43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3" descr=""/>
          <p:cNvPicPr/>
          <p:nvPr/>
        </p:nvPicPr>
        <p:blipFill>
          <a:blip r:embed="rId3"/>
          <a:stretch/>
        </p:blipFill>
        <p:spPr>
          <a:xfrm>
            <a:off x="395280" y="2349360"/>
            <a:ext cx="3311640" cy="1217880"/>
          </a:xfrm>
          <a:prstGeom prst="rect">
            <a:avLst/>
          </a:prstGeom>
          <a:ln w="0">
            <a:noFill/>
          </a:ln>
        </p:spPr>
      </p:pic>
      <p:sp>
        <p:nvSpPr>
          <p:cNvPr id="410" name="Oval 1"/>
          <p:cNvSpPr/>
          <p:nvPr/>
        </p:nvSpPr>
        <p:spPr>
          <a:xfrm>
            <a:off x="2816280" y="1441440"/>
            <a:ext cx="315720" cy="3826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324000" y="189000"/>
            <a:ext cx="80964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QUIVALENT HYDRAULIC CONDUCTIVITY IN STRATIFIED SO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254160" y="1793880"/>
            <a:ext cx="32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Horizontal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1"/>
          <a:stretch/>
        </p:blipFill>
        <p:spPr>
          <a:xfrm>
            <a:off x="5651640" y="907920"/>
            <a:ext cx="3276360" cy="2792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2"/>
          <a:stretch/>
        </p:blipFill>
        <p:spPr>
          <a:xfrm>
            <a:off x="285840" y="5803920"/>
            <a:ext cx="5040360" cy="865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15" name="Text Box 7"/>
          <p:cNvSpPr/>
          <p:nvPr/>
        </p:nvSpPr>
        <p:spPr>
          <a:xfrm>
            <a:off x="5584680" y="5967360"/>
            <a:ext cx="309744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We equate flow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We have same grad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3"/>
          <p:cNvSpPr/>
          <p:nvPr/>
        </p:nvSpPr>
        <p:spPr>
          <a:xfrm>
            <a:off x="391680" y="693720"/>
            <a:ext cx="311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ltilayered so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rizontal stra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324000" y="2368440"/>
            <a:ext cx="513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otal flow through the cross section in unit time is given 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6" descr=""/>
          <p:cNvPicPr/>
          <p:nvPr/>
        </p:nvPicPr>
        <p:blipFill>
          <a:blip r:embed="rId3"/>
          <a:stretch/>
        </p:blipFill>
        <p:spPr>
          <a:xfrm>
            <a:off x="971640" y="3141720"/>
            <a:ext cx="1834920" cy="596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7" descr=""/>
          <p:cNvPicPr/>
          <p:nvPr/>
        </p:nvPicPr>
        <p:blipFill>
          <a:blip r:embed="rId4"/>
          <a:stretch/>
        </p:blipFill>
        <p:spPr>
          <a:xfrm>
            <a:off x="900000" y="4524480"/>
            <a:ext cx="5776920" cy="34452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18"/>
          <p:cNvSpPr/>
          <p:nvPr/>
        </p:nvSpPr>
        <p:spPr>
          <a:xfrm>
            <a:off x="324000" y="3821040"/>
            <a:ext cx="66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is equal to the sum of flow in individual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TextBox 2" descr=""/>
          <p:cNvPicPr/>
          <p:nvPr/>
        </p:nvPicPr>
        <p:blipFill>
          <a:blip r:embed="rId5"/>
          <a:stretch/>
        </p:blipFill>
        <p:spPr>
          <a:xfrm>
            <a:off x="3492360" y="3213000"/>
            <a:ext cx="2140200" cy="425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"/>
          <p:cNvPicPr/>
          <p:nvPr/>
        </p:nvPicPr>
        <p:blipFill>
          <a:blip r:embed="rId6"/>
          <a:stretch/>
        </p:blipFill>
        <p:spPr>
          <a:xfrm>
            <a:off x="816120" y="4971960"/>
            <a:ext cx="711180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6"/>
          <p:cNvSpPr/>
          <p:nvPr/>
        </p:nvSpPr>
        <p:spPr>
          <a:xfrm>
            <a:off x="252720" y="0"/>
            <a:ext cx="27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Vertical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6014880" y="5823000"/>
            <a:ext cx="30409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We sum h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We have same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10" descr=""/>
          <p:cNvPicPr/>
          <p:nvPr/>
        </p:nvPicPr>
        <p:blipFill>
          <a:blip r:embed="rId1"/>
          <a:stretch/>
        </p:blipFill>
        <p:spPr>
          <a:xfrm>
            <a:off x="826920" y="5445000"/>
            <a:ext cx="4753080" cy="1204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26" name="Text Box 12"/>
          <p:cNvSpPr/>
          <p:nvPr/>
        </p:nvSpPr>
        <p:spPr>
          <a:xfrm>
            <a:off x="322920" y="1231920"/>
            <a:ext cx="22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Darcy’s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4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4067280" cy="417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8" name="Object 17"/>
              <p:cNvSpPr txBox="1"/>
              <p:nvPr/>
            </p:nvSpPr>
            <p:spPr>
              <a:xfrm>
                <a:off x="250920" y="3573360"/>
                <a:ext cx="15843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)</m:t>
                        </m:r>
                      </m:sub>
                    </m:sSub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8"/>
              <p:cNvSpPr txBox="1"/>
              <p:nvPr/>
            </p:nvSpPr>
            <p:spPr>
              <a:xfrm>
                <a:off x="2843280" y="3645000"/>
                <a:ext cx="11523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19"/>
              <p:cNvSpPr txBox="1"/>
              <p:nvPr/>
            </p:nvSpPr>
            <p:spPr>
              <a:xfrm>
                <a:off x="250920" y="1571760"/>
                <a:ext cx="41767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20"/>
              <p:cNvSpPr txBox="1"/>
              <p:nvPr/>
            </p:nvSpPr>
            <p:spPr>
              <a:xfrm>
                <a:off x="324000" y="538200"/>
                <a:ext cx="3527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2" name="Line 21"/>
          <p:cNvSpPr/>
          <p:nvPr/>
        </p:nvSpPr>
        <p:spPr>
          <a:xfrm>
            <a:off x="1763640" y="4006800"/>
            <a:ext cx="935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22"/>
              <p:cNvSpPr txBox="1"/>
              <p:nvPr/>
            </p:nvSpPr>
            <p:spPr>
              <a:xfrm>
                <a:off x="291960" y="2565360"/>
                <a:ext cx="36324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4" name="Text Box 23"/>
          <p:cNvSpPr/>
          <p:nvPr/>
        </p:nvSpPr>
        <p:spPr>
          <a:xfrm>
            <a:off x="4285800" y="278136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(*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4"/>
          <p:cNvSpPr/>
          <p:nvPr/>
        </p:nvSpPr>
        <p:spPr>
          <a:xfrm>
            <a:off x="4285800" y="371628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(**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5"/>
          <p:cNvSpPr/>
          <p:nvPr/>
        </p:nvSpPr>
        <p:spPr>
          <a:xfrm>
            <a:off x="179280" y="501336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ting the R.H.S of Eqs. (**) &amp; (***),  considering (****) y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26"/>
              <p:cNvSpPr txBox="1"/>
              <p:nvPr/>
            </p:nvSpPr>
            <p:spPr>
              <a:xfrm>
                <a:off x="324000" y="4365720"/>
                <a:ext cx="33843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8" name="Text Box 27"/>
          <p:cNvSpPr/>
          <p:nvPr/>
        </p:nvSpPr>
        <p:spPr>
          <a:xfrm>
            <a:off x="4429080" y="5493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(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8"/>
          <p:cNvSpPr/>
          <p:nvPr/>
        </p:nvSpPr>
        <p:spPr>
          <a:xfrm>
            <a:off x="4212360" y="44370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(***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327240" y="249120"/>
            <a:ext cx="456696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inition of Perme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95280" y="876240"/>
            <a:ext cx="83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eability is a measure of a give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orous medi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bility to permit fluid flow through its vo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1739880"/>
            <a:ext cx="83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material with voids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or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if the voids ar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terconn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ossesses perme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395280" y="2635200"/>
            <a:ext cx="830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rock, concrete, soil, and many engineering materials are both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OR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ERME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However, among them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soi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ven in their densest state, are more perm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"/>
          <p:cNvPicPr/>
          <p:nvPr/>
        </p:nvPicPr>
        <p:blipFill>
          <a:blip r:embed="rId1"/>
          <a:stretch/>
        </p:blipFill>
        <p:spPr>
          <a:xfrm>
            <a:off x="1619280" y="4365720"/>
            <a:ext cx="62658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52360" y="260280"/>
            <a:ext cx="81360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RCY’S LAW FOR FLOW THROUGH POROUS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76200" y="874800"/>
            <a:ext cx="83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id flow can be described or classified in different ways l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966960" y="1863720"/>
            <a:ext cx="3817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231840"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ady    vs. Unst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31840"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minar  vs. Turbu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31840"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-D          vs.   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76200" y="3395520"/>
            <a:ext cx="83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ur discussion in this chapter we will assume that the flow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amin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is really is the case in most so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76200" y="4762440"/>
            <a:ext cx="83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ther the flow is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stead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not and the number of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dimens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 consider, this will be decided when we presen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EPA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following chap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50920" y="189000"/>
            <a:ext cx="83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nch engineer named Darcy (1856) noticed that the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veloc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drainage drinking water flowing to a village named Dijon 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900000" y="134136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just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6bcf"/>
                </a:solidFill>
                <a:latin typeface="Arial"/>
              </a:rPr>
              <a:t>Proportion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o the difference in elevation between the water’s entry point and its discharge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900000" y="213372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just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6bcf"/>
                </a:solidFill>
                <a:latin typeface="Arial"/>
              </a:rPr>
              <a:t>Inversely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portional to the distance over which the change in elevation occur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5"/>
              <p:cNvSpPr txBox="1"/>
              <p:nvPr/>
            </p:nvSpPr>
            <p:spPr>
              <a:xfrm>
                <a:off x="1835280" y="3284640"/>
                <a:ext cx="18381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α</m:t>
                    </m:r>
                    <m:f>
                      <m:num>
                        <m:r>
                          <m:t xml:space="preserve">Δh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Text Box 6"/>
          <p:cNvSpPr/>
          <p:nvPr/>
        </p:nvSpPr>
        <p:spPr>
          <a:xfrm>
            <a:off x="395280" y="4184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042920" y="4562640"/>
            <a:ext cx="770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discharge velocity, which is the quantity of water flowing in uni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rough a uni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RO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-sectional area of soil a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g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the direction of f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042920" y="6127920"/>
            <a:ext cx="76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= Distance over which the change or loss of head oc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1"/>
          <p:cNvGrpSpPr/>
          <p:nvPr/>
        </p:nvGrpSpPr>
        <p:grpSpPr>
          <a:xfrm>
            <a:off x="1042920" y="5622840"/>
            <a:ext cx="7580520" cy="398880"/>
            <a:chOff x="1042920" y="5622840"/>
            <a:chExt cx="7580520" cy="398880"/>
          </a:xfrm>
        </p:grpSpPr>
        <p:sp>
          <p:nvSpPr>
            <p:cNvPr id="85" name="Text Box 8"/>
            <p:cNvSpPr/>
            <p:nvPr/>
          </p:nvSpPr>
          <p:spPr>
            <a:xfrm>
              <a:off x="1042920" y="5622840"/>
              <a:ext cx="75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loss of head between two point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Object 10"/>
                <p:cNvSpPr txBox="1"/>
                <p:nvPr/>
              </p:nvSpPr>
              <p:spPr>
                <a:xfrm>
                  <a:off x="1042920" y="5622840"/>
                  <a:ext cx="43200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h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7" name="Picture 13" descr=""/>
          <p:cNvPicPr/>
          <p:nvPr/>
        </p:nvPicPr>
        <p:blipFill>
          <a:blip r:embed="rId1"/>
          <a:stretch/>
        </p:blipFill>
        <p:spPr>
          <a:xfrm>
            <a:off x="5003640" y="2708280"/>
            <a:ext cx="3732480" cy="1760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58760" y="28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50920" y="333360"/>
            <a:ext cx="83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tio     is termed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YDRAULIC GRAD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is denoted by the symbol i. Therefore, Eq. 1 be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2411280" y="1446120"/>
                <a:ext cx="21607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α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Text Box 5"/>
          <p:cNvSpPr/>
          <p:nvPr/>
        </p:nvSpPr>
        <p:spPr>
          <a:xfrm>
            <a:off x="250920" y="2133720"/>
            <a:ext cx="83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rcy’ introduced a constant of proportionality called the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Darcy Coefficient of Perme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k and Eq. 2 be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2011320" y="3300480"/>
                <a:ext cx="24336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Text Box 7"/>
          <p:cNvSpPr/>
          <p:nvPr/>
        </p:nvSpPr>
        <p:spPr>
          <a:xfrm>
            <a:off x="250920" y="4076640"/>
            <a:ext cx="83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ly in civil engineering k is called simply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ydraulic conductiv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the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coefficient of perme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, even more simply, the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Perme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50920" y="5300640"/>
            <a:ext cx="83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. 3 is called Darcy’s law. It was primarily based on the observations made by Darcy for flow of water through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clean s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9"/>
              <p:cNvSpPr txBox="1"/>
              <p:nvPr/>
            </p:nvSpPr>
            <p:spPr>
              <a:xfrm>
                <a:off x="2158920" y="160200"/>
                <a:ext cx="4320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h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250560" y="189000"/>
            <a:ext cx="572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sumptions in Deriving Darcy’s Law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688320" y="1303200"/>
            <a:ext cx="43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ogeneous &amp; isotr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767160" y="3284640"/>
            <a:ext cx="61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low is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lamina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 no turbulent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667440" y="1844640"/>
            <a:ext cx="27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lly satu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784800" y="3932280"/>
            <a:ext cx="759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low is in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stead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state, no temporal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467640" y="692280"/>
            <a:ext cx="11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.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466200" y="2708280"/>
            <a:ext cx="121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I.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0:05:42Z</dcterms:created>
  <dc:creator>TENEBRA</dc:creator>
  <dc:description/>
  <dc:language>en-US</dc:language>
  <cp:lastModifiedBy>shamrani</cp:lastModifiedBy>
  <dcterms:modified xsi:type="dcterms:W3CDTF">2017-09-15T12:19:53Z</dcterms:modified>
  <cp:revision>235</cp:revision>
  <dc:subject/>
  <dc:title>Slide 1</dc:title>
</cp:coreProperties>
</file>