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DD2-D38B-4B27-82EB-4163E0E2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F3F-2337-4EC9-8520-DED7AD7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65E-774C-47A5-B811-C707C67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6B6-147F-4C10-B25B-52AEB8D3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DC0-FE8B-4756-9E01-96F026CA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724F-C613-4334-99B4-3982E3F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9CE2-7D4E-41FC-B9E2-A3F7069A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C2EE-53AC-4AB1-A6FB-5E3146C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BC79-B87C-452B-B68F-6A10AAA4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09FD-81FE-4791-8D8B-8DDDDB1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E57-2AB6-4B10-84A8-9A51279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584-30DE-48D8-B9D8-19B21E5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837-8710-46E4-9571-048E3A9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8AA1-9CE7-4A58-9AAE-3C8D565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8DF-1016-44B7-AC32-C88B8826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C80-80B3-4A09-903C-DED9F347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918-B9D2-4BE5-A6EA-3C4A2FD8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26CD-CB7E-4F4E-A31E-331FE592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322F-ECE5-4428-96EA-05BF8E9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253C-952B-4D6C-B7AC-ED622E7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0D1E-3D61-431B-939D-C2A5BE57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C77E-29C2-4557-AD12-DC40BD73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41E-2EFE-4C57-A3A8-B9C08877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B93E-1E84-434E-A05E-C203885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0E13-1D64-45E9-9D40-E2BEEB1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937F-AD80-4470-AC81-AC4130CE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41EB-8D55-436A-975E-77E8430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57C4-804E-475A-A8B5-8D718EE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AB7B-C965-430E-806A-CB7A6C21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4245-053B-43C3-89D1-5CDA22A5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0D13-9A7D-48E6-AF4A-B8B7FA2B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F848-900E-4D38-8949-0BFD299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047E-4257-4390-9385-5611C01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065-4F7A-4D69-829E-8ADE9918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6AC6-BBFE-4166-9DCA-706CB7BB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C073-2F76-4E43-BBAA-F3EF374C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2F93-6953-4C20-9A1B-BBB0EDD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703D-3A53-45B5-82D6-4D9E4F3C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D600-DD0A-4563-9DBC-C060487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D492-C3D0-4D16-BC3A-7E57EC1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AF02-D006-486F-8A33-492F6B56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F2EF-F37C-4C3A-97FB-B433CFA1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CA25-4E8A-429B-BDDB-5E9E65B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7A3-5658-4AB9-BB80-24ACA5B3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856-0B27-4E65-B369-65D8791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506-DA1F-4159-98BC-4733896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7D3-015D-449E-9FD1-2053893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27B-58A5-47FB-A713-EA91671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B50-6843-4BD2-8DA0-1ABC0AD8D63B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C562-F58C-4BD6-9DE9-D4BDC2E22B13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7F5-397A-4BA2-9FB7-CE86F6DCB5A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E08-B716-49F4-902D-74A0576CC8CE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3480" y="345960"/>
            <a:ext cx="9077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rcRect l="0" t="0" r="0" b="1643"/>
          <a:stretch/>
        </p:blipFill>
        <p:spPr>
          <a:xfrm>
            <a:off x="0" y="166680"/>
            <a:ext cx="9036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-81000" y="27000"/>
            <a:ext cx="9306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57240" y="-123840"/>
            <a:ext cx="925848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160" y="98280"/>
            <a:ext cx="90676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12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3752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مجموعة 7"/>
          <p:cNvGrpSpPr/>
          <p:nvPr/>
        </p:nvGrpSpPr>
        <p:grpSpPr>
          <a:xfrm>
            <a:off x="0" y="0"/>
            <a:ext cx="9182160" cy="6620040"/>
            <a:chOff x="0" y="0"/>
            <a:chExt cx="9182160" cy="662004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82160" cy="66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مستطيل 4"/>
            <p:cNvSpPr/>
            <p:nvPr/>
          </p:nvSpPr>
          <p:spPr>
            <a:xfrm>
              <a:off x="1258920" y="3573720"/>
              <a:ext cx="1296720" cy="431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مستطيل 6"/>
            <p:cNvSpPr/>
            <p:nvPr/>
          </p:nvSpPr>
          <p:spPr>
            <a:xfrm>
              <a:off x="2843280" y="4005360"/>
              <a:ext cx="4032360" cy="502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3480" y="136440"/>
            <a:ext cx="907704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63360" y="379440"/>
            <a:ext cx="89283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81160" y="565200"/>
            <a:ext cx="8581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217440"/>
            <a:ext cx="8229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can0002"/>
          <p:cNvPicPr/>
          <p:nvPr/>
        </p:nvPicPr>
        <p:blipFill>
          <a:blip r:embed="rId1"/>
          <a:stretch/>
        </p:blipFill>
        <p:spPr>
          <a:xfrm>
            <a:off x="471600" y="152280"/>
            <a:ext cx="78343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2560" y="41400"/>
            <a:ext cx="9038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9080" y="-19080"/>
            <a:ext cx="910584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320" y="3168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14200" y="331920"/>
            <a:ext cx="87156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-23760" y="-85680"/>
            <a:ext cx="919152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-76320" y="10332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5680" y="141120"/>
            <a:ext cx="89726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-104760" y="390600"/>
            <a:ext cx="93535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28440" y="-47520"/>
            <a:ext cx="92008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-147600" y="276120"/>
            <a:ext cx="94392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مرج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faculty.ksu.edu.sa/geography-alsaleh/default.aspx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85880" y="270000"/>
            <a:ext cx="757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560" y="581040"/>
            <a:ext cx="9038880" cy="74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380880"/>
            <a:ext cx="908064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599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can0010"/>
          <p:cNvPicPr/>
          <p:nvPr/>
        </p:nvPicPr>
        <p:blipFill>
          <a:blip r:embed="rId1"/>
          <a:srcRect l="0" t="1408" r="0" b="1408"/>
          <a:stretch/>
        </p:blipFill>
        <p:spPr>
          <a:xfrm>
            <a:off x="1828800" y="96840"/>
            <a:ext cx="580068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440" y="227160"/>
            <a:ext cx="908712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6:59:27Z</dcterms:created>
  <dc:creator>aa</dc:creator>
  <dc:description/>
  <dc:language>en-US</dc:language>
  <cp:lastModifiedBy>Asus</cp:lastModifiedBy>
  <dcterms:modified xsi:type="dcterms:W3CDTF">2013-04-08T02:20:21Z</dcterms:modified>
  <cp:revision>10</cp:revision>
  <dc:subject/>
  <dc:title>الشريحة 1</dc:title>
</cp:coreProperties>
</file>