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C08-C129-4E39-B1E8-6B07D17B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BD1-1C38-4410-B0D2-68066B0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243-DC6E-4AFE-A93F-0CAFF2C5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C45-867B-4B43-B33B-6ABE2F6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A333-FE02-4B99-96F2-BCD23C2D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047D-771D-4B53-B406-2D3FA3A1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3492-8D71-4DDD-ACF4-9E8C3DB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54C0-7E2C-4F69-8206-960DB222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3CA-596E-47A0-B6E2-D0317078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E581-9A6B-4BBD-8593-B665D747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1D9A-15D2-4421-8995-C38D23C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4EA-345A-4562-A916-9935798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843A-7CC2-49FC-883E-BD9BEB9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C82-3C44-4AFB-B030-0B60F707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56A2-9F7A-4242-8AEB-5C283A7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010D-A721-42D1-AD9F-BE71F2F2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7CCA-6FE0-4E47-9BB3-9D0C45F2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3A25-9511-4987-809E-897E828C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F0CB-C1AA-4BE5-B8F3-AC76EDA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6400-5333-4614-80A2-7431B6D8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B54D-7965-40FC-A21D-CEB9238C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7091-93BD-4731-82F6-BCF5A5B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C10-5DF5-4D19-A1EB-981F7F99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4B66-3581-4BA0-AEB2-0324F468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9818-BCE1-4A56-A849-D3CF394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5A2D-3043-454F-BD59-08BD35EB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AAAF-A882-4F05-AFCE-2843F12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3328-EFF7-4152-93E5-3AAB0C99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F074-8E1E-42E4-9144-117E3067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99D7-A616-4B95-836A-62DCCF6D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EECF-1FAC-44EC-BE40-6932E566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26B9-0C45-4AC9-9657-396EF199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598C-205C-4AEE-8DC6-3C5EF16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D47-B703-40DC-A75B-46032D7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2E87-9F0A-4156-BAFB-0605DE1E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6CF18-1156-40E6-8358-130E269D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4258-EB66-4070-AE1F-7A3997F3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0979-8C48-4EF6-B0B1-196C775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A86A-A195-4916-93A6-5190A867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35C3-150A-4402-A1C6-6B77EB95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794D-7858-4852-BDE6-DE7C40D6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512E-CA93-4029-BA80-93A21DF3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BF70-FBB9-4355-87E5-7010DDEA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252-E101-488D-9DB4-59B6E8A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967-21AB-4A02-8866-1EB403C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EA2-E201-4BF8-A04C-1C26F8C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312-5EA3-4702-8866-BC1065F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7D2-F404-417D-86ED-A1CDEB23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D0B6-4E38-4EB9-8CAD-70F174454379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7F24-EE15-4FFB-9AE2-EC7032C8DF87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3DD3-5C82-417C-B5DD-B65551285ADA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61FB-A33F-4CD1-9DB8-E0F40E09247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3480" y="345960"/>
            <a:ext cx="9077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rcRect l="0" t="0" r="0" b="1643"/>
          <a:stretch/>
        </p:blipFill>
        <p:spPr>
          <a:xfrm>
            <a:off x="0" y="166680"/>
            <a:ext cx="9036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-81000" y="27000"/>
            <a:ext cx="9306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57240" y="-123840"/>
            <a:ext cx="925848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160" y="98280"/>
            <a:ext cx="90676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612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3752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مجموعة 7"/>
          <p:cNvGrpSpPr/>
          <p:nvPr/>
        </p:nvGrpSpPr>
        <p:grpSpPr>
          <a:xfrm>
            <a:off x="0" y="0"/>
            <a:ext cx="9182160" cy="6620040"/>
            <a:chOff x="0" y="0"/>
            <a:chExt cx="9182160" cy="662004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82160" cy="66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مستطيل 4"/>
            <p:cNvSpPr/>
            <p:nvPr/>
          </p:nvSpPr>
          <p:spPr>
            <a:xfrm>
              <a:off x="1258920" y="3573720"/>
              <a:ext cx="1296720" cy="431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مستطيل 6"/>
            <p:cNvSpPr/>
            <p:nvPr/>
          </p:nvSpPr>
          <p:spPr>
            <a:xfrm>
              <a:off x="2843280" y="4005360"/>
              <a:ext cx="4032360" cy="502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3480" y="136440"/>
            <a:ext cx="907704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63360" y="379440"/>
            <a:ext cx="89283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81160" y="565200"/>
            <a:ext cx="8581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17440"/>
            <a:ext cx="8229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can0002"/>
          <p:cNvPicPr/>
          <p:nvPr/>
        </p:nvPicPr>
        <p:blipFill>
          <a:blip r:embed="rId1"/>
          <a:stretch/>
        </p:blipFill>
        <p:spPr>
          <a:xfrm>
            <a:off x="471600" y="152280"/>
            <a:ext cx="78343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2560" y="41400"/>
            <a:ext cx="9038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9080" y="-19080"/>
            <a:ext cx="910584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320" y="3168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14200" y="331920"/>
            <a:ext cx="87156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-23760" y="-85680"/>
            <a:ext cx="919152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-76320" y="10332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5680" y="141120"/>
            <a:ext cx="89726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-104760" y="390600"/>
            <a:ext cx="93535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28440" y="-47520"/>
            <a:ext cx="92008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-147600" y="276120"/>
            <a:ext cx="94392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مرج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faculty.ksu.edu.sa/geography-alsaleh/default.aspx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85880" y="270000"/>
            <a:ext cx="757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560" y="581040"/>
            <a:ext cx="9038880" cy="74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380880"/>
            <a:ext cx="908064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599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scan0010"/>
          <p:cNvPicPr/>
          <p:nvPr/>
        </p:nvPicPr>
        <p:blipFill>
          <a:blip r:embed="rId1"/>
          <a:srcRect l="0" t="1408" r="0" b="1408"/>
          <a:stretch/>
        </p:blipFill>
        <p:spPr>
          <a:xfrm>
            <a:off x="1828800" y="96840"/>
            <a:ext cx="580068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440" y="227160"/>
            <a:ext cx="908712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6:59:27Z</dcterms:created>
  <dc:creator>aa</dc:creator>
  <dc:description/>
  <dc:language>en-US</dc:language>
  <cp:lastModifiedBy>Asus</cp:lastModifiedBy>
  <dcterms:modified xsi:type="dcterms:W3CDTF">2013-04-08T02:20:21Z</dcterms:modified>
  <cp:revision>10</cp:revision>
  <dc:subject/>
  <dc:title>الشريحة 1</dc:title>
</cp:coreProperties>
</file>