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33"/>
                </a:solidFill>
                <a:latin typeface="Times New Roman"/>
              </a:rPr>
              <a:t>Click to move the slide</a:t>
            </a:r>
            <a:endParaRPr b="1" lang="en-US" sz="4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D92DF-AB5D-4E8C-A3D0-DAB41B6F189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93A66-6411-4F9C-8462-369A238B894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0033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33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Text Box 9"/>
          <p:cNvSpPr/>
          <p:nvPr/>
        </p:nvSpPr>
        <p:spPr>
          <a:xfrm>
            <a:off x="0" y="0"/>
            <a:ext cx="80640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Slide 1.</a:t>
            </a:r>
            <a:fld id="{156FCF34-9924-4F56-AEAD-D2A8DEC6B6FA}" type="slidenum">
              <a:rPr b="0" lang="en-GB" sz="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Text Box 10"/>
          <p:cNvSpPr/>
          <p:nvPr/>
        </p:nvSpPr>
        <p:spPr>
          <a:xfrm>
            <a:off x="225360" y="6524640"/>
            <a:ext cx="864252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  <a:ea typeface="Times New Roman"/>
              </a:rPr>
              <a:t>Saunders, Lewis and Thornhill, </a:t>
            </a:r>
            <a:r>
              <a:rPr b="0" i="1" lang="en-GB" sz="800" spc="-1" strike="noStrike">
                <a:solidFill>
                  <a:srgbClr val="ffffff"/>
                </a:solidFill>
                <a:latin typeface="Arial"/>
                <a:ea typeface="Times New Roman"/>
              </a:rPr>
              <a:t>Research Methods for Business Students</a:t>
            </a:r>
            <a:r>
              <a:rPr b="0" lang="en-GB" sz="800" spc="-1" strike="noStrike">
                <a:solidFill>
                  <a:srgbClr val="ffffff"/>
                </a:solidFill>
                <a:latin typeface="Arial"/>
                <a:ea typeface="Times New Roman"/>
              </a:rPr>
              <a:t>, 5</a:t>
            </a:r>
            <a:r>
              <a:rPr b="0" lang="en-GB" sz="8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th</a:t>
            </a:r>
            <a:r>
              <a:rPr b="0" lang="en-GB" sz="800" spc="-1" strike="noStrike">
                <a:solidFill>
                  <a:srgbClr val="ffffff"/>
                </a:solidFill>
                <a:latin typeface="Arial"/>
                <a:ea typeface="Times New Roman"/>
              </a:rPr>
              <a:t> Edition, © Mark Saunders, Philip Lewis and Adrian Thornhill 2009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495520"/>
            <a:ext cx="7772400" cy="186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0033"/>
                </a:solidFill>
                <a:latin typeface="Arial"/>
              </a:rPr>
              <a:t>Chapter 1</a:t>
            </a:r>
            <a:br>
              <a:rPr sz="3200"/>
            </a:br>
            <a:r>
              <a:rPr b="1" lang="en-GB" sz="2800" spc="-1" strike="noStrike">
                <a:solidFill>
                  <a:srgbClr val="990033"/>
                </a:solidFill>
                <a:latin typeface="Arial"/>
              </a:rPr>
              <a:t>The nature of business and management research and the structure of this book</a:t>
            </a:r>
            <a:endParaRPr b="1" lang="en-US" sz="2800" spc="-1" strike="noStrike">
              <a:solidFill>
                <a:srgbClr val="99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7108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0033"/>
                </a:solidFill>
                <a:latin typeface="Arial"/>
              </a:rPr>
              <a:t>Summary: Chapter 1</a:t>
            </a:r>
            <a:endParaRPr b="1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1480" y="126000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Business and management resear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Is transdisciplinary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Engages with both theory and practic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Involves undertaking systematic research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hould be undertaken with rigour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7108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0033"/>
                </a:solidFill>
                <a:latin typeface="Arial"/>
              </a:rPr>
              <a:t>Summary: Chapter 1</a:t>
            </a:r>
            <a:endParaRPr b="1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720" y="137160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e book acts as a guide to the research proc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by providing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 series of research exampl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hecklists to help you  acquire relevant knowled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view and discussion ques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elf-check questions - and answ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guidance as you generate material for your project repo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4408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0033"/>
                </a:solidFill>
                <a:latin typeface="Arial"/>
              </a:rPr>
              <a:t>And finally……..</a:t>
            </a:r>
            <a:endParaRPr b="1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181160" y="2095200"/>
            <a:ext cx="6819840" cy="346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there is no one best way for undertaking all research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Saunders et al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(2009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82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0033"/>
                </a:solidFill>
                <a:latin typeface="Arial"/>
              </a:rPr>
              <a:t>Introduction to the research process</a:t>
            </a:r>
            <a:endParaRPr b="1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6520" y="852480"/>
            <a:ext cx="8169120" cy="454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Things to consid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Realities and  pitfalls of research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Approaches, strategies and method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Techniques and procedures for data collection and analysi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Appropriate use of information technology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9340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0033"/>
                </a:solidFill>
                <a:latin typeface="Arial"/>
              </a:rPr>
              <a:t>Terminology</a:t>
            </a:r>
            <a:endParaRPr b="1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2920" y="1279080"/>
            <a:ext cx="8380440" cy="51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Methods  -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e techniques and procedures used to obtain da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Methodology  -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e theory of how research should be undertake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aunders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et al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. (2009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42920" y="36180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0033"/>
                </a:solidFill>
                <a:latin typeface="Arial"/>
              </a:rPr>
              <a:t>The nature of research</a:t>
            </a:r>
            <a:endParaRPr b="1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01480" y="1031400"/>
            <a:ext cx="8382240" cy="537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Definition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omething that people undertake in order to find things out in a systematic way, thereby increasing their knowledge’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aunders </a:t>
            </a: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et al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. (2009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Characteristic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ata are collected systematical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ata are interpreted systematical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re is a clear purpose to find things ou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19040" y="30492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0033"/>
                </a:solidFill>
                <a:latin typeface="Arial"/>
              </a:rPr>
              <a:t>Features of business and management research (1)</a:t>
            </a:r>
            <a:endParaRPr b="1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07600" y="1257480"/>
            <a:ext cx="8534520" cy="478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anagers draw on knowledge from other disciplin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anagers are more likely to allow access if they se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mmercial or personal advant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anagers now tend to be as educated as the research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anagers require research to have some practical conseque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asterby-Smith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et al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(2008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36240" y="30636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GB" sz="3200" spc="-1" strike="noStrike">
                <a:solidFill>
                  <a:srgbClr val="990033"/>
                </a:solidFill>
                <a:latin typeface="Arial"/>
              </a:rPr>
              <a:t>Features of business and management research (1) </a:t>
            </a:r>
            <a:br>
              <a:rPr sz="3200"/>
            </a:br>
            <a:endParaRPr b="1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90320" y="1279440"/>
            <a:ext cx="830556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Key debat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Knowledge production –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(Modes 1, 2 and 3 knowledge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The ‘relevance gap’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Evidence based’ management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Basic and applied research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3796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0033"/>
                </a:solidFill>
                <a:latin typeface="Arial"/>
              </a:rPr>
              <a:t>Features of business and management research (2) </a:t>
            </a:r>
            <a:endParaRPr b="1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346040"/>
            <a:ext cx="820728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Basic and applied resear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ource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uthors’ experience; Easterby-Smith </a:t>
            </a: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et al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2008); Hedrick </a:t>
            </a: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et al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. (1993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0" name="Picture 9" descr="M01NF001"/>
          <p:cNvPicPr/>
          <p:nvPr/>
        </p:nvPicPr>
        <p:blipFill>
          <a:blip r:embed="rId1"/>
          <a:stretch/>
        </p:blipFill>
        <p:spPr>
          <a:xfrm>
            <a:off x="1547640" y="1901880"/>
            <a:ext cx="6048720" cy="3603600"/>
          </a:xfrm>
          <a:prstGeom prst="rect">
            <a:avLst/>
          </a:prstGeom>
          <a:ln w="0">
            <a:noFill/>
          </a:ln>
        </p:spPr>
      </p:pic>
      <p:sp>
        <p:nvSpPr>
          <p:cNvPr id="61" name="Text Box 10"/>
          <p:cNvSpPr/>
          <p:nvPr/>
        </p:nvSpPr>
        <p:spPr>
          <a:xfrm>
            <a:off x="519120" y="6126120"/>
            <a:ext cx="808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gure 1.1  Basic and applied resear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6036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0033"/>
                </a:solidFill>
                <a:latin typeface="Arial"/>
              </a:rPr>
              <a:t>The research process (1)</a:t>
            </a:r>
            <a:endParaRPr b="1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98240" y="1031760"/>
            <a:ext cx="8305560" cy="553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Stages of the research proc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ormulating and clarifying a topi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viewing the literatu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esigning the researc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llecting dat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nalysing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riting u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ased on Figure 1.2: Saunders </a:t>
            </a: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et al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2009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1572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0033"/>
                </a:solidFill>
                <a:latin typeface="Arial"/>
              </a:rPr>
              <a:t>The research process (2)</a:t>
            </a:r>
            <a:endParaRPr b="1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6520" y="10220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Factors to consid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impact of your personal feelings and belief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ccess to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ime and other resourc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Validity and reliability  of the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thical issu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8:17:25Z</dcterms:created>
  <dc:creator>Sheila Ryan</dc:creator>
  <dc:description/>
  <dc:language>en-US</dc:language>
  <cp:lastModifiedBy>FAWAZ</cp:lastModifiedBy>
  <dcterms:modified xsi:type="dcterms:W3CDTF">2012-02-05T19:54:13Z</dcterms:modified>
  <cp:revision>57</cp:revision>
  <dc:subject/>
  <dc:title>Chapter 1</dc:title>
</cp:coreProperties>
</file>