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CF4B-1A54-4FF3-9911-B4561FB68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6CA-1DC4-4B4D-B5AA-16C9542D6D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lide 1.</a:t>
            </a:r>
            <a:fld id="{43529B11-D362-4B48-B92A-F3AC1CA8C8D2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25360" y="652464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Saunders, Lewis and Thornhill, </a:t>
            </a:r>
            <a:r>
              <a:rPr b="0" i="1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Methods for Business Students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, 5</a:t>
            </a:r>
            <a:r>
              <a:rPr b="0" lang="en-GB" sz="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th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Edition, © Mark Saunders, Philip Lewis and Adrian Thornhill 2009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Chapter 1</a:t>
            </a:r>
            <a:br>
              <a:rPr sz="3200"/>
            </a:b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The nature of business and management research and the structure of this book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Summary: Chapter 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1480" y="12600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siness and management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s transdiscipl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gages with both theory and practi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volves undertaking systematic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hould be undertaken with rig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Summary: Chapter 1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3716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ook acts as a guide to the research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provi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eries of research examp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lists to help you  acquire relevant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 and discussion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f-check questions - and ans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idance as you generate material for your project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And finally……..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1160" y="2095200"/>
            <a:ext cx="681984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re is no one best way for undertaking all resear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aunders 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Introduction to the research process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6520" y="852480"/>
            <a:ext cx="81691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ealities and  pitfalls of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proaches, strategies and meth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echniques and procedures for data collection and analys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propriate use of information technolo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279080"/>
            <a:ext cx="83804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hods  -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echniques and procedures used to obtai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thodology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theory of how research should be undertak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2920" y="3618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nature of research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031400"/>
            <a:ext cx="838224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hing that people undertake in order to find things out in a systematic way, thereby increasing their knowledg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under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are collected systema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are interpreted systemat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clear purpose to find things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00" y="1257480"/>
            <a:ext cx="853452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draw on knowledge from other 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are more likely to allow access if they 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ercial or personal adva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now tend to be as educated as the researc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rs require research to have some practical con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terby-Smith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240" y="3063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1) </a:t>
            </a:r>
            <a:br>
              <a:rPr sz="3200"/>
            </a:b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27944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ey deb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Knowledge production –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(Modes 1, 2 and 3 knowledg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 ‘relevance gap’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vidence based’ manag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asic and applied re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Features of business and management research (2)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sic and applied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hors’ experience; Easterby-Smit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2008); Hedrick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(199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9" descr="M01NF001"/>
          <p:cNvPicPr/>
          <p:nvPr/>
        </p:nvPicPr>
        <p:blipFill>
          <a:blip r:embed="rId1"/>
          <a:stretch/>
        </p:blipFill>
        <p:spPr>
          <a:xfrm>
            <a:off x="1547640" y="1901880"/>
            <a:ext cx="6048720" cy="3603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519120" y="61261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gure 1.1  Basic and applied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research process (1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240" y="1031760"/>
            <a:ext cx="830556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ges of the research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ulating and clarifying a to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ing the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igning the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ec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ng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riting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ed on Figure 1.2: Saunder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Arial"/>
              </a:rPr>
              <a:t>The research process (2)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022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actors to cons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impact of your personal feelings and belie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ss to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me and other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lidity and reliability  of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17:25Z</dcterms:created>
  <dc:creator>Sheila Ryan</dc:creator>
  <dc:description/>
  <dc:language>en-US</dc:language>
  <cp:lastModifiedBy>FAWAZ</cp:lastModifiedBy>
  <dcterms:modified xsi:type="dcterms:W3CDTF">2012-02-05T19:54:13Z</dcterms:modified>
  <cp:revision>57</cp:revision>
  <dc:subject/>
  <dc:title>Chapter 1</dc:title>
</cp:coreProperties>
</file>