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806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lide 2.</a:t>
            </a:r>
            <a:fld id="{793F95F8-6BC8-494B-8687-391AAD5A93ED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5360" y="6524640"/>
            <a:ext cx="86425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Saunders, Lewis and Thornhill, </a:t>
            </a:r>
            <a:r>
              <a:rPr b="0" i="1" lang="en-GB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Research Methods for Business Students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, 5</a:t>
            </a:r>
            <a:r>
              <a:rPr b="0" lang="en-GB" sz="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th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 Edition, © Mark Saunders, Philip Lewis and Adrian Thornhill 2009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7014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hapter 2</a:t>
            </a:r>
            <a:br>
              <a:rPr sz="3200"/>
            </a:b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Formulating and clarifying the research topic</a:t>
            </a:r>
            <a:endParaRPr b="1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93600"/>
            <a:ext cx="83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urning ideas into research projects (2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0320" y="14475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ful techni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art with a general focus ques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the ‘Russian Doll’ principle to reach the essence of the ques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scuss areas of interest with your tuto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2822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urning ideas into research projects (3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88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riting clear research objecti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heck your examining body’s preferences for stated objectiv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a general focus question to achieve precise objectiv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under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(200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282240"/>
            <a:ext cx="83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urning ideas into research projects (4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15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clude SMART Personal objecti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ecif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easur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hiev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alist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e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48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he importance of theory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4568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king for opinions and gathering facts –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'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ha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'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estions (descriptive research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questions that go beyond description and require analysis –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'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hy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'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illips and Pugh (200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 order to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in phenomen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se relationshi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dict outcom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 and general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10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hreefold typology of theories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Grand, middle range and substantive theor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eswell (200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95280" y="2055960"/>
            <a:ext cx="8359920" cy="3676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19120" y="6126120"/>
            <a:ext cx="808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gure 2.1  Grand, middle-range and substantive theo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Writing your research proposal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36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rposes of the research propos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organise your idea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convince your audien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contract with your client  (your tutor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meet ethical requirements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58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ontent of your research proposal (1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360" y="1545840"/>
            <a:ext cx="8253360" cy="42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tle - likely to change during the proces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ckground - context within the literature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search questions and objectives - what you seek to achiev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7100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ontent of your research proposal (2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7960" y="151740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ethod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 can be in two parts: research design and data collec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imescale and Resource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-  (finance, data access, equipment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Reference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include some key literature sourc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0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Evaluating research proposals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1120" y="1371240"/>
            <a:ext cx="8247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29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the components of the proposal fit togeth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729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729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iability of the propos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729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729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bsence of preconceived ideas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72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ummary: Chapter 2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88880" y="1295280"/>
            <a:ext cx="8259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best research top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rmulate and clarify the topic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et the requirements of the examining body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a variety of techniques when generating research idea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re focused on clear questions based on relevant literatur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2360" y="27144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Formulating and clarifying your research topic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472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important ste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entifying the attributes of a good research topic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nerating ideas that help you select a suitable topi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urning ideas into clear research questions and objectiv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riting your research propos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ummary: Chapter 2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360" y="1294920"/>
            <a:ext cx="8253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best research top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re theory dependent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ave a proposal containing organised idea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ll the reader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at will be done and why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it will be achieved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Attributes of a good research topic (1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23440" y="1066680"/>
            <a:ext cx="8224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pability:   is it feasibl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you fascinated by the topic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you have the necessary research skill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complete the project in the time availab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the research still be current when you finish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you have sufficient financial and other resourc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you be able to gain access to dat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Attributes of a good research topic (2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12280" y="12193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propriateness:    is it worthwhil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the examining institute's standards be me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the the topic contain issues with clear links to theor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the research questions and objectives clearly stated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the proposed research provide fresh insights into the topic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the findings likely to be symmetrical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the research topic match your career goal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38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Attributes of a good research topic (3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  -   (if releva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the topic relate clearly to an id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 were given 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sibly by your organisation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Generating research ideas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3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ful Techniqu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ional thinking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ive thin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ing the literatur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anning the med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ainstorm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evance Tre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oring past project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eping an ideas notebo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48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Refining research ideas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22360" y="127800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the Delphi Techn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ducting a preliminary stud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ally testing out your id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ating id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ing topics given to you by your organis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Writing research questions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768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rite research questions that are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stent with expected standard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le to produce clear conclusion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the right level ( not too difficult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too descriptiv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the ‘Goldilocks Test’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ough and Nutbrown (200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315720"/>
            <a:ext cx="8353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urning ideas into research projects (1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295280"/>
            <a:ext cx="8001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s of research ide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their derived focus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95280" y="2781360"/>
            <a:ext cx="8353440" cy="2482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19120" y="5767560"/>
            <a:ext cx="808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ble 2.2  Examples of research ideas and their derived focus research ques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0:47:50Z</dcterms:created>
  <dc:creator>Sheila Ryan</dc:creator>
  <dc:description/>
  <dc:language>en-US</dc:language>
  <cp:lastModifiedBy>Graphics</cp:lastModifiedBy>
  <dcterms:modified xsi:type="dcterms:W3CDTF">2009-09-15T07:23:42Z</dcterms:modified>
  <cp:revision>82</cp:revision>
  <dc:subject/>
  <dc:title>PowerPoint Presentation</dc:title>
</cp:coreProperties>
</file>