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lide 2.</a:t>
            </a:r>
            <a:fld id="{1FCEAA0B-6A4C-41D0-A64F-82771977A2EF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5360" y="652464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Saunders, Lewis and Thornhill, </a:t>
            </a:r>
            <a:r>
              <a:rPr b="0" i="1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Research Methods for Business Students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, 5</a:t>
            </a:r>
            <a:r>
              <a:rPr b="0" lang="en-GB" sz="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th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 Edition, © Mark Saunders, Philip Lewis and Adrian Thornhill 2009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7014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hapter 2</a:t>
            </a:r>
            <a:br>
              <a:rPr sz="3200"/>
            </a:b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Formulating and clarifying the research topic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93600"/>
            <a:ext cx="83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urning ideas into research projects (2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0320" y="14475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ful techn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rt with a general focus ques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the ‘Russian Doll’ principle to reach the essence of the ques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cuss areas of interest with your tuto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282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urning ideas into research projects (3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8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riting clear research obj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eck your examining body’s preferences for stated objectiv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a general focus question to achieve precise objectiv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82240"/>
            <a:ext cx="83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urning ideas into research projects (4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15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lude SMART Personal obj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eci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easur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iev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alis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e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48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importance of theory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568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king for opinions and gathering facts –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'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a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'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stions (descriptive researc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questions that go beyond description and require analysis –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'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y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'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illips and Pugh (200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order to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phenome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e relationsh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ct outco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and general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10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reefold typology of theorie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rand, middle range and substantive theor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swell (200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95280" y="2055960"/>
            <a:ext cx="8359920" cy="3676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9120" y="6126120"/>
            <a:ext cx="80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gure 2.1  Grand, middle-range and substantive the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Writing your research proposal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poses of the research propo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organise your ide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convince your audie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contract with your client  (your tutor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meet ethical requirement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tent of your research proposal (1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545840"/>
            <a:ext cx="8253360" cy="42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tle - likely to change during the proce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ckground - context within the literatur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search questions and objectives - what you seek to achiev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tent of your research proposal (2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7960" y="151740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ethod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can be in two parts: research design and data collec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imescale and Resourc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-  (finance, data access, equipment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ferenc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include some key literature sourc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0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valuating research proposal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1120" y="1371240"/>
            <a:ext cx="8247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the components of the proposal fit togeth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ability of the propos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bsence of preconceived idea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ummary: Chapter 2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88880" y="1295280"/>
            <a:ext cx="8259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est research top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rmulate and clarify the topic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et the requirements of the examining body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a variety of techniques when generating research ide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e focused on clear questions based on relevant litera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2360" y="27144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Formulating and clarifying your research topic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472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important ste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ing the attributes of a good research topic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ting ideas that help you select a suitable top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urning ideas into clear research questions and objectiv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riting your research propos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ummary: Chapter 2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253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est research top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e theory dependent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ve a proposal containing organised idea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l the reader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will be done and why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it will be achieved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Attributes of a good research topic (1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3440" y="1066680"/>
            <a:ext cx="8224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pability:   is it feasib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you fascinated by the topic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you have the necessary research skill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complete the project in the time availab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the research still be current when you finis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you have sufficient financial and other resourc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you be able to gain access to dat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Attributes of a good research topic (2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2280" y="12193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ropriateness:    is it worthwhi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the examining institute's standards be m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e the topic contain issues with clear links to theor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the research questions and objectives clearly state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the proposed research provide fresh insights into the topic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the findings likely to be symmetrical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e research topic match your career goal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8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Attributes of a good research topic (3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  -   (if releva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the topic relate clearly to an id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 were given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y by your organisation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Generating research idea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3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ful Techniqu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ional think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ve thi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ing the literatur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nning the med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instorm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evance Tr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ring past projec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ing an ideas notebo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48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fining research idea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22360" y="127800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Delphi Tech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ucting a preliminary stud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ally testing out your 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ing 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topics given to you by your organis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Writing research question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768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rite research questions that are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nt with expected standard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le to produce clear conclusion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e right level ( not too difficult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too descriptiv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‘Goldilocks Test’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ough and Nutbrown (200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315720"/>
            <a:ext cx="83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urning ideas into research projects (1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295280"/>
            <a:ext cx="8001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 of research ide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their derived focus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5280" y="2781360"/>
            <a:ext cx="8353440" cy="2482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19120" y="5767560"/>
            <a:ext cx="80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ble 2.2  Examples of research ideas and their derived focus research qu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0:47:50Z</dcterms:created>
  <dc:creator>Sheila Ryan</dc:creator>
  <dc:description/>
  <dc:language>en-US</dc:language>
  <cp:lastModifiedBy>Graphics</cp:lastModifiedBy>
  <dcterms:modified xsi:type="dcterms:W3CDTF">2009-09-15T07:23:42Z</dcterms:modified>
  <cp:revision>82</cp:revision>
  <dc:subject/>
  <dc:title>PowerPoint Presentation</dc:title>
</cp:coreProperties>
</file>