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lide 3.</a:t>
            </a:r>
            <a:fld id="{37999B90-8696-4E74-B613-81A11FC6D10D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5360" y="652464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Saunders, Lewis and Thornhill, </a:t>
            </a:r>
            <a:r>
              <a:rPr b="0" i="1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Research Methods for Business Students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, 5</a:t>
            </a:r>
            <a:r>
              <a:rPr b="0" lang="en-GB" sz="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th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Edition, © Mark Saunders, Philip Lewis and Adrian Thornhill 2009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hapter 3</a:t>
            </a:r>
            <a:br>
              <a:rPr sz="32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Critically reviewing the literature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82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s your literature review critical?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cklists Box 3.2 and Box 3.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he checklists to evaluate your literature r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tructure of the literature review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1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ee common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ingle chapt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eries of chapt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roughout the report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key to a critical literature review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0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nstrate that you have read, understood and evaluated your mater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nk the different ideas to form a cohesive and coherent argum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ke clear connections to your research objectives and the subsequent empirical material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ategories of Literature Source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680" y="1294920"/>
            <a:ext cx="7162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(published and unpublish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ti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ailed in Tables 3.1 and 3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Literature sources available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7724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 sources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55480" y="1768320"/>
            <a:ext cx="7993080" cy="4037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e 3.2  Literature source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literature search strategy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652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rite d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rameters of your searc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ey words and search terms to be us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bases and search engines to be us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iteria for selection of relevant and useful studie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cuss these with a tutor  (if possible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4640" y="250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literature search strategy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0840" y="12193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fine the research paramet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te key wor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cuss your researc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ainstorm ide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truct Relevance trees  -  use computer softwar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98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ducting a literature search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12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roaches can incl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arching tertiary literature sour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taining relevant litera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anning and browsing secondary litera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arching using the Interne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ducting a literature search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3560" y="13716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rching using tertiary liter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sure key words match controlled index langua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arch appropriate printed and database sour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e precise details used – including search string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e the FULL reference of each search foun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ducting a literature search (3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ed sourc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bases – use of Boolean logic and free text searching (Table 3.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nning and brow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ing the Internet (Tables 3.4  and 3.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15720"/>
            <a:ext cx="8382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asons for reviewing the literature 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3280" y="1295280"/>
            <a:ext cx="8461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indent="-387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onduct a ‘preliminary’ search of existing mate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organise valuable ideas and finding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dentify other research that may be in prog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generate research id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velop a critical perspe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ducting a literature search (4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7724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rching the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(200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e 3.3  Searching the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835280" y="1700280"/>
            <a:ext cx="54734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ducting a literature search (5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7724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rching the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(200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e 3.3  Searching the Internet (Continu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800360" y="1557360"/>
            <a:ext cx="5543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valuating the literature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6440" y="1371600"/>
            <a:ext cx="6705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 the scope of your r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relevance and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suf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cording the literature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652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notes for each item you r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graphic det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ef summary of 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ementary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p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(200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cording the literature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8880" y="13716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bliographic details (Table 3.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ef summ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ementary information (Table 3.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Plagiarism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65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 common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ealing material from another sour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bmitting material written by anoth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pying material without quotation mark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raphrasing material without document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pted from Park (2003), cited in Easterby-Sm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00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mmary: Chapter 3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ritical literature r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the research in 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s the reader into later sections of the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s at a general level and narrows to specific top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mmary: Chapter 3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iterature search requi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main categories of 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rly defined research questions and 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d para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techniques – ( brainstorming and relevance tre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literature review proces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(200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63720" y="912960"/>
            <a:ext cx="359280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e 3.1  The literature review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Critical Review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652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roach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ductive -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velops a conceptual framework from the literature which is then tested using the dat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ductive -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lores the data to develop theories which are then tested against the litera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6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Critical Review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236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purp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further refine research questions and objec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discover recommendations for further re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avoid repeating work already underta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rovide insights into strategies and techniques appropriate to your research objectiv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ed on Gall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200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Adopting a critical perspective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kills for effective re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view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notat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mmaris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aring and contrast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rvard College Library (200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72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Adopting a critical perspective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6520" y="121896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st important skills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pacity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t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you r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pacity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at you read to other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llace and Wray (200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26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Adopting a critical perspective (3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stions to ask yoursel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am I reading thi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is the author trying to do in writing thi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convincing is is thi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use can I make of this reading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pted from  Wallace and Wray (200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tent of the critical review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652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will need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clude key academic theor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nstrate current knowledge of the are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clear referencing for the reader to find the original cited publication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knowledge the research of oth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8:19:59Z</dcterms:created>
  <dc:creator>Sheila Ryan</dc:creator>
  <dc:description/>
  <dc:language>en-US</dc:language>
  <cp:lastModifiedBy>Graphics</cp:lastModifiedBy>
  <dcterms:modified xsi:type="dcterms:W3CDTF">2009-09-15T10:03:52Z</dcterms:modified>
  <cp:revision>78</cp:revision>
  <dc:subject/>
  <dc:title>Chapter 3</dc:title>
</cp:coreProperties>
</file>