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3.</a:t>
            </a:r>
            <a:fld id="{CCA9206F-5772-405B-9E3D-4B0DF01994C2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3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ritically reviewing the literature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2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your literature review critical?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lists Box 3.2 and Box 3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hecklists to evaluate your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tructure of the literature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common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ingle chap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eries of chap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roughout the repor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key to a critical literature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nstrate that you have read, understood and evaluated your mate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 the different ideas to form a cohesive and coherent argu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clear connections to your research objectives and the subsequent empirical materi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ategories of Literature Sourc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680" y="12949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(published and unpublish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t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ed in Tables 3.1 and 3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iterature sources availabl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5480" y="1768320"/>
            <a:ext cx="7993080" cy="403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2  Literature sourc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search strategy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meters of your 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y words and search terms to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bases and search engines to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teria for selection of relevant and useful stud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these with a tutor  (if possibl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640" y="25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search strategy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e the research parame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e key w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uss your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ainstorm ide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 Relevance trees  -  use computer softwar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12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es can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ing tertiary literatur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taining relevant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nning and browsing secondary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ing using th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3560" y="13716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using tertiary lit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sure key words match controlled index langu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arch appropriate printed and database 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e precise details used – including search string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e the FULL reference of each search fou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ed sour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s – use of Boolean logic and free text searching (Table 3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ning and 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the Internet (Tables 3.4  and 3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asons for reviewing the literature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295280"/>
            <a:ext cx="8461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nduct a ‘preliminary’ search of existing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rganise valuable ideas and find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other research that may be in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enerate research id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velop a critical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4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3  Searching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1700280"/>
            <a:ext cx="5473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ducting a literature search (5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ing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3  Searching the Internet (Continu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00360" y="1557360"/>
            <a:ext cx="5543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valuat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6440" y="13716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 the scope of your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relevance and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cord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notes for each item you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raphic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summary of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ry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(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cording the literatur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8880" y="1371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bliographic details (Table 3.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ry information (Table 3.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lagiarism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6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common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aling material from another sou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mitting material written by ano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pying material without quotation mar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aphrasing material without documen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Park (2003), cited in Easterby-Sm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3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itical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the research i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the reader into later sections of the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at a general level and narrows to specific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3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terature search requi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ain categories of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ly defined research question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echniques – ( brainstorming and relevance tre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literature review proces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63720" y="912960"/>
            <a:ext cx="35928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3.1  The literature review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ritical Review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6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ductive 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s a conceptual framework from the literature which is then tested using th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ductive -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es the data to develop theories which are then tested against the litera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Critical Review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36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urther refine research questions and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iscover recommendations for further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void repeating work already underta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insights into strategies and techniques appropriate to your research objec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G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kills for effective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iew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nota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mmaris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ng and contras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vard College Library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6520" y="12189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st important skill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at you read to other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lace and Wray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dopting a critical perspective (3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 yoursel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am I reading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author trying to do in writing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convincing is is thi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use can I make of this reading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 Wallace and Wray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tent of the critical review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65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will ne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lude key academic theo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nstrate current knowledge of the ar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clear referencing for the reader to find the original cited publica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knowledge the research of oth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9:59Z</dcterms:created>
  <dc:creator>Sheila Ryan</dc:creator>
  <dc:description/>
  <dc:language>en-US</dc:language>
  <cp:lastModifiedBy>Graphics</cp:lastModifiedBy>
  <dcterms:modified xsi:type="dcterms:W3CDTF">2009-09-15T10:03:52Z</dcterms:modified>
  <cp:revision>78</cp:revision>
  <dc:subject/>
  <dc:title>Chapter 3</dc:title>
</cp:coreProperties>
</file>