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4.</a:t>
            </a:r>
            <a:fld id="{80F11C64-F2ED-43A5-8558-D52B322A926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495520"/>
            <a:ext cx="76197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4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Understanding research philosophies 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nd approaches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Approache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652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theory by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ing the way human build their worl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mitting alternative explanations of what’s going 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ing concerned with the context of ev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more qualitativ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a variety of data collection meth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oosing your research approach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choice of approach helps you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a more informed decision about the research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nk about which strategies will work for your research top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pt your design to cater for any constrai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Easterby-Sm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mbining research approach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gs worth consi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ature of the research top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time avail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xtent of ris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 audience – managers and mark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56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ductive and Inductive research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jor differences between these approach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41400" y="1522440"/>
            <a:ext cx="7246800" cy="413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9120" y="5989680"/>
            <a:ext cx="80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4.2  Major differences between deductive and inductive approaches to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s to the development of knowledge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ture of that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important assumptions about the way in which you view the worl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3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major ways of thinking about research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em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y – objectivism and subjectiv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science paradigms can generate fresh insights into real-life issues and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of the paradigm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 human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 structurali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wo main research approache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theory and hypothesis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veloped and 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data are collected and a theor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veloped from the data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9720" y="27144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nderlying issues of data collection and analysi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search ‘onion’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49320" y="1989000"/>
            <a:ext cx="5445360" cy="389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4.1  The research ‘onio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7880" y="217800"/>
            <a:ext cx="8305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nderstanding your research philosophy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philosophy is an over-arching term relating to the development of knowledge and the nature of that knowledge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3760" y="217800"/>
            <a:ext cx="8534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Understanding your research philosophy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ing about research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em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gma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217800"/>
            <a:ext cx="8305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Understanding your research philosophy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pects of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iv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1560" y="211320"/>
            <a:ext cx="8458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Understanding your research philosophy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212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pects of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itivism -   the stance of the natural scienti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sm -      direct and critical real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pretivism – researchers as ‘social actors’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xiology – studies judgements about val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paradigm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ay of examining social phenomenon from which particular understandings of these phenomena can be gained and explanations attemp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464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Approache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sequential stages of testing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ducing a hypoth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ressing the hypothesis operational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ing the operational hypoth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ining the specific outcome of the enqui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ifying the theory (if necessary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Robson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464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Approache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068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 of De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aining causal relationships between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ing controls for testing hypothe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ependence of the researc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epts operationalised for quantative measur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isatio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22:50Z</dcterms:created>
  <dc:creator>Sheila Ryan</dc:creator>
  <dc:description/>
  <dc:language>en-US</dc:language>
  <cp:lastModifiedBy>Graphics</cp:lastModifiedBy>
  <dcterms:modified xsi:type="dcterms:W3CDTF">2009-09-16T07:07:10Z</dcterms:modified>
  <cp:revision>57</cp:revision>
  <dc:subject/>
  <dc:title>Chapter 4</dc:title>
</cp:coreProperties>
</file>