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5.</a:t>
            </a:r>
            <a:fld id="{BCC92868-7A8B-498F-9314-ABB7C25F7EE2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5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ormulating the research design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s a rich understanding of a real life contex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s and triangulates multiple sources of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ase study can be categorised in four way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based on two dimension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ase v. multiple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istic case v. embedd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in (200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72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560" y="11430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research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IN action - not ON a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olves practitioners in the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er becomes part of the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motes change within the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have two distinct focii (Schein, 1999) –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im of the research and the needs of the spons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ction research spi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1880" y="1722600"/>
            <a:ext cx="5308560" cy="439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3  The action research spi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1200" y="1028880"/>
            <a:ext cx="77724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nded theor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ory is built through induction and de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to predict and explain behavio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s theory from data generated b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servatio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an interpretative process, not a logico-deductive o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Suddaby (20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6800" y="121932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nograph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ms to describe and explain the social world inhabited by the researc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kes place over an extended time peri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naturali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olves extended participant observ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ival research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s administrative records and documents as the principal sources of dat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s research questions focused on the pa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constrained by the nature of the records and  docum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le of the practitioner-resear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access is more easily avail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er knows the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s the disadvantage of familiarit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er is likely to their own assump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preconceptio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ual role requires careful negoti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ultiple research method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8680" y="1989000"/>
            <a:ext cx="8420040" cy="364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4  Research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ultiple research method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61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sons for using mixed method desig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able 5.1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ul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ili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ementa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d interpre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different asp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lving a puzz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developed from Bryman (20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ime Horizon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6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appropriate time horiz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in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6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Process of Research Design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032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horiz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dibility of research finding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976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abilit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isabi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gic leaps and false assump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design ethic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 design should not subject the research population to embarrassment, harm or other material disadvantage’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5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search design turns a research question and objectives into a project that consi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oic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ime horiz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search projects can be categorised 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ato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xplana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projects may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sec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itud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5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65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ortant conside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in research strategies may combined in the same pro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opportunities provided by using multiple meth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validity and reliability of 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and ethical conside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Design and Tactic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907560"/>
            <a:ext cx="6934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search on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36840" y="1503360"/>
            <a:ext cx="6048360" cy="432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1  The research ‘onio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336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Design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968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earch design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ear objectives derived from the research ques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pecify sources of data colle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sider constraints and ethical iss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lid reasons for your choice of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ification of the research purpos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320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oratory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ve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ory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nded the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nograph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ival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periment will invo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finition of a theoretical hypoth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tion of samples from know popul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allocation of samp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tion of planned interventio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 on a small number of dependent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of all other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br>
              <a:rPr sz="3200"/>
            </a:b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39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lassic experiment strate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362320"/>
            <a:ext cx="617220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0200" y="2276640"/>
            <a:ext cx="8318520" cy="301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2  A classic experimen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032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ve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r in business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ceived as authorita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s collection of quantativ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can be analysed quantitativel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s need to be representa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ves the researcher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uctured observation and interviews can be u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26:17Z</dcterms:created>
  <dc:creator>Sheila Ryan</dc:creator>
  <dc:description/>
  <dc:language>en-US</dc:language>
  <cp:lastModifiedBy>Graphics</cp:lastModifiedBy>
  <dcterms:modified xsi:type="dcterms:W3CDTF">2009-09-15T07:27:14Z</dcterms:modified>
  <cp:revision>64</cp:revision>
  <dc:subject/>
  <dc:title>Chapter 5</dc:title>
</cp:coreProperties>
</file>