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lide 5.</a:t>
            </a:r>
            <a:fld id="{14BD7F43-2E07-412D-B766-67FAB28BD34C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5360" y="652464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Saunders, Lewis and Thornhill, </a:t>
            </a:r>
            <a:r>
              <a:rPr b="0" i="1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Research Methods for Business Students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, 5</a:t>
            </a:r>
            <a:r>
              <a:rPr b="0" lang="en-GB" sz="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th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Edition, © Mark Saunders, Philip Lewis and Adrian Thornhill 2009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hapter 5</a:t>
            </a:r>
            <a:br>
              <a:rPr sz="3200"/>
            </a:b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Formulating the research design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Strategi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004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e Study: key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s a rich understanding of a real life contex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s and triangulates multiple sources of dat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case study can be categorised in four way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d based on two dimensions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case v. multiple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istic case v. embedded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in (200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729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Strategi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3560" y="11430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on research: key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earch IN action - not ON a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volves practitioners in the resear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esearcher becomes part of the organis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motes change within the organis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have two distinct focii (Schein, 1999) –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aim of the research and the needs of the spons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6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Strategi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action research spir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901880" y="1722600"/>
            <a:ext cx="5308560" cy="4390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5.3  The action research spi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Strategi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1200" y="1028880"/>
            <a:ext cx="77724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unded theory: key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ory is built through induction and dedu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lps to predict and explain behaviou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velops theory from data generated by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servation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an interpretative process, not a logico-deductive on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d on Suddaby (200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Strategi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6800" y="121932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nography: key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ims to describe and explain the social world inhabited by the research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kes place over an extended time perio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naturalis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volves extended participant observ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4640" y="248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Strategi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chival research: key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s administrative records and documents as the principal sources of data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lows research questions focused on the pas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constrained by the nature of the records and  docume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640" y="315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Strategi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65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ole of the practitioner-researc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earch access is more easily availab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esearcher knows the organis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s the disadvantage of familiarity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esearcher is likely to their own assump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d preconception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dual role requires careful negoti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ultiple research method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earch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28680" y="1989000"/>
            <a:ext cx="8420040" cy="3640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5.4  Research cho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71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ultiple research method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6160" y="8380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sons for using mixed method design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able 5.1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iangul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cilit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lementar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id interpret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y different aspec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lving a puzz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developed from Bryman (200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ime Horizon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6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ect the appropriate time horiz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sectional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itudinal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6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Process of Research Design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032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horiz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dibility of research finding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976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t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liability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isabil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ogic leaps and false assump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design ethic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e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esearch design should not subject the research population to embarrassment, harm or other material disadvantage’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pted from Saunder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5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1320" y="11430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search design turns a research question and objectives into a project that consid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ategi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oic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Time horiz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search projects can be categorised 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lorato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criptiv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Explanato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earch projects may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-sect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itud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ummary: Chapter 5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65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mportant consider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ain research strategies may combined in the same pro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opportunities provided by using multiple metho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validity and reliability of resul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cess and ethical consider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Design and Tactic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907560"/>
            <a:ext cx="6934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research on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36840" y="1503360"/>
            <a:ext cx="6048360" cy="4321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5.1  The research ‘onio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4640" y="336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Design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968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earch design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ear objectives derived from the research ques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specify sources of data colle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consider constraints and ethical issu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alid reasons for your choice of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87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lassification of the research purpose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3200" y="1371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loratory 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ptive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lanatory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Strategies 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i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on 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unded theor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rv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nograph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chival 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Strategi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experiment will invol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finition of a theoretical hypothesi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lection of samples from know popul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ndom allocation of samp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roduction of planned intervention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asurement on a small number of dependent variab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ol of all other variab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10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Strategies</a:t>
            </a:r>
            <a:br>
              <a:rPr sz="3200"/>
            </a:b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39760"/>
            <a:ext cx="77724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classic experiment strateg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2362320"/>
            <a:ext cx="617220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(20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30200" y="2276640"/>
            <a:ext cx="8318520" cy="3016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5.2  A classic experiment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Research Strategie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0320" y="10666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rvey: key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pular in business resear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ceived as authoritativ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lows collection of quantative dat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can be analysed quantitatively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mples need to be representativ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ives the researcher independe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uctured observation and interviews can be us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8:26:17Z</dcterms:created>
  <dc:creator>Sheila Ryan</dc:creator>
  <dc:description/>
  <dc:language>en-US</dc:language>
  <cp:lastModifiedBy>Graphics</cp:lastModifiedBy>
  <dcterms:modified xsi:type="dcterms:W3CDTF">2009-09-15T07:27:14Z</dcterms:modified>
  <cp:revision>64</cp:revision>
  <dc:subject/>
  <dc:title>Chapter 5</dc:title>
</cp:coreProperties>
</file>