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0033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33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80640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Slide 11.</a:t>
            </a:r>
            <a:fld id="{EA5415B6-14C9-4E5E-887E-F257C2A873EA}" type="slidenum">
              <a:rPr b="0" lang="en-US" sz="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25360" y="6524640"/>
            <a:ext cx="864252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  <a:ea typeface="Times New Roman"/>
              </a:rPr>
              <a:t>Saunders, Lewis and Thornhill, </a:t>
            </a:r>
            <a:r>
              <a:rPr b="0" i="1" lang="en-GB" sz="800" spc="-1" strike="noStrike">
                <a:solidFill>
                  <a:srgbClr val="ffffff"/>
                </a:solidFill>
                <a:latin typeface="Arial"/>
                <a:ea typeface="Times New Roman"/>
              </a:rPr>
              <a:t>Research Methods for Business Students</a:t>
            </a:r>
            <a:r>
              <a:rPr b="0" lang="en-GB" sz="800" spc="-1" strike="noStrike">
                <a:solidFill>
                  <a:srgbClr val="ffffff"/>
                </a:solidFill>
                <a:latin typeface="Arial"/>
                <a:ea typeface="Times New Roman"/>
              </a:rPr>
              <a:t>, 5</a:t>
            </a:r>
            <a:r>
              <a:rPr b="0" lang="en-GB" sz="8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th</a:t>
            </a:r>
            <a:r>
              <a:rPr b="0" lang="en-GB" sz="800" spc="-1" strike="noStrike">
                <a:solidFill>
                  <a:srgbClr val="ffffff"/>
                </a:solidFill>
                <a:latin typeface="Arial"/>
                <a:ea typeface="Times New Roman"/>
              </a:rPr>
              <a:t> Edition, © Mark Saunders, Philip Lewis and Adrian Thornhill 2009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651400"/>
            <a:ext cx="7772400" cy="15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Chapter 11</a:t>
            </a:r>
            <a:br>
              <a:rPr sz="3200"/>
            </a:b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Collecting primary data using questionnaires</a:t>
            </a:r>
            <a:endParaRPr b="1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6668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Designing the questionnaire (3)</a:t>
            </a:r>
            <a:endParaRPr b="1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6160" y="1523520"/>
            <a:ext cx="82422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esting for reliability- the 3 stage proc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est re-test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nternal consistency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lternative form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itchell (1996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1572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Examples of question types (1)</a:t>
            </a:r>
            <a:endParaRPr b="1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33520" y="1143000"/>
            <a:ext cx="81532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pen ques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-60336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AutoNum type="arabicPlain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Please list up to three things you like about your job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1…………………………………………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2…………………………………………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3…………………………………………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aunders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et al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(2009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1572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Examples of question types (2)</a:t>
            </a:r>
            <a:endParaRPr b="1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st ques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AutoNum type="arabicPlain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What is your religion?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Please tick  </a:t>
            </a:r>
            <a:r>
              <a:rPr b="1" lang="en-US" sz="2600" spc="-1" strike="noStrike">
                <a:solidFill>
                  <a:srgbClr val="ffffff"/>
                </a:solidFill>
                <a:latin typeface="Wingdings"/>
                <a:ea typeface="Wingdings"/>
              </a:rPr>
              <a:t>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  the appropriate box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uddhis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Webdings"/>
                <a:ea typeface="Webdings"/>
              </a:rPr>
              <a:t>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n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Webdings"/>
                <a:ea typeface="Webdings"/>
              </a:rPr>
              <a:t>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ristia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Webdings"/>
                <a:ea typeface="Webdings"/>
              </a:rPr>
              <a:t>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the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Webdings"/>
                <a:ea typeface="Webdings"/>
              </a:rPr>
              <a:t>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indu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Webdings"/>
                <a:ea typeface="Webdings"/>
              </a:rPr>
              <a:t>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ewis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Webdings"/>
                <a:ea typeface="Webdings"/>
              </a:rPr>
              <a:t>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uslim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Webdings"/>
                <a:ea typeface="Webdings"/>
              </a:rPr>
              <a:t>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k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Webdings"/>
                <a:ea typeface="Webdings"/>
              </a:rPr>
              <a:t>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aunders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et al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(2009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1752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Examples of question types (3)</a:t>
            </a:r>
            <a:endParaRPr b="1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tegory ques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How often do you visit the shopping centre?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viewer: listen to the respondent’s answer and  tick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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 appropria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Webdings"/>
                <a:ea typeface="Webdings"/>
              </a:rPr>
              <a:t>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rst visi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Webdings"/>
                <a:ea typeface="Webdings"/>
              </a:rPr>
              <a:t>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ce a wee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Webdings"/>
                <a:ea typeface="Webdings"/>
              </a:rPr>
              <a:t>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ss than fortnightly to once a mon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Webdings"/>
                <a:ea typeface="Webdings"/>
              </a:rPr>
              <a:t>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 or more times a wee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ebding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ss than once a week to fortnight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ebding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ss oft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aunders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et al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(2009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31752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Examples of question types (4)</a:t>
            </a:r>
            <a:endParaRPr b="1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807696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anking ques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-6033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lain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lease number each of the factors listed below in order of importance to you in choosing a new car. Number the most important 1, the next 2 and so on. If a factor has no importance at all, please leave blank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Factor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Importa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Carbon dioxide emissions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[     ]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Boot size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[     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Depreciation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[     ]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Price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[     ]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apted from Saunders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et al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 (2009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Examples of question types (5)</a:t>
            </a:r>
            <a:endParaRPr b="1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Rating question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For the following statement please tick the 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box that matches your view most closely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ree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nd to agree  Tend to disagree  Disagre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 feel employees’         </a:t>
            </a:r>
            <a:r>
              <a:rPr b="0" lang="en-US" sz="2000" spc="-1" strike="noStrike">
                <a:solidFill>
                  <a:srgbClr val="ffffff"/>
                </a:solidFill>
                <a:latin typeface="Webdings"/>
                <a:ea typeface="Webdings"/>
              </a:rPr>
              <a:t>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en-US" sz="2000" spc="-1" strike="noStrike">
                <a:solidFill>
                  <a:srgbClr val="ffffff"/>
                </a:solidFill>
                <a:latin typeface="Webdings"/>
                <a:ea typeface="Webdings"/>
              </a:rPr>
              <a:t>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Webdings"/>
                <a:ea typeface="Webdings"/>
              </a:rPr>
              <a:t>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Webdings"/>
                <a:ea typeface="Webdings"/>
              </a:rPr>
              <a:t>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iews hav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fluenced th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cisions tak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y management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aunders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et al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(2009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Examples of question types (6)</a:t>
            </a:r>
            <a:endParaRPr b="1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Quantity ques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AutoNum type="arabicPlain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What is your year of birth?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For example, for 1988 write: 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aunders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et al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(2009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791320" y="2743200"/>
            <a:ext cx="2743200" cy="685800"/>
            <a:chOff x="5791320" y="2743200"/>
            <a:chExt cx="2743200" cy="685800"/>
          </a:xfrm>
        </p:grpSpPr>
        <p:sp>
          <p:nvSpPr>
            <p:cNvPr id="78" name=""/>
            <p:cNvSpPr/>
            <p:nvPr/>
          </p:nvSpPr>
          <p:spPr>
            <a:xfrm>
              <a:off x="5791320" y="2743200"/>
              <a:ext cx="685800" cy="685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477120" y="2743200"/>
              <a:ext cx="685800" cy="685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62920" y="2743200"/>
              <a:ext cx="685800" cy="685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48720" y="2743200"/>
              <a:ext cx="685800" cy="685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5791320" y="4267080"/>
            <a:ext cx="2743200" cy="685800"/>
            <a:chOff x="5791320" y="4267080"/>
            <a:chExt cx="2743200" cy="685800"/>
          </a:xfrm>
        </p:grpSpPr>
        <p:sp>
          <p:nvSpPr>
            <p:cNvPr id="83" name=""/>
            <p:cNvSpPr/>
            <p:nvPr/>
          </p:nvSpPr>
          <p:spPr>
            <a:xfrm>
              <a:off x="5791320" y="4267080"/>
              <a:ext cx="685800" cy="685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477120" y="4267080"/>
              <a:ext cx="685800" cy="685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162920" y="4267080"/>
              <a:ext cx="685800" cy="685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848720" y="4267080"/>
              <a:ext cx="685800" cy="685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"/>
          <p:cNvSpPr/>
          <p:nvPr/>
        </p:nvSpPr>
        <p:spPr>
          <a:xfrm>
            <a:off x="6021720" y="28195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945400" y="43434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629400" y="28195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629400" y="43434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315200" y="43434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001000" y="43434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3940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Designing individual questions (1)</a:t>
            </a:r>
            <a:endParaRPr b="1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1120" y="1371240"/>
            <a:ext cx="82472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ther consider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opting or adapting existing questions – remember to check copyright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Question wording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ranslating questions into other language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Question coding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Designing individual questions (2)</a:t>
            </a:r>
            <a:endParaRPr b="1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ecklist Box 11.1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lete the Checklist in Box 11.1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help you with the wording of your ques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aunders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et al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 (2009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091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Constructing the questionnaire</a:t>
            </a:r>
            <a:endParaRPr b="1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88880" y="1676520"/>
            <a:ext cx="82598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in consider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rder and flow of ques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Questionnaire layou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73200" y="2091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Use of questionnaires (1)</a:t>
            </a:r>
            <a:endParaRPr b="1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ion of Questionnai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chniques of data collection in which each person is asked to respond to the same set of questions in a predetermined ord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dapted from deVaus (2002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3940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Explaining the purpose and testing</a:t>
            </a:r>
            <a:endParaRPr b="1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83840" y="1676520"/>
            <a:ext cx="8264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Key poi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covering let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roducing and closing the questionnai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ilot testing and assessing valid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Administering the questionnaire</a:t>
            </a:r>
            <a:endParaRPr b="1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1120" y="1142640"/>
            <a:ext cx="8247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ints to consid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net and intranet-mediated respon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stal questionnai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livery and Colle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lephone questionnai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ructured interview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ummary: Chapter 11</a:t>
            </a:r>
            <a:endParaRPr b="1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88880" y="1294920"/>
            <a:ext cx="82598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7360" indent="-38736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Questionnaires are often used to collect descriptive and explanatory data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8736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ive main types of questionnaire are Internet- or intra-net mediated, postal, delivery and collection, telephone and interview schedul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8736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ecise data that meet the research objectives can be produced by using a data requirements table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8736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82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ummary: Chapter 11</a:t>
            </a:r>
            <a:endParaRPr b="1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88880" y="1219320"/>
            <a:ext cx="82598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Data validity and reliability and response rate depend on design, structure and rigorous pilot testing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ording and order of questions and question types are important consideration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osed questions should be pre-coded to facilitate data input and analysi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473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ummary: Chapter 11</a:t>
            </a:r>
            <a:endParaRPr b="1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83840" y="1219320"/>
            <a:ext cx="82645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ortant design features are a clear layout, a logical order and flow of questions and easily completed response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Questionnaires should be carefully introduced and pilot tested prior to administration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ministration needs to be appropriate to the type of questionnair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73200" y="23940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Use of questionnaires (2)</a:t>
            </a:r>
            <a:endParaRPr b="1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93200" y="1371240"/>
            <a:ext cx="8255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en to use questionnai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or explanatory or descriptive research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inked with other methods in a multiple-methods research design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o collect responses from a large sample prior to quantitative analysi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473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Use of questionnaires (3)</a:t>
            </a:r>
            <a:endParaRPr b="1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ypes of questionnair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aunders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et al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 (2009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90680" y="2774880"/>
            <a:ext cx="8137440" cy="26589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519120" y="6126120"/>
            <a:ext cx="808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gure 11.1  Types of questionnai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1572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Choice of questionnaire</a:t>
            </a:r>
            <a:endParaRPr b="1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14080" y="1066680"/>
            <a:ext cx="82342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lated facto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aracteristics of the respondents and acces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pondents answers not being contaminated or distort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ze of sample required for analys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ype and number of questions requir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vailable resources including use of computer softwa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Data collection </a:t>
            </a:r>
            <a:endParaRPr b="1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96800" y="1143000"/>
            <a:ext cx="82519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Key facto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cisely defined ques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resentative and accurate sampl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 understanding of the organisational contex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lationships between variables – dependent, independent and extraneo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ypes of variabl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6668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Ensuring essential data are collected</a:t>
            </a:r>
            <a:endParaRPr b="1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Data requirements tabl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aunders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et al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 (2009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24000" y="3068640"/>
            <a:ext cx="8424720" cy="22176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519120" y="6126120"/>
            <a:ext cx="808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able 11.2  Data requirements t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6668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Designing the questionnaire (1)</a:t>
            </a:r>
            <a:endParaRPr b="1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052640"/>
            <a:ext cx="77724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Stages that must occur if a question is to be valid and reliabl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urce: developed from Foddy (1994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2082960" y="1949400"/>
            <a:ext cx="4952880" cy="39211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519120" y="6126120"/>
            <a:ext cx="808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gure 11.2  Stages that must occur if a question is to be valid and reli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42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Designing the questionnaire (2)</a:t>
            </a:r>
            <a:endParaRPr b="1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88880" y="1600200"/>
            <a:ext cx="825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ing valid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nternal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ntent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riterion – related (predictive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nstruct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2T16:50:47Z</dcterms:created>
  <dc:creator>Sheila Ryan</dc:creator>
  <dc:description/>
  <dc:language>en-US</dc:language>
  <cp:lastModifiedBy>Graphics</cp:lastModifiedBy>
  <dcterms:modified xsi:type="dcterms:W3CDTF">2009-09-16T07:09:00Z</dcterms:modified>
  <cp:revision>68</cp:revision>
  <dc:subject/>
  <dc:title>Chapter 11 Collecting primary data using questionnaires</dc:title>
</cp:coreProperties>
</file>