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11.</a:t>
            </a:r>
            <a:fld id="{1571CE60-03D2-4119-A3C4-8B3F8BBD6435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6514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11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llecting primary data using questionnair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6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the questionnaire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6160" y="1523520"/>
            <a:ext cx="8242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ing for reliability- the 3 stag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 re-te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nal consisten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ternative for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tchell (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list up to three things you like about your jo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………………………………………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………………………………………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………………………………………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religion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tick 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the appropriate box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dh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d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wis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l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k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tegory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often do you visit the shopping centr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iewer: listen to the respondent’s answer and  tic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ppropr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vis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a we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than fortnightly to once a 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or more times a we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than once a week to fortnigh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of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4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king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ease number each of the factors listed below in order of importance to you in choosing a new car. Number the most important 1, the next 2 and so on. If a factor has no importance at all, please leave blan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actor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rbon dioxide emission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     ]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ot siz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 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reci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     ]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c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     ]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ed from 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5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ting ques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the following statement please tick the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ox that matches your view most close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re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d to agree  Tend to disagree  Disag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employees’         </a:t>
            </a: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s ha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luenced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s ta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management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6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ity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year of birth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example, for 1988 write: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1320" y="2743200"/>
            <a:ext cx="2743200" cy="685800"/>
            <a:chOff x="5791320" y="2743200"/>
            <a:chExt cx="2743200" cy="685800"/>
          </a:xfrm>
        </p:grpSpPr>
        <p:sp>
          <p:nvSpPr>
            <p:cNvPr id="78" name=""/>
            <p:cNvSpPr/>
            <p:nvPr/>
          </p:nvSpPr>
          <p:spPr>
            <a:xfrm>
              <a:off x="5791320" y="274320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77120" y="274320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62920" y="274320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48720" y="274320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91320" y="4267080"/>
            <a:ext cx="2743200" cy="685800"/>
            <a:chOff x="5791320" y="4267080"/>
            <a:chExt cx="2743200" cy="685800"/>
          </a:xfrm>
        </p:grpSpPr>
        <p:sp>
          <p:nvSpPr>
            <p:cNvPr id="83" name=""/>
            <p:cNvSpPr/>
            <p:nvPr/>
          </p:nvSpPr>
          <p:spPr>
            <a:xfrm>
              <a:off x="5791320" y="426708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77120" y="426708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62920" y="426708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48720" y="426708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217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54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39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individual question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1120" y="1371240"/>
            <a:ext cx="8247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opting or adapting existing questions – remember to check copyrigh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 word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lating questions into other langu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 cod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individual question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list Box 11.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hecklist in Box 11.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you with the wording of your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the questionnai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8880" y="1676520"/>
            <a:ext cx="8259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 and flow of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l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3200" y="209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se of questionnaire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 of Questionna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 of data collection in which each person is asked to respond to the same set of questions in a predetermined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deVaus (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39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plaining the purpose and testing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3840" y="1676520"/>
            <a:ext cx="826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vering l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ing and closing the question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ot testing and assessing valid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dministering the questionnai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120" y="1142640"/>
            <a:ext cx="824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to cons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and intranet-mediated respo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al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y and Col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phone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inter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1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8880" y="1294920"/>
            <a:ext cx="8259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naires are often used to collect descriptive and explanatory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ve main types of questionnaire are Internet- or intra-net mediated, postal, delivery and collection, telephone and interview schedu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cise data that meet the research objectives can be produced by using a data requirements tab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1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8880" y="1219320"/>
            <a:ext cx="8259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validity and reliability and response rate depend on design, structure and rigorous pilot tes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ding and order of questions and question types are important conside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osed questions should be pre-coded to facilitate data input and analy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1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3840" y="1219320"/>
            <a:ext cx="826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t design features are a clear layout, a logical order and flow of questions and easily completed respons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naires should be carefully introduced and pilot tested prior to administ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ministration needs to be appropriate to the type of questionnai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3200" y="239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se of questionnaire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3200" y="1371240"/>
            <a:ext cx="8255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o use questionna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explanatory or descriptive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ed with other methods in a multiple-methods research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ollect responses from a large sample prior to quantitative analy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se of questionnaires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ypes of questionnai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0680" y="2774880"/>
            <a:ext cx="8137440" cy="2658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11.1  Types of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oice of questionnai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066680"/>
            <a:ext cx="8234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ed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the respondents and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dents answers not being contaminated or dist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sample required for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d number of question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resources including use of computer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ata collection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6800" y="1143000"/>
            <a:ext cx="8251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ely defined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and accurate samp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understanding of the organisational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s between variables – dependent, independent and extra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6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nsuring essential data are collected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ta requirements t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8424720" cy="221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 11.2  Data requirements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6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the questionnaire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ages that must occur if a question is to be valid and reli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developed from Foddy (199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82960" y="1949400"/>
            <a:ext cx="4952880" cy="392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11.2  Stages that must occur if a question is to be valid and rel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the questionnaire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8880" y="160020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ing valid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n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terion – related (predictiv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ru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50:47Z</dcterms:created>
  <dc:creator>Sheila Ryan</dc:creator>
  <dc:description/>
  <dc:language>en-US</dc:language>
  <cp:lastModifiedBy>Graphics</cp:lastModifiedBy>
  <dcterms:modified xsi:type="dcterms:W3CDTF">2009-09-16T07:09:00Z</dcterms:modified>
  <cp:revision>68</cp:revision>
  <dc:subject/>
  <dc:title>Chapter 11 Collecting primary data using questionnaires</dc:title>
</cp:coreProperties>
</file>