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.</a:t>
            </a:r>
            <a:fld id="{8D810E94-840E-4266-B96D-3F38D2F44BA7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1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perspective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Development and role of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elling in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adoption of 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01NF006"/>
          <p:cNvPicPr/>
          <p:nvPr/>
        </p:nvPicPr>
        <p:blipFill>
          <a:blip r:embed="rId1"/>
          <a:stretch/>
        </p:blipFill>
        <p:spPr>
          <a:xfrm>
            <a:off x="520560" y="939960"/>
            <a:ext cx="810108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deman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01NF007"/>
          <p:cNvPicPr/>
          <p:nvPr/>
        </p:nvPicPr>
        <p:blipFill>
          <a:blip r:embed="rId1"/>
          <a:stretch/>
        </p:blipFill>
        <p:spPr>
          <a:xfrm>
            <a:off x="826920" y="941400"/>
            <a:ext cx="74901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simple break-even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M01NF008"/>
          <p:cNvPicPr/>
          <p:nvPr/>
        </p:nvPicPr>
        <p:blipFill>
          <a:blip r:embed="rId1"/>
          <a:stretch/>
        </p:blipFill>
        <p:spPr>
          <a:xfrm>
            <a:off x="520560" y="941400"/>
            <a:ext cx="81028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5589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rganisational implications of adopting the marketing concept: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(a) company organisation chart, sales orientated company (b) company organisation chart, marketing orientate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01NF009"/>
          <p:cNvPicPr/>
          <p:nvPr/>
        </p:nvPicPr>
        <p:blipFill>
          <a:blip r:embed="rId1"/>
          <a:stretch/>
        </p:blipFill>
        <p:spPr>
          <a:xfrm>
            <a:off x="1303200" y="358920"/>
            <a:ext cx="6537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M01NF010"/>
          <p:cNvPicPr/>
          <p:nvPr/>
        </p:nvPicPr>
        <p:blipFill>
          <a:blip r:embed="rId1"/>
          <a:stretch/>
        </p:blipFill>
        <p:spPr>
          <a:xfrm>
            <a:off x="2720880" y="352440"/>
            <a:ext cx="3702240" cy="5468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arketing strategy and management of personal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arketing strategy and sales management</a:t>
            </a:r>
            <a:br>
              <a:rPr sz="1800"/>
            </a:b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: Strakle, W. and Spiro, R.L. (1986) Linking market share strategies to sales force objectives, activities and compensation policie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ugust:11–1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01NT004"/>
          <p:cNvPicPr/>
          <p:nvPr/>
        </p:nvPicPr>
        <p:blipFill>
          <a:blip r:embed="rId1"/>
          <a:stretch/>
        </p:blipFill>
        <p:spPr>
          <a:xfrm>
            <a:off x="422280" y="1773360"/>
            <a:ext cx="82994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ales buy-in of market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01NF011"/>
          <p:cNvPicPr/>
          <p:nvPr/>
        </p:nvPicPr>
        <p:blipFill>
          <a:blip r:embed="rId1"/>
          <a:stretch/>
        </p:blipFill>
        <p:spPr>
          <a:xfrm>
            <a:off x="941400" y="950760"/>
            <a:ext cx="72612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trengths and weaknesses of personal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01NT001"/>
          <p:cNvPicPr/>
          <p:nvPr/>
        </p:nvPicPr>
        <p:blipFill>
          <a:blip r:embed="rId1"/>
          <a:stretch/>
        </p:blipFill>
        <p:spPr>
          <a:xfrm>
            <a:off x="360360" y="1363680"/>
            <a:ext cx="84232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haracteristics of modern selling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Moncrief, W.C. and Marshall, G.W. (2005) The evolution of the seven steps of selling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4: 13–2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01NF001"/>
          <p:cNvPicPr/>
          <p:nvPr/>
        </p:nvPicPr>
        <p:blipFill>
          <a:blip r:embed="rId1"/>
          <a:stretch/>
        </p:blipFill>
        <p:spPr>
          <a:xfrm>
            <a:off x="792000" y="942840"/>
            <a:ext cx="75582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p ten success factors in selling</a:t>
            </a:r>
            <a:br>
              <a:rPr sz="1800"/>
            </a:b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: Reprinted from Marshall, G.W., Goebel, D.J. and Moncrief, W.C. (2003) Hiring for success at the buyer–seller interface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Business Research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56:247–55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Copyright © 2003,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01NT002"/>
          <p:cNvPicPr/>
          <p:nvPr/>
        </p:nvPicPr>
        <p:blipFill>
          <a:blip r:embed="rId1"/>
          <a:stretch/>
        </p:blipFill>
        <p:spPr>
          <a:xfrm>
            <a:off x="357120" y="1647720"/>
            <a:ext cx="84297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ypes of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01NF002"/>
          <p:cNvPicPr/>
          <p:nvPr/>
        </p:nvPicPr>
        <p:blipFill>
          <a:blip r:embed="rId1"/>
          <a:stretch/>
        </p:blipFill>
        <p:spPr>
          <a:xfrm>
            <a:off x="365040" y="692280"/>
            <a:ext cx="84139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e characteristics of effective sales managers</a:t>
            </a:r>
            <a:br>
              <a:rPr sz="1800"/>
            </a:b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: Adapted from Deeter-Schmelz, D.R., Goebel, D.J. and Kennedy, K.M. (2008) What are the characteristics of an effective sales manager? An exploratory study comparing salesperson and sales manager perspective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28(1):7–2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01NT003"/>
          <p:cNvPicPr/>
          <p:nvPr/>
        </p:nvPicPr>
        <p:blipFill>
          <a:blip r:embed="rId1"/>
          <a:stretch/>
        </p:blipFill>
        <p:spPr>
          <a:xfrm>
            <a:off x="409680" y="633240"/>
            <a:ext cx="8324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ales versus market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01NF003"/>
          <p:cNvPicPr/>
          <p:nvPr/>
        </p:nvPicPr>
        <p:blipFill>
          <a:blip r:embed="rId1"/>
          <a:stretch/>
        </p:blipFill>
        <p:spPr>
          <a:xfrm>
            <a:off x="747720" y="358920"/>
            <a:ext cx="76485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marketing mix and proposed extensions of 4P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Gummesson, 1994: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01NF004"/>
          <p:cNvPicPr/>
          <p:nvPr/>
        </p:nvPicPr>
        <p:blipFill>
          <a:blip r:embed="rId1"/>
          <a:stretch/>
        </p:blipFill>
        <p:spPr>
          <a:xfrm>
            <a:off x="595440" y="928800"/>
            <a:ext cx="795312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product life-cycle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01NF005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25Z</dcterms:modified>
  <cp:revision>50</cp:revision>
  <dc:subject/>
  <dc:title>Slide 1</dc:title>
</cp:coreProperties>
</file>