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6.</a:t>
            </a:r>
            <a:fld id="{31066F37-AF86-4A24-B8E2-B50B7C2D3C6B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r>
              <a:rPr b="1" lang="en-I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Law and ethica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xample of conditions of sal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06NF001"/>
          <p:cNvPicPr/>
          <p:nvPr/>
        </p:nvPicPr>
        <p:blipFill>
          <a:blip r:embed="rId1"/>
          <a:stretch/>
        </p:blipFill>
        <p:spPr>
          <a:xfrm>
            <a:off x="1828800" y="360360"/>
            <a:ext cx="54864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47Z</dcterms:modified>
  <cp:revision>18</cp:revision>
  <dc:subject/>
  <dc:title>Slide 1</dc:title>
</cp:coreProperties>
</file>