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7.</a:t>
            </a:r>
            <a:fld id="{5093B752-4CD3-4858-8D06-FF2303484DC8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661040"/>
            <a:ext cx="8461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3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technique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Sales responsibilities</a:t>
            </a:r>
            <a:br>
              <a:rPr sz="36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and prep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ey responsibilities of sales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07NF001"/>
          <p:cNvPicPr/>
          <p:nvPr/>
        </p:nvPicPr>
        <p:blipFill>
          <a:blip r:embed="rId1"/>
          <a:stretch/>
        </p:blipFill>
        <p:spPr>
          <a:xfrm>
            <a:off x="592200" y="901800"/>
            <a:ext cx="79614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7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Product features and customer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7NT001"/>
          <p:cNvPicPr/>
          <p:nvPr/>
        </p:nvPicPr>
        <p:blipFill>
          <a:blip r:embed="rId1"/>
          <a:stretch/>
        </p:blipFill>
        <p:spPr>
          <a:xfrm>
            <a:off x="357120" y="2254320"/>
            <a:ext cx="8429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1Z</dcterms:modified>
  <cp:revision>18</cp:revision>
  <dc:subject/>
  <dc:title>Slide 1</dc:title>
</cp:coreProperties>
</file>