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8.</a:t>
            </a:r>
            <a:fld id="{372AF4FD-876E-4652-992F-D282C437E4FD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2807280"/>
            <a:ext cx="846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8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Personal selling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59360"/>
            <a:ext cx="8534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8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Key characteristics of salespeople desired by buyers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Based on Garver, M.S. and Mentzer, J.T. (2000) Salesperson logistics expertise: a proposed contingency framework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Journal of Business Logistics,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 21(2):113–32; and Williams, A.J. and Seminerio, J. (1985) What buyers like from salesmen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Industrial Marketing Management,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 14(2):75–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7" descr="M08NT001"/>
          <p:cNvPicPr/>
          <p:nvPr/>
        </p:nvPicPr>
        <p:blipFill>
          <a:blip r:embed="rId1"/>
          <a:stretch/>
        </p:blipFill>
        <p:spPr>
          <a:xfrm>
            <a:off x="358920" y="2286000"/>
            <a:ext cx="84182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8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personal sell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08NF001"/>
          <p:cNvPicPr/>
          <p:nvPr/>
        </p:nvPicPr>
        <p:blipFill>
          <a:blip r:embed="rId1"/>
          <a:stretch/>
        </p:blipFill>
        <p:spPr>
          <a:xfrm>
            <a:off x="3141720" y="351000"/>
            <a:ext cx="2862360" cy="53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66760" y="585936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8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ypes of question used in personal selling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DeCormier, R. and Jobber, D. (1993) The counsellor selling method: concepts, constructs and effectiveness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Journal of Personal Sales and Management,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13(4):39–6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08NT002"/>
          <p:cNvPicPr/>
          <p:nvPr/>
        </p:nvPicPr>
        <p:blipFill>
          <a:blip r:embed="rId1"/>
          <a:stretch/>
        </p:blipFill>
        <p:spPr>
          <a:xfrm>
            <a:off x="911160" y="360360"/>
            <a:ext cx="73216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85840" y="5864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8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Dealing with obj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08NF002"/>
          <p:cNvPicPr/>
          <p:nvPr/>
        </p:nvPicPr>
        <p:blipFill>
          <a:blip r:embed="rId1"/>
          <a:stretch/>
        </p:blipFill>
        <p:spPr>
          <a:xfrm>
            <a:off x="365040" y="500040"/>
            <a:ext cx="841392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8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level of buyers’ purchase intentions throughout a sales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08NF003"/>
          <p:cNvPicPr/>
          <p:nvPr/>
        </p:nvPicPr>
        <p:blipFill>
          <a:blip r:embed="rId1"/>
          <a:stretch/>
        </p:blipFill>
        <p:spPr>
          <a:xfrm>
            <a:off x="353880" y="1143000"/>
            <a:ext cx="84362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8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Closing the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M08NF004"/>
          <p:cNvPicPr/>
          <p:nvPr/>
        </p:nvPicPr>
        <p:blipFill>
          <a:blip r:embed="rId1"/>
          <a:stretch/>
        </p:blipFill>
        <p:spPr>
          <a:xfrm>
            <a:off x="941400" y="360360"/>
            <a:ext cx="72612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1:54Z</dcterms:modified>
  <cp:revision>32</cp:revision>
  <dc:subject/>
  <dc:title>Slide 1</dc:title>
</cp:coreProperties>
</file>