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9.</a:t>
            </a:r>
            <a:fld id="{C6703A02-CCFD-4042-8FC4-D7CD2B643B23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Key accou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6760" y="586584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9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Key account plann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M09NF004"/>
          <p:cNvPicPr/>
          <p:nvPr/>
        </p:nvPicPr>
        <p:blipFill>
          <a:blip r:embed="rId1"/>
          <a:stretch/>
        </p:blipFill>
        <p:spPr>
          <a:xfrm>
            <a:off x="2978280" y="351000"/>
            <a:ext cx="31892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KAM key success factor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Reprinted from Abratt, R. and Kelly, P.M. (2002) Customer–supplier partnerships: perceptions of a successful key account management program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Industrial Marketing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31:467–76. Copyright © 2002 with permission from Elsevi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09NT006"/>
          <p:cNvPicPr/>
          <p:nvPr/>
        </p:nvPicPr>
        <p:blipFill>
          <a:blip r:embed="rId1"/>
          <a:stretch/>
        </p:blipFill>
        <p:spPr>
          <a:xfrm>
            <a:off x="341280" y="2257560"/>
            <a:ext cx="84614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Distinctions between transactional selling and key accoun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09NT001"/>
          <p:cNvPicPr/>
          <p:nvPr/>
        </p:nvPicPr>
        <p:blipFill>
          <a:blip r:embed="rId1"/>
          <a:stretch/>
        </p:blipFill>
        <p:spPr>
          <a:xfrm>
            <a:off x="365040" y="2548080"/>
            <a:ext cx="84139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asks performed and skills required by key accoun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09NT002"/>
          <p:cNvPicPr/>
          <p:nvPr/>
        </p:nvPicPr>
        <p:blipFill>
          <a:blip r:embed="rId1"/>
          <a:stretch/>
        </p:blipFill>
        <p:spPr>
          <a:xfrm>
            <a:off x="371520" y="1889280"/>
            <a:ext cx="840096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5897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9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raditional (bow-tie) buyer–seller relationship: communication is between salesperson and buyer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Adapted from Shipley, D. and Palmer, R. (1997) Selling to and managing key accounts, in Jobber, D. (1997)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The CIM Handbook of Selling and Sales Strategy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800"/>
            </a:b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Oxford: Butterworth-Heinemann, p. 95. Copyright © 1997, reprinted with permission from Elsevi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09NF001"/>
          <p:cNvPicPr/>
          <p:nvPr/>
        </p:nvPicPr>
        <p:blipFill>
          <a:blip r:embed="rId1"/>
          <a:stretch/>
        </p:blipFill>
        <p:spPr>
          <a:xfrm>
            <a:off x="366840" y="1071720"/>
            <a:ext cx="841032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589720"/>
            <a:ext cx="8534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9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Key account (diamond) based relationship: key account manager </a:t>
            </a:r>
            <a:br>
              <a:rPr sz="1800"/>
            </a:b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co-ordinates communication which is direct between function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Adapted from Shipley, D. and Palmer, R. (1997) Selling to and managing key accounts, in Jobber, D. (1997)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The CIM Handbook of Selling and Sales Strategy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800"/>
            </a:b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Oxford: Butterworth-Heinemann, p. 95. Copyright © 1997, reprinted with permission from Elsevi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09NF002"/>
          <p:cNvPicPr/>
          <p:nvPr/>
        </p:nvPicPr>
        <p:blipFill>
          <a:blip r:embed="rId1"/>
          <a:stretch/>
        </p:blipFill>
        <p:spPr>
          <a:xfrm>
            <a:off x="2368440" y="357120"/>
            <a:ext cx="4407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6584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9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Key account relational developmen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09NF003"/>
          <p:cNvPicPr/>
          <p:nvPr/>
        </p:nvPicPr>
        <p:blipFill>
          <a:blip r:embed="rId1"/>
          <a:stretch/>
        </p:blipFill>
        <p:spPr>
          <a:xfrm>
            <a:off x="352440" y="360360"/>
            <a:ext cx="84391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Roles and competencies required of a global account manager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Based on Millman, T. (1999) From national account management to global account management in business-to-business market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Fachzeitschrift für Marketing THEXIS,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 16(4):2–9; Millman, T. and Wilson, K. (1999) Developing global account management competencie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Proceedings of the 15th Annual IMP Conference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University College Dublin, Septemb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09NT003"/>
          <p:cNvPicPr/>
          <p:nvPr/>
        </p:nvPicPr>
        <p:blipFill>
          <a:blip r:embed="rId1"/>
          <a:stretch/>
        </p:blipFill>
        <p:spPr>
          <a:xfrm>
            <a:off x="341280" y="1746360"/>
            <a:ext cx="8461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Handling relationships with key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09NT004"/>
          <p:cNvPicPr/>
          <p:nvPr/>
        </p:nvPicPr>
        <p:blipFill>
          <a:blip r:embed="rId1"/>
          <a:stretch/>
        </p:blipFill>
        <p:spPr>
          <a:xfrm>
            <a:off x="1027080" y="928800"/>
            <a:ext cx="708984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9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 key account inform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09NT005"/>
          <p:cNvPicPr/>
          <p:nvPr/>
        </p:nvPicPr>
        <p:blipFill>
          <a:blip r:embed="rId1"/>
          <a:stretch/>
        </p:blipFill>
        <p:spPr>
          <a:xfrm>
            <a:off x="898560" y="812880"/>
            <a:ext cx="73454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58Z</dcterms:modified>
  <cp:revision>38</cp:revision>
  <dc:subject/>
  <dc:title>Slide 1</dc:title>
</cp:coreProperties>
</file>