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11.</a:t>
            </a:r>
            <a:fld id="{0DDD0224-EC7B-4F54-BC40-E9F79D3DBBEB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2807280"/>
            <a:ext cx="846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11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Direct 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1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rect marketing mix (Institute of Direct Marke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M11NF001"/>
          <p:cNvPicPr/>
          <p:nvPr/>
        </p:nvPicPr>
        <p:blipFill>
          <a:blip r:embed="rId1"/>
          <a:stretch/>
        </p:blipFill>
        <p:spPr>
          <a:xfrm>
            <a:off x="2352600" y="351000"/>
            <a:ext cx="4438800" cy="52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1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bull’s eye model (Institute of Direct Marke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11NF002"/>
          <p:cNvPicPr/>
          <p:nvPr/>
        </p:nvPicPr>
        <p:blipFill>
          <a:blip r:embed="rId1"/>
          <a:stretch/>
        </p:blipFill>
        <p:spPr>
          <a:xfrm>
            <a:off x="1598760" y="907920"/>
            <a:ext cx="594648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1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Managing a direct marketing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11NF003"/>
          <p:cNvPicPr/>
          <p:nvPr/>
        </p:nvPicPr>
        <p:blipFill>
          <a:blip r:embed="rId1"/>
          <a:stretch/>
        </p:blipFill>
        <p:spPr>
          <a:xfrm>
            <a:off x="939960" y="360360"/>
            <a:ext cx="7264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2:07Z</dcterms:modified>
  <cp:revision>22</cp:revision>
  <dc:subject/>
  <dc:title>Slide 1</dc:title>
</cp:coreProperties>
</file>