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2.</a:t>
            </a:r>
            <a:fld id="{166DF6E7-342F-4058-BE89-905D50CAE1E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264040"/>
            <a:ext cx="8461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2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ternet and IT applications 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 selling and sales 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Four levels of 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2NF001"/>
          <p:cNvPicPr/>
          <p:nvPr/>
        </p:nvPicPr>
        <p:blipFill>
          <a:blip r:embed="rId1"/>
          <a:stretch/>
        </p:blipFill>
        <p:spPr>
          <a:xfrm>
            <a:off x="3370320" y="360360"/>
            <a:ext cx="24033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15Z</dcterms:modified>
  <cp:revision>12</cp:revision>
  <dc:subject/>
  <dc:title>Slide 1</dc:title>
</cp:coreProperties>
</file>