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3.</a:t>
            </a:r>
            <a:fld id="{6103C4B4-FCDB-42A8-BAB1-BBEEA285F39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933200"/>
            <a:ext cx="8461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4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management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3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Recruitment and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3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tages in the recruitment and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3NF001"/>
          <p:cNvPicPr/>
          <p:nvPr/>
        </p:nvPicPr>
        <p:blipFill>
          <a:blip r:embed="rId1"/>
          <a:stretch/>
        </p:blipFill>
        <p:spPr>
          <a:xfrm>
            <a:off x="476280" y="361800"/>
            <a:ext cx="8191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Qualities required of trainee and senior sales executiv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Reprinted from Mathews, B. and Redman, T. (2001) Recruiting the wrong salespeople: are the job ads to blame?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30:541–50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Copyright © 2001,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13NT002"/>
          <p:cNvPicPr/>
          <p:nvPr/>
        </p:nvPicPr>
        <p:blipFill>
          <a:blip r:embed="rId1"/>
          <a:stretch/>
        </p:blipFill>
        <p:spPr>
          <a:xfrm>
            <a:off x="351000" y="1603440"/>
            <a:ext cx="8442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54Z</dcterms:modified>
  <cp:revision>18</cp:revision>
  <dc:subject/>
  <dc:title>Slide 1</dc:title>
</cp:coreProperties>
</file>