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0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15"/>
          <p:cNvSpPr/>
          <p:nvPr/>
        </p:nvSpPr>
        <p:spPr>
          <a:xfrm>
            <a:off x="0" y="0"/>
            <a:ext cx="8064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lide 15.</a:t>
            </a:r>
            <a:fld id="{C4D169E2-869A-4D38-A641-B60A16A26249}" type="slidenum">
              <a:rPr b="0" lang="en-GB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3"/>
          <p:cNvSpPr/>
          <p:nvPr/>
        </p:nvSpPr>
        <p:spPr>
          <a:xfrm>
            <a:off x="237960" y="6568920"/>
            <a:ext cx="86425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bber and Lancaster,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elling and Sales Management PowerPoints on the We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10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ition © Pearson Education Limited 20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2"/>
          <p:cNvSpPr/>
          <p:nvPr/>
        </p:nvSpPr>
        <p:spPr>
          <a:xfrm>
            <a:off x="341280" y="2536200"/>
            <a:ext cx="846144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Chapter 15 </a:t>
            </a:r>
            <a:br>
              <a:rPr sz="4000"/>
            </a:br>
            <a:r>
              <a:rPr b="1" lang="en-IN" sz="3600" spc="-1" strike="noStrike">
                <a:solidFill>
                  <a:srgbClr val="000000"/>
                </a:solidFill>
                <a:latin typeface="Arial"/>
              </a:rPr>
              <a:t>Organisation and</a:t>
            </a:r>
            <a:br>
              <a:rPr sz="3600"/>
            </a:br>
            <a:r>
              <a:rPr b="1" lang="en-IN" sz="3600" spc="-1" strike="noStrike">
                <a:solidFill>
                  <a:srgbClr val="000000"/>
                </a:solidFill>
                <a:latin typeface="Arial"/>
              </a:rPr>
              <a:t>compens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66760" y="5037120"/>
            <a:ext cx="8534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15.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Organisation structures: (a) geographical structure – the area sales manager level is optional: where the number of salespeople (span of control) under each regional manager exceeds eight, serious consideration may be given to appointing area managers; (b) product specialisation structure; (c) industry-based structure; (d) account-size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6" descr="M15NF001"/>
          <p:cNvPicPr/>
          <p:nvPr/>
        </p:nvPicPr>
        <p:blipFill>
          <a:blip r:embed="rId1"/>
          <a:stretch/>
        </p:blipFill>
        <p:spPr>
          <a:xfrm>
            <a:off x="2746440" y="360360"/>
            <a:ext cx="3651120" cy="46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266760" y="586440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ble 15.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Strengths and weaknesses of geographic and product specialisation in organisational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M15NT001"/>
          <p:cNvPicPr/>
          <p:nvPr/>
        </p:nvPicPr>
        <p:blipFill>
          <a:blip r:embed="rId1"/>
          <a:stretch/>
        </p:blipFill>
        <p:spPr>
          <a:xfrm>
            <a:off x="345960" y="993600"/>
            <a:ext cx="8452080" cy="40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266760" y="586440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ble 15.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Strengths and weaknesses of customer-based organisational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M15NT002"/>
          <p:cNvPicPr/>
          <p:nvPr/>
        </p:nvPicPr>
        <p:blipFill>
          <a:blip r:embed="rId1"/>
          <a:stretch/>
        </p:blipFill>
        <p:spPr>
          <a:xfrm>
            <a:off x="361800" y="673200"/>
            <a:ext cx="842040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266760" y="586440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ble 15.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Workload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M15NT003"/>
          <p:cNvPicPr/>
          <p:nvPr/>
        </p:nvPicPr>
        <p:blipFill>
          <a:blip r:embed="rId1"/>
          <a:stretch/>
        </p:blipFill>
        <p:spPr>
          <a:xfrm>
            <a:off x="351000" y="2055960"/>
            <a:ext cx="8442000" cy="20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266760" y="586260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15.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Compensation and sales vol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M15NF002"/>
          <p:cNvPicPr/>
          <p:nvPr/>
        </p:nvPicPr>
        <p:blipFill>
          <a:blip r:embed="rId1"/>
          <a:stretch/>
        </p:blipFill>
        <p:spPr>
          <a:xfrm>
            <a:off x="1050840" y="352440"/>
            <a:ext cx="7042320" cy="53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8T10:41:40Z</dcterms:created>
  <dc:creator>laser</dc:creator>
  <dc:description/>
  <dc:language>en-US</dc:language>
  <cp:lastModifiedBy>lw-dlf</cp:lastModifiedBy>
  <dcterms:modified xsi:type="dcterms:W3CDTF">2015-04-11T07:23:28Z</dcterms:modified>
  <cp:revision>21</cp:revision>
  <dc:subject/>
  <dc:title>Slide 1</dc:title>
</cp:coreProperties>
</file>