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6.</a:t>
            </a:r>
            <a:fld id="{64423D8D-2F64-4B76-9D4A-3C6F5AD6F712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1661040"/>
            <a:ext cx="8461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art 5</a:t>
            </a:r>
            <a:br>
              <a:rPr sz="40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ales control</a:t>
            </a: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6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ales forecasting and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6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monthly sales of briefcases 2013–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16NT005"/>
          <p:cNvPicPr/>
          <p:nvPr/>
        </p:nvPicPr>
        <p:blipFill>
          <a:blip r:embed="rId1"/>
          <a:stretch/>
        </p:blipFill>
        <p:spPr>
          <a:xfrm>
            <a:off x="369720" y="1390680"/>
            <a:ext cx="840456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ffice Goods Supplies Ltd: monthly sales of briefcases, Z chart fo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16NF005"/>
          <p:cNvPicPr/>
          <p:nvPr/>
        </p:nvPicPr>
        <p:blipFill>
          <a:blip r:embed="rId1"/>
          <a:stretch/>
        </p:blipFill>
        <p:spPr>
          <a:xfrm>
            <a:off x="1319040" y="360360"/>
            <a:ext cx="65059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The budgetar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M16NF006"/>
          <p:cNvPicPr/>
          <p:nvPr/>
        </p:nvPicPr>
        <p:blipFill>
          <a:blip r:embed="rId1"/>
          <a:stretch/>
        </p:blipFill>
        <p:spPr>
          <a:xfrm>
            <a:off x="1486080" y="351000"/>
            <a:ext cx="617220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Decision tree for Classical Reproductions Ltd: (a) economy remains buoyant; (b) moderate downturn; (c) 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M16NF007"/>
          <p:cNvPicPr/>
          <p:nvPr/>
        </p:nvPicPr>
        <p:blipFill>
          <a:blip r:embed="rId1"/>
          <a:stretch/>
        </p:blipFill>
        <p:spPr>
          <a:xfrm>
            <a:off x="800280" y="484200"/>
            <a:ext cx="75438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conceptually based model of judgemental forecasting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Hogarth, R. (1975) Cognitive processes and the assessment of subjective probability distribution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the American Statistical Association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70(350):271–8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6NF001"/>
          <p:cNvPicPr/>
          <p:nvPr/>
        </p:nvPicPr>
        <p:blipFill>
          <a:blip r:embed="rId1"/>
          <a:stretch/>
        </p:blipFill>
        <p:spPr>
          <a:xfrm>
            <a:off x="779400" y="352440"/>
            <a:ext cx="75852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6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Annual sales of briefcases, moving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16NT001"/>
          <p:cNvPicPr/>
          <p:nvPr/>
        </p:nvPicPr>
        <p:blipFill>
          <a:blip r:embed="rId1"/>
          <a:stretch/>
        </p:blipFill>
        <p:spPr>
          <a:xfrm>
            <a:off x="358920" y="966960"/>
            <a:ext cx="84261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annual sales of briefcases, moving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16NF002"/>
          <p:cNvPicPr/>
          <p:nvPr/>
        </p:nvPicPr>
        <p:blipFill>
          <a:blip r:embed="rId1"/>
          <a:stretch/>
        </p:blipFill>
        <p:spPr>
          <a:xfrm>
            <a:off x="1809720" y="351000"/>
            <a:ext cx="55245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ffice Goods Supplies Ltd: annual sales of briefcases, exponential smoothing (weighting shown in brack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16NF003"/>
          <p:cNvPicPr/>
          <p:nvPr/>
        </p:nvPicPr>
        <p:blipFill>
          <a:blip r:embed="rId1"/>
          <a:stretch/>
        </p:blipFill>
        <p:spPr>
          <a:xfrm>
            <a:off x="1014480" y="360360"/>
            <a:ext cx="711504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6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quarterly sales of brief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16NT002"/>
          <p:cNvPicPr/>
          <p:nvPr/>
        </p:nvPicPr>
        <p:blipFill>
          <a:blip r:embed="rId1"/>
          <a:stretch/>
        </p:blipFill>
        <p:spPr>
          <a:xfrm>
            <a:off x="669960" y="360360"/>
            <a:ext cx="7804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6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sum of quarterly deviations from t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16NT003"/>
          <p:cNvPicPr/>
          <p:nvPr/>
        </p:nvPicPr>
        <p:blipFill>
          <a:blip r:embed="rId1"/>
          <a:stretch/>
        </p:blipFill>
        <p:spPr>
          <a:xfrm>
            <a:off x="588960" y="1730520"/>
            <a:ext cx="79675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6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forecasted trend figures and deviations from trend that have been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16NT004"/>
          <p:cNvPicPr/>
          <p:nvPr/>
        </p:nvPicPr>
        <p:blipFill>
          <a:blip r:embed="rId1"/>
          <a:stretch/>
        </p:blipFill>
        <p:spPr>
          <a:xfrm>
            <a:off x="696960" y="1733400"/>
            <a:ext cx="77500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ffice Goods Supplies Ltd: quarterly sales of briefcases and one-year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16NF004"/>
          <p:cNvPicPr/>
          <p:nvPr/>
        </p:nvPicPr>
        <p:blipFill>
          <a:blip r:embed="rId1"/>
          <a:stretch/>
        </p:blipFill>
        <p:spPr>
          <a:xfrm>
            <a:off x="1123920" y="351000"/>
            <a:ext cx="689616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3:36Z</dcterms:modified>
  <cp:revision>40</cp:revision>
  <dc:subject/>
  <dc:title>Slide 1</dc:title>
</cp:coreProperties>
</file>