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1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PlaceHolder 3"/>
          <p:cNvSpPr>
            <a:spLocks noGrp="1"/>
          </p:cNvSpPr>
          <p:nvPr>
            <p:ph type="sldNum" idx="41"/>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DA9C2-D88C-4136-8082-A84A780D8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54451-83E2-439F-97E4-4064449B04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B12B8-B764-40A8-8504-FB3AD3B2BA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9D35D-5A7E-4EDC-8992-94C36E02D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36157-7540-4E75-96EE-8F31F3D52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770E3-E596-4667-BF59-AE8D7EE26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CC14F-BA18-49D5-9548-F82507A342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B06C7-CBA0-4066-947D-1F8C38A47B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5E332A-CA33-4DEA-A144-63273495E9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9EA33-E862-4D22-8E9A-B2ED7A16DE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7179D-4C5B-4886-B059-E6430CD11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82423-1D78-490C-9353-0ACA7077B3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6851F-2B87-4D71-ABDE-9973CC0E7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D7448-921D-4DE4-83FC-717CFEC594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2733D-7CEE-4398-9A50-045869BE7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600F7-C4E0-4EBD-A3DD-89C322BB6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92F19-D096-4063-ACD6-F96F7F70A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1F159-4A3C-4681-86E3-435CD47392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FABAC-4D3B-423E-BA00-F919324EFF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62704-2BBA-43E6-B548-802CEE0CD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9481865-717E-4670-8F1F-F1920983A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D38F2E-36CE-4526-BE1A-6660AB9F3B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9041718-D839-452B-A86E-96B073F14E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1A59231-6919-4069-B9E9-4F0CA2EF74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C43CA35-97AE-44A1-8C7F-4D61DA47349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9F58E25-31DB-40C6-8C3D-25AFA6B399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8178AAD-B7AF-4201-9AF3-641316C91F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1E5F9D0-B47A-4AEB-895E-EF20729625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6E0A908B-84C1-42F4-A9E3-38B1DC13A7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A89FBE74-131F-4FEE-8E1E-2A77A3D2D1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7B3F0756-5F5A-4394-8EB0-3107B223FC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BAA63D-6D87-466B-B858-80AD509C5D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6E274D-1306-4555-BE6A-AAEF961620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533E74F-43E7-4574-B24E-79F1BBF07D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252E29-785E-4B80-BB63-F215C6D219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0C33E9B-DD01-45E2-9136-637A04F728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BF1BF03-1444-41E3-9F75-0F594C43FB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925AB74-C80B-454D-A0A1-52076473356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48BD5EC-545C-4025-B53C-18F9A50C3CB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95CBB1-D1D3-492B-8104-F05E242575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612291-2717-43A7-A1D5-CFA5A88B4C5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5A9ED1-8FA8-4360-8D19-F8011D4B3C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937B7F-DA4F-4575-9909-46BE7F09D8D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3C0159E-23EB-4B8F-B3AD-74BD774A4D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BDEAD2A-EDCC-4CE4-ACED-D7E7382002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6BE56F3-9F74-4400-9EED-4F5D9664105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2556D0-AB6D-4AC7-BBD9-EE7E90A2D9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D89E4-6387-459D-8DBF-9E298AD420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A418D-7FF6-4A82-94D8-A2C0B45AE7D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0BE72-E4D2-4784-B6CD-71358CA13E2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69C8C5-6F21-4488-80A6-B02010EBCF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B0FC86-A8CE-4500-99A8-F590AAE4ED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AFF02-7993-4424-9BCE-6F3401C883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7E0773-2E73-44A2-9993-B1F19D2551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C6E33-0A59-4DBD-A231-0EF1E9AB970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45681-F9FC-406C-8B08-71A39BAC92D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930D5-B26C-4052-8363-6864C9A07D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B40A2E-E9F3-473D-BEE3-35C6A4F6C2C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9A8C6-B0FC-470C-BBCB-825A95F5698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BFDC11-6E4F-4BD0-A273-D6608928682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05E4F8A-575B-4E61-A776-3044334B78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75AE1C-A889-4D6D-BABE-0055AB657D0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E475DB-EB25-4820-9ADC-D87FA4354C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020E0D-58CE-48EF-A33D-23B158B50A6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704E619-9EC4-4A76-911B-32BB71ECAD1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FCE7F0-AB09-4F3F-BCBE-3B0634EC805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6BD567-07BD-4337-8C20-270B1323388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8AD187-26FF-4D64-9A0F-799B4C37A5F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B05CF6-6549-458E-95FA-342D6AE1F5B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8D8762-A043-4EAF-9939-3944E3BD626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F9BF5A-1F81-4011-881B-3F48E6FC1C3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9EAE12A-2A6F-4CB5-8A77-FB8677AA4CF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2F96E44-6F5C-4EF1-AC0A-B0EB5437CB4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5D1641-D9C8-4147-A8A0-BF512A23F73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516D91-068E-47FD-84F2-7EA92D988F8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AE98E09C-2F80-4429-A4DB-9C9BC61FB1D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24D6BA91-911C-4DB6-A79C-33AB53D96D1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77B5A2D-C63E-47A8-85CD-83557F8F942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D3F940B1-A8CD-4C30-99BB-941F6DC374E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EB824AEB-130D-4413-9D28-461B8FD9534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3A528CA6-CA79-428C-8B33-95546D334F9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7C13572-980D-42ED-BFBD-23746113862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2828E35B-28F7-46D2-AAD0-8891D1170D0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4DA07A79-1951-4FBE-AF3E-02211BEDE9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87E78-8AEA-45B2-A3CD-4B263C63827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21D2127-6E8F-44E8-B19C-4708607AB09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27EC9C94-F9F5-4491-B9DC-D83C09A68E6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747EF184-AF63-4B3C-BAFF-D4B46CAF360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11A78EB-566A-41E6-8F0B-F67FD59138F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D9027DC-4D14-4680-AAF7-EFAAA677E89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54CFD48-7DDF-4EEA-8DF5-FB13037944E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F249DFC-D2D0-4E9A-B764-A8E664136EA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4C43910-B40F-40C1-A00E-7CF3AB1A99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A61F5EE-76B4-4DE2-9D3C-274D4C4F0A8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71867A9-4308-4616-A551-60E671266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A83215-1CD8-4A7A-9242-C98F41AC0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874E21-7244-41E1-82FC-382283DCDAE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14CC4C8-E1F2-44BB-9036-2B18FF7D980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4C48F80-961E-4FB4-8D7C-19EEB53A8F2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7EFC5BF-9D1B-4C09-8E89-511631D5FB2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9F40FDE-7DAC-4E7E-BD8F-AF951A24F6C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C5AAE76-909B-4951-9F93-634E66393DF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8F5B2D09-668C-48AD-9FAA-490DA8361D0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082F7B78-6F61-4627-9820-87EFC7DDFB4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0B3A7AA-A8AA-43D9-B5D9-4A87F466494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D8C884A1-B3C4-4295-A11E-7562815EB3E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B9A96BA4-4B24-449A-832A-F510CCC055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C1081F-F477-4981-A5E6-1CC6972721D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7546C3EC-28FD-4F01-845C-B58FC283D40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3F43C0C-1C00-404F-9055-E03F765104E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53418A7-7A31-4F5D-8C6B-2A212E368C7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421139E-6255-474E-88CE-ED0BC15A9F5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2F2F21DB-4105-4F81-96EF-915116F68C6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3B210E26-894E-4950-A3B1-36706007C9B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0A201321-C044-46B6-B53B-5098BB4E619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607179-6DE8-441A-93E5-EF3E28E59BA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923FE2C-EC54-4286-A3D1-2B6FDA3F9B0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8799302-5677-4A55-BFC4-EDE43EA745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52F4F9-20C7-41DA-8393-C9D71F63C67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9B3E55B-3DAC-4C11-9EF5-A889A9DE94B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1751147-F7D0-4F5A-B6BE-5827C2A7AFA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49EB5FD-9006-4167-844A-41EAD5502D7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B91D6F-4167-4DF5-98D0-BC36EA4D4B3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7F99A1-ED58-41BF-BCB1-4D7CAF5B780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7B474A-6C58-487F-B9B3-07559B25310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CA815DE-CA68-40A4-B82E-0522E150AAB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0479DEA-352A-451C-AD71-7E27E6C0BFE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A35BD2A-36C4-4908-888C-E58D1712A6D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F91F86-51C7-42C2-8533-68C03DD9F68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8"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0"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C4CB0A-4146-49A8-ADAC-09351E2EF42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7"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2"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FB26600-9E70-4D7D-BCA4-D8048A38DD9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1"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7D5D0AC-8883-4B3C-8E38-82332C514E3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3"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B78D922-CF75-4C61-8BD0-7CE1501B029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DC90186-5A56-49A1-B4E4-352560DDBB2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23B3E19-B257-4C53-9454-3955CDCEF54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82912CF-68C2-46A4-80DF-5DEDA3065A3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9905AB4-4E74-4022-A207-8ABE550BDCB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9CC2E22-42F2-42CA-B47A-9FFD14FC63B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766C085-C0C4-4F63-8AF8-D651A6DC6D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774AF0-624C-4BB9-9215-248AD6ADC45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52BA3E9-2C6C-4422-9960-7146B8D66DC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D529B88-2137-4D98-860B-0922A0451FF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90"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5"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3565193-53DB-4660-90BB-BD75415C5A5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8678B8A1-3456-42B1-A815-E1C04E7212F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8996CEB-6649-4F28-B6BC-E3A04691C4C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A27D7AE-342F-4E84-A4C4-E8BCBECAB22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B8FCFD87-E410-4FC7-92A4-C5FE7D8A053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8A05FA59-8158-4D90-843E-2E531F5D31E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5128897B-DDE1-4D2C-9471-FB508FC4DE8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640F065-02A1-48BB-8562-AD0B561330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1158AD-6822-48DA-9EB1-B9B857E75EC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D5F426F-BA44-44AC-8F03-0DBBBED903D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13ED1A4-0208-4CB3-8CF8-B5B9B8089AF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668184BD-0E81-4B26-87E1-DCD3AEEF966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0907EC3B-D256-40C7-B071-1478B66EBF6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2C8D771A-AE6D-4771-841D-2C8486ABAD9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6BF9E83-0BF4-4E61-8F66-CBBB4EE05FE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CC7C4F6-0ABA-407C-99F6-EF09139E5A6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D45D546-F195-48A0-BE17-169FE996549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8340192-65E6-4FA6-AA9E-C2FEBDBE7F2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2CCB0F7-F5D9-4D51-825B-0291C65F36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823D91-98CF-47B9-8377-0A666A9D594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F5247C1-6D97-4F1B-BD88-AFFE50B359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77396F9-183F-4D43-B33A-95290C4D717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E19C032-6088-43D8-A256-850220ADF55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DD66BD-6E66-4BC3-B55D-754DE9EB7AE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8"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9"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FD0A3D2-9A1E-4579-9176-EB49D624474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4"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EF6B4A6-D263-4FB8-8167-ABF43EDF5EB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6"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1"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0BE30CE-600D-42AB-A1EB-52172FE6B32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CFA494-B9BC-48CF-BA17-93069FA09D5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3FFDDA-D9C5-47D5-A755-4150CA5AB2D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1082A2-7EAB-4ACD-A261-D22EEADC02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C9A9D1-64EC-4D20-8273-A5E82BE1920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4"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C3782B-907C-4BF7-A961-4D101ACF17F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8CF84-945A-4474-9674-D0FECB3F7CF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ED6791-E906-4EE3-8A26-A4387C9A758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B05E4C-FC2B-429F-8CF2-E96853C74E3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5"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B517F0-9A4A-476B-8AFA-9B0B06C3782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9"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5867BA-F889-4F96-A23B-3D0DA5511B5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1"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2"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1D2CF9-4EFB-4C11-A412-FBCF8430E5A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7"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9EC2F4-2181-4DFF-A038-850C81DEFEB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9"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4"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4A9F5F-C13F-4E1A-878D-F8302927FC3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066FBDC-C802-4A35-A32D-958077F705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28BC73-0EBD-47AE-B086-180948870A9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4772EEC-D4F5-42D7-9A33-C1B4BCA374B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3EA8020-7891-40C7-9B71-1CB9AE8F53B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8"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C3A81BB-46A6-4593-A93D-904C6C0A1A8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B615D11-66C8-4665-AAD0-A7E9F081A91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202224-2708-49AB-B177-ED533B295BD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4"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F92CA70-7147-4EE9-96AF-34C12D63D23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8"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2437252-E205-4A86-BB6F-A080511A7F6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2"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D3E78B1-A95B-4EA9-9771-AFC78024693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4"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5"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C116148-B30F-4CF6-9946-8E14E4AD409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7"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0"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F4C0B6F-C4E4-4017-81AE-9C2D7E986F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07EF5D-5887-4CB5-94B7-E27C51E909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D7451E-C99E-41C5-BF8B-F99E5C72C80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2"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7"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957E640-3EEB-4E30-9362-F04AACEF969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45B6A73-880A-4B90-8583-FF8B88A5F7A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64416A3-1C19-4419-9254-B43D350DB64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CC5D945-DD1E-45ED-9029-A111E8B3D30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E515E11-5EED-42D3-A8AE-267C5BA1C62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2D9BDF6-AB00-436B-A31D-1071F772268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37FAC6B-0AAB-4E9F-A2C3-750360E7827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5B86513-2C1E-4929-8A10-B88FDDF4A62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EB11C1A-F9AF-4C62-8A2A-537536A1DCB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98F7E5-BC3A-4C82-8BE9-AEC8F23B32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054A5D-B0B9-4329-BAF2-4E937385262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C63531E-5852-45CB-9BC8-2AACDE04065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F8859EA-F79A-4426-A17F-0B674D7D675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C0956B5-B8C0-46DA-9245-956CAD2004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111D05-107E-470F-98B0-1B11B7EC10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2CB520-8F85-4017-A843-C506974BE1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41ECB0-DDAF-4E7D-8EC5-54AE14BEA3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CAE4D1-61A7-47AA-8FA9-3A784AEF71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E14C9D-C85E-46EE-9341-CB58E85E39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84E283-6D78-4604-BFC2-3C5F192B7AE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BE10FF-BFB4-4846-9866-7D831471B5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86D4CE-601E-4DF5-8187-A30CE3D1D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19E1E4-F714-455F-9506-39996CA2D9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12D886-EDE4-45FE-A988-F61D826B1B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46ECC8-2C0E-46C6-8701-70621E91EC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397972-F9A4-4324-A02C-497F2B92A8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8CDF3F-BF6B-4E10-BCE3-330C8D1EF5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1A18EE-202C-4B63-97A6-5357F91FE2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25193B-4E64-4A87-804C-1B0BDE7794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18772F-3BF3-4478-9E80-AF2027D691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84C49F-7DFB-417D-B96C-9BD1ACFB8F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54B02F-2D05-4C28-8ED1-7F7EA0949BC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B39D4B-E355-45F7-BC3C-CE9F5881C1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C8B805-AE9C-414A-BCC6-444008C669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3582A87-7CE1-40B6-9D59-BC05479271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99D12C2-CCED-4C53-9E96-5A2CAA0DA5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F1837C-E2BC-4564-A29B-1060DBC48B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E8DC6E-E8AE-421F-96F4-9181D45DF4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8D64D3-80C6-4BF7-BD66-E9F7059F65D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BADF3E-57EA-4E38-AC5D-05BC268BEF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3965C1-7D78-4519-9348-B3353119A2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850418-2DCB-4A00-82D2-D08AAD9C8B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408283-E437-490F-8BB5-BFFB9B7FC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6147A5-8CAB-45B5-B440-630290C8D0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3FE76D0-ECA8-4655-A28D-8F92A9DC27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AF21430-BF1A-4AD2-8D35-65075402CD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FD0C3B2-C5C9-4884-B94F-DE168E34530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AD64F-5BA0-4D7C-8DA9-D3A1615404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865EB-BA90-4FB4-95CC-7D8210B648C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5453E-0DE3-47C5-8F6B-1D1E5D04FA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9382F-D4A3-4CEA-A79A-B54B8E97D5F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529EF-DE81-4BB9-9638-C4B79CE98E7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52968-7D1F-4E18-A0C1-63793855C1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6EA41-C8C5-4068-88F1-6AB19F794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555125-FA2F-4B81-8D12-F654D86995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F04E1-5AFD-4B39-90C4-12650C72693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A4663-012A-4582-A0A1-534C716959B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35E21-3D76-42EF-8A2C-676B00259D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73070-C3BD-4632-B25C-CC45C97667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8D378-E5E1-4AED-A379-8BDAD8F873F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B03F55-38C0-45FF-A5FF-D9B33D91C9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4680" y="395280"/>
            <a:ext cx="8404200" cy="415980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136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4680" y="1545840"/>
            <a:ext cx="410112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4680" y="154584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4680" y="3908160"/>
            <a:ext cx="840420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468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1360" y="154584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468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1360" y="3908160"/>
            <a:ext cx="410112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468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616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7640" y="154584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468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616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7640" y="3908160"/>
            <a:ext cx="2705760" cy="215712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AFEF7962-8827-4CB4-8A25-CE12BACB47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4680" y="1545840"/>
            <a:ext cx="8404200" cy="45226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F7B78D2-1E87-4D40-8220-158F7A436D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4680" y="1545840"/>
            <a:ext cx="8404200" cy="4522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86391AA-D0D9-4CB7-B510-443D76D563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9-</a:t>
            </a:r>
            <a:fld id="{9FC33213-66A7-45EB-9668-4DB86CC2920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520" y="6149880"/>
            <a:ext cx="555948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5720" cy="219931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PlaceHolder 3"/>
          <p:cNvSpPr>
            <a:spLocks noGrp="1"/>
          </p:cNvSpPr>
          <p:nvPr>
            <p:ph type="ftr" idx="15"/>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AD583-5636-4EE4-B4CD-E90C65FBD42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3E5F1-2A8B-48D9-B0FE-D70371F18492}"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3"/>
          <p:cNvSpPr>
            <a:spLocks noGrp="1"/>
          </p:cNvSpPr>
          <p:nvPr>
            <p:ph type="ftr" idx="19"/>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48B06-D207-4E84-83B8-14B39A78BAA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sldNum" idx="21"/>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6E2FCF8A-0B21-4675-B021-1C74FA6EBD7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43" name="PlaceHolder 4"/>
          <p:cNvSpPr>
            <a:spLocks noGrp="1"/>
          </p:cNvSpPr>
          <p:nvPr>
            <p:ph type="ftr" idx="22"/>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sldNum" idx="23"/>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DC4B7592-F1ED-4CAD-9298-B6D61300E6D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86" name="PlaceHolder 4"/>
          <p:cNvSpPr>
            <a:spLocks noGrp="1"/>
          </p:cNvSpPr>
          <p:nvPr>
            <p:ph type="ftr" idx="24"/>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sldNum" idx="25"/>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9-</a:t>
            </a:r>
            <a:fld id="{7F8563ED-532F-4AA7-88E2-EC90AD95926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729" name="PlaceHolder 4"/>
          <p:cNvSpPr>
            <a:spLocks noGrp="1"/>
          </p:cNvSpPr>
          <p:nvPr>
            <p:ph type="ftr" idx="26"/>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69"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0"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3"/>
          <p:cNvSpPr>
            <a:spLocks noGrp="1"/>
          </p:cNvSpPr>
          <p:nvPr>
            <p:ph type="ftr" idx="27"/>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772" name="PlaceHolder 4"/>
          <p:cNvSpPr>
            <a:spLocks noGrp="1"/>
          </p:cNvSpPr>
          <p:nvPr>
            <p:ph type="sldNum" idx="28"/>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4243D-45A5-4878-A6C0-7F9FFBCFC1B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160" y="6546960"/>
            <a:ext cx="49813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9-</a:t>
            </a:r>
            <a:fld id="{0A75A81E-99DA-4FDD-819A-CA864C8207D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09" name="" descr=""/>
          <p:cNvPicPr/>
          <p:nvPr/>
        </p:nvPicPr>
        <p:blipFill>
          <a:blip r:embed="rId2"/>
          <a:stretch/>
        </p:blipFill>
        <p:spPr>
          <a:xfrm>
            <a:off x="7783560" y="6496200"/>
            <a:ext cx="1190520" cy="223560"/>
          </a:xfrm>
          <a:prstGeom prst="rect">
            <a:avLst/>
          </a:prstGeom>
          <a:ln w="0">
            <a:noFill/>
          </a:ln>
        </p:spPr>
      </p:pic>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11" name="" descr=""/>
          <p:cNvPicPr/>
          <p:nvPr/>
        </p:nvPicPr>
        <p:blipFill>
          <a:blip r:embed="rId3"/>
          <a:stretch/>
        </p:blipFill>
        <p:spPr>
          <a:xfrm>
            <a:off x="1262160" y="2330280"/>
            <a:ext cx="6610320" cy="1727280"/>
          </a:xfrm>
          <a:prstGeom prst="rect">
            <a:avLst/>
          </a:prstGeom>
          <a:ln w="0">
            <a:noFill/>
          </a:ln>
        </p:spPr>
      </p:pic>
      <p:sp>
        <p:nvSpPr>
          <p:cNvPr id="8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4"/>
          <a:stretch/>
        </p:blipFill>
        <p:spPr>
          <a:xfrm>
            <a:off x="0" y="6356520"/>
            <a:ext cx="1762200" cy="493560"/>
          </a:xfrm>
          <a:prstGeom prst="rect">
            <a:avLst/>
          </a:prstGeom>
          <a:ln w="0">
            <a:noFill/>
          </a:ln>
        </p:spPr>
      </p:pic>
      <p:pic>
        <p:nvPicPr>
          <p:cNvPr id="814" name="" descr=""/>
          <p:cNvPicPr/>
          <p:nvPr/>
        </p:nvPicPr>
        <p:blipFill>
          <a:blip r:embed="rId5"/>
          <a:stretch/>
        </p:blipFill>
        <p:spPr>
          <a:xfrm>
            <a:off x="7612200" y="6356520"/>
            <a:ext cx="1528560" cy="493560"/>
          </a:xfrm>
          <a:prstGeom prst="rect">
            <a:avLst/>
          </a:prstGeom>
          <a:ln w="0">
            <a:noFill/>
          </a:ln>
        </p:spPr>
      </p:pic>
      <p:sp>
        <p:nvSpPr>
          <p:cNvPr id="815"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6"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55" name="" descr=""/>
          <p:cNvPicPr/>
          <p:nvPr/>
        </p:nvPicPr>
        <p:blipFill>
          <a:blip r:embed="rId2"/>
          <a:stretch/>
        </p:blipFill>
        <p:spPr>
          <a:xfrm>
            <a:off x="7612200" y="6356520"/>
            <a:ext cx="1528560" cy="493560"/>
          </a:xfrm>
          <a:prstGeom prst="rect">
            <a:avLst/>
          </a:prstGeom>
          <a:ln w="0">
            <a:noFill/>
          </a:ln>
        </p:spPr>
      </p:pic>
      <p:sp>
        <p:nvSpPr>
          <p:cNvPr id="856"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7"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8" name="PlaceHolder 3"/>
          <p:cNvSpPr>
            <a:spLocks noGrp="1"/>
          </p:cNvSpPr>
          <p:nvPr>
            <p:ph type="sldNum" idx="29"/>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7EB81A5A-FAAB-4B8F-BDAB-27DCB2C60A6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59" name="PlaceHolder 4"/>
          <p:cNvSpPr>
            <a:spLocks noGrp="1"/>
          </p:cNvSpPr>
          <p:nvPr>
            <p:ph type="ftr" idx="30"/>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98" name="" descr=""/>
          <p:cNvPicPr/>
          <p:nvPr/>
        </p:nvPicPr>
        <p:blipFill>
          <a:blip r:embed="rId2"/>
          <a:stretch/>
        </p:blipFill>
        <p:spPr>
          <a:xfrm>
            <a:off x="7612200" y="6356520"/>
            <a:ext cx="1528560" cy="493560"/>
          </a:xfrm>
          <a:prstGeom prst="rect">
            <a:avLst/>
          </a:prstGeom>
          <a:ln w="0">
            <a:noFill/>
          </a:ln>
        </p:spPr>
      </p:pic>
      <p:sp>
        <p:nvSpPr>
          <p:cNvPr id="899"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1" name="PlaceHolder 3"/>
          <p:cNvSpPr>
            <a:spLocks noGrp="1"/>
          </p:cNvSpPr>
          <p:nvPr>
            <p:ph type="sldNum" idx="31"/>
          </p:nvPr>
        </p:nvSpPr>
        <p:spPr>
          <a:xfrm>
            <a:off x="6477120" y="6172200"/>
            <a:ext cx="2130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FEE035F8-76D6-4ECA-B858-A8D057F4435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902" name="PlaceHolder 4"/>
          <p:cNvSpPr>
            <a:spLocks noGrp="1"/>
          </p:cNvSpPr>
          <p:nvPr>
            <p:ph type="ftr" idx="32"/>
          </p:nvPr>
        </p:nvSpPr>
        <p:spPr>
          <a:xfrm>
            <a:off x="380520" y="6172200"/>
            <a:ext cx="5559480" cy="473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3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0" name="" descr=""/>
          <p:cNvPicPr/>
          <p:nvPr/>
        </p:nvPicPr>
        <p:blipFill>
          <a:blip r:embed="rId2"/>
          <a:stretch/>
        </p:blipFill>
        <p:spPr>
          <a:xfrm>
            <a:off x="7612200" y="6356520"/>
            <a:ext cx="1528560" cy="493560"/>
          </a:xfrm>
          <a:prstGeom prst="rect">
            <a:avLst/>
          </a:prstGeom>
          <a:ln w="0">
            <a:noFill/>
          </a:ln>
        </p:spPr>
      </p:pic>
      <p:pic>
        <p:nvPicPr>
          <p:cNvPr id="941" name="" descr=""/>
          <p:cNvPicPr/>
          <p:nvPr/>
        </p:nvPicPr>
        <p:blipFill>
          <a:blip r:embed="rId3"/>
          <a:stretch/>
        </p:blipFill>
        <p:spPr>
          <a:xfrm>
            <a:off x="0" y="6356520"/>
            <a:ext cx="1762200" cy="493560"/>
          </a:xfrm>
          <a:prstGeom prst="rect">
            <a:avLst/>
          </a:prstGeom>
          <a:ln w="0">
            <a:noFill/>
          </a:ln>
        </p:spPr>
      </p:pic>
      <p:sp>
        <p:nvSpPr>
          <p:cNvPr id="94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43"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44" name="PlaceHolder 3"/>
          <p:cNvSpPr>
            <a:spLocks noGrp="1"/>
          </p:cNvSpPr>
          <p:nvPr>
            <p:ph type="ftr" idx="33"/>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45" name="PlaceHolder 4"/>
          <p:cNvSpPr>
            <a:spLocks noGrp="1"/>
          </p:cNvSpPr>
          <p:nvPr>
            <p:ph type="sldNum" idx="34"/>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F083370-6D54-429A-BD84-45DEA9AA2E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8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3" name="" descr=""/>
          <p:cNvPicPr/>
          <p:nvPr/>
        </p:nvPicPr>
        <p:blipFill>
          <a:blip r:embed="rId2"/>
          <a:stretch/>
        </p:blipFill>
        <p:spPr>
          <a:xfrm>
            <a:off x="7612200" y="6356520"/>
            <a:ext cx="1528560" cy="493560"/>
          </a:xfrm>
          <a:prstGeom prst="rect">
            <a:avLst/>
          </a:prstGeom>
          <a:ln w="0">
            <a:noFill/>
          </a:ln>
        </p:spPr>
      </p:pic>
      <p:pic>
        <p:nvPicPr>
          <p:cNvPr id="984" name="" descr=""/>
          <p:cNvPicPr/>
          <p:nvPr/>
        </p:nvPicPr>
        <p:blipFill>
          <a:blip r:embed="rId3"/>
          <a:stretch/>
        </p:blipFill>
        <p:spPr>
          <a:xfrm>
            <a:off x="0" y="6356520"/>
            <a:ext cx="1762200" cy="493560"/>
          </a:xfrm>
          <a:prstGeom prst="rect">
            <a:avLst/>
          </a:prstGeom>
          <a:ln w="0">
            <a:noFill/>
          </a:ln>
        </p:spPr>
      </p:pic>
      <p:sp>
        <p:nvSpPr>
          <p:cNvPr id="985"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86"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87" name="PlaceHolder 3"/>
          <p:cNvSpPr>
            <a:spLocks noGrp="1"/>
          </p:cNvSpPr>
          <p:nvPr>
            <p:ph type="ftr" idx="35"/>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88" name="PlaceHolder 4"/>
          <p:cNvSpPr>
            <a:spLocks noGrp="1"/>
          </p:cNvSpPr>
          <p:nvPr>
            <p:ph type="sldNum" idx="36"/>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17EB3AF8-0041-4338-98FA-87BDF53CC4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02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6" name="" descr=""/>
          <p:cNvPicPr/>
          <p:nvPr/>
        </p:nvPicPr>
        <p:blipFill>
          <a:blip r:embed="rId2"/>
          <a:stretch/>
        </p:blipFill>
        <p:spPr>
          <a:xfrm>
            <a:off x="7612200" y="6356520"/>
            <a:ext cx="1528560" cy="493560"/>
          </a:xfrm>
          <a:prstGeom prst="rect">
            <a:avLst/>
          </a:prstGeom>
          <a:ln w="0">
            <a:noFill/>
          </a:ln>
        </p:spPr>
      </p:pic>
      <p:pic>
        <p:nvPicPr>
          <p:cNvPr id="1027" name="" descr=""/>
          <p:cNvPicPr/>
          <p:nvPr/>
        </p:nvPicPr>
        <p:blipFill>
          <a:blip r:embed="rId3"/>
          <a:stretch/>
        </p:blipFill>
        <p:spPr>
          <a:xfrm>
            <a:off x="0" y="6356520"/>
            <a:ext cx="1762200" cy="493560"/>
          </a:xfrm>
          <a:prstGeom prst="rect">
            <a:avLst/>
          </a:prstGeom>
          <a:ln w="0">
            <a:noFill/>
          </a:ln>
        </p:spPr>
      </p:pic>
      <p:sp>
        <p:nvSpPr>
          <p:cNvPr id="1028"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029"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030" name="PlaceHolder 3"/>
          <p:cNvSpPr>
            <a:spLocks noGrp="1"/>
          </p:cNvSpPr>
          <p:nvPr>
            <p:ph type="ftr" idx="37"/>
          </p:nvPr>
        </p:nvSpPr>
        <p:spPr>
          <a:xfrm>
            <a:off x="380520" y="6171840"/>
            <a:ext cx="5559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031" name="PlaceHolder 4"/>
          <p:cNvSpPr>
            <a:spLocks noGrp="1"/>
          </p:cNvSpPr>
          <p:nvPr>
            <p:ph type="sldNum" idx="38"/>
          </p:nvPr>
        </p:nvSpPr>
        <p:spPr>
          <a:xfrm>
            <a:off x="6477120" y="6171840"/>
            <a:ext cx="21304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DB1CC459-3796-4B12-A906-D42D73903F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2"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3"/>
          <p:cNvSpPr>
            <a:spLocks noGrp="1"/>
          </p:cNvSpPr>
          <p:nvPr>
            <p:ph type="ftr" idx="39"/>
          </p:nvPr>
        </p:nvSpPr>
        <p:spPr>
          <a:xfrm>
            <a:off x="3123720" y="6243480"/>
            <a:ext cx="2892600" cy="4543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4" name="PlaceHolder 4"/>
          <p:cNvSpPr>
            <a:spLocks noGrp="1"/>
          </p:cNvSpPr>
          <p:nvPr>
            <p:ph type="sldNum" idx="40"/>
          </p:nvPr>
        </p:nvSpPr>
        <p:spPr>
          <a:xfrm>
            <a:off x="6553080" y="624348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7BE73-8FF1-402D-A047-661CB15E1F6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29F0C68C-8833-4E9B-852B-186AB8754FEC}"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520" y="6149880"/>
            <a:ext cx="55594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64680" y="395280"/>
            <a:ext cx="8404200" cy="8971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4680" y="1545840"/>
            <a:ext cx="8404200" cy="45226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160" y="6546960"/>
            <a:ext cx="49813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44F54527-6B28-46D9-A159-C75C9B011D8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4680" y="1761840"/>
            <a:ext cx="8404200" cy="45226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64680" y="395280"/>
            <a:ext cx="8404200" cy="11397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5720" cy="219931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PlaceHolder 3"/>
          <p:cNvSpPr>
            <a:spLocks noGrp="1"/>
          </p:cNvSpPr>
          <p:nvPr>
            <p:ph type="ftr" idx="9"/>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A9E49-4599-4453-B66A-E412DF13A9A0}"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160" y="6546600"/>
            <a:ext cx="4981320" cy="176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286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96AD7-59D4-4AF0-8176-8588D2D83CFB}"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78560" cy="305604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1840"/>
            <a:ext cx="5578560" cy="25527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220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1508A2C8-0929-4004-847E-9355B64CA0B6}"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520" y="6149880"/>
            <a:ext cx="55594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1262160" y="2330280"/>
            <a:ext cx="6610320" cy="1727280"/>
          </a:xfrm>
          <a:prstGeom prst="rect">
            <a:avLst/>
          </a:prstGeom>
          <a:ln w="0">
            <a:noFill/>
          </a:ln>
        </p:spPr>
      </p:pic>
      <p:sp>
        <p:nvSpPr>
          <p:cNvPr id="1121"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C8E4570-2320-4DBA-AB75-9E0B97BAB24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533520" y="457200"/>
            <a:ext cx="81532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Monitor Strengths &amp; Weaknesses; Opportunities &amp; Threats (cont’d)</a:t>
            </a:r>
            <a:endParaRPr b="0" lang="en-US" sz="2400" spc="-1" strike="noStrike">
              <a:solidFill>
                <a:srgbClr val="000000"/>
              </a:solidFill>
              <a:latin typeface="Arial"/>
            </a:endParaRPr>
          </a:p>
        </p:txBody>
      </p:sp>
      <p:sp>
        <p:nvSpPr>
          <p:cNvPr id="1159" name=""/>
          <p:cNvSpPr/>
          <p:nvPr/>
        </p:nvSpPr>
        <p:spPr>
          <a:xfrm>
            <a:off x="533520" y="2666880"/>
            <a:ext cx="8229600" cy="304812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opportunities still opportuniti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Other opportunities develop?</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threats still threat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Other threats emerged?</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we vulnerable to hostile takeover?</a:t>
            </a:r>
            <a:endParaRPr b="0" lang="en-US" sz="2000" spc="-1" strike="noStrike">
              <a:solidFill>
                <a:srgbClr val="000000"/>
              </a:solidFill>
              <a:latin typeface="Arial"/>
            </a:endParaRPr>
          </a:p>
          <a:p>
            <a:pPr marL="339840" indent="-339840">
              <a:lnSpc>
                <a:spcPct val="12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6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789C3421-408C-4185-A55A-45DC68310B7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AFA65CFB-44A8-443A-B8EA-FE10926D9EC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63" name="" descr=""/>
          <p:cNvPicPr/>
          <p:nvPr/>
        </p:nvPicPr>
        <p:blipFill>
          <a:blip r:embed="rId1"/>
          <a:stretch/>
        </p:blipFill>
        <p:spPr>
          <a:xfrm>
            <a:off x="1600200" y="304920"/>
            <a:ext cx="5943600" cy="5790960"/>
          </a:xfrm>
          <a:prstGeom prst="rect">
            <a:avLst/>
          </a:prstGeom>
          <a:ln w="0">
            <a:noFill/>
          </a:ln>
        </p:spPr>
      </p:pic>
      <p:sp>
        <p:nvSpPr>
          <p:cNvPr id="116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95134FD-CD5E-44C8-8E42-B70701EE7D9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414360" y="685800"/>
            <a:ext cx="8315280" cy="3735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1" lang="en-US" sz="2000" spc="-1" strike="noStrike">
                <a:solidFill>
                  <a:srgbClr val="000000"/>
                </a:solidFill>
                <a:latin typeface="Verdana"/>
              </a:rPr>
              <a:t>Measuring Organizational Performance</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ompare expected to actual results</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vestigate deviations from plan</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valuate individual performance</a:t>
            </a:r>
            <a:endParaRPr b="0" lang="en-US" sz="2000" spc="-1" strike="noStrike">
              <a:solidFill>
                <a:srgbClr val="000000"/>
              </a:solidFill>
              <a:latin typeface="Arial"/>
            </a:endParaRPr>
          </a:p>
          <a:p>
            <a:pPr>
              <a:lnSpc>
                <a:spcPct val="100000"/>
              </a:lnSpc>
              <a:spcBef>
                <a:spcPts val="1199"/>
              </a:spcBef>
              <a:spcAft>
                <a:spcPts val="1001"/>
              </a:spcAft>
              <a:buClr>
                <a:srgbClr val="000000"/>
              </a:buClr>
              <a:buSzPct val="45000"/>
              <a:buFont typeface="Symbol"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amine progress toward stated objectives </a:t>
            </a:r>
            <a:endParaRPr b="0" lang="en-US" sz="2000" spc="-1" strike="noStrike">
              <a:solidFill>
                <a:srgbClr val="000000"/>
              </a:solidFill>
              <a:latin typeface="Arial"/>
            </a:endParaRPr>
          </a:p>
          <a:p>
            <a:pPr>
              <a:lnSpc>
                <a:spcPct val="100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33520" y="384120"/>
            <a:ext cx="79246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168" name=""/>
          <p:cNvSpPr/>
          <p:nvPr/>
        </p:nvSpPr>
        <p:spPr>
          <a:xfrm>
            <a:off x="533520" y="2514600"/>
            <a:ext cx="8229600" cy="20574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Making changes to competitively reposition a firm for the future</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Keeping organization on track toward achieving stated objectiv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x: structure, individuals, policies, resource allocation, performance to pay.</a:t>
            </a:r>
            <a:endParaRPr b="0" lang="en-US" sz="2000" spc="-1" strike="noStrike">
              <a:solidFill>
                <a:srgbClr val="000000"/>
              </a:solidFill>
              <a:latin typeface="Arial"/>
            </a:endParaRPr>
          </a:p>
        </p:txBody>
      </p:sp>
      <p:sp>
        <p:nvSpPr>
          <p:cNvPr id="1169"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aking Corrective Actions</a:t>
            </a:r>
            <a:endParaRPr b="0" lang="en-US" sz="2400" spc="-1" strike="noStrike">
              <a:solidFill>
                <a:srgbClr val="000000"/>
              </a:solidFill>
              <a:latin typeface="Arial"/>
            </a:endParaRPr>
          </a:p>
        </p:txBody>
      </p:sp>
      <p:sp>
        <p:nvSpPr>
          <p:cNvPr id="117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1736F186-3F94-4242-8AE9-CB5CD6CB992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533520" y="3808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173"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Balanced Scorecard</a:t>
            </a:r>
            <a:endParaRPr b="0" lang="en-US" sz="2400" spc="-1" strike="noStrike">
              <a:solidFill>
                <a:srgbClr val="000000"/>
              </a:solidFill>
              <a:latin typeface="Arial"/>
            </a:endParaRPr>
          </a:p>
        </p:txBody>
      </p:sp>
      <p:sp>
        <p:nvSpPr>
          <p:cNvPr id="117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EE535F1C-33F2-4FAC-8EBE-0380D7C0D83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76" name=""/>
          <p:cNvSpPr/>
          <p:nvPr/>
        </p:nvSpPr>
        <p:spPr>
          <a:xfrm>
            <a:off x="533520" y="2274840"/>
            <a:ext cx="8229600" cy="268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valuate strategies from 4 perspectives:</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inancial performance</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ustomer knowledge</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Internal business processes</a:t>
            </a:r>
            <a:endParaRPr b="0" lang="en-US" sz="2000" spc="-1" strike="noStrike">
              <a:solidFill>
                <a:srgbClr val="000000"/>
              </a:solidFill>
              <a:latin typeface="Arial"/>
            </a:endParaRPr>
          </a:p>
          <a:p>
            <a:pPr lvl="1" marL="352440" indent="-352440">
              <a:lnSpc>
                <a:spcPct val="150000"/>
              </a:lnSpc>
              <a:spcBef>
                <a:spcPts val="601"/>
              </a:spcBef>
              <a:buClr>
                <a:srgbClr val="00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Learning &amp; growth</a:t>
            </a:r>
            <a:endParaRPr b="0" lang="en-US" sz="20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F3DF51AE-3C81-41BF-B895-7543FA3AFC7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78" name="" descr=""/>
          <p:cNvPicPr/>
          <p:nvPr/>
        </p:nvPicPr>
        <p:blipFill>
          <a:blip r:embed="rId1"/>
          <a:stretch/>
        </p:blipFill>
        <p:spPr>
          <a:xfrm>
            <a:off x="838080" y="533520"/>
            <a:ext cx="7467840" cy="5402160"/>
          </a:xfrm>
          <a:prstGeom prst="rect">
            <a:avLst/>
          </a:prstGeom>
          <a:ln w="0">
            <a:noFill/>
          </a:ln>
        </p:spPr>
      </p:pic>
      <p:sp>
        <p:nvSpPr>
          <p:cNvPr id="1179"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75E7C5F-13A4-469C-BB0F-E1D5FCC6698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FBED75B8-72FF-479E-9E00-5E74D590090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82" name="" descr=""/>
          <p:cNvPicPr/>
          <p:nvPr/>
        </p:nvPicPr>
        <p:blipFill>
          <a:blip r:embed="rId1"/>
          <a:stretch/>
        </p:blipFill>
        <p:spPr>
          <a:xfrm>
            <a:off x="868320" y="1219320"/>
            <a:ext cx="7418520" cy="4932360"/>
          </a:xfrm>
          <a:prstGeom prst="rect">
            <a:avLst/>
          </a:prstGeom>
          <a:ln w="0">
            <a:noFill/>
          </a:ln>
        </p:spPr>
      </p:pic>
      <p:pic>
        <p:nvPicPr>
          <p:cNvPr id="1183" name="" descr=""/>
          <p:cNvPicPr/>
          <p:nvPr/>
        </p:nvPicPr>
        <p:blipFill>
          <a:blip r:embed="rId2"/>
          <a:stretch/>
        </p:blipFill>
        <p:spPr>
          <a:xfrm>
            <a:off x="865080" y="304920"/>
            <a:ext cx="7440840" cy="1000080"/>
          </a:xfrm>
          <a:prstGeom prst="rect">
            <a:avLst/>
          </a:prstGeom>
          <a:ln w="0">
            <a:noFill/>
          </a:ln>
        </p:spPr>
      </p:pic>
      <p:sp>
        <p:nvSpPr>
          <p:cNvPr id="118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6E5C730-01B8-4F33-A9E6-5C03CBB296E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Arial"/>
              </a:rPr>
              <a:t>Ch 6 -</a:t>
            </a:r>
            <a:fld id="{EFF2C3E9-785A-4F09-A483-4BFAE8BBE35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1187" name="" descr=""/>
          <p:cNvPicPr/>
          <p:nvPr/>
        </p:nvPicPr>
        <p:blipFill>
          <a:blip r:embed="rId1"/>
          <a:srcRect l="0" t="0" r="0" b="5985"/>
          <a:stretch/>
        </p:blipFill>
        <p:spPr>
          <a:xfrm>
            <a:off x="838080" y="533520"/>
            <a:ext cx="7407360" cy="5341680"/>
          </a:xfrm>
          <a:prstGeom prst="rect">
            <a:avLst/>
          </a:prstGeom>
          <a:ln w="0">
            <a:noFill/>
          </a:ln>
        </p:spPr>
      </p:pic>
      <p:sp>
        <p:nvSpPr>
          <p:cNvPr id="118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B91B4FDC-7B60-4C02-8B6E-5779A436288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533520" y="384120"/>
            <a:ext cx="807696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Characteristics of Strategy Evaluation</a:t>
            </a:r>
            <a:endParaRPr b="0" lang="en-US" sz="2400" spc="-1" strike="noStrike">
              <a:solidFill>
                <a:srgbClr val="000000"/>
              </a:solidFill>
              <a:latin typeface="Arial"/>
            </a:endParaRPr>
          </a:p>
        </p:txBody>
      </p:sp>
      <p:sp>
        <p:nvSpPr>
          <p:cNvPr id="1191" name=""/>
          <p:cNvSpPr/>
          <p:nvPr/>
        </p:nvSpPr>
        <p:spPr>
          <a:xfrm>
            <a:off x="533520" y="2057400"/>
            <a:ext cx="8305560" cy="31240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conomical</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Meaningful</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Generates useful information</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Timely information</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Provides accurate picture of events</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ction-oriented</a:t>
            </a:r>
            <a:endParaRPr b="0" lang="en-US" sz="2000" spc="-1" strike="noStrike">
              <a:solidFill>
                <a:srgbClr val="000000"/>
              </a:solidFill>
              <a:latin typeface="Arial"/>
            </a:endParaRPr>
          </a:p>
          <a:p>
            <a:pPr marL="339840" indent="-339840">
              <a:lnSpc>
                <a:spcPct val="12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92"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351DF22-B346-44E6-81B5-51B05647E2E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457200" y="228600"/>
            <a:ext cx="72388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Evaluation Assessment Matrix</a:t>
            </a:r>
            <a:endParaRPr b="0" lang="en-US" sz="2400" spc="-1" strike="noStrike">
              <a:solidFill>
                <a:srgbClr val="000000"/>
              </a:solidFill>
              <a:latin typeface="Arial"/>
            </a:endParaRPr>
          </a:p>
        </p:txBody>
      </p:sp>
      <p:grpSp>
        <p:nvGrpSpPr>
          <p:cNvPr id="1195" name=""/>
          <p:cNvGrpSpPr/>
          <p:nvPr/>
        </p:nvGrpSpPr>
        <p:grpSpPr>
          <a:xfrm>
            <a:off x="457200" y="838080"/>
            <a:ext cx="8155080" cy="5259600"/>
            <a:chOff x="457200" y="838080"/>
            <a:chExt cx="8155080" cy="5259600"/>
          </a:xfrm>
        </p:grpSpPr>
        <p:sp>
          <p:nvSpPr>
            <p:cNvPr id="1196" name=""/>
            <p:cNvSpPr/>
            <p:nvPr/>
          </p:nvSpPr>
          <p:spPr>
            <a:xfrm>
              <a:off x="6270480" y="570708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ntinue course</a:t>
              </a:r>
              <a:endParaRPr b="0" lang="en-US" sz="1800" spc="-1" strike="noStrike">
                <a:solidFill>
                  <a:srgbClr val="000000"/>
                </a:solidFill>
                <a:latin typeface="Arial"/>
              </a:endParaRPr>
            </a:p>
          </p:txBody>
        </p:sp>
        <p:sp>
          <p:nvSpPr>
            <p:cNvPr id="1197" name=""/>
            <p:cNvSpPr/>
            <p:nvPr/>
          </p:nvSpPr>
          <p:spPr>
            <a:xfrm>
              <a:off x="4002120" y="570708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198" name=""/>
            <p:cNvSpPr/>
            <p:nvPr/>
          </p:nvSpPr>
          <p:spPr>
            <a:xfrm>
              <a:off x="2230560" y="570708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199" name=""/>
            <p:cNvSpPr/>
            <p:nvPr/>
          </p:nvSpPr>
          <p:spPr>
            <a:xfrm>
              <a:off x="457200" y="570708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0" name=""/>
            <p:cNvSpPr/>
            <p:nvPr/>
          </p:nvSpPr>
          <p:spPr>
            <a:xfrm>
              <a:off x="6270480" y="531828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1" name=""/>
            <p:cNvSpPr/>
            <p:nvPr/>
          </p:nvSpPr>
          <p:spPr>
            <a:xfrm>
              <a:off x="4002120" y="531828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2" name=""/>
            <p:cNvSpPr/>
            <p:nvPr/>
          </p:nvSpPr>
          <p:spPr>
            <a:xfrm>
              <a:off x="2230560" y="531828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3" name=""/>
            <p:cNvSpPr/>
            <p:nvPr/>
          </p:nvSpPr>
          <p:spPr>
            <a:xfrm>
              <a:off x="457200" y="531828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4" name=""/>
            <p:cNvSpPr/>
            <p:nvPr/>
          </p:nvSpPr>
          <p:spPr>
            <a:xfrm>
              <a:off x="6270480" y="4888080"/>
              <a:ext cx="234000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5" name=""/>
            <p:cNvSpPr/>
            <p:nvPr/>
          </p:nvSpPr>
          <p:spPr>
            <a:xfrm>
              <a:off x="4002120" y="4888080"/>
              <a:ext cx="22683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6" name=""/>
            <p:cNvSpPr/>
            <p:nvPr/>
          </p:nvSpPr>
          <p:spPr>
            <a:xfrm>
              <a:off x="2230560" y="4888080"/>
              <a:ext cx="17715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07" name=""/>
            <p:cNvSpPr/>
            <p:nvPr/>
          </p:nvSpPr>
          <p:spPr>
            <a:xfrm>
              <a:off x="457200" y="4888080"/>
              <a:ext cx="1773360" cy="4302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08" name=""/>
            <p:cNvSpPr/>
            <p:nvPr/>
          </p:nvSpPr>
          <p:spPr>
            <a:xfrm>
              <a:off x="6270480" y="4465800"/>
              <a:ext cx="234000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09" name=""/>
            <p:cNvSpPr/>
            <p:nvPr/>
          </p:nvSpPr>
          <p:spPr>
            <a:xfrm>
              <a:off x="4002120" y="4465800"/>
              <a:ext cx="22683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0" name=""/>
            <p:cNvSpPr/>
            <p:nvPr/>
          </p:nvSpPr>
          <p:spPr>
            <a:xfrm>
              <a:off x="2230560" y="4465800"/>
              <a:ext cx="17715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1" name=""/>
            <p:cNvSpPr/>
            <p:nvPr/>
          </p:nvSpPr>
          <p:spPr>
            <a:xfrm>
              <a:off x="457200" y="4465800"/>
              <a:ext cx="1773360" cy="42228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2" name=""/>
            <p:cNvSpPr/>
            <p:nvPr/>
          </p:nvSpPr>
          <p:spPr>
            <a:xfrm>
              <a:off x="6270480" y="4076640"/>
              <a:ext cx="234000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13" name=""/>
            <p:cNvSpPr/>
            <p:nvPr/>
          </p:nvSpPr>
          <p:spPr>
            <a:xfrm>
              <a:off x="4002120" y="4076640"/>
              <a:ext cx="22683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4" name=""/>
            <p:cNvSpPr/>
            <p:nvPr/>
          </p:nvSpPr>
          <p:spPr>
            <a:xfrm>
              <a:off x="2230560" y="4076640"/>
              <a:ext cx="17715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5" name=""/>
            <p:cNvSpPr/>
            <p:nvPr/>
          </p:nvSpPr>
          <p:spPr>
            <a:xfrm>
              <a:off x="457200" y="4076640"/>
              <a:ext cx="1773360" cy="38916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6" name=""/>
            <p:cNvSpPr/>
            <p:nvPr/>
          </p:nvSpPr>
          <p:spPr>
            <a:xfrm>
              <a:off x="6270480" y="368784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17" name=""/>
            <p:cNvSpPr/>
            <p:nvPr/>
          </p:nvSpPr>
          <p:spPr>
            <a:xfrm>
              <a:off x="4002120" y="368784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18" name=""/>
            <p:cNvSpPr/>
            <p:nvPr/>
          </p:nvSpPr>
          <p:spPr>
            <a:xfrm>
              <a:off x="2230560" y="368784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19" name=""/>
            <p:cNvSpPr/>
            <p:nvPr/>
          </p:nvSpPr>
          <p:spPr>
            <a:xfrm>
              <a:off x="457200" y="368784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0" name=""/>
            <p:cNvSpPr/>
            <p:nvPr/>
          </p:nvSpPr>
          <p:spPr>
            <a:xfrm>
              <a:off x="6270480" y="3208320"/>
              <a:ext cx="234000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21" name=""/>
            <p:cNvSpPr/>
            <p:nvPr/>
          </p:nvSpPr>
          <p:spPr>
            <a:xfrm>
              <a:off x="4002120" y="3208320"/>
              <a:ext cx="22683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2" name=""/>
            <p:cNvSpPr/>
            <p:nvPr/>
          </p:nvSpPr>
          <p:spPr>
            <a:xfrm>
              <a:off x="2230560" y="3208320"/>
              <a:ext cx="17715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3" name=""/>
            <p:cNvSpPr/>
            <p:nvPr/>
          </p:nvSpPr>
          <p:spPr>
            <a:xfrm>
              <a:off x="457200" y="3208320"/>
              <a:ext cx="1773360" cy="47952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Yes</a:t>
              </a:r>
              <a:endParaRPr b="0" lang="en-US" sz="1800" spc="-1" strike="noStrike">
                <a:solidFill>
                  <a:srgbClr val="000000"/>
                </a:solidFill>
                <a:latin typeface="Arial"/>
              </a:endParaRPr>
            </a:p>
          </p:txBody>
        </p:sp>
        <p:sp>
          <p:nvSpPr>
            <p:cNvPr id="1224" name=""/>
            <p:cNvSpPr/>
            <p:nvPr/>
          </p:nvSpPr>
          <p:spPr>
            <a:xfrm>
              <a:off x="6270480" y="2819520"/>
              <a:ext cx="234000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Corrective actions</a:t>
              </a:r>
              <a:endParaRPr b="0" lang="en-US" sz="1800" spc="-1" strike="noStrike">
                <a:solidFill>
                  <a:srgbClr val="000000"/>
                </a:solidFill>
                <a:latin typeface="Arial"/>
              </a:endParaRPr>
            </a:p>
          </p:txBody>
        </p:sp>
        <p:sp>
          <p:nvSpPr>
            <p:cNvPr id="1225" name=""/>
            <p:cNvSpPr/>
            <p:nvPr/>
          </p:nvSpPr>
          <p:spPr>
            <a:xfrm>
              <a:off x="4002120" y="2819520"/>
              <a:ext cx="2268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6" name=""/>
            <p:cNvSpPr/>
            <p:nvPr/>
          </p:nvSpPr>
          <p:spPr>
            <a:xfrm>
              <a:off x="2230560" y="2819520"/>
              <a:ext cx="17715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7" name=""/>
            <p:cNvSpPr/>
            <p:nvPr/>
          </p:nvSpPr>
          <p:spPr>
            <a:xfrm>
              <a:off x="457200" y="2819520"/>
              <a:ext cx="1773360" cy="388800"/>
            </a:xfrm>
            <a:prstGeom prst="rect">
              <a:avLst/>
            </a:prstGeom>
            <a:solidFill>
              <a:srgbClr val="fbaa19">
                <a:alpha val="50000"/>
              </a:srgbClr>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erdana"/>
                </a:rPr>
                <a:t>No</a:t>
              </a:r>
              <a:endParaRPr b="0" lang="en-US" sz="1800" spc="-1" strike="noStrike">
                <a:solidFill>
                  <a:srgbClr val="000000"/>
                </a:solidFill>
                <a:latin typeface="Arial"/>
              </a:endParaRPr>
            </a:p>
          </p:txBody>
        </p:sp>
        <p:sp>
          <p:nvSpPr>
            <p:cNvPr id="1228" name=""/>
            <p:cNvSpPr/>
            <p:nvPr/>
          </p:nvSpPr>
          <p:spPr>
            <a:xfrm>
              <a:off x="6440400" y="838080"/>
              <a:ext cx="217008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Result</a:t>
              </a:r>
              <a:endParaRPr b="0" lang="en-US" sz="1600" spc="-1" strike="noStrike">
                <a:solidFill>
                  <a:srgbClr val="000000"/>
                </a:solidFill>
                <a:latin typeface="Arial"/>
              </a:endParaRPr>
            </a:p>
          </p:txBody>
        </p:sp>
        <p:sp>
          <p:nvSpPr>
            <p:cNvPr id="1229" name=""/>
            <p:cNvSpPr/>
            <p:nvPr/>
          </p:nvSpPr>
          <p:spPr>
            <a:xfrm>
              <a:off x="4002120" y="838080"/>
              <a:ext cx="243828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s the firm progressed satisfactorily toward achieving its stated objectives?</a:t>
              </a:r>
              <a:endParaRPr b="0" lang="en-US" sz="1600" spc="-1" strike="noStrike">
                <a:solidFill>
                  <a:srgbClr val="000000"/>
                </a:solidFill>
                <a:latin typeface="Arial"/>
              </a:endParaRPr>
            </a:p>
          </p:txBody>
        </p:sp>
        <p:sp>
          <p:nvSpPr>
            <p:cNvPr id="1230" name=""/>
            <p:cNvSpPr/>
            <p:nvPr/>
          </p:nvSpPr>
          <p:spPr>
            <a:xfrm>
              <a:off x="2230560" y="838080"/>
              <a:ext cx="177156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ve major changes occurred in the firm’s external strategic position?</a:t>
              </a:r>
              <a:endParaRPr b="0" lang="en-US" sz="1600" spc="-1" strike="noStrike">
                <a:solidFill>
                  <a:srgbClr val="000000"/>
                </a:solidFill>
                <a:latin typeface="Arial"/>
              </a:endParaRPr>
            </a:p>
          </p:txBody>
        </p:sp>
        <p:sp>
          <p:nvSpPr>
            <p:cNvPr id="1231" name=""/>
            <p:cNvSpPr/>
            <p:nvPr/>
          </p:nvSpPr>
          <p:spPr>
            <a:xfrm>
              <a:off x="457200" y="838080"/>
              <a:ext cx="1773360" cy="1981440"/>
            </a:xfrm>
            <a:prstGeom prst="rect">
              <a:avLst/>
            </a:prstGeom>
            <a:solidFill>
              <a:srgbClr val="f39b1c"/>
            </a:solidFill>
            <a:ln w="0">
              <a:noFill/>
            </a:ln>
          </p:spPr>
          <p:style>
            <a:lnRef idx="0"/>
            <a:fillRef idx="0"/>
            <a:effectRef idx="0"/>
            <a:fontRef idx="minor"/>
          </p:style>
          <p:txBody>
            <a:bodyPr lIns="92160" rIns="92160" tIns="46080" bIns="46080" anchor="b">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Have major changes occurred in the firm’s internal strategic position?</a:t>
              </a:r>
              <a:endParaRPr b="0" lang="en-US" sz="1600" spc="-1" strike="noStrike">
                <a:solidFill>
                  <a:srgbClr val="000000"/>
                </a:solidFill>
                <a:latin typeface="Arial"/>
              </a:endParaRPr>
            </a:p>
          </p:txBody>
        </p:sp>
        <p:sp>
          <p:nvSpPr>
            <p:cNvPr id="1232" name=""/>
            <p:cNvSpPr/>
            <p:nvPr/>
          </p:nvSpPr>
          <p:spPr>
            <a:xfrm>
              <a:off x="458640" y="838080"/>
              <a:ext cx="815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3" name=""/>
            <p:cNvSpPr/>
            <p:nvPr/>
          </p:nvSpPr>
          <p:spPr>
            <a:xfrm>
              <a:off x="458640" y="6095880"/>
              <a:ext cx="177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4" name=""/>
            <p:cNvSpPr/>
            <p:nvPr/>
          </p:nvSpPr>
          <p:spPr>
            <a:xfrm>
              <a:off x="457200" y="282096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610480" y="282096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57200" y="839880"/>
              <a:ext cx="1440" cy="19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610480" y="839880"/>
              <a:ext cx="1800" cy="19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57200" y="570852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610480" y="570852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57200" y="3209760"/>
              <a:ext cx="144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610480" y="3209760"/>
              <a:ext cx="180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57200" y="368928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610480" y="368928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57200" y="407844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610480" y="407844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57200" y="4467240"/>
              <a:ext cx="14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610480" y="4467240"/>
              <a:ext cx="180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57200" y="4889520"/>
              <a:ext cx="14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610480" y="4889520"/>
              <a:ext cx="18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57200" y="5319720"/>
              <a:ext cx="14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610480" y="5319720"/>
              <a:ext cx="18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2230560" y="6095880"/>
              <a:ext cx="1771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4003560" y="6095880"/>
              <a:ext cx="226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4" name=""/>
            <p:cNvSpPr/>
            <p:nvPr/>
          </p:nvSpPr>
          <p:spPr>
            <a:xfrm>
              <a:off x="6272280" y="6095880"/>
              <a:ext cx="23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55"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88C7E772-EF19-4040-9FF3-D63EA78D952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Arial"/>
            </a:endParaRPr>
          </a:p>
        </p:txBody>
      </p:sp>
      <p:sp>
        <p:nvSpPr>
          <p:cNvPr id="1125"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Chapter 11: </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Strategy Review, </a:t>
            </a:r>
            <a:endParaRPr b="0" lang="en-US" sz="2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ed6b06"/>
                </a:solidFill>
                <a:latin typeface="Verdana"/>
              </a:rPr>
              <a:t>Evaluation and Control</a:t>
            </a:r>
            <a:endParaRPr b="0" lang="en-US" sz="2400" spc="-1" strike="noStrike">
              <a:solidFill>
                <a:srgbClr val="000000"/>
              </a:solidFill>
              <a:latin typeface="Arial"/>
            </a:endParaRPr>
          </a:p>
        </p:txBody>
      </p:sp>
      <p:pic>
        <p:nvPicPr>
          <p:cNvPr id="1126" name="" descr=""/>
          <p:cNvPicPr/>
          <p:nvPr/>
        </p:nvPicPr>
        <p:blipFill>
          <a:blip r:embed="rId1"/>
          <a:stretch/>
        </p:blipFill>
        <p:spPr>
          <a:xfrm>
            <a:off x="5410080" y="1523880"/>
            <a:ext cx="2874960" cy="4138560"/>
          </a:xfrm>
          <a:prstGeom prst="rect">
            <a:avLst/>
          </a:prstGeom>
          <a:ln w="0">
            <a:noFill/>
          </a:ln>
        </p:spPr>
      </p:pic>
      <p:sp>
        <p:nvSpPr>
          <p:cNvPr id="1127"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9399D9A9-3DB0-4DA5-8360-179DEF08F8B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533520" y="384120"/>
            <a:ext cx="769608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25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806B5A3-69EA-40ED-AB5D-7445A2A34BA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260" name=""/>
          <p:cNvSpPr/>
          <p:nvPr/>
        </p:nvSpPr>
        <p:spPr>
          <a:xfrm>
            <a:off x="457200" y="2514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Contingency Plann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lternative plans that can be put into effect if certain key events do not occur as expected</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
          <p:cNvSpPr/>
          <p:nvPr/>
        </p:nvSpPr>
        <p:spPr>
          <a:xfrm>
            <a:off x="457200" y="277920"/>
            <a:ext cx="77724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p:txBody>
      </p:sp>
      <p:sp>
        <p:nvSpPr>
          <p:cNvPr id="1262" name=""/>
          <p:cNvSpPr/>
          <p:nvPr/>
        </p:nvSpPr>
        <p:spPr>
          <a:xfrm>
            <a:off x="457200" y="2362320"/>
            <a:ext cx="8305920" cy="28954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00000"/>
              </a:lnSpc>
              <a:spcBef>
                <a:spcPts val="499"/>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Financial audits determine correspondence between assertions based on strategic plan &amp; established criteria</a:t>
            </a:r>
            <a:endParaRPr b="0" lang="en-US" sz="2000" spc="-1" strike="noStrike">
              <a:solidFill>
                <a:srgbClr val="000000"/>
              </a:solidFill>
              <a:latin typeface="Arial"/>
            </a:endParaRPr>
          </a:p>
          <a:p>
            <a:pPr marL="339840" indent="-339840">
              <a:lnSpc>
                <a:spcPct val="100000"/>
              </a:lnSpc>
              <a:spcBef>
                <a:spcPts val="499"/>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Environmental audits ensure sound and safe practices</a:t>
            </a:r>
            <a:endParaRPr b="0" lang="en-US" sz="2000" spc="-1" strike="noStrike">
              <a:solidFill>
                <a:srgbClr val="000000"/>
              </a:solidFill>
              <a:latin typeface="Arial"/>
            </a:endParaRPr>
          </a:p>
        </p:txBody>
      </p:sp>
      <p:sp>
        <p:nvSpPr>
          <p:cNvPr id="1263" name=""/>
          <p:cNvSpPr/>
          <p:nvPr/>
        </p:nvSpPr>
        <p:spPr>
          <a:xfrm>
            <a:off x="457200" y="196200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uditing:</a:t>
            </a:r>
            <a:endParaRPr b="0" lang="en-US" sz="2000" spc="-1" strike="noStrike">
              <a:solidFill>
                <a:srgbClr val="000000"/>
              </a:solidFill>
              <a:latin typeface="Arial"/>
            </a:endParaRPr>
          </a:p>
        </p:txBody>
      </p:sp>
      <p:sp>
        <p:nvSpPr>
          <p:cNvPr id="126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2A82E68C-C37D-472F-959C-D06006CD8E7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380880" y="277920"/>
            <a:ext cx="8153640" cy="1463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21st Century Challenges in Strategic Management</a:t>
            </a:r>
            <a:br>
              <a:rPr sz="2400"/>
            </a:br>
            <a:endParaRPr b="0" lang="en-US" sz="2400" spc="-1" strike="noStrike">
              <a:solidFill>
                <a:srgbClr val="000000"/>
              </a:solidFill>
              <a:latin typeface="Arial"/>
            </a:endParaRPr>
          </a:p>
        </p:txBody>
      </p:sp>
      <p:sp>
        <p:nvSpPr>
          <p:cNvPr id="1267" name=""/>
          <p:cNvSpPr/>
          <p:nvPr/>
        </p:nvSpPr>
        <p:spPr>
          <a:xfrm>
            <a:off x="380880" y="2514600"/>
            <a:ext cx="8305920" cy="289548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Process is more an “art” than “science”</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Should strategies be visible or hidden from stakeholders?</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Should process be more top-down or bottom-up?</a:t>
            </a:r>
            <a:endParaRPr b="0" lang="en-US" sz="2000" spc="-1" strike="noStrike">
              <a:solidFill>
                <a:srgbClr val="000000"/>
              </a:solidFill>
              <a:latin typeface="Arial"/>
            </a:endParaRPr>
          </a:p>
        </p:txBody>
      </p:sp>
      <p:sp>
        <p:nvSpPr>
          <p:cNvPr id="126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0EC03B59-8B62-4DB1-B9E0-33B4C18388D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271"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959DCCDD-37E1-4CD9-97FC-419B4F67F94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7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 descr=""/>
          <p:cNvPicPr/>
          <p:nvPr/>
        </p:nvPicPr>
        <p:blipFill>
          <a:blip r:embed="rId1"/>
          <a:srcRect l="0" t="0" r="0" b="5972"/>
          <a:stretch/>
        </p:blipFill>
        <p:spPr>
          <a:xfrm>
            <a:off x="388800" y="457200"/>
            <a:ext cx="8310600" cy="5302080"/>
          </a:xfrm>
          <a:prstGeom prst="rect">
            <a:avLst/>
          </a:prstGeom>
          <a:ln w="0">
            <a:noFill/>
          </a:ln>
        </p:spPr>
      </p:pic>
      <p:sp>
        <p:nvSpPr>
          <p:cNvPr id="11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DC95301-B7A6-4309-8EFE-91EC4C99733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33" name=""/>
          <p:cNvSpPr/>
          <p:nvPr/>
        </p:nvSpPr>
        <p:spPr>
          <a:xfrm>
            <a:off x="782640" y="5867280"/>
            <a:ext cx="738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rPr>
              <a:t>no. 3 (June 1988) 40.</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609480" y="2666880"/>
            <a:ext cx="792504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Examine the underlying bases of a firm’s strategy.</a:t>
            </a:r>
            <a:endParaRPr b="0" lang="en-US" sz="2000" spc="-1" strike="noStrike">
              <a:solidFill>
                <a:srgbClr val="000000"/>
              </a:solidFill>
              <a:latin typeface="Arial"/>
            </a:endParaRPr>
          </a:p>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Compare expected to actual results.</a:t>
            </a:r>
            <a:endParaRPr b="0" lang="en-US" sz="2000" spc="-1" strike="noStrike">
              <a:solidFill>
                <a:srgbClr val="000000"/>
              </a:solidFill>
              <a:latin typeface="Arial"/>
            </a:endParaRPr>
          </a:p>
          <a:p>
            <a:pPr marL="492120" indent="-492120">
              <a:lnSpc>
                <a:spcPct val="150000"/>
              </a:lnSpc>
              <a:spcBef>
                <a:spcPts val="601"/>
              </a:spcBef>
              <a:buClr>
                <a:srgbClr val="000000"/>
              </a:buClr>
              <a:buFont typeface="Verdana"/>
              <a:buAutoNum type="arabicPeriod"/>
              <a:tabLst>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36120"/>
                <a:tab algn="l" pos="10058400"/>
                <a:tab algn="l" pos="10515600"/>
              </a:tabLst>
            </a:pPr>
            <a:r>
              <a:rPr b="0" lang="en-US" sz="2000" spc="-1" strike="noStrike">
                <a:solidFill>
                  <a:srgbClr val="000000"/>
                </a:solidFill>
                <a:latin typeface="Verdana"/>
              </a:rPr>
              <a:t>Identify corrective actions to ensure that performance conforms to plans.</a:t>
            </a:r>
            <a:endParaRPr b="0" lang="en-US" sz="2000" spc="-1" strike="noStrike">
              <a:solidFill>
                <a:srgbClr val="000000"/>
              </a:solidFill>
              <a:latin typeface="Arial"/>
            </a:endParaRPr>
          </a:p>
        </p:txBody>
      </p:sp>
      <p:sp>
        <p:nvSpPr>
          <p:cNvPr id="1135" name=""/>
          <p:cNvSpPr/>
          <p:nvPr/>
        </p:nvSpPr>
        <p:spPr>
          <a:xfrm>
            <a:off x="533520" y="457200"/>
            <a:ext cx="784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hree Basic Activities</a:t>
            </a:r>
            <a:endParaRPr b="0" lang="en-US" sz="2400" spc="-1" strike="noStrike">
              <a:solidFill>
                <a:srgbClr val="000000"/>
              </a:solidFill>
              <a:latin typeface="Arial"/>
            </a:endParaRPr>
          </a:p>
        </p:txBody>
      </p:sp>
      <p:sp>
        <p:nvSpPr>
          <p:cNvPr id="11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B3731F57-2529-45C1-9709-0C179FD4BB9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134">
                                            <p:txEl>
                                              <p:pRg st="0" end="0"/>
                                            </p:txEl>
                                          </p:spTgt>
                                        </p:tgtEl>
                                        <p:attrNameLst>
                                          <p:attrName>style.visibility</p:attrName>
                                        </p:attrNameLst>
                                      </p:cBhvr>
                                      <p:to>
                                        <p:strVal val="visible"/>
                                      </p:to>
                                    </p:set>
                                    <p:animEffect filter="dissolve" transition="in">
                                      <p:cBhvr additive="repl">
                                        <p:cTn id="7" dur="500" fill="hold"/>
                                        <p:tgtEl>
                                          <p:spTgt spid="1134">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134">
                                            <p:txEl>
                                              <p:pRg st="1" end="1"/>
                                            </p:txEl>
                                          </p:spTgt>
                                        </p:tgtEl>
                                        <p:attrNameLst>
                                          <p:attrName>style.visibility</p:attrName>
                                        </p:attrNameLst>
                                      </p:cBhvr>
                                      <p:to>
                                        <p:strVal val="visible"/>
                                      </p:to>
                                    </p:set>
                                    <p:animEffect filter="dissolve" transition="in">
                                      <p:cBhvr additive="repl">
                                        <p:cTn id="11" dur="500" fill="hold"/>
                                        <p:tgtEl>
                                          <p:spTgt spid="1134">
                                            <p:txEl>
                                              <p:pRg st="1" end="1"/>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134">
                                            <p:txEl>
                                              <p:pRg st="2" end="2"/>
                                            </p:txEl>
                                          </p:spTgt>
                                        </p:tgtEl>
                                        <p:attrNameLst>
                                          <p:attrName>style.visibility</p:attrName>
                                        </p:attrNameLst>
                                      </p:cBhvr>
                                      <p:to>
                                        <p:strVal val="visible"/>
                                      </p:to>
                                    </p:set>
                                    <p:animEffect filter="dissolve" transition="in">
                                      <p:cBhvr additive="repl">
                                        <p:cTn id="15" dur="500" fill="hold"/>
                                        <p:tgtEl>
                                          <p:spTgt spid="1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533520" y="46044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Obstacles of Strategy Evaluation in Arab World </a:t>
            </a:r>
            <a:endParaRPr b="0" lang="en-US" sz="2400" spc="-1" strike="noStrike">
              <a:solidFill>
                <a:srgbClr val="000000"/>
              </a:solidFill>
              <a:latin typeface="Arial"/>
            </a:endParaRPr>
          </a:p>
        </p:txBody>
      </p:sp>
      <p:sp>
        <p:nvSpPr>
          <p:cNvPr id="1139" name=""/>
          <p:cNvSpPr/>
          <p:nvPr/>
        </p:nvSpPr>
        <p:spPr>
          <a:xfrm>
            <a:off x="533520" y="2057400"/>
            <a:ext cx="8229600" cy="358128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Over-optimistic and overconfidence of CEO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Team responsibiliti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familiarit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integrating IT system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Absence of objective data</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Absence of effective trend monitoring system</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Lack of effective alert system</a:t>
            </a:r>
            <a:endParaRPr b="0" lang="en-US" sz="2000" spc="-1" strike="noStrike">
              <a:solidFill>
                <a:srgbClr val="000000"/>
              </a:solidFill>
              <a:latin typeface="Arial"/>
            </a:endParaRPr>
          </a:p>
          <a:p>
            <a:pPr marL="568440" indent="-568440">
              <a:lnSpc>
                <a:spcPct val="120000"/>
              </a:lnSpc>
              <a:tabLst>
                <a:tab algn="l" pos="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endParaRPr b="0" lang="en-US" sz="2400" spc="-1" strike="noStrike">
              <a:solidFill>
                <a:srgbClr val="000000"/>
              </a:solidFill>
              <a:latin typeface="Arial"/>
            </a:endParaRPr>
          </a:p>
          <a:p>
            <a:pPr marL="568440" indent="-568440">
              <a:lnSpc>
                <a:spcPct val="120000"/>
              </a:lnSpc>
              <a:tabLst>
                <a:tab algn="l" pos="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endParaRPr b="0" lang="en-US" sz="2400" spc="-1" strike="noStrike">
              <a:solidFill>
                <a:srgbClr val="000000"/>
              </a:solidFill>
              <a:latin typeface="Arial"/>
            </a:endParaRPr>
          </a:p>
        </p:txBody>
      </p:sp>
      <p:sp>
        <p:nvSpPr>
          <p:cNvPr id="1140"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60F829D0-D5E2-4E2C-9751-44EE2C55F13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533520" y="45720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 Strategy-Evaluation Framework</a:t>
            </a:r>
            <a:br>
              <a:rPr sz="2400"/>
            </a:br>
            <a:r>
              <a:rPr b="1" lang="en-US" sz="2400" spc="-1" strike="noStrike">
                <a:solidFill>
                  <a:srgbClr val="000000"/>
                </a:solidFill>
                <a:latin typeface="Verdana"/>
              </a:rPr>
              <a:t>Review of Underlying Bases of Strategy</a:t>
            </a: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1143" name=""/>
          <p:cNvSpPr/>
          <p:nvPr/>
        </p:nvSpPr>
        <p:spPr>
          <a:xfrm>
            <a:off x="457200" y="2590920"/>
            <a:ext cx="8229600" cy="20574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Develop revised EFE Matrix</a:t>
            </a:r>
            <a:endParaRPr b="0" lang="en-US" sz="2000" spc="-1" strike="noStrike">
              <a:solidFill>
                <a:srgbClr val="000000"/>
              </a:solidFill>
              <a:latin typeface="Arial"/>
            </a:endParaRPr>
          </a:p>
          <a:p>
            <a:pPr marL="339840" indent="-339840">
              <a:lnSpc>
                <a:spcPct val="150000"/>
              </a:lnSpc>
              <a:spcBef>
                <a:spcPts val="601"/>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Develop revised IFE Matrix</a:t>
            </a:r>
            <a:endParaRPr b="0" lang="en-US" sz="2000" spc="-1" strike="noStrike">
              <a:solidFill>
                <a:srgbClr val="000000"/>
              </a:solidFill>
              <a:latin typeface="Arial"/>
            </a:endParaRPr>
          </a:p>
        </p:txBody>
      </p:sp>
      <p:sp>
        <p:nvSpPr>
          <p:cNvPr id="1144"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C553C174-B879-4443-A7E1-9BA96C03144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533520" y="460440"/>
            <a:ext cx="800100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Review Effectiveness of Strategy</a:t>
            </a:r>
            <a:endParaRPr b="0" lang="en-US" sz="2400" spc="-1" strike="noStrike">
              <a:solidFill>
                <a:srgbClr val="000000"/>
              </a:solidFill>
              <a:latin typeface="Arial"/>
            </a:endParaRPr>
          </a:p>
        </p:txBody>
      </p:sp>
      <p:sp>
        <p:nvSpPr>
          <p:cNvPr id="1147" name=""/>
          <p:cNvSpPr/>
          <p:nvPr/>
        </p:nvSpPr>
        <p:spPr>
          <a:xfrm>
            <a:off x="533520" y="2438280"/>
            <a:ext cx="8229600" cy="274320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reaction to strateg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change in strateg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changes in strengths &amp; weakness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Reasons for competitors’ strategic change</a:t>
            </a:r>
            <a:endParaRPr b="0" lang="en-US" sz="2000" spc="-1" strike="noStrike">
              <a:solidFill>
                <a:srgbClr val="000000"/>
              </a:solidFill>
              <a:latin typeface="Arial"/>
            </a:endParaRPr>
          </a:p>
        </p:txBody>
      </p:sp>
      <p:sp>
        <p:nvSpPr>
          <p:cNvPr id="1148"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930AD38D-97CC-4E34-B63E-2FD2ABC3E1B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533520" y="460440"/>
            <a:ext cx="8076960" cy="1139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Review Effectiveness of Strategy (cont’d)</a:t>
            </a:r>
            <a:endParaRPr b="0" lang="en-US" sz="2400" spc="-1" strike="noStrike">
              <a:solidFill>
                <a:srgbClr val="000000"/>
              </a:solidFill>
              <a:latin typeface="Arial"/>
            </a:endParaRPr>
          </a:p>
        </p:txBody>
      </p:sp>
      <p:sp>
        <p:nvSpPr>
          <p:cNvPr id="1151" name=""/>
          <p:cNvSpPr/>
          <p:nvPr/>
        </p:nvSpPr>
        <p:spPr>
          <a:xfrm>
            <a:off x="533520" y="2590920"/>
            <a:ext cx="8229600" cy="3200400"/>
          </a:xfrm>
          <a:prstGeom prst="rect">
            <a:avLst/>
          </a:prstGeom>
          <a:solidFill>
            <a:srgbClr val="ffffff"/>
          </a:solidFill>
          <a:ln w="0">
            <a:noFill/>
          </a:ln>
        </p:spPr>
        <p:style>
          <a:lnRef idx="0"/>
          <a:fillRef idx="0"/>
          <a:effectRef idx="0"/>
          <a:fontRef idx="minor"/>
        </p:style>
        <p:txBody>
          <a:bodyPr lIns="0" rIns="0" tIns="0" bIns="0" anchor="t">
            <a:noAutofit/>
          </a:bodyPr>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Reasons for competitors’ successful strategies</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Competitors’ present market positions &amp; profitability</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Potential for competitor retaliation</a:t>
            </a:r>
            <a:endParaRPr b="0" lang="en-US" sz="2000" spc="-1" strike="noStrike">
              <a:solidFill>
                <a:srgbClr val="000000"/>
              </a:solidFill>
              <a:latin typeface="Arial"/>
            </a:endParaRPr>
          </a:p>
          <a:p>
            <a:pPr marL="568440" indent="-568440">
              <a:lnSpc>
                <a:spcPct val="120000"/>
              </a:lnSpc>
              <a:spcBef>
                <a:spcPts val="1250"/>
              </a:spcBef>
              <a:buClr>
                <a:srgbClr val="000000"/>
              </a:buClr>
              <a:buFont typeface="Verdana"/>
              <a:buAutoNum type="arabicPeriod"/>
              <a:tabLst>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712440"/>
                <a:tab algn="l" pos="10058400"/>
                <a:tab algn="l" pos="10515600"/>
              </a:tabLst>
            </a:pPr>
            <a:r>
              <a:rPr b="0" lang="en-US" sz="2000" spc="-1" strike="noStrike">
                <a:solidFill>
                  <a:srgbClr val="000000"/>
                </a:solidFill>
                <a:latin typeface="Verdana"/>
              </a:rPr>
              <a:t>Potential for cooperation with competitors</a:t>
            </a:r>
            <a:endParaRPr b="0" lang="en-US" sz="2000" spc="-1" strike="noStrike">
              <a:solidFill>
                <a:srgbClr val="000000"/>
              </a:solidFill>
              <a:latin typeface="Arial"/>
            </a:endParaRPr>
          </a:p>
        </p:txBody>
      </p:sp>
      <p:sp>
        <p:nvSpPr>
          <p:cNvPr id="1152"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8A190518-7416-4E6B-956E-323D3153490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533520" y="460440"/>
            <a:ext cx="8229600" cy="146376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Review, Evaluation, and Control</a:t>
            </a:r>
            <a:br>
              <a:rPr sz="2400"/>
            </a:br>
            <a:r>
              <a:rPr b="1" lang="en-US" sz="2400" spc="-1" strike="noStrike">
                <a:solidFill>
                  <a:srgbClr val="000000"/>
                </a:solidFill>
                <a:latin typeface="Verdana"/>
              </a:rPr>
              <a:t>Monitor Strengths &amp; Weaknesses; Opportunities &amp; Threats</a:t>
            </a:r>
            <a:br>
              <a:rPr sz="2400"/>
            </a:br>
            <a:endParaRPr b="0" lang="en-US" sz="2400" spc="-1" strike="noStrike">
              <a:solidFill>
                <a:srgbClr val="000000"/>
              </a:solidFill>
              <a:latin typeface="Arial"/>
            </a:endParaRPr>
          </a:p>
        </p:txBody>
      </p:sp>
      <p:sp>
        <p:nvSpPr>
          <p:cNvPr id="1155" name=""/>
          <p:cNvSpPr/>
          <p:nvPr/>
        </p:nvSpPr>
        <p:spPr>
          <a:xfrm>
            <a:off x="533520" y="2743200"/>
            <a:ext cx="8229600" cy="2514600"/>
          </a:xfrm>
          <a:prstGeom prst="rect">
            <a:avLst/>
          </a:prstGeom>
          <a:solidFill>
            <a:srgbClr val="ffffff"/>
          </a:solidFill>
          <a:ln w="0">
            <a:noFill/>
          </a:ln>
        </p:spPr>
        <p:style>
          <a:lnRef idx="0"/>
          <a:fillRef idx="0"/>
          <a:effectRef idx="0"/>
          <a:fontRef idx="minor"/>
        </p:style>
        <p:txBody>
          <a:bodyPr lIns="0" rIns="0" tIns="0" bIns="0" anchor="t">
            <a:noAutofit/>
          </a:bodyPr>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strengths still strength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Have we added additional strength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Are weaknesses still weaknesses?</a:t>
            </a:r>
            <a:endParaRPr b="0" lang="en-US" sz="2000" spc="-1" strike="noStrike">
              <a:solidFill>
                <a:srgbClr val="000000"/>
              </a:solidFill>
              <a:latin typeface="Arial"/>
            </a:endParaRPr>
          </a:p>
          <a:p>
            <a:pPr marL="339840" indent="-339840">
              <a:lnSpc>
                <a:spcPct val="120000"/>
              </a:lnSpc>
              <a:spcBef>
                <a:spcPts val="1250"/>
              </a:spcBef>
              <a:buClr>
                <a:srgbClr val="000000"/>
              </a:buClr>
              <a:buFont typeface="Verdan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Verdana"/>
              </a:rPr>
              <a:t>Have we developed other weaknesses?</a:t>
            </a:r>
            <a:endParaRPr b="0" lang="en-US" sz="2000" spc="-1" strike="noStrike">
              <a:solidFill>
                <a:srgbClr val="000000"/>
              </a:solidFill>
              <a:latin typeface="Arial"/>
            </a:endParaRPr>
          </a:p>
          <a:p>
            <a:pPr marL="339840" indent="-339840">
              <a:lnSpc>
                <a:spcPct val="12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Arial"/>
            </a:endParaRPr>
          </a:p>
        </p:txBody>
      </p:sp>
      <p:sp>
        <p:nvSpPr>
          <p:cNvPr id="1156" name=""/>
          <p:cNvSpPr/>
          <p:nvPr/>
        </p:nvSpPr>
        <p:spPr>
          <a:xfrm>
            <a:off x="290520" y="6524640"/>
            <a:ext cx="85248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1 -</a:t>
            </a:r>
            <a:fld id="{DD4AA4B5-8C4F-457F-9B03-21118B7B8EE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6T14:35:20Z</dcterms:modified>
  <cp:revision>447</cp:revision>
  <dc:subject/>
  <dc:title>Chapter 1  The Nature of Strategic Management</dc:title>
</cp:coreProperties>
</file>