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06E03-4C92-4F32-8FA2-AEB58F9786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C496-7642-4117-8CC6-EFEF48037D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3935-CE14-4EBE-A2E7-7FE6A958041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EDAB-8370-415E-8B02-2881F394A8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5968-D16C-46DB-8DF7-18703900F2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CD10-8CA1-4DA0-B433-9435A3439E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9A78-609B-45A1-BEF7-28FD9898D65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20C2-643F-4E79-8466-4A275EBFAEC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1156-4506-457D-82B7-FFAEB3BBA1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B72E-3C63-4E40-85DE-9FB56744509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D54-346A-4F2B-8023-C84BC995399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A999-8B39-4B41-A239-A561DC780D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D9A-2557-459C-AC06-78EA9A5FCF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ABF7-19F1-4FCB-879A-FF0887A60FE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2CF2-41DB-4038-9BC2-C18BBB2EDF0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4EE2-71E5-47E5-9F5E-1E6AAD9EBF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0B5D-F92B-4FDE-8DE1-2A3A5DE62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AEBE-213D-4BB5-AFA7-06278070DFD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D67C1-5C95-4E41-B853-3EA0A427F5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0BC8-5CD7-4375-8A93-A533EC6280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DE235-479C-40BE-9E33-3058747C4EB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59EA8-5403-4DFE-B397-7D5C9F9F00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E029-85F3-4C62-99E9-32C384736F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87EB-53EE-48A6-B5F3-000A9A30345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9FB4-25F3-438E-9A40-96EBF19323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8D55-D657-4BA6-90F4-A79C83FC4A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4BDE-5A40-4088-B15A-09E45467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D49A-E7A5-43D0-B6F1-815C239AE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39EA-DBFC-4455-B07B-702A6030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448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5800" y="167652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448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5800" y="4064760"/>
            <a:ext cx="260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0930-1AB5-4950-B981-47ED95B7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A671-C757-4655-A545-C30D215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6EF-EA87-4B3B-A90C-052FDED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83BA-5F5C-4A90-88FA-A21F2AC9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E397-868C-4BF3-8985-DDD9B8AA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3805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B228-7717-470A-85B9-16AE9239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C29C-8712-41D1-86B3-A3DD7758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080" y="406476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BF8-FC36-4EFD-A7FA-59ED19F3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080" y="1676520"/>
            <a:ext cx="39412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64760"/>
            <a:ext cx="80769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34A1-3892-4CA0-9EBB-9E9BE60B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50AD-1E7E-4A1F-B944-84AAE30237C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222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D28B-45EB-407B-83DE-002843DDB87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11000" y="22860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Chapter 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Knowledge Management and Specialized Information System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952-4B23-41DA-A9FD-C97055443D0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3C08-F0BC-44FB-9914-B4D9A20C358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Knowledge Managemen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Management System (KM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ed collection of people, procedures, software, databases, and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create, store, share, and use the organization’s knowledge and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ED8F-327B-4D2C-8B7C-ECB28874971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D98F1-4F39-43CE-AC85-BD401964F68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verview of K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icit 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measured and documented in reports, papers, and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cit 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measure and docu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ot objective or form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41A7-388D-4BC5-8C7D-15B9DCD0AC0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DCBD-7DBC-4536-805F-4004A2AF773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and Knowledge Management Workers and Communities of Practi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retaries, administrative assistants, bookkeeper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, use, and dissemin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s in science, engineering, or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2112-97B0-4BDC-A22F-BA24475EE46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C624-0D43-432F-BC7F-9EB673EBA25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 and Knowledge Management Workers and Communities of Practic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520" y="19810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ief knowledge officer (CKO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executive who helps the organization use a KMS to create, store, and use knowledge to achieve organizational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ies of practice (COP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of people dedicated to a common discipline or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be used to create, store, and shar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0E3D-4ABE-4DFD-974C-05D49880029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BD74-B5DF-4AE7-99E1-A2C500FD7BAC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taining, Storing, Sharing, and Using Knowled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work i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repositor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documents, reports, files, and data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map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ory that points the knowledge worker to the neede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0DF3-411A-400B-81B9-58BE922A7A9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5DB4-D961-43F3-9314-EF3E4C70866E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btaining, Storing, Sharing, and Using Knowledge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39772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tretch/>
        </p:blipFill>
        <p:spPr>
          <a:xfrm>
            <a:off x="3505320" y="4495680"/>
            <a:ext cx="2233440" cy="1463760"/>
          </a:xfrm>
          <a:prstGeom prst="rect">
            <a:avLst/>
          </a:prstGeom>
          <a:ln w="0">
            <a:noFill/>
          </a:ln>
        </p:spPr>
      </p:pic>
      <p:sp>
        <p:nvSpPr>
          <p:cNvPr id="10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2DDB-EBBD-41E8-A8BD-943A9E309547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5EB9-5E54-44F7-9321-5AAA6920997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echnology to Support Knowledge Management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K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ased on learning new knowledge and changing procedures and approaches as a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soft offers a number of knowledge management tools, including Digital Dashboar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902A-69B7-4386-9B5C-526616E25C4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601B-8963-4C4B-8AB1-15F7D36480D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523880" y="974880"/>
            <a:ext cx="6512040" cy="5211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2"/>
          <a:stretch/>
        </p:blipFill>
        <p:spPr>
          <a:xfrm>
            <a:off x="3240" y="30240"/>
            <a:ext cx="312084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2D04-2FF8-41A5-B851-92F295AC3BF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82AB-8DD9-4341-91F1-0AF59B620808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verview of Artificial Intelligen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intelligence (AI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with the ability to mimic or duplicate the functions of the human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AI pione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ed that computers would be as “smart” as people by the 19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06CC-BCDC-45E0-B1B8-3B673295DA3B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CDAA-B513-42BA-82DE-42F32764AE1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AI in Perspectiv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intelligence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the people, procedures, hardware, software, data, and knowledge needed to develop computer systems and machines that demonstrate characteristics of human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B988-FE02-42C9-9962-E3A74C9A0F9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0928-53B3-4C3F-8698-0A387AC433B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rinciples and Learning Objectiv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organizations to share knowledge and experience among managers and employ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differences among data, information, and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ole of the chief knowledge officer (CK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some of the tools and techniques used in knowledg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9C76-033D-4874-91A4-DBDECE7D7F6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B4F3-E466-40FC-B100-21A6DF6C7A4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haracteristics of intelligent behavior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1440" y="13716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uring Tes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whether responses from a computer with intelligent behavior are indistinguishable from those from a human b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istics of intelligent behavior include the ability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from experiences and apply knowledge acquired from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le complex sit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problems when important information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500B-F871-4BF8-A4ED-862CFFA778E5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CCF3-7495-4F10-89F6-89F8B8D707A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Characteristics of intelligent behavior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what is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quickly and correctly to a new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visual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nd manipulate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reative and imagin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47F9-A242-4937-AB9D-3AF2B58177D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8A0F-D285-4623-AF57-74C8BF8BF74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Brain Computer Interfa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ain Computer Interface (BCI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 connect the human brain to a computer and have hum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ol computer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successfu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CI experiment will allow people to control computers and artificial arms and legs through thought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9430-7F2C-4339-BB4F-8B9A446FCD49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E029-07BF-4A08-B298-EF01F202A70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jor Branches of AI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I is a broad field that includ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bo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Vision Systems (Image 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 Processing (NL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ce recog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systems and neural networks (machine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EEF3-0AC5-4DEE-B49D-76BB58D3384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548F-85EC-48D5-A134-FBB4477C600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Major Branches of AI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636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6095880" y="5257800"/>
            <a:ext cx="2246400" cy="914400"/>
          </a:xfrm>
          <a:prstGeom prst="rect">
            <a:avLst/>
          </a:prstGeom>
          <a:ln w="0">
            <a:noFill/>
          </a:ln>
        </p:spPr>
      </p:pic>
      <p:sp>
        <p:nvSpPr>
          <p:cNvPr id="14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270F-7DD2-43DF-B278-4794F7B0ED89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3B17-F5A0-46F0-8922-9196EBB11E7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Robotic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eloping mechanical devices that can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nt cars, make precision welds, and perform other tasks that require a high degree of preci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facturers use robots to assemble and paint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n robotic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both high-precision machine capabilities and sophisticated controlling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E5E2-07E1-4544-8154-03789A719246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A927-452E-4532-9A17-487486A7DEC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uter Vision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and software that permit computers to capture, store, manipulate and identify visual images and pic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ective at identifying people based on facial feat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A9DD-BC1A-4698-9581-7423E78A491B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6C5-0E89-4F67-9DBC-DB532DE3F53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atural Language Processing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ing that allows the computer to understand and react to statements and commands made in a “natural” language, such as Englis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498B-FD62-4AF6-B728-AD90C81E0D5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9202-4FB8-483E-9889-FA84F89122F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peech/Voice Recognition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335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ing sound waves into tex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oice(Speak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eople based on their sound 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6F40-5C73-4911-B671-01B65564416B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F260-140C-40A1-978D-B0633206B05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Learning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 of software and hardware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he computer to change how it functions or reacts to situations based on feedback it rece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systems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eedback on results of actions or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0907-3866-49CF-838E-568AD62C8EE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1398-3CEA-4A45-BFBC-BA10D88D7AD7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904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ificial Intelligence Syst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 broad and diverse set of systems that can replicate human decision making for certain types of well-defin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the term artificial intelligence and state the objective of developing artificial intelligenc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 the characteristics of intelligent behavior and compare the performance of natural and artificial intelligence systems for each of these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major components of the artificial intelligence field and provide one example of each type of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89C-26C4-41A5-8C4D-9D5029F0299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B041-AE60-4D82-B7D7-A64ACC51346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Neural Network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system that simulates functioning of a human brain in lear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process many pieces of data at the same time and learn to recognize patt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ural network progra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s engineers slow or speed drilling operations to help increase drilling accuracy and reduc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513D-3983-4086-84E5-29283143C32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04B6-DC45-4050-93BE-F2AAD93B0EC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s or Knowledge Base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and software that stores knowledge and makes inferences, similar to a human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33DB-EE38-47EB-A3A0-59D2D5D24CD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8ECB-5450-4C3B-919D-62FA31F4A7B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Overview of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ized expert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uristics, or rules of thumb, to arrive at conclusions or make sugg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.S. Arm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the Knowledge and Information Fusion Exchange (KnIFE) expert system to help soldiers in the field make better militar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61C0-56E5-421A-9FD8-1CE020634A6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B203-D088-4971-B044-B86F9DA5717F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en to Use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and organizations should develop an expert system if it ca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 and preserve unique human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 a problem that is not easily solved using traditional programming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ystem more consistent than human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4A7B-AF67-46BE-B7FF-5FFD7898F59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2044-1B1D-43A0-993C-076CA5D24A16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When to Use Expert Systems (continued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192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pertise needed at a number of locations at the same time or in a hostile environment that is dangerous to human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pertise that is expensive or 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 solution faster than human experts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xpertise needed for training and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 high potential payoff or significantly reduce downsid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832F-D5D5-49DD-8500-51C9BE1F794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CBE8-A4C9-4F22-ACCC-3E1EA619786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onents of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 a collection of integrated and relate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D647-D7E2-46B5-9915-3F9E8863D5D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F6D2-F4B9-448C-92F4-CD2F364CB86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Components of Expert Syst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191" name="Picture 7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5086080" cy="4533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"/>
          <p:cNvPicPr/>
          <p:nvPr/>
        </p:nvPicPr>
        <p:blipFill>
          <a:blip r:embed="rId2"/>
          <a:stretch/>
        </p:blipFill>
        <p:spPr>
          <a:xfrm>
            <a:off x="6019920" y="3809880"/>
            <a:ext cx="1960560" cy="822600"/>
          </a:xfrm>
          <a:prstGeom prst="rect">
            <a:avLst/>
          </a:prstGeom>
          <a:ln w="0">
            <a:noFill/>
          </a:ln>
        </p:spPr>
      </p:pic>
      <p:sp>
        <p:nvSpPr>
          <p:cNvPr id="19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4BD2-C416-42FE-8FE9-B810C53B171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0C41-6D2F-47A7-81E8-796803205F4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Knowledge Bas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s all relevant information, data, rules, cases, and relationships used by expert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s knowledge base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631B-862F-4878-A557-A98949E29FA8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6AA2-3B9A-4D1E-A8A4-6BF94B30805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Inference Engin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ek information and relationships from the knowledg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answers, predictions, and suggestions, like a human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236F-5DAF-4801-945E-FD4E029AB6C9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4FF8-DD35-4B9D-94AF-CA86E89C8F3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Explanation Fac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ows a user or decision maker to understand how the expert system arrived at certain conclusions or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octor can find out the logic or rationale of a diagnosis made by a medical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F1A3-B6AC-4E38-B4EE-9672366FCCB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D3E2-EE7A-4CE5-A126-AA15ADC2D71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ert system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enable a novice to perform at the level of an expert but must be developed and maintained very carefu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characteristics and basic components of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line and briefly explain the steps for developing an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benefits associated with the use of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245B-D602-4953-A868-90A1B68A9C8F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D99A-FEBA-4FE8-ABE6-16B71A92655B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Knowledge Acquisition Faci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s convenient and efficient means of capturing and storing all components of knowledge b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acquisition softwa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present users and decision makers with easy-to-use m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4AE86-68D1-4DCA-8502-E64749FD7597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9084-0D19-4461-A778-080E464C59D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Knowledge Acquisition Facilit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3" name="Picture 7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000920" cy="274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2184120" cy="1279440"/>
          </a:xfrm>
          <a:prstGeom prst="rect">
            <a:avLst/>
          </a:prstGeom>
          <a:ln w="0">
            <a:noFill/>
          </a:ln>
        </p:spPr>
      </p:pic>
      <p:sp>
        <p:nvSpPr>
          <p:cNvPr id="21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A8147-B754-44B6-8637-90EE66A53DD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BA40-5ABC-4F85-9AC2-4A729AB0108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The User Interfac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its decision makers to develop and use their own expert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purpo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ke development and use of an expert system easier for users and decision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8E5E-F2B2-4DA7-96D8-022431AB5D4E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299B-1171-45A8-98DF-20068956757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rticipants in Developing and Using Expert System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ain exper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or group with the expertise or knowledge the expert system is trying to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engine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who has training or experience in the design, implementation, and maintenance of an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use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or group who uses and benefits from the expe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13BC-DAB0-4374-9B30-13EE672DE41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5D4-62A6-4AC0-A1AB-CA252184DFE3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Participants in Developing and Using Expert System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33520" y="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7064280" cy="4846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"/>
          <p:cNvPicPr/>
          <p:nvPr/>
        </p:nvPicPr>
        <p:blipFill>
          <a:blip r:embed="rId2"/>
          <a:stretch/>
        </p:blipFill>
        <p:spPr>
          <a:xfrm>
            <a:off x="6705720" y="1676520"/>
            <a:ext cx="2232000" cy="82224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95B2-1426-40E9-9E98-D804B7B56887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D213-79D3-41D5-A6B1-61D1CA1ABAE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pert Systems Development Tools and Techniqu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oretically, expert systems can be developed from any programming langu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 shells and produc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s of software packages and tools used to design, implement, maintain and use of exper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FF04-F7C8-4D83-9C2E-7E4802030EFD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0E22-1110-4CF4-8AD7-5C7C14E4909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Expert Systems Development Tools and Techniques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pic>
        <p:nvPicPr>
          <p:cNvPr id="236" name="Picture 7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6740640" cy="46641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"/>
          <p:cNvPicPr/>
          <p:nvPr/>
        </p:nvPicPr>
        <p:blipFill>
          <a:blip r:embed="rId2"/>
          <a:stretch/>
        </p:blipFill>
        <p:spPr>
          <a:xfrm>
            <a:off x="7391520" y="4343400"/>
            <a:ext cx="1481040" cy="731880"/>
          </a:xfrm>
          <a:prstGeom prst="rect">
            <a:avLst/>
          </a:prstGeom>
          <a:ln w="0">
            <a:noFill/>
          </a:ln>
        </p:spPr>
      </p:pic>
      <p:sp>
        <p:nvSpPr>
          <p:cNvPr id="23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114E-6362-480A-9D24-158495165040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CE6E-9A38-4D40-93B9-3C2DC3FF246A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Multimedia and Virtual Rea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 of multimedia and virtual re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helped many companies achieve a competitive advantage and increase pro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pproach and technology used in multimedia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ften the foundation of virtual reality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82C4-6491-4B9A-8816-543A2FAB6147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E09C-DE99-4E46-A470-BEF53CECEE12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Overview of Multimedia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519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media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and 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an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conversion and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signing a multimedia applic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areful thought and a systemat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that the end use of the document or file be carefully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EAD1-D4F0-4598-A9EE-722A482CAE59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99DC-A2E8-41C7-BE56-2B333B2F50B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Virtual Realit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reality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one or more users to move and react in a computer-simulat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mersive virtual reali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becomes fully immersed in an artificial, 3D world that is completely generated by a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510D-EDF3-4201-977E-9E6CF31E6D4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A98A-68AF-4A68-8132-FA6274764D7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media and virtual reality 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an reshape the interface between people and information technology by offering new ways to communicate information, visualize processes, and express ideas creativ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multimedia in a business s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term virtual reality and provide three examples of virtual realit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B445-6412-4591-86C6-F78B8D82514A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3157-AE82-4D74-B656-0B6A76316A1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28120" y="2282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Interface Device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14000" y="9828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sion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the user wears a head-mounted display (HMD) with screens directed at each 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se-controlled navigation through a 3D environment on a graphics 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dio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 projec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 viewing from the monitor via stereo g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ptic interf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ys sense of touch and other sensations in a virtu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allenging to cre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2417-C439-4C28-B827-4DA999C45ED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E5B6D-7286-42B6-BF2B-32A909EFACC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1228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Virtual Reality Applications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7840" y="11426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dici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R program called SnowWorld helps treat injury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 and train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technology has also been applied by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and Commer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eing used virtual reality to help it design and manufacture airplane parts and new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ertainmen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es use CGI to bring realism to the silver 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453-7C13-4FB9-A036-F1CE4BA38CF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4B4F-2CD3-4554-825D-D8EA37D89359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2560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and understanding of a set of informa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work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who create, use, and disseminate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tificial intelligenc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 field that includ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t systems, robotics, vision 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atural language processing, learning systems, and neural net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3037-916D-43E5-BE03-4E73A4BAAD6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6E95-E907-4716-AC5E-F7781A20E264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Summary (continued)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t system consists of a collection of integrated and related compon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erence engin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the rules, data, and relationships stored  in the knowledge bas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irtual reality system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one or more users to move and react in a computer-simulat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CF3E-C56E-4173-B0E7-343B972DB6A4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290E-6763-4D33-959F-79DB9CDF6B6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2222"/>
                </a:solidFill>
                <a:latin typeface="Arial"/>
              </a:rPr>
              <a:t>Principles and Learning Objectives (cont.)</a:t>
            </a:r>
            <a:endParaRPr b="0" lang="en-US" sz="32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3520" y="16765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system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help organizations and individuals achieve their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examples of specialized systems for organizational and individua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6167-879F-41BC-AE65-0D4266934C82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C42C-2EE0-44EB-B108-7C2E737A9ED0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8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Why Learn About Knowledge Management and Specialized Information Systems?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1920" y="19094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ledge management and specialized information systems are used in almost every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ing about these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elp you discover new ways to use information systems in your day-to-day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7E84-DE76-4841-A972-374C65E90D23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82C9-1750-4591-B8DD-FDA2A10B5405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Data, Information &amp; Knowledge</a:t>
            </a:r>
            <a:endParaRPr b="0" lang="en-US" sz="3600" spc="-1" strike="noStrike">
              <a:solidFill>
                <a:srgbClr val="222222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raw f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orm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facts organized so that they have additional value beyond the value of the facts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nowledg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eness and understanding of a set of information and the ways that information can be made useful to support a specific task or reach a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040C-2853-47FB-9EBC-0842D1477F0C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A426-16EF-487D-8C48-C501D86E48BD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566200" cy="1554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2971800" y="3809880"/>
            <a:ext cx="235908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380880" y="533520"/>
            <a:ext cx="856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, Information &amp; Knowledge </a:t>
            </a:r>
            <a:r>
              <a:rPr b="0" lang="en-US" sz="3600" spc="-1" strike="noStrike">
                <a:solidFill>
                  <a:srgbClr val="222222"/>
                </a:solidFill>
                <a:latin typeface="Arial"/>
              </a:rPr>
              <a:t>(continued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Date Placeholder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331C-17A3-4EC9-997C-105391C6ABF1}" type="datetime">
              <a:rPr b="0" lang="en-US" sz="1400" spc="-1" strike="noStrike">
                <a:solidFill>
                  <a:srgbClr val="222222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Slide Number Placehold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EAB4-D95A-4477-8C69-170ACD9D71E1}" type="slidenum">
              <a:rPr b="0" lang="en-US" sz="1400" spc="-1" strike="noStrike">
                <a:solidFill>
                  <a:srgbClr val="22222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/>
  <dc:description/>
  <cp:keywords/>
  <dc:language>en-US</dc:language>
  <cp:lastModifiedBy>Ahmed Youssef</cp:lastModifiedBy>
  <dcterms:modified xsi:type="dcterms:W3CDTF">2016-05-08T22:43:53Z</dcterms:modified>
  <cp:revision>445</cp:revision>
  <dc:subject/>
  <dc:title> Principles of Information Systems, Ninth Edition</dc:title>
</cp:coreProperties>
</file>