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503-4E97-4939-8371-1DDDDFE32F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FC23-25C8-4DB5-B945-4B5A7E8605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79CE-9D30-4801-930C-8741C974E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645D-C524-44D8-9621-F80BDD437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CFF-0F57-45FE-9A08-F086327224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597-C055-4C7B-B55C-31DA5409E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8253-B686-42D2-AFCD-C84F0D16E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7E8E-7836-4CD6-ADF2-F008183908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B897-0976-43A2-A8D5-F7BE2A1326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FBD-554C-41BD-A94A-F001B0810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F54-5601-4162-A5C2-6BD03F16C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F656-1199-45FC-B0C3-4A2E001A9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C5C5-FE87-40C9-9064-17C6A9396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14AB-B996-47D4-80B5-1139C309F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C7B5-5E25-4EA3-89DB-952FAAC94A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7BC-57FC-44C9-BE40-98ACB11118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0F26-5E8E-4E24-8D08-10ED217BE5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410-5D45-4ED0-B8AA-7AC8E2B3E2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052A-0604-4A77-AFC6-0020836262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CDFF-3C9F-4101-AFD6-7891F8F3F0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CE4-FE1C-4691-9777-D45FB5A5F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D77E-678B-4E05-9323-492CB2BBFB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E75-5691-49D3-934D-F538AD753C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842-1CDA-4CAB-B2A8-DF37CD865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D73E-2180-4995-B014-DF6BBE26A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61C-AE5C-4930-A073-44F53962F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DD3-196B-47C1-BEDB-4879172E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A2B-2ED3-4453-B561-C87B484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6C2-343D-410C-BAEA-C309882E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988-A6AD-453F-8D19-22383031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62E-D140-40C5-8C54-6372275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4DC-5098-4444-86D6-8867C814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D54-3C4C-45AC-B051-EEE2234C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712-FBA4-4CD0-9129-72824A1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370-DB8A-4499-826F-C8C0B9F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BEB-1496-48F6-B123-4E8379D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709-031A-47DB-87E6-12C0B34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154-7B87-427A-89D3-ACA56CB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97C-3DC1-4580-83AE-3D5F35E9B2F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BEE-ECB3-4C9D-A78D-4AD11E2A459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1000" y="22860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Knowledge Management and Specialized Information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B3D2-799A-43C1-96DC-0B58CF60B38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65C-35B0-468F-B1FD-2579900BB76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Knowledge Managemen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nagement System (K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collection of people, procedures, software, databases, 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create, store, share, and use the organization’s knowledge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3361-1C47-4268-948A-AAB4F90E649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BA7-5E43-44F8-98A6-E118C0662B4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verview of K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easured and documented in reports, papers, and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measure and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ot objective or form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47BC-A73C-4DBE-869D-B5CB5145F3C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20DC-6212-4F4D-8009-A157E56F52A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and Knowledge Management Workers and Communities of Pract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es, administrative assistants, bookkeep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, use, and dissemin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s in science, engineering, o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F5EA-5383-415C-AD3F-D50C5F07135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2B22-800D-4E4E-81E9-FD770BB1E7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and Knowledge Management Workers and Communities of Practic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 knowledge officer (CKO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executive who helps the organization use a KMS to create, store, and use knowledge to achieve organiz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ies of practice (CO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f people dedicated to a common discipline o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used to create, store, and shar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AA45-C559-4A60-85FE-1ADF7810B5C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80DF-C045-4926-832E-4F10FFD2F62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taining, Storing, Sharing, and Using Knowled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ork i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repositor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ocuments, reports, files, an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hat points the knowledge worker to the need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C5E2-F861-415F-B14C-670A66636E7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50FD-DCBD-4573-86F3-1139FE6D101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taining, Storing, Sharing, and Using Knowledg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9772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2233440" cy="1463760"/>
          </a:xfrm>
          <a:prstGeom prst="rect">
            <a:avLst/>
          </a:prstGeom>
          <a:ln w="0">
            <a:noFill/>
          </a:ln>
        </p:spPr>
      </p:pic>
      <p:sp>
        <p:nvSpPr>
          <p:cNvPr id="10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2701-8575-4A05-A753-B3512E800BA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4112-E7B2-40BF-B045-C450F97097F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echnology to Support Knowledg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K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ed on learning new knowledge and changing procedures and approach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offers a number of knowledge management tools, including Digital Dash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5080-866F-4CF7-9C9D-B55762414CA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55D7-BE39-4239-B90F-CA19CD769D6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3880" y="974880"/>
            <a:ext cx="6512040" cy="521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3240" y="30240"/>
            <a:ext cx="312084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1541-174D-4E8E-8EC4-9CFF1B40187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713-D800-4B1A-A1C5-6E25E175FE6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verview of Artificial Intellig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 (AI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with the ability to mimic or duplicate the functions of the human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AI pione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that computers would be as “smart” as people by the 19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363E-9B12-433D-9A9E-D52528E0E6D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1CEE-5579-46FD-A661-4D119F71FFE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people, procedures, hardware, software, data, and knowledge needed to develop computer systems and machines that demonstrate characteristics of human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A52-F237-4114-93EF-AE072FA44EB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FF3D-05A1-4F45-99BB-C03E3235F30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inciples and 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organizations to share knowledge and experience among managers and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among data, information,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chief knowledge officer (C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ome of the tools and techniques used in knowled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5033-AED0-4BA9-AC6A-12DFE0E7016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8DE-5EAC-4EBF-92EC-53FCCAA9575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racteristics of intelligent behavi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144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ing Tes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ether responses from a computer with intelligent behavior are indistinguishable from those from a human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istics of intelligent behavior include the ability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rom experiences and apply knowledge acquired from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omplex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when important information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9761-FB74-4516-8C12-737FFF14D21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32F-B586-49B6-837A-5BA730F68A6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Characteristics of intelligent behavior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quickly and correctly to a new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visu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d manipulat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reative and imag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662B-62D6-4185-A929-E514B151673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0CA-42FC-4285-A43F-84D95FF76B1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rain Computer Interfa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 Computer Interface (BCI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 the human brain to a computer and have hu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ol comput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uccessfu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CI experiment will allow people to control computers and artificial arms and legs through thought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4455-D99B-4988-925E-79F5F1F5102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B56-DE9A-49CE-A315-6FEDF95869C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jor Branches of AI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 is a broad field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Vision Systems (Image 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Processing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systems and neural networks (machine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7D45-A0A7-4CC5-BCDE-C17E9E6F686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21B-5393-4F6A-9EF0-A76F7E30B28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jor Branches of AI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36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6095880" y="5257800"/>
            <a:ext cx="2246400" cy="914400"/>
          </a:xfrm>
          <a:prstGeom prst="rect">
            <a:avLst/>
          </a:prstGeom>
          <a:ln w="0">
            <a:noFill/>
          </a:ln>
        </p:spPr>
      </p:pic>
      <p:sp>
        <p:nvSpPr>
          <p:cNvPr id="14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04E5-492D-4D89-8E20-21358C50B66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23F-B9DF-4BEA-BC11-5FAE14F78AB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obotic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mechanical devices that ca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 cars, make precision welds, and perform other tasks that require a high degree of preci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rs use robots to assemble and paint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n robotic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 high-precision machine capabilities and sophisticated controlling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42D-A7E4-4832-B62E-3814EA62951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C48-BDB8-4D86-BBEF-9B1C5DA4251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Vis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and software that permit computers to capture, store, manipulate and identify visual images and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at identifying people based on faci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61EC-B156-4C0D-AB89-2721040A01A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1A0C-162B-4BD6-B489-44B253156B4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atural Language Process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ing that allows the computer to understand and react to statements and commands made in a “natural” language, such as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438-53F0-4A2A-9902-72D0AFC255B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7B76-532B-466D-8FB7-7A59897174E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peech/Voice Recogni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sound waves into tex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ce(Spea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eople based on their sound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1BB-2B4D-4877-B4F9-9C13F1EB714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9E5E-B0F2-4F55-A715-84C0664B1F8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software and hardware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computer to change how it functions or reacts to situations based on feedback it rece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systems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eedback on results of actions o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D20F-6EE1-453B-939E-EEC30972D6B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4A42-F27E-4387-B96D-C1C59411EFA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904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ficial Intelligence Syst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 broad and diverse set of systems that can replicate human decision making for certain types of well-defin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term artificial intelligence and state the objective of developing artificial intelligenc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e characteristics of intelligent behavior and compare the performance of natural and artificial intelligence systems for each of thes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major components of the artificial intelligence field and provide one example of each type 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58E6-C489-4B77-A94B-E296786C6B8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01A9-7955-474B-8B92-97FF7CD5B77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ural Networ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ystem that simulates functioning of a human brain in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process many pieces of data at the same time and learn to recognize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al network prog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engineers slow or speed drilling operations to help increase drilling accuracy and 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A83-A599-4400-8152-5E14A330E8BB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0471-643E-4C7E-9E7A-2EE29BE0B50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s or Knowledge Base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and software that stores knowledge and makes inferences, similar to a human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91E-70D5-4B0B-AD45-59EE3674C7A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847B-9CDE-47AA-8361-AB6EC4BF9F1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verview of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ized expert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, or rules of thumb, to arrive at conclusions or mak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.S. Arm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Knowledge and Information Fusion Exchange (KnIFE) expert system to help soldiers in the field make better militar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7E64-120F-4240-BCE3-B0A7F747311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F248-9589-40D4-AA21-78A65170485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en to Use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nd organizations should develop an expert system if it c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preserve unique human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problem that is not easily solved using traditional programm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ystem more consistent than human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FF5-49AF-4264-A0E9-65A0187074A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AFD3-983E-4235-BDC4-0D7DD6CCDCC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When to Use Expert Systems (continued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19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needed at a number of locations at the same time or in a hostile environment that is dangerous to human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that is expensive or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olution faster than human exper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needed for training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high potential payoff or significantly reduce downsid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60B-BF34-47A3-8001-920EABA7437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3CE-10B9-43DF-891A-E18B38F230C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onents of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a collection of integrated and relat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7B6-A247-4715-A819-F05724475EA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8BC5-7E4A-4CAE-864D-8C39BA3EC81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onents of Exper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086080" cy="45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1960560" cy="822600"/>
          </a:xfrm>
          <a:prstGeom prst="rect">
            <a:avLst/>
          </a:prstGeom>
          <a:ln w="0">
            <a:noFill/>
          </a:ln>
        </p:spPr>
      </p:pic>
      <p:sp>
        <p:nvSpPr>
          <p:cNvPr id="1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2B3-23D1-41FE-8932-D3B27889120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A11B-B36B-4B4A-A8A1-BD376935F99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Ba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all relevant information, data, rules, cases, and relationships used by expe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knowledge base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5DD-087C-4A32-B16D-E98C0A1DCF5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B1A-9DE7-48CA-8006-0304B727704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ference Engin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k information and relationships from the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nswers, predictions, and suggestions, like a human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8C91-0666-4B29-B6B9-8CBE5E9DA36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3638-2C13-445B-A1BA-E76506AFA91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xplanation Fac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a user or decision maker to understand how the expert system arrived at certain conclusions or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tor can find out the logic or rationale of a diagnosis made by a medical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949-E813-40EC-8C63-281CE6EC164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E012-250E-40F3-AA7D-56D10042D0B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ert system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enable a novice to perform at the level of an expert but must be developed and maintained very carefu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characteristics and basic components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and briefly explain the steps for developing an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enefits associated with the use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2204-743D-4BAB-9DC4-8742A618229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324-4EE8-4993-A10E-31CE8D082BD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Acquisition Fac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convenient and efficient means of capturing and storing all components of knowledge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acquisition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esent users and decision makers with easy-to-us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73C-AEFE-4C21-9B1C-B7729CB0E45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C91-BCB0-48C7-A40E-8CCDA7B613A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Acquisition Facil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00920" cy="274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2184120" cy="1279440"/>
          </a:xfrm>
          <a:prstGeom prst="rect">
            <a:avLst/>
          </a:prstGeom>
          <a:ln w="0">
            <a:noFill/>
          </a:ln>
        </p:spPr>
      </p:pic>
      <p:sp>
        <p:nvSpPr>
          <p:cNvPr id="2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D06-51E3-4AC3-8A42-8453A1F711A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BA1-A6A5-40DB-BB97-3C5096A018F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User Interfa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ts decision makers to develop and use their own exper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development and use of an expert system easier for users and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F4E-9EC0-4B69-8F2F-51C884CD079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05C1-560B-4656-9322-1A483A821B6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rticipants in Developing and Using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expe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or group with the expertise or knowledge the expert system is trying to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engine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who has training or experience in the design, implementation, and maintenance of an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us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or group who uses and benefits from the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ECF4-7AAC-40D4-A88E-F5431A7DDAA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6336-BCC6-4C2A-9B9A-99379427A8B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rticipants in Developing and Using Exper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64280" cy="484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6705720" y="1676520"/>
            <a:ext cx="2232000" cy="82224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3E55-F653-461F-A951-690A054A86B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CB7-D5FD-4B2F-B1F6-E3DBABB5061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 Development Tools and Techniqu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ly, expert systems can be developed from any programm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 shells and produ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s of software packages and tools used to design, implement, maintain and use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301-C4A4-4D59-BEDD-C09AB10CA19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F77-882C-44BB-AF9D-6FE1877429A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 Development Tools and Techniqu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740640" cy="4664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7391520" y="4343400"/>
            <a:ext cx="1481040" cy="731880"/>
          </a:xfrm>
          <a:prstGeom prst="rect">
            <a:avLst/>
          </a:prstGeom>
          <a:ln w="0">
            <a:noFill/>
          </a:ln>
        </p:spPr>
      </p:pic>
      <p:sp>
        <p:nvSpPr>
          <p:cNvPr id="23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6EC0-7F73-4987-9F8A-E02834DA9FA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579-4F22-49DF-9CA8-BAD056BB273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ultimedia and Virtual Rea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multimedia and virtual re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helped many companies achieve a competitive advantage and increas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pproach and technology used in multimedi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ften the foundation of virtual re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C84-8904-48F8-A8D2-23CB2E834B6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7B6-AD72-4CE4-90B5-EC7E6A93FE3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verview of Multimedia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19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an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an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conversion an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a multimedia applic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areful thought and a systema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at the end use of the document or file be carefully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D9A1-08B6-4F9C-8C76-489DBBCFCEA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1577-E4BD-45B6-926A-654CEFAE27D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Virtual Rea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reality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one or more users to move and react in a computer-simulat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mersive virtual re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comes fully immersed in an artificial, 3D world that is completely generated by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2359-F2A7-470B-835D-84B83A0C418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7632-AAA3-4833-8CFF-FBECF9BB7F7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media and virtual reality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reshape the interface between people and information technology by offering new ways to communicate information, visualize processes, and express ideas cre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multimedia in a business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erm virtual reality and provide three examples of virtual realit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C15E-7BD4-4EB9-9FF5-AEC6EA9C0BA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0A71-3F04-4E30-9354-A44BB7C50E3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81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erface De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000" y="982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ion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 user wears a head-mounted display (HMD) with screens directed at each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-controlled navigation through a 3D environment on a graphics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 projec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 viewing from the monitor via stereo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ptic interf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s sense of touch and other sensations in a virtu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allenging to cre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AAE-B9DA-4906-8383-24696104F3A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C8A-77CE-4AAA-BAF5-3F55F0644AC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228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irtual Reality Appl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7840" y="11426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 program called SnowWorld helps treat injury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train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technology has also been applied by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and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 used virtual reality to help it design and manufacture airplane parts and new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tainmen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s use CGI to bring realism to the silve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7B7-6810-4FB1-A228-52DB551FE2D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AFD-5C74-4F80-834D-0995E2CFD1F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2560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and understanding of a set of in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create, use, and dissemin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field that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 systems, robotics, vis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al language processing, learning systems, and neur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C1F-30C4-42B5-94CE-702D859395B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4D7-295B-4F93-9282-6D228B0C365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 consists of a collection of integrated and related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ence engi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the rules, data, and relationships stored  in the knowledge ba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reality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one or more users to move and react in a computer-simulat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159-6C8E-4C10-ACFF-F949D159ED0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597D-B2C2-4D68-A656-220E63A379A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system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help organizations and individuals achieve thei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xamples of specialized systems for organizational and individu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6AE-2C24-4AF7-8DEC-6527A5F94ABB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7E14-599F-41AA-8448-ED88CB279DB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8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Learn About Knowledge Management and Specialized Information Syste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1920" y="19094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nagement and specialized information systems are used in almost every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about these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elp you discover new ways to use information systems in your day-to-da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984-7D42-44D4-9F8F-7AE885DACA2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6117-AD16-4641-9F0C-051CB4C69B4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, Information &amp; Knowled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raw 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facts organized so that they have additional value beyond the value of the facts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and understanding of a set of information and the ways that information can be made useful to support a specific task or reach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2D6-F969-45BF-A17C-A796E5A5C38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9BE-E27A-4B46-8EFB-EE94D90C782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566200" cy="1554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35908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80880" y="533520"/>
            <a:ext cx="856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, Information &amp; Knowledg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7068-7152-4212-A8AE-56DF97A21F0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CD9-1C62-4A73-A9E7-87CFBB64BD5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cp:keywords/>
  <dc:language>en-US</dc:language>
  <cp:lastModifiedBy>Ahmed Youssef</cp:lastModifiedBy>
  <dcterms:modified xsi:type="dcterms:W3CDTF">2016-05-08T22:43:53Z</dcterms:modified>
  <cp:revision>445</cp:revision>
  <dc:subject/>
  <dc:title> Principles of Information Systems, Ninth Edition</dc:title>
</cp:coreProperties>
</file>