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move the slide</a:t>
            </a:r>
            <a:endParaRPr b="0" lang="en-US" sz="3000" spc="-1" strike="noStrike">
              <a:solidFill>
                <a:srgbClr val="4e5b6f"/>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نجلاء محمد القاسم . قسم السياسات التربويه ورياض الاطفال</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EC44-4E6C-4762-AB12-AEEFA023788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855D-0A2C-4FD2-8263-DDAA2C458B02}" type="slidenum">
              <a:rPr b="0" lang="ar-SA"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
        <p:nvSpPr>
          <p:cNvPr id="403"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entury Schoolbook"/>
              </a:rPr>
              <a:t>أ.نجلاء محمد القاسم . قسم السياسات التربويه ورياض الاطفال</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397F6-9909-4E5F-AE87-168A5A0C5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EB565-F18F-460B-9BF4-221F19DB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4D7EC-511A-46EA-88BC-963C7C0CF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3FECC-1990-44A8-B5C9-C6DB36C31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37368-5BEF-4E06-AA3A-F66F9AEE2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7AC07-43B1-4C48-8E1C-CAD0C09C9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7C3A8-EE97-489A-BF8B-B2A4E44C2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C4357-6DFC-4AEA-919E-91B85379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256C9-4D23-41AD-9B07-E503C38BF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4B193-EE52-4ED2-ACFA-773702293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94925-E8D3-4E46-903B-1CED0C799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0A00-5BF0-4F4A-AC75-9B875DD31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A264F-38DD-42EB-889F-C612E1193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00444-D977-40E2-B36C-6DEF70417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93695-8A63-4311-8CFF-61BE5A026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C82AB-7C3C-446C-9973-EA8E4561E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B9D6C-9E54-47BD-8449-C7F338A05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EDED3F-FCDF-49AA-8D84-9351C60FDB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B35A91-3AE2-41D2-8EC6-0D15AB8AA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47A468-6A7F-43F6-8A71-0306DC64F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DD5080-0BD5-4C11-867F-67A77E94B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C39B46-29A5-48D5-94BF-2452F51326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584E7-DFC3-4916-B13A-EEB6E6A3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2E21FF-4845-4519-AB5D-79BCC751A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4B986D-829B-4181-B014-C3BB873D6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89EB5A-4489-48B9-84A4-229EB6EB9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961002-3D49-4D93-BEF8-B44B4EF56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B5EE3D-B823-449A-8B5D-DA2860AB17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295D52-295D-48A5-9D78-F205E0C94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3F80BBE-3D03-4F93-8A71-D5EEA0190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20878-D59F-400F-B168-DF2526CB76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2427B-C16D-4726-A538-087F749C0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F4F35-9B41-4AB7-AAF6-CE30442D9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D405B-ED17-4395-9B7B-5B84CDE4A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E6101-F8F0-4EA6-AAFE-468D3821B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5A415-A069-4EEF-8DEF-297181596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BD5C94-1221-4BAA-8766-96B05098C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5D5F0-DFF4-45ED-BF17-CE24285FB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54EB3-223B-4523-9A91-41CB54AF0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CA2CE-B792-4B46-B47E-C90294A21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F3B05-D9BD-4445-AB23-98D510988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1C28DB-87B7-4193-AF40-F3AFB84FF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C941C-A9E0-47B3-8E69-844BC30DD5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901946A-31E1-4B88-AF2C-B35F6C85A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7FE3A-8497-4F14-A53F-D62EF8DC0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AEBDA51-A95C-4489-A9E4-002924538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4E338E-7008-46C1-8424-08E946758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9D7E50-6798-4E40-B179-50FF044AD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497D7E-0A59-4DE2-A42B-0009FDF60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3EF578-42FF-4A5A-A59E-A19361EB07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3B3F2A-A84E-4B91-9906-B4E494C23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434A5E-6837-4B3D-9A6E-C97974441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4A5194-27C3-4A7A-9F13-B3D38CA44D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3E900B-834B-4248-80A9-84B484B67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164C8E8-1190-4B74-A531-BCD70D2DD0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3AF4-8D4A-45FE-AF9B-0967849DB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FAFC88-E567-4B18-9E20-2912AF6345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2D13E8B-B739-46F0-A607-9EC89E09BA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0FE5B3-BA91-4DB2-AB07-738187EE80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5854340-BBBE-44E7-BCA7-E8ADBCBDE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0F520B3-8B11-4DE8-851B-7AD2C33F1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B67D93-E58C-4615-88C7-9C8B37FBE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E1C8278-6C2A-4717-9960-52C1F7A26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CE05BF-242E-4F9F-8B9E-B7D3C67E74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894283B-0877-4DB7-B614-7371E042D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1AA0B2-01C4-4065-B1FB-EEA7FC0CA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A2B8-355C-4D04-83F6-F0B48363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86F2B0-8E78-47F9-A018-8F59F538C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4F9CF37-E42C-4C20-80B8-FAD0FDCEDB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F3AF4BB-C517-4DB1-B933-5285BE8449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8E87C40-AD4C-4250-9072-705B0EEABE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20D02E-AEF3-424C-8DFF-879B8F2E43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62D161F-46F7-4611-A9F4-8F6EEE8B96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3C0FAC5-55FE-4B94-915B-4BFBDC0592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D36B12-BA08-4F5F-9989-BC1CEF1A15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421AB1-D863-4F69-B19D-E947D3000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3B97DB-8ABF-458D-A7F7-EA0E8C8C5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A0C2D-A760-4715-9B08-FACCA99D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19AAC62-7AC5-4F46-985C-5ADA1BC51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9CF716-D41F-4255-9314-22CA010C1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58F4807-8EAE-4518-8411-EBCD22341B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A4BB30-0E53-4DAE-B944-12615DE68A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BD1B382-BB58-4996-A181-42AADFA89B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D766-A7BE-46EF-A049-8E620C140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9320-0133-4678-9602-E05C4A9C656F}"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B7E1-E5FB-4022-9C6A-F5D0F7583B14}"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CFBD-62D8-4F41-B7C3-3F7271E9CDD0}"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61DC-48FD-44C8-A4D3-248E020F3D01}"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A306-46A7-43C2-B513-4E0C36F41E70}"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F9A0-4E2A-4C32-BA6B-D73D43665F40}"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E87F-A365-4EC5-8825-83D80545F91B}" type="datetime">
              <a:rPr b="0" lang="ar-SA" sz="1200" spc="-1" strike="noStrike">
                <a:solidFill>
                  <a:srgbClr val="d6ecff"/>
                </a:solidFill>
                <a:latin typeface="Times New Roman"/>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6ecf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33CB-3F80-409E-B798-72C2AF4DA971}"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C244-206B-48E1-9132-4FCEBFD9F3B7}"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00E8-2323-4658-BFC1-4BAF4273D683}"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A20C-59E7-4A4C-A0D5-DAA2988BEABA}"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9FFB-E6B7-41FF-AFA2-A7AF2C2F16AA}"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4669-B952-4976-A9F1-3413970C4376}"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5BAB-2D69-47A2-860B-F53956AAC895}"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مستطيل 3" descr=""/>
          <p:cNvPicPr/>
          <p:nvPr/>
        </p:nvPicPr>
        <p:blipFill>
          <a:blip r:embed="rId1"/>
          <a:stretch/>
        </p:blipFill>
        <p:spPr>
          <a:xfrm>
            <a:off x="2120760" y="1468440"/>
            <a:ext cx="6340680" cy="3011400"/>
          </a:xfrm>
          <a:prstGeom prst="rect">
            <a:avLst/>
          </a:prstGeom>
          <a:ln w="0">
            <a:noFill/>
          </a:ln>
        </p:spPr>
      </p:pic>
      <p:sp>
        <p:nvSpPr>
          <p:cNvPr id="359" name="عنصر نائب للتذييل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2340000" y="476280"/>
            <a:ext cx="640872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لثة  التقارب التدريجي : تعزيز الطفل عندما يقرب النظارة اكثر فاكثر من عينية وعدم تعزيزه عندما يبعدها عن وجه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رابعة :  استخدام نظارات ذات عدسات شمسيه ( غير طب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أخيرة : استخدام النظارة الطبية الني وصفها الاطباء</a:t>
            </a:r>
            <a:endParaRPr b="0" lang="en-US" sz="2400" spc="-1" strike="noStrike">
              <a:solidFill>
                <a:srgbClr val="000000"/>
              </a:solidFill>
              <a:latin typeface="Century Schoolbook"/>
            </a:endParaRPr>
          </a:p>
        </p:txBody>
      </p:sp>
      <p:sp>
        <p:nvSpPr>
          <p:cNvPr id="38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ربع نص 1"/>
          <p:cNvSpPr/>
          <p:nvPr/>
        </p:nvSpPr>
        <p:spPr>
          <a:xfrm>
            <a:off x="1763640" y="189000"/>
            <a:ext cx="7129440" cy="85064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طلق الباحثون في معالجه الطفل من حقيقه ان التشكيل لا يخلق سلوكيات جديده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ويعمل علي ان تصبح هذه السلوكيات قريبه اكثر فاكثر من السلوك المراد الوصول اليه </a:t>
            </a:r>
            <a:r>
              <a:rPr b="1" lang="ar-SA" sz="2400" spc="-1" strike="noStrike">
                <a:solidFill>
                  <a:srgbClr val="0070c0"/>
                </a:solidFill>
                <a:latin typeface="Century Schoolbook"/>
                <a:ea typeface="Times New Roman"/>
              </a:rPr>
              <a:t>( وهو لبس النظارة في هذه الحال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لهذا ابتدأ الباحثون باستخدام نظارات بلا عدسات ( </a:t>
            </a:r>
            <a:r>
              <a:rPr b="1" lang="ar-SA" sz="2400" spc="-1" strike="noStrike">
                <a:solidFill>
                  <a:srgbClr val="0070c0"/>
                </a:solidFill>
                <a:latin typeface="Century Schoolbook"/>
                <a:cs typeface="Times New Roman"/>
              </a:rPr>
              <a:t>الاطار فقظ ) </a:t>
            </a:r>
            <a:r>
              <a:rPr b="1" lang="ar-SA" sz="2400" spc="-1" strike="noStrike">
                <a:solidFill>
                  <a:srgbClr val="000000"/>
                </a:solidFill>
                <a:latin typeface="Century Schoolbook"/>
                <a:cs typeface="Times New Roman"/>
              </a:rPr>
              <a:t>وسيي ذلك هو انهم توقعوا ان النظارة الطبية التي وصفها الاطباء اصبحت مثيرا تجنبنا للطفل وذلك نتيجة لاقترانها بمحاولات الاهل المستمرة لا رغمه علي نفسها ومعاقبته واستنادا الي حقيقه ان العدسات الطبية تغير المثيرات البصرية كلها في البداي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بتدأ الباحثون بوضع عدد كبير جدا من النظارات في غرفة المعالجة وقاموا بتعزيز الطفل عند حمله لها واقترابه منها , بعد ذلك لجا الباحثون الي التقارب التدريجي </a:t>
            </a:r>
            <a:r>
              <a:rPr b="1" lang="ar-SA" sz="2400" spc="-1" strike="noStrike">
                <a:solidFill>
                  <a:srgbClr val="0070c0"/>
                </a:solidFill>
                <a:latin typeface="Century Schoolbook"/>
                <a:ea typeface="Times New Roman"/>
              </a:rPr>
              <a:t>( تعزيز الطفل عندما يقرب النظارة اكثر فاكثر من عينه وعدم تعزيزه عندما يبعدها عن وجهه) </a:t>
            </a:r>
            <a:r>
              <a:rPr b="1" lang="ar-SA" sz="2400" spc="-1" strike="noStrike">
                <a:solidFill>
                  <a:srgbClr val="000000"/>
                </a:solidFill>
                <a:latin typeface="Century Schoolbook"/>
                <a:cs typeface="Times New Roman"/>
              </a:rPr>
              <a:t>وكانت المعززات التي استخدمت في البداية انواعا مختلفة من الطعام والشراب يحبها الطفل.</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مربع نص 1"/>
          <p:cNvSpPr/>
          <p:nvPr/>
        </p:nvSpPr>
        <p:spPr>
          <a:xfrm>
            <a:off x="1619280" y="189000"/>
            <a:ext cx="7273800" cy="74091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عد ذلك ابتدأ الباحثون باستخدام نظارات ذات عدسات شمسيه </a:t>
            </a:r>
            <a:r>
              <a:rPr b="1" lang="ar-SA" sz="2400" spc="-1" strike="noStrike">
                <a:solidFill>
                  <a:srgbClr val="0070c0"/>
                </a:solidFill>
                <a:latin typeface="Century Schoolbook"/>
                <a:ea typeface="Times New Roman"/>
              </a:rPr>
              <a:t>(غير ظبيه )</a:t>
            </a:r>
            <a:r>
              <a:rPr b="1" lang="ar-SA" sz="2400" spc="-1" strike="noStrike">
                <a:solidFill>
                  <a:srgbClr val="000000"/>
                </a:solidFill>
                <a:latin typeface="Century Schoolbook"/>
                <a:ea typeface="Times New Roman"/>
              </a:rPr>
              <a:t> وفي المرحلة الأخيرة فقظ استخدموا النظارة الطبية التي وصفا الاطباء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ثناء فتره المعالجة اكتشفت الباحثون ان المعززات المستخدمة </a:t>
            </a:r>
            <a:r>
              <a:rPr b="1" lang="ar-SA" sz="2400" spc="-1" strike="noStrike">
                <a:solidFill>
                  <a:srgbClr val="0070c0"/>
                </a:solidFill>
                <a:latin typeface="Century Schoolbook"/>
                <a:ea typeface="Times New Roman"/>
              </a:rPr>
              <a:t>( الطعام والشراب )</a:t>
            </a:r>
            <a:r>
              <a:rPr b="1" lang="ar-SA" sz="2400" spc="-1" strike="noStrike">
                <a:solidFill>
                  <a:srgbClr val="000000"/>
                </a:solidFill>
                <a:latin typeface="Century Schoolbook"/>
                <a:ea typeface="Times New Roman"/>
              </a:rPr>
              <a:t> بدأت تفتقد فعاليتها ولذلك انتقلوا مباشره الي استخدام نشاطات مختلفة يحبها الطفل كمعززات بديله وكانت النشاطات متوفرة للطفل مادامت النظارة قريبه من عينه او علي يمينه وبمجرد رفعها عن عينه كان الطفل يحرم من فرصه الاستمرار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بالنشاط لقد كان هذا الاجراء فعالا جدا اذ عمل علي تحيق الاهداف المنشودة في فتره زمنيه قصيره نسبيا ولقد توقف الباحثون عن معالجه الطفل عندما اتضح لهم انه اصبح يلبس النظارة قرابيه </a:t>
            </a:r>
            <a:r>
              <a:rPr b="1" lang="ar-SA" sz="2400" spc="-1" strike="noStrike">
                <a:solidFill>
                  <a:srgbClr val="ff0000"/>
                </a:solidFill>
                <a:latin typeface="Century Schoolbook"/>
                <a:ea typeface="Times New Roman"/>
              </a:rPr>
              <a:t>12</a:t>
            </a:r>
            <a:r>
              <a:rPr b="1" lang="ar-SA" sz="2400" spc="-1" strike="noStrike">
                <a:solidFill>
                  <a:srgbClr val="ff0000"/>
                </a:solidFill>
                <a:latin typeface="Century Schoolbook"/>
                <a:ea typeface="Times New Roman"/>
              </a:rPr>
              <a:t> ساعه في اليوم الواحد</a:t>
            </a:r>
            <a:endParaRPr b="0" lang="en-US" sz="2400" spc="-1" strike="noStrike">
              <a:solidFill>
                <a:srgbClr val="000000"/>
              </a:solidFill>
              <a:latin typeface="Century Schoolbook"/>
            </a:endParaRPr>
          </a:p>
        </p:txBody>
      </p:sp>
      <p:sp>
        <p:nvSpPr>
          <p:cNvPr id="38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مربع نص 1"/>
          <p:cNvSpPr/>
          <p:nvPr/>
        </p:nvSpPr>
        <p:spPr>
          <a:xfrm>
            <a:off x="2195640" y="1844640"/>
            <a:ext cx="6337080" cy="3506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u="sng">
                <a:solidFill>
                  <a:srgbClr val="5fa326"/>
                </a:solidFill>
                <a:uFillTx/>
                <a:latin typeface="Century Schoolbook"/>
                <a:cs typeface="Times New Roman"/>
              </a:rPr>
              <a:t>الاطفاء</a:t>
            </a:r>
            <a:endParaRPr b="0" lang="en-US" sz="8800" spc="-1" strike="noStrike">
              <a:solidFill>
                <a:srgbClr val="000000"/>
              </a:solidFill>
              <a:latin typeface="Century School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5fa326"/>
                </a:solidFill>
                <a:uFillTx/>
                <a:latin typeface="Century Schoolbook"/>
              </a:rPr>
              <a:t>extinction</a:t>
            </a:r>
            <a:endParaRPr b="0" lang="en-US" sz="88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مربع نص 1"/>
          <p:cNvSpPr/>
          <p:nvPr/>
        </p:nvSpPr>
        <p:spPr>
          <a:xfrm>
            <a:off x="1979640" y="765000"/>
            <a:ext cx="6480000" cy="55803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تعريف:</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ذا كان السلوك الذي يعزز يقوي ويستمر فالسلوك الذي لا يعزز يضعف وقد يتوقف نهائيا بعد فتره زمنية معينة وهذا الافتراض الذي يستند اليه اجراء تقليل السلوك المسمى </a:t>
            </a:r>
            <a:r>
              <a:rPr b="1" lang="ar-SA" sz="2400" spc="-1" strike="noStrike">
                <a:solidFill>
                  <a:srgbClr val="0070c0"/>
                </a:solidFill>
                <a:latin typeface="Century Schoolbook"/>
                <a:ea typeface="Times New Roman"/>
              </a:rPr>
              <a:t>( التجاهل المنظم او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entury Schoolbook"/>
                <a:cs typeface="Times New Roman"/>
              </a:rPr>
              <a:t>فالأطفاء لا يشمل علي استخدام المثيرات البغيضة لتقليل السلوك غير المقبول , ولكنه يشتمل علي ايقاف او الغاء المعززات التي كانت تتبع السلوك غير المقبول في الماضي  والتي كانت تحافظ علي استمراريته . </a:t>
            </a:r>
            <a:endParaRPr b="0" lang="en-US" sz="2400" spc="-1" strike="noStrike">
              <a:solidFill>
                <a:srgbClr val="000000"/>
              </a:solidFill>
              <a:latin typeface="Century Schoolbook"/>
            </a:endParaRPr>
          </a:p>
        </p:txBody>
      </p:sp>
      <p:sp>
        <p:nvSpPr>
          <p:cNvPr id="38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1"/>
          <p:cNvSpPr/>
          <p:nvPr/>
        </p:nvSpPr>
        <p:spPr>
          <a:xfrm>
            <a:off x="1116000" y="55440"/>
            <a:ext cx="7589880" cy="8812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كيفية استخدام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قد يتخيل للقاري ان من السهل استخدام الاطفاء</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لكن في الحقيقة من الصعب تحديد جميع المعززات التي تحافظ علي استمرارية السلوك  وضبطها  ودون ذلك لن يكون الاطفاء فعالا وهذه الصعوبة تتم مواجهتها خاصه اذا كان السلوك المستهدف يخضع لجدول متقطع فالمعالج في هده الحالة قد لا تتوفر له الفرص لملاحظه سلوك الفرد بما فيه الكفاية ليحدد معززاته</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معززات الفرد وذلك يتم من خلال الملاحظة  المباشرة  وبالطبع قد يكون هناك اكثر من معزز واحد لذا علينا تحديد كل المعززات من اجل ايقافها جمع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استخدام اجراءات تعديل السلوك بشكل منظم ذوي اهمية قصوي لنجاحها وهذا المبدأ يكتسب اهميه خاصه عند استخدام الاطفاء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المواقف التي سيحدث فيها الاطفاء ويجب توضيح ذلك جيدا للفرد قبل البدء بتطبيق الاجراء</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حتي لو استخدام بمفرده اجراء فعال لتقليل السلوك ويكون فعال اكثر اذا عملنا علي تعزيز السلوك المقبولة في الوقت نفسه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التأكد من ان كل من يهمهم الامر ( المعلمين , الوالدين ) سيساهمون في انجاح هذا الاجراء </a:t>
            </a:r>
            <a:endParaRPr b="0" lang="en-US" sz="2400" spc="-1" strike="noStrike">
              <a:solidFill>
                <a:srgbClr val="000000"/>
              </a:solidFill>
              <a:latin typeface="Century Schoolbook"/>
            </a:endParaRPr>
          </a:p>
        </p:txBody>
      </p:sp>
      <p:sp>
        <p:nvSpPr>
          <p:cNvPr id="39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مربع نص 1"/>
          <p:cNvGrpSpPr/>
          <p:nvPr/>
        </p:nvGrpSpPr>
        <p:grpSpPr>
          <a:xfrm>
            <a:off x="2286000" y="476280"/>
            <a:ext cx="6388200" cy="5653440"/>
            <a:chOff x="2286000" y="476280"/>
            <a:chExt cx="6388200" cy="5653440"/>
          </a:xfrm>
        </p:grpSpPr>
        <p:pic>
          <p:nvPicPr>
            <p:cNvPr id="393" name="مربع نص 1" descr=""/>
            <p:cNvPicPr/>
            <p:nvPr/>
          </p:nvPicPr>
          <p:blipFill>
            <a:blip r:embed="rId1"/>
            <a:stretch/>
          </p:blipFill>
          <p:spPr>
            <a:xfrm>
              <a:off x="2286000" y="476280"/>
              <a:ext cx="6388200" cy="4400640"/>
            </a:xfrm>
            <a:prstGeom prst="rect">
              <a:avLst/>
            </a:prstGeom>
            <a:ln w="0">
              <a:noFill/>
            </a:ln>
          </p:spPr>
        </p:pic>
        <p:sp>
          <p:nvSpPr>
            <p:cNvPr id="394" name=""/>
            <p:cNvSpPr/>
            <p:nvPr/>
          </p:nvSpPr>
          <p:spPr>
            <a:xfrm>
              <a:off x="2484360" y="549360"/>
              <a:ext cx="60483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ستخدام الفعال للاطفاء يستلزم الانباه الي الخصائص التال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رغم من ان الاطفاء اجراء تقليل الا ان السلوك يقوي تقليديا في البداية بدلا من ان يضعف</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ودي الي ظهور استجابات انفعالية مختلفة في البداية ( كالعدوان او الغضب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لا يعمل علي ايقاف السلوك فورا بل ان توقف السلوك غالبا ما يكون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في بعض الاحيان قد يظهر السلوك من جديد بعد اختفائه وهده الظاهرة تسمي بالاستعادة التلقائية </a:t>
              </a:r>
              <a:endParaRPr b="0" lang="en-US" sz="2400" spc="-1" strike="noStrike">
                <a:solidFill>
                  <a:srgbClr val="000000"/>
                </a:solidFill>
                <a:latin typeface="Century Schoolbook"/>
              </a:endParaRPr>
            </a:p>
          </p:txBody>
        </p:sp>
      </p:grpSp>
      <p:sp>
        <p:nvSpPr>
          <p:cNvPr id="39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1476360" y="260280"/>
            <a:ext cx="741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قام علماء بمعالجه طفله متخلفة عقليا في التاسعة من عمرها كانت تتقيا يوميا علي نفسها في غرفه الصف وكانت هذه الطفلة قد عولجت بالأدوية دون فأئده قبل بدأيه هذه الدراسة وقبل البدء رسميا بالمعالجة حاول الباحثون تحليل سلوك الطفلة ( أي التعرف الي المتغيرات ذات العلاقة بالتقيؤ )  فتبين ان المعلمة كانت ترسلها الي البيت اذا تقيأت علي ملابسها ولاحظوا ايضا ان مساعدات المعلمة كن يطمئن الطفلة و ينظفن ملابسها ويعبرون لها عن الحنان والعطف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لهذا انطلق الباحثون في معالجتهم من افتراض ان المعزز الذي يعمل علي استمرار هذه المشكلة يتمثل في طمأنه مساعدات المعلمة للطفلة وتعبيرهن عن الحنان, وارسالها الي البيت فالبيت قد يكون اكثر قد يكون اكثر تعزيزا للطفلة من غرفه الصف لأسباب عديد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1476360" y="260280"/>
            <a:ext cx="74167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ومساعد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تجاهل الطفلة كاملا عندما تتقيا وابقاءها في غرفه الصف حتي لو تقيات علي ملابس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قد تقيأت الطفلة </a:t>
            </a:r>
            <a:r>
              <a:rPr b="0" lang="ar-SA" sz="2400" spc="-1" strike="noStrike">
                <a:solidFill>
                  <a:srgbClr val="000000"/>
                </a:solidFill>
                <a:latin typeface="Century Schoolbook"/>
                <a:ea typeface="Times New Roman"/>
              </a:rPr>
              <a:t>78</a:t>
            </a:r>
            <a:r>
              <a:rPr b="0" lang="ar-SA" sz="2400" spc="-1" strike="noStrike">
                <a:solidFill>
                  <a:srgbClr val="000000"/>
                </a:solidFill>
                <a:latin typeface="Century Schoolbook"/>
                <a:ea typeface="Times New Roman"/>
              </a:rPr>
              <a:t> مره  في التسعة والعشرين يوما الاولي من استخدام الاطفاء وفي اليوم الثلاثين أبتدات اثار الإطفاء تظهر اذا لم تتقيا الطفلة في ذلك اليوم ولم يحدث بعد ذلك ان تقيأت مره طوال فتره المتابعة والتي استمرت اكثر من خمسين يوما</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1"/>
          <p:cNvSpPr/>
          <p:nvPr/>
        </p:nvSpPr>
        <p:spPr>
          <a:xfrm>
            <a:off x="2843280" y="765000"/>
            <a:ext cx="561636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حاور المحاضرة:</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تشكيل.</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المرجع:</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يب , جمال  (</a:t>
            </a:r>
            <a:r>
              <a:rPr b="0" lang="ar-SA" sz="2400" spc="-1" strike="noStrike">
                <a:solidFill>
                  <a:srgbClr val="000000"/>
                </a:solidFill>
                <a:latin typeface="Century Schoolbook"/>
                <a:ea typeface="Times New Roman"/>
              </a:rPr>
              <a:t>1990</a:t>
            </a:r>
            <a:r>
              <a:rPr b="0" lang="ar-SA" sz="2400" spc="-1" strike="noStrike">
                <a:solidFill>
                  <a:srgbClr val="000000"/>
                </a:solidFill>
                <a:latin typeface="Century Schoolbook"/>
                <a:ea typeface="Times New Roman"/>
              </a:rPr>
              <a:t>). ”تعديل السلوك القوانين والاجراءات“</a:t>
            </a:r>
            <a:endParaRPr b="0" lang="en-US" sz="2400" spc="-1" strike="noStrike">
              <a:solidFill>
                <a:srgbClr val="000000"/>
              </a:solidFill>
              <a:latin typeface="Century Schoolbook"/>
            </a:endParaRPr>
          </a:p>
        </p:txBody>
      </p:sp>
      <p:sp>
        <p:nvSpPr>
          <p:cNvPr id="36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مربع نص 1"/>
          <p:cNvGrpSpPr/>
          <p:nvPr/>
        </p:nvGrpSpPr>
        <p:grpSpPr>
          <a:xfrm>
            <a:off x="2266920" y="512640"/>
            <a:ext cx="6400800" cy="6348600"/>
            <a:chOff x="2266920" y="512640"/>
            <a:chExt cx="6400800" cy="6348600"/>
          </a:xfrm>
        </p:grpSpPr>
        <p:pic>
          <p:nvPicPr>
            <p:cNvPr id="363" name="مربع نص 1" descr=""/>
            <p:cNvPicPr/>
            <p:nvPr/>
          </p:nvPicPr>
          <p:blipFill>
            <a:blip r:embed="rId1"/>
            <a:stretch/>
          </p:blipFill>
          <p:spPr>
            <a:xfrm>
              <a:off x="2266920" y="512640"/>
              <a:ext cx="6400800" cy="5381640"/>
            </a:xfrm>
            <a:prstGeom prst="rect">
              <a:avLst/>
            </a:prstGeom>
            <a:ln w="0">
              <a:noFill/>
            </a:ln>
          </p:spPr>
        </p:pic>
        <p:sp>
          <p:nvSpPr>
            <p:cNvPr id="364" name=""/>
            <p:cNvSpPr/>
            <p:nvPr/>
          </p:nvSpPr>
          <p:spPr>
            <a:xfrm>
              <a:off x="2484360" y="549360"/>
              <a:ext cx="604836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استطاعتنا تقويه السلوك المرغوب من خلال التشجيع ولكننا بالطبع لا نستطيع تعزيز السلوك الا بعد تأديته .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ما اذا كان الفرد لا يستطيع تأدية السلوك فكيف سأنفعل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ذلك قد يعني الانتظار مدة طويلة جدا دون ان يحدث السلوك.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لهذا علينا البحث عن اجراء نستطيع من خلاله اضافه سلوكيات جديدة الي ذخيره الفرد السلوك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مربع نص 1"/>
          <p:cNvGrpSpPr/>
          <p:nvPr/>
        </p:nvGrpSpPr>
        <p:grpSpPr>
          <a:xfrm>
            <a:off x="2419200" y="512640"/>
            <a:ext cx="6286680" cy="4154040"/>
            <a:chOff x="2419200" y="512640"/>
            <a:chExt cx="6286680" cy="4154040"/>
          </a:xfrm>
        </p:grpSpPr>
        <p:pic>
          <p:nvPicPr>
            <p:cNvPr id="367" name="مربع نص 1" descr=""/>
            <p:cNvPicPr/>
            <p:nvPr/>
          </p:nvPicPr>
          <p:blipFill>
            <a:blip r:embed="rId1"/>
            <a:stretch/>
          </p:blipFill>
          <p:spPr>
            <a:xfrm>
              <a:off x="2419200" y="512640"/>
              <a:ext cx="6286680" cy="3535560"/>
            </a:xfrm>
            <a:prstGeom prst="rect">
              <a:avLst/>
            </a:prstGeom>
            <a:ln w="0">
              <a:noFill/>
            </a:ln>
          </p:spPr>
        </p:pic>
        <p:sp>
          <p:nvSpPr>
            <p:cNvPr id="368" name=""/>
            <p:cNvSpPr/>
            <p:nvPr/>
          </p:nvSpPr>
          <p:spPr>
            <a:xfrm>
              <a:off x="2484360" y="549360"/>
              <a:ext cx="604836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جراء الذي يجعلنا قادرين علي تحقيق ذلك الهدف هو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cs typeface="Times New Roman"/>
                </a:rPr>
                <a:t>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سلوكيات التي نتعلم منها التشكيل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قراءة والكتابة والتحدث وقيادة السيارة والالعاب الرياضية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هارات الحياته اليومية , العناية بالذات , المهارات الاجتماعية والمهنية والحركية  ومهارة الاتصال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مربع نص 1"/>
          <p:cNvSpPr/>
          <p:nvPr/>
        </p:nvSpPr>
        <p:spPr>
          <a:xfrm>
            <a:off x="2411280" y="404640"/>
            <a:ext cx="6193080" cy="44830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يعرف 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جراء الذي يشمل علي تعزيز الايجابي المنظم للاستجابات التي تقترب شيئا فشيئا من السلوك النهائي بهدف احداث سلوك لا يوجد حالي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تشكيل : لا يعني خلق سلوكيات جديدة من لاشي فبالرغم من ان السلوك المستهدف ليس موجودا لدي الفرد الا انه غالبا ما يكون لديه سلوكيات قريبه من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مربع نص 1"/>
          <p:cNvSpPr/>
          <p:nvPr/>
        </p:nvSpPr>
        <p:spPr>
          <a:xfrm>
            <a:off x="1476360" y="404640"/>
            <a:ext cx="7128000" cy="63118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فاتيح النجاح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تمثل في كون التعزيز متوقفا عل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غير السلوك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عزيزه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كون السلوك الطفل باتجاه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جاهله ( عدم تعزيزه ) عندما ينحرف عن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ثال : اذا كان نزيد تعليم الطفل كيف يرسم دائرة فأننا نستطيع تعزيزه عندم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1</a:t>
            </a:r>
            <a:r>
              <a:rPr b="1" lang="ar-SA" sz="2400" spc="-1" strike="noStrike">
                <a:solidFill>
                  <a:srgbClr val="000000"/>
                </a:solidFill>
                <a:latin typeface="Century Schoolbook"/>
                <a:ea typeface="Times New Roman"/>
              </a:rPr>
              <a:t>-يحمل قلما وورقه في البدا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2</a:t>
            </a:r>
            <a:r>
              <a:rPr b="1" lang="ar-SA" sz="2400" spc="-1" strike="noStrike">
                <a:solidFill>
                  <a:srgbClr val="000000"/>
                </a:solidFill>
                <a:latin typeface="Century Schoolbook"/>
                <a:ea typeface="Times New Roman"/>
              </a:rPr>
              <a:t>- بعد ذلك نعززه عندما أي خط</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3</a:t>
            </a:r>
            <a:r>
              <a:rPr b="1" lang="ar-SA" sz="2400" spc="-1" strike="noStrike">
                <a:solidFill>
                  <a:srgbClr val="000000"/>
                </a:solidFill>
                <a:latin typeface="Century Schoolbook"/>
                <a:ea typeface="Times New Roman"/>
              </a:rPr>
              <a:t>-وبعدها نعززه فقط عندما يقترب الخط الذي يرسمه اكثر فاكثر من شكل الدائر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مربع نص 1"/>
          <p:cNvSpPr/>
          <p:nvPr/>
        </p:nvSpPr>
        <p:spPr>
          <a:xfrm>
            <a:off x="1835280" y="260280"/>
            <a:ext cx="68403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لقد اوضحت الدراسات العديد من الخطوات لستخدام اسلوب التشكيل بغعالية :</a:t>
            </a:r>
            <a:endParaRPr b="0" lang="en-US" sz="2400" spc="-1" strike="noStrike">
              <a:solidFill>
                <a:srgbClr val="000000"/>
              </a:solidFill>
              <a:latin typeface="Century Schoolbook"/>
            </a:endParaRPr>
          </a:p>
          <a:p>
            <a:pPr algn="r" rtl="1">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تحديد وتعريف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وه الاولي في التشكيل هو تحديد السلوك النهائي الذي يراد الوصول اليه وتعريفه بدقة وموضوعية علي شكل هدف سلوك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ea typeface="Times New Roman"/>
              </a:rPr>
              <a:t>2</a:t>
            </a:r>
            <a:r>
              <a:rPr b="1" lang="ar-SA" sz="2400" spc="-1" strike="noStrike">
                <a:solidFill>
                  <a:srgbClr val="ff0000"/>
                </a:solidFill>
                <a:latin typeface="Century Schoolbook"/>
                <a:ea typeface="Times New Roman"/>
              </a:rPr>
              <a:t>-تحديد وتعريف السلوك المدخل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نحتاج ان نعرف من اين نبدا . </a:t>
            </a:r>
            <a:endParaRPr b="0" lang="en-US" sz="2400" spc="-1" strike="noStrike">
              <a:solidFill>
                <a:srgbClr val="000000"/>
              </a:solidFill>
              <a:latin typeface="Century Schoolbook"/>
            </a:endParaRPr>
          </a:p>
          <a:p>
            <a:pPr algn="r" rtl="1">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35faa"/>
                </a:solidFill>
                <a:uFillTx/>
                <a:latin typeface="Century Schoolbook"/>
                <a:cs typeface="Times New Roman"/>
              </a:rPr>
              <a:t>تحديد نقطة البداية او السلوك المدخلي : </a:t>
            </a:r>
            <a:r>
              <a:rPr b="0" lang="ar-SA" sz="2400" spc="-1" strike="noStrike">
                <a:solidFill>
                  <a:srgbClr val="000000"/>
                </a:solidFill>
                <a:latin typeface="Century Schoolbook"/>
                <a:cs typeface="Times New Roman"/>
              </a:rPr>
              <a:t>اختيار استجابة فريبه من السلوك المرغوب لتعزيزها وتقويتها بهدف صياغه السلوك النهائي منه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مكن تحديد السلوك المدخلي  من خلال  الملاحظة المباشرة للفرد لعدة ايام قبل البدء بعملية التشكيل لتحديد ما يستطيع عمل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cs typeface="Times New Roman"/>
              </a:rPr>
              <a:t>يجب ان يتصف السلوك المدخلي بصفتين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تحدث بشكل متكرر ( نسبة حدوثه عالي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كون قريبا من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مربع نص 1"/>
          <p:cNvSpPr/>
          <p:nvPr/>
        </p:nvSpPr>
        <p:spPr>
          <a:xfrm>
            <a:off x="2095560" y="189000"/>
            <a:ext cx="66960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3</a:t>
            </a:r>
            <a:r>
              <a:rPr b="1" lang="ar-SA" sz="2400" spc="-1" strike="noStrike">
                <a:solidFill>
                  <a:srgbClr val="435faa"/>
                </a:solidFill>
                <a:latin typeface="Century Schoolbook"/>
                <a:ea typeface="Times New Roman"/>
              </a:rPr>
              <a:t>.اختيار معززات فعال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ملية التشكيل تتطلب من الفرد تغيير سلوكه بشكل متواصل ليصبح قريبا اكثر من السلوك النهائي . لهذا لابدا من المحافظة علي درجة عالية من الدافعية لديه , وهذا يستلزم اخيار المعززات المناسب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4</a:t>
            </a:r>
            <a:r>
              <a:rPr b="1" lang="ar-SA" sz="2400" spc="-1" strike="noStrike">
                <a:solidFill>
                  <a:srgbClr val="435faa"/>
                </a:solidFill>
                <a:latin typeface="Century Schoolbook"/>
                <a:ea typeface="Times New Roman"/>
              </a:rPr>
              <a:t>.الاستمرارية في تعزيزات السلوك المدخلي أي ان يصبح معدل حدوثه مرتفع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عد اختيار المعززات المناسبة يجب العمل علي تعزيز السلوك المدخلي بشكل متواصل فتعزيز السلوك المدخلي سيزيد من احتمالية حدوث تغير بسيط فيه مما سيجعل اكثر شبها ب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5</a:t>
            </a:r>
            <a:r>
              <a:rPr b="1" lang="ar-SA" sz="2400" spc="-1" strike="noStrike">
                <a:solidFill>
                  <a:srgbClr val="435faa"/>
                </a:solidFill>
                <a:latin typeface="Century Schoolbook"/>
                <a:ea typeface="Times New Roman"/>
              </a:rPr>
              <a:t>- الاتنتقال تدريجيا من مستوي اداء الي مستوي اخر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مبدأ العام الذي يجب لتباعه في تحديد المدة  اللازمة للانتقال من خطوه الي خطوه اخري هو العمل علي تعزيز الاداء ثلاث مرات الي خمس مرات قبل الانتقال الي المستوي التالي </a:t>
            </a:r>
            <a:endParaRPr b="0" lang="en-US" sz="2400" spc="-1" strike="noStrike">
              <a:solidFill>
                <a:srgbClr val="000000"/>
              </a:solidFill>
              <a:latin typeface="Century Schoolbook"/>
            </a:endParaRPr>
          </a:p>
        </p:txBody>
      </p:sp>
      <p:sp>
        <p:nvSpPr>
          <p:cNvPr id="37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مربع نص 1"/>
          <p:cNvSpPr/>
          <p:nvPr/>
        </p:nvSpPr>
        <p:spPr>
          <a:xfrm>
            <a:off x="2050920" y="620640"/>
            <a:ext cx="6408720" cy="67280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ة توضح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م ولف التشكيل لمعاجة طفل في الثلاثة من عمره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كان يعني من الساد المعروف  بتعميم عدسة العين</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ندما بلغ الثانية اجريت له عملية جراحية , يتواجب عليه لبس النظارة  الطبية ولقد باءت كل محاولات اهله والاطباء لاقناعه بلبس النظارة بالفشل . وعندما بلغ الثالثة من عمره قال اخصائيون ان الطفل سيفقد بصره اذا هو يلبس النظار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ام علاج التشكيل من اجل مساعدة الطفل علي لبس النظارة الطبي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اولي  تحديد هدف السلوكي : وهو لبس النظار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نية : وضع عدد كبير جدا من النظارات في غرفة المعالجة وقاموا بتعزيز الطفل عند حمله لها او اقترابه منها بدون زجاج</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1:15:38Z</dcterms:created>
  <dc:creator>user1</dc:creator>
  <dc:description/>
  <dc:language>en-US</dc:language>
  <cp:lastModifiedBy>Mac</cp:lastModifiedBy>
  <dcterms:modified xsi:type="dcterms:W3CDTF">2014-12-07T20:59:44Z</dcterms:modified>
  <cp:revision>52</cp:revision>
  <dc:subject/>
  <dc:title>الشريحة 1</dc:title>
</cp:coreProperties>
</file>