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52"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move the slide</a:t>
            </a:r>
            <a:endParaRPr b="0" lang="en-US" sz="3000" spc="-1" strike="noStrike">
              <a:solidFill>
                <a:srgbClr val="4e5b6f"/>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أ.نجلاء محمد القاسم . قسم السياسات التربويه ورياض الاطفال</a:t>
            </a:r>
            <a:endParaRPr b="0" lang="en-US" sz="1200" spc="-1" strike="noStrike">
              <a:solidFill>
                <a:srgbClr val="000000"/>
              </a:solidFill>
              <a:latin typeface="Times New Roman"/>
            </a:endParaRPr>
          </a:p>
        </p:txBody>
      </p:sp>
      <p:sp>
        <p:nvSpPr>
          <p:cNvPr id="357"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B134-3575-415A-A741-8EC40DB989B7}"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Calibri"/>
            </a:endParaRPr>
          </a:p>
        </p:txBody>
      </p:sp>
      <p:sp>
        <p:nvSpPr>
          <p:cNvPr id="402" name="عنصر نائب لرقم الشريحة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45B84-DD92-450B-9C46-2F685831640E}" type="slidenum">
              <a:rPr b="0" lang="ar-SA" sz="1200" spc="-1" strike="noStrike">
                <a:solidFill>
                  <a:srgbClr val="000000"/>
                </a:solidFill>
                <a:latin typeface="Century Schoolbook"/>
              </a:rPr>
              <a:t>&lt;number&gt;</a:t>
            </a:fld>
            <a:endParaRPr b="0" lang="en-US" sz="1200" spc="-1" strike="noStrike">
              <a:solidFill>
                <a:srgbClr val="000000"/>
              </a:solidFill>
              <a:latin typeface="Century Schoolbook"/>
            </a:endParaRPr>
          </a:p>
        </p:txBody>
      </p:sp>
      <p:sp>
        <p:nvSpPr>
          <p:cNvPr id="403" name="عنصر نائب للتذييل 4"/>
          <p:cNvSpPr/>
          <p:nvPr/>
        </p:nvSpPr>
        <p:spPr>
          <a:xfrm>
            <a:off x="388620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Century Schoolbook"/>
              </a:rPr>
              <a:t>أ.نجلاء محمد القاسم . قسم السياسات التربويه ورياض الاطفال</a:t>
            </a:r>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D55D57-50D9-4697-8FD0-0E08EDE7D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FD0AB-1CE5-4C03-A7E0-57E1BD0724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934B0-B8F6-4E93-A051-396CFB6857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63D93-6374-4214-84F9-9D28286B73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9E3DBB-7A81-4186-A9FE-EF288B68AD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5C1A7-3C42-45CE-80BC-DF42441C2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1A297-8BDA-483F-8C69-C1E1787DB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F242C2-3954-4C4E-9CCD-FDC29716F5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E59E3-E397-4D39-A693-BC9860DFE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80056E-B48C-46BE-8515-89BFC29DE1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DE70E-B90F-4B9A-A85D-E7BC3ED6F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07321-4B88-4778-A731-F5018F896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C8394-972F-49DD-BE56-0E1C7763E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D2AD9-A29A-4843-BFAA-5D1D8EF16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D4ABD-2797-4F30-9C09-50B09C060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DA072A-1DAE-4759-A99B-71F712FA9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672CDE-A6CB-44AA-ADA5-2EC9F8D3C0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F8CB306-8A77-4241-8BAC-9F989C3D4E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0F19480-AFD7-4B6F-B58A-2344B490F0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EFDB5F9-DDBC-4E44-AC33-D42C180747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E59CDF3-CDCA-4B9A-B099-2AA6C2F43B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DB1A80C-96AD-4776-8B03-396028FE7B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0D9F0-356E-4090-9373-000A32D51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86851349-897E-4519-8324-F04C048B7A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80794DB-01A2-41D6-B38F-AAB6186EC4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19F1DA8-3396-4B65-845B-6A1065905F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47B2EF0-0F6A-44EE-84A5-D01DAF7ECB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68A47A2-620C-491A-93E1-14049F4E21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CFC48E0-CB1D-484E-BD72-97D32EAF5B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C841163-8D1D-4AA0-BB35-2DBB08965B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E64BDE-F4C6-4A03-B3E2-5EFEBB42ED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129EDC-B183-4F06-9C59-4749CF5193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5DD5FC-17F8-4B47-B52F-97BECAEC8D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53803-EF23-4F3B-9420-07183AE71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89540F-1FFE-4058-B0CA-CF84E51216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BA8F84-1360-439D-8942-09CB4C4856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1BBF6D-ED73-4096-9C2F-5266D39784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34DB07-10DC-4F50-B228-E55F763080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F3CF77-8B32-4D31-9894-BFD1FF9A69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E5EFE4-AD19-414A-A496-458CFBF450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D896A5-EF74-4D16-A015-E21098F1DF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57C93E-AC8F-4752-BAAF-3319D5960C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E800E8E-A97D-4E9E-8ADB-ABACEEA164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2CEC378-B794-48D9-AF71-66B2C79C7B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5A4E9-85D3-4C77-ADC7-B42EFD69E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277BA3A-477D-4E0A-9694-D0DDF81E75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D7EE726-17E8-43D3-AFA6-249FE2D500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DD28C7C-3DAC-4B2F-8AF0-BB20A26C7F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A73864F-BD9C-4F2E-B496-8250A84887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B9EDCDC-1C04-4BBD-8FE9-9F52EF8577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3C6D20-BB38-426E-B222-04E2284F9C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41FF294-DCAE-4B87-BB81-7438095E59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007A466-E257-4116-A92D-F0B73F5C54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ECE2E05-9BD2-42E4-8E0E-B567561862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1E995F0-B4A7-41A7-B410-66A551AB5C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E00DA-CE39-408A-B23F-8877E0162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5D23A11-313E-461D-9850-5B1471D384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AF58FB94-5DB9-4290-836B-47A12A02F7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EBA0784-A5A9-4B62-BF42-5D61E3E313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B74A519-5687-4361-B759-02EBE25D67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BD357C8-4CDA-4618-B509-FD0790CC56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E05A3E4C-4101-4ECC-9372-7A3422B230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994ACB9-4819-4994-A1BD-2E73763EB8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84853D4-CD51-4944-9F52-DF07973347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10F14AE-BDA2-4C56-81DB-46F1A71961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15260CA-CCD7-4855-9E5D-D71FE238CD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1B295-E00D-41DB-B52F-90C6CFFD25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4CD530E-AFE7-46DC-81DF-849AE0F3A3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4D56326-73A7-4940-BB5B-CDB434F006C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491912F3-37AE-4CD4-AEA2-FD82DE8FEB9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0654055-3044-4609-A629-E9CFBAFA2C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95046CE-BAC2-4189-86CA-A874F1449D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1F5283F-48DB-443F-811A-45F8EAF87B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87913A3-56E3-4F07-AE63-0056E7E509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D602804-2E0C-410F-8E4A-9CEDB8ED11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C9BB72C-6888-4D1A-ACD0-0C1DC50A8A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BB94012-5A59-4B36-ABE4-CC32D09D3F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E09E1-D8BD-4F05-AEF4-4B43CB22E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2E747DF-110A-4AB3-9CB8-451B12224B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1F622EF-3096-4C01-B600-4C2DA89E12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C52E2F0-E34C-4431-A68E-441F0A8072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E76332A-402E-42E5-9153-F6787621AC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F86F04B-FED9-40B5-90EC-2E638716CE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5b6f"/>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BB7D8-3E19-4D83-BDCC-C2F36AC0F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رابط مستقيم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BEAE7-3733-4FA5-A7DC-4EE0D5FE6E43}" type="datetime">
              <a:rPr b="0" lang="ar-SA" sz="1200" spc="-1" strike="noStrike">
                <a:solidFill>
                  <a:srgbClr val="4e5b6f"/>
                </a:solidFill>
                <a:latin typeface="Times New Roman"/>
                <a:cs typeface="Times New Roman"/>
              </a:rPr>
              <a:t>١٤٤٨/٠٢/١٤</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
        <p:nvSpPr>
          <p:cNvPr id="5" name="رابط مستقيم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 name="رابط مستقيم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7" name="مستطيل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رابط مستقيم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9" name="شكل بيضاوي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C7E8-8B77-4A54-B687-72F49943C60E}"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مستطيل 12"/>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مستطيل 14"/>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مستطيل 16"/>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مستطيل 17"/>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رابط مستقيم 18"/>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2" name="رابط مستقيم 19"/>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3" name="رابط مستقيم 20"/>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4" name="رابط مستقيم 23"/>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5" name="رابط مستقيم 24"/>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6" name="رابط مستقيم 25"/>
          <p:cNvSpPr/>
          <p:nvPr/>
        </p:nvSpPr>
        <p:spPr>
          <a:xfrm>
            <a:off x="911376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7" name="مستطيل 26"/>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شكل بيضاوي 27"/>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شكل بيضاوي 28"/>
          <p:cNvSpPr/>
          <p:nvPr/>
        </p:nvSpPr>
        <p:spPr>
          <a:xfrm>
            <a:off x="1309680" y="4867200"/>
            <a:ext cx="64152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شكل بيضاوي 29"/>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شكل بيضاوي 30"/>
          <p:cNvSpPr/>
          <p:nvPr/>
        </p:nvSpPr>
        <p:spPr>
          <a:xfrm>
            <a:off x="1663560" y="578808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شكل بيضاوي 31"/>
          <p:cNvSpPr/>
          <p:nvPr/>
        </p:nvSpPr>
        <p:spPr>
          <a:xfrm>
            <a:off x="1905120" y="4495680"/>
            <a:ext cx="365040" cy="36540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FF6F5-9B4A-4CA6-B411-3B563367A3BA}" type="datetime">
              <a:rPr b="0" lang="ar-SA" sz="1200" spc="-1" strike="noStrike">
                <a:solidFill>
                  <a:srgbClr val="4e5b6f"/>
                </a:solidFill>
                <a:latin typeface="Times New Roman"/>
                <a:cs typeface="Times New Roman"/>
              </a:rPr>
              <a:t>١٤٤٨/٠٢/١٤</a:t>
            </a:fld>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3C0C-1256-492F-932C-23B00C8803A5}"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رابط مستقيم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5" name="رابط مستقيم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6" name="رابط مستقيم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7" name="مستطيل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رابط مستقيم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9" name="شكل بيضاوي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7FA57-2C87-4AFC-8A32-6C5435FB0E8F}" type="datetime">
              <a:rPr b="0" lang="ar-SA" sz="1200" spc="-1" strike="noStrike">
                <a:solidFill>
                  <a:srgbClr val="4e5b6f"/>
                </a:solidFill>
                <a:latin typeface="Times New Roman"/>
                <a:cs typeface="Times New Roman"/>
              </a:rPr>
              <a:t>١٤٤٨/٠٢/١٤</a:t>
            </a:fld>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AEBB-9161-4D4B-8ECD-4D54B5952531}"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e5b6f"/>
        </a:solidFill>
      </p:bgPr>
    </p:bg>
    <p:spTree>
      <p:nvGrpSpPr>
        <p:cNvPr id="1" name=""/>
        <p:cNvGrpSpPr/>
        <p:nvPr/>
      </p:nvGrpSpPr>
      <p:grpSpPr>
        <a:xfrm>
          <a:off x="0" y="0"/>
          <a:ext cx="0" cy="0"/>
          <a:chOff x="0" y="0"/>
          <a:chExt cx="0" cy="0"/>
        </a:xfrm>
      </p:grpSpPr>
      <p:sp>
        <p:nvSpPr>
          <p:cNvPr id="151" name="مستطيل 12"/>
          <p:cNvSpPr/>
          <p:nvPr/>
        </p:nvSpPr>
        <p:spPr>
          <a:xfrm>
            <a:off x="380880" y="0"/>
            <a:ext cx="609840" cy="6858000"/>
          </a:xfrm>
          <a:prstGeom prst="rect">
            <a:avLst/>
          </a:prstGeom>
          <a:solidFill>
            <a:srgbClr val="c0e5af">
              <a:alpha val="54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مستطيل 14"/>
          <p:cNvSpPr/>
          <p:nvPr/>
        </p:nvSpPr>
        <p:spPr>
          <a:xfrm>
            <a:off x="276120" y="0"/>
            <a:ext cx="104760" cy="6858000"/>
          </a:xfrm>
          <a:prstGeom prst="rect">
            <a:avLst/>
          </a:prstGeom>
          <a:solidFill>
            <a:srgbClr val="d8eece">
              <a:alpha val="36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مستطيل 16"/>
          <p:cNvSpPr/>
          <p:nvPr/>
        </p:nvSpPr>
        <p:spPr>
          <a:xfrm>
            <a:off x="990720" y="0"/>
            <a:ext cx="182520" cy="6858000"/>
          </a:xfrm>
          <a:prstGeom prst="rect">
            <a:avLst/>
          </a:prstGeom>
          <a:solidFill>
            <a:srgbClr val="d8eece">
              <a:alpha val="70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مستطيل 17"/>
          <p:cNvSpPr/>
          <p:nvPr/>
        </p:nvSpPr>
        <p:spPr>
          <a:xfrm>
            <a:off x="1141560" y="0"/>
            <a:ext cx="230040" cy="6858000"/>
          </a:xfrm>
          <a:prstGeom prst="rect">
            <a:avLst/>
          </a:prstGeom>
          <a:solidFill>
            <a:srgbClr val="ecf7e8">
              <a:alpha val="7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رابط مستقيم 18"/>
          <p:cNvSpPr/>
          <p:nvPr/>
        </p:nvSpPr>
        <p:spPr>
          <a:xfrm>
            <a:off x="106200" y="0"/>
            <a:ext cx="0" cy="6858000"/>
          </a:xfrm>
          <a:prstGeom prst="line">
            <a:avLst/>
          </a:prstGeom>
          <a:ln w="57240">
            <a:solidFill>
              <a:srgbClr val="c0e5af">
                <a:alpha val="7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6" name="رابط مستقيم 19"/>
          <p:cNvSpPr/>
          <p:nvPr/>
        </p:nvSpPr>
        <p:spPr>
          <a:xfrm>
            <a:off x="914400" y="0"/>
            <a:ext cx="0" cy="6858000"/>
          </a:xfrm>
          <a:prstGeom prst="line">
            <a:avLst/>
          </a:prstGeom>
          <a:ln w="57240">
            <a:solidFill>
              <a:srgbClr val="ecf7e8">
                <a:alpha val="8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7" name="رابط مستقيم 20"/>
          <p:cNvSpPr/>
          <p:nvPr/>
        </p:nvSpPr>
        <p:spPr>
          <a:xfrm>
            <a:off x="853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8" name="رابط مستقيم 23"/>
          <p:cNvSpPr/>
          <p:nvPr/>
        </p:nvSpPr>
        <p:spPr>
          <a:xfrm>
            <a:off x="1727280" y="0"/>
            <a:ext cx="0" cy="6858000"/>
          </a:xfrm>
          <a:prstGeom prst="line">
            <a:avLst/>
          </a:prstGeom>
          <a:ln w="28440">
            <a:solidFill>
              <a:srgbClr val="c0e5af">
                <a:alpha val="82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9" name="رابط مستقيم 24"/>
          <p:cNvSpPr/>
          <p:nvPr/>
        </p:nvSpPr>
        <p:spPr>
          <a:xfrm>
            <a:off x="1066680" y="0"/>
            <a:ext cx="0" cy="6858000"/>
          </a:xfrm>
          <a:prstGeom prst="line">
            <a:avLst/>
          </a:prstGeom>
          <a:ln w="936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0" name="مستطيل 25"/>
          <p:cNvSpPr/>
          <p:nvPr/>
        </p:nvSpPr>
        <p:spPr>
          <a:xfrm>
            <a:off x="1219320" y="0"/>
            <a:ext cx="75960" cy="6858000"/>
          </a:xfrm>
          <a:prstGeom prst="rect">
            <a:avLst/>
          </a:prstGeom>
          <a:solidFill>
            <a:srgbClr val="c0e5af">
              <a:alpha val="51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شكل بيضاوي 26"/>
          <p:cNvSpPr/>
          <p:nvPr/>
        </p:nvSpPr>
        <p:spPr>
          <a:xfrm>
            <a:off x="609480" y="3429000"/>
            <a:ext cx="1295640" cy="12952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شكل بيضاوي 27"/>
          <p:cNvSpPr/>
          <p:nvPr/>
        </p:nvSpPr>
        <p:spPr>
          <a:xfrm>
            <a:off x="1324080" y="4867200"/>
            <a:ext cx="642960" cy="64152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شكل بيضاوي 28"/>
          <p:cNvSpPr/>
          <p:nvPr/>
        </p:nvSpPr>
        <p:spPr>
          <a:xfrm>
            <a:off x="1090440" y="5500800"/>
            <a:ext cx="138240" cy="1364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شكل بيضاوي 29"/>
          <p:cNvSpPr/>
          <p:nvPr/>
        </p:nvSpPr>
        <p:spPr>
          <a:xfrm>
            <a:off x="1663560" y="5791320"/>
            <a:ext cx="274680" cy="27468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شكل بيضاوي 30"/>
          <p:cNvSpPr/>
          <p:nvPr/>
        </p:nvSpPr>
        <p:spPr>
          <a:xfrm>
            <a:off x="1879560" y="4479840"/>
            <a:ext cx="365040" cy="36504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رابط مستقيم 31"/>
          <p:cNvSpPr/>
          <p:nvPr/>
        </p:nvSpPr>
        <p:spPr>
          <a:xfrm>
            <a:off x="90979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6ecff"/>
                </a:solidFill>
                <a:latin typeface="Century Schoolbook"/>
              </a:rPr>
              <a:t>Click to edit the title text format</a:t>
            </a:r>
            <a:endParaRPr b="0" lang="en-US" sz="3000" spc="-1" strike="noStrike">
              <a:solidFill>
                <a:srgbClr val="d6ecff"/>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lgn="r" rtl="1">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2E46-9378-4DE8-9562-BA333FAA8FF8}" type="datetime">
              <a:rPr b="0" lang="ar-SA" sz="1200" spc="-1" strike="noStrike">
                <a:solidFill>
                  <a:srgbClr val="d6ecff"/>
                </a:solidFill>
                <a:latin typeface="Times New Roman"/>
                <a:cs typeface="Times New Roman"/>
              </a:rPr>
              <a:t>١٤٤٨/٠٢/١٤</a:t>
            </a:fld>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d6ecf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d6ecf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1707-2F51-4993-817F-71A06E7F26FF}"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رابط مستقيم 15"/>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09" name="رابط مستقيم 6"/>
          <p:cNvSpPr/>
          <p:nvPr/>
        </p:nvSpPr>
        <p:spPr>
          <a:xfrm>
            <a:off x="76320" y="0"/>
            <a:ext cx="0" cy="6858000"/>
          </a:xfrm>
          <a:prstGeom prst="line">
            <a:avLst/>
          </a:prstGeom>
          <a:ln w="5724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0" name="رابط مستقيم 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1" name="مستطيل 9"/>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رابط مستقيم 1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3" name="شكل بيضاوي 11"/>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C6558-9F65-4F1F-B482-A7DFDAD7E972}" type="datetime">
              <a:rPr b="0" lang="ar-SA" sz="1200" spc="-1" strike="noStrike">
                <a:solidFill>
                  <a:srgbClr val="4e5b6f"/>
                </a:solidFill>
                <a:latin typeface="Times New Roman"/>
                <a:cs typeface="Times New Roman"/>
              </a:rPr>
              <a:t>١٤٤٨/٠٢/١٤</a:t>
            </a:fld>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98F87-2691-4D79-BFC7-60D447D0F98D}"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رابط مستقيم 12"/>
          <p:cNvSpPr/>
          <p:nvPr/>
        </p:nvSpPr>
        <p:spPr>
          <a:xfrm>
            <a:off x="8763120" y="0"/>
            <a:ext cx="0" cy="6858000"/>
          </a:xfrm>
          <a:prstGeom prst="line">
            <a:avLst/>
          </a:prstGeom>
          <a:ln w="38160">
            <a:solidFill>
              <a:srgbClr val="c0e5af">
                <a:alpha val="93000"/>
              </a:srgbClr>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6" name="رابط مستقيم 14"/>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7" name="رابط مستقيم 17"/>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8" name="رابط مستقيم 18"/>
          <p:cNvSpPr/>
          <p:nvPr/>
        </p:nvSpPr>
        <p:spPr>
          <a:xfrm>
            <a:off x="8991720" y="0"/>
            <a:ext cx="0" cy="6858000"/>
          </a:xfrm>
          <a:prstGeom prst="line">
            <a:avLst/>
          </a:prstGeom>
          <a:ln w="1908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59" name="مستطيل 18"/>
          <p:cNvSpPr/>
          <p:nvPr/>
        </p:nvSpPr>
        <p:spPr>
          <a:xfrm>
            <a:off x="8839080" y="0"/>
            <a:ext cx="304920" cy="6858000"/>
          </a:xfrm>
          <a:prstGeom prst="rect">
            <a:avLst/>
          </a:prstGeom>
          <a:solidFill>
            <a:srgbClr val="c0e5af">
              <a:alpha val="87000"/>
            </a:srgbClr>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رابط مستقيم 20"/>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1" name="شكل بيضاوي 20"/>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D7A6-93F5-4675-9292-D373184A0F7B}" type="datetime">
              <a:rPr b="0" lang="ar-SA" sz="1200" spc="-1" strike="noStrike">
                <a:solidFill>
                  <a:srgbClr val="4e5b6f"/>
                </a:solidFill>
                <a:latin typeface="Times New Roman"/>
                <a:cs typeface="Times New Roman"/>
              </a:rPr>
              <a:t>١٤٤٨/٠٢/١٤</a:t>
            </a:fld>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F16E-798E-4551-9352-38BA4A332689}"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رابط مستقيم 12"/>
          <p:cNvSpPr/>
          <p:nvPr/>
        </p:nvSpPr>
        <p:spPr>
          <a:xfrm>
            <a:off x="87631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4" name="شكل بيضاوي 14"/>
          <p:cNvSpPr/>
          <p:nvPr/>
        </p:nvSpPr>
        <p:spPr>
          <a:xfrm>
            <a:off x="8156520" y="5715000"/>
            <a:ext cx="549360" cy="549360"/>
          </a:xfrm>
          <a:prstGeom prst="ellipse">
            <a:avLst/>
          </a:prstGeom>
          <a:solidFill>
            <a:srgbClr val="7fd13b"/>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رابط مستقيم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6" name="مستطيل 17"/>
          <p:cNvSpPr/>
          <p:nvPr/>
        </p:nvSpPr>
        <p:spPr>
          <a:xfrm>
            <a:off x="8839080" y="0"/>
            <a:ext cx="304920" cy="6858000"/>
          </a:xfrm>
          <a:prstGeom prst="rect">
            <a:avLst/>
          </a:prstGeom>
          <a:solidFill>
            <a:srgbClr val="c0e5af"/>
          </a:solid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رابط مستقيم 19"/>
          <p:cNvSpPr/>
          <p:nvPr/>
        </p:nvSpPr>
        <p:spPr>
          <a:xfrm>
            <a:off x="8915400" y="0"/>
            <a:ext cx="0" cy="6858000"/>
          </a:xfrm>
          <a:prstGeom prst="line">
            <a:avLst/>
          </a:prstGeom>
          <a:ln w="936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8" name="رابط مستقيم 19"/>
          <p:cNvSpPr/>
          <p:nvPr/>
        </p:nvSpPr>
        <p:spPr>
          <a:xfrm>
            <a:off x="6248520" y="0"/>
            <a:ext cx="0" cy="6858000"/>
          </a:xfrm>
          <a:prstGeom prst="line">
            <a:avLst/>
          </a:prstGeom>
          <a:ln w="38160">
            <a:solidFill>
              <a:srgbClr val="c0e5a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9" name="رابط مستقيم 23"/>
          <p:cNvSpPr/>
          <p:nvPr/>
        </p:nvSpPr>
        <p:spPr>
          <a:xfrm>
            <a:off x="6192720" y="0"/>
            <a:ext cx="0" cy="6858000"/>
          </a:xfrm>
          <a:prstGeom prst="line">
            <a:avLst/>
          </a:prstGeom>
          <a:ln w="12600">
            <a:solidFill>
              <a:srgbClr val="7fd13b"/>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e5b6f"/>
                </a:solidFill>
                <a:latin typeface="Century Schoolbook"/>
              </a:rPr>
              <a:t>Click to edit the title text format</a:t>
            </a:r>
            <a:endParaRPr b="0" lang="en-US" sz="3000" spc="-1" strike="noStrike">
              <a:solidFill>
                <a:srgbClr val="4e5b6f"/>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lgn="r" rtl="1">
              <a:spcBef>
                <a:spcPts val="601"/>
              </a:spcBef>
              <a:buClr>
                <a:srgbClr val="7fd13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lgn="r" rtl="1">
              <a:spcBef>
                <a:spcPts val="601"/>
              </a:spcBef>
              <a:buClr>
                <a:srgbClr val="7fd13b"/>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lgn="r" rtl="1">
              <a:spcBef>
                <a:spcPts val="601"/>
              </a:spcBef>
              <a:buClr>
                <a:srgbClr val="6fb8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lgn="r" rtl="1">
              <a:spcBef>
                <a:spcPts val="601"/>
              </a:spcBef>
              <a:buClr>
                <a:srgbClr val="c0e5a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lgn="r" rtl="1">
              <a:spcBef>
                <a:spcPts val="601"/>
              </a:spcBef>
              <a:buClr>
                <a:srgbClr val="f3aabe"/>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lgn="r" rtl="1">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7D388-4480-4367-B869-078E741DC9EA}" type="datetime">
              <a:rPr b="0" lang="ar-SA" sz="1200" spc="-1" strike="noStrike">
                <a:solidFill>
                  <a:srgbClr val="4e5b6f"/>
                </a:solidFill>
                <a:latin typeface="Times New Roman"/>
                <a:cs typeface="Times New Roman"/>
              </a:rPr>
              <a:t>١٤٤٨/٠٢/١٤</a:t>
            </a:fld>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1400" spc="-1" strike="noStrike">
                <a:solidFill>
                  <a:srgbClr val="ffffff"/>
                </a:solidFill>
                <a:latin typeface="Times New Roman"/>
                <a:ea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A3DD9-8589-4F58-9EBA-4AC04D0667FB}" type="slidenum">
              <a:rPr b="1"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4e5b6f"/>
                </a:solidFill>
                <a:latin typeface="Times New Roman"/>
                <a:cs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Times New Roman"/>
                <a:cs typeface="Times New Roman"/>
              </a:rPr>
              <a:t>أ.نجلاء محمد القاسم . محاضر قسم السياسات التربويه ورياض الأطفال</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مستطيل 3" descr=""/>
          <p:cNvPicPr/>
          <p:nvPr/>
        </p:nvPicPr>
        <p:blipFill>
          <a:blip r:embed="rId1"/>
          <a:stretch/>
        </p:blipFill>
        <p:spPr>
          <a:xfrm>
            <a:off x="2120760" y="1468440"/>
            <a:ext cx="6340680" cy="3011400"/>
          </a:xfrm>
          <a:prstGeom prst="rect">
            <a:avLst/>
          </a:prstGeom>
          <a:ln w="0">
            <a:noFill/>
          </a:ln>
        </p:spPr>
      </p:pic>
      <p:sp>
        <p:nvSpPr>
          <p:cNvPr id="359" name="عنصر نائب للتذييل 1"/>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مربع نص 1"/>
          <p:cNvSpPr/>
          <p:nvPr/>
        </p:nvSpPr>
        <p:spPr>
          <a:xfrm>
            <a:off x="2340000" y="476280"/>
            <a:ext cx="6408720" cy="338580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entury Schoolbook"/>
                <a:ea typeface="Times New Roman"/>
              </a:rPr>
              <a:t>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5faa"/>
                </a:solidFill>
                <a:latin typeface="Century Schoolbook"/>
                <a:cs typeface="Times New Roman"/>
              </a:rPr>
              <a:t>الخطوة الثالثة  التقارب التدريجي : تعزيز الطفل عندما يقرب النظارة اكثر فاكثر من عينية وعدم تعزيزه عندما يبعدها عن وجهه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5faa"/>
                </a:solidFill>
                <a:latin typeface="Century Schoolbook"/>
                <a:cs typeface="Times New Roman"/>
              </a:rPr>
              <a:t>الخطوة الرابعة :  استخدام نظارات ذات عدسات شمسيه ( غير طبي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5faa"/>
                </a:solidFill>
                <a:latin typeface="Century Schoolbook"/>
                <a:cs typeface="Times New Roman"/>
              </a:rPr>
              <a:t>الخطوة الأخيرة : استخدام النظارة الطبية الني وصفها الاطباء</a:t>
            </a:r>
            <a:endParaRPr b="0" lang="en-US" sz="2400" spc="-1" strike="noStrike">
              <a:solidFill>
                <a:srgbClr val="000000"/>
              </a:solidFill>
              <a:latin typeface="Century Schoolbook"/>
            </a:endParaRPr>
          </a:p>
        </p:txBody>
      </p:sp>
      <p:sp>
        <p:nvSpPr>
          <p:cNvPr id="381"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مربع نص 1"/>
          <p:cNvSpPr/>
          <p:nvPr/>
        </p:nvSpPr>
        <p:spPr>
          <a:xfrm>
            <a:off x="1763640" y="189000"/>
            <a:ext cx="7129440" cy="850644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نطلق الباحثون في معالجه الطفل من حقيقه ان التشكيل لا يخلق سلوكيات جديده </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 ويعمل علي ان تصبح هذه السلوكيات قريبه اكثر فاكثر من السلوك المراد الوصول اليه </a:t>
            </a:r>
            <a:r>
              <a:rPr b="1" lang="ar-SA" sz="2400" spc="-1" strike="noStrike">
                <a:solidFill>
                  <a:srgbClr val="0070c0"/>
                </a:solidFill>
                <a:latin typeface="Century Schoolbook"/>
                <a:ea typeface="Times New Roman"/>
              </a:rPr>
              <a:t>( وهو لبس النظارة في هذه الحالة )</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 لهذا ابتدأ الباحثون باستخدام نظارات بلا عدسات ( </a:t>
            </a:r>
            <a:r>
              <a:rPr b="1" lang="ar-SA" sz="2400" spc="-1" strike="noStrike">
                <a:solidFill>
                  <a:srgbClr val="0070c0"/>
                </a:solidFill>
                <a:latin typeface="Century Schoolbook"/>
                <a:cs typeface="Times New Roman"/>
              </a:rPr>
              <a:t>الاطار فقظ ) </a:t>
            </a:r>
            <a:r>
              <a:rPr b="1" lang="ar-SA" sz="2400" spc="-1" strike="noStrike">
                <a:solidFill>
                  <a:srgbClr val="000000"/>
                </a:solidFill>
                <a:latin typeface="Century Schoolbook"/>
                <a:cs typeface="Times New Roman"/>
              </a:rPr>
              <a:t>وسيي ذلك هو انهم توقعوا ان النظارة الطبية التي وصفها الاطباء اصبحت مثيرا تجنبنا للطفل وذلك نتيجة لاقترانها بمحاولات الاهل المستمرة لا رغمه علي نفسها ومعاقبته واستنادا الي حقيقه ان العدسات الطبية تغير المثيرات البصرية كلها في البداية .</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وابتدأ الباحثون بوضع عدد كبير جدا من النظارات في غرفة المعالجة وقاموا بتعزيز الطفل عند حمله لها واقترابه منها , بعد ذلك لجا الباحثون الي التقارب التدريجي </a:t>
            </a:r>
            <a:r>
              <a:rPr b="1" lang="ar-SA" sz="2400" spc="-1" strike="noStrike">
                <a:solidFill>
                  <a:srgbClr val="0070c0"/>
                </a:solidFill>
                <a:latin typeface="Century Schoolbook"/>
                <a:ea typeface="Times New Roman"/>
              </a:rPr>
              <a:t>( تعزيز الطفل عندما يقرب النظارة اكثر فاكثر من عينه وعدم تعزيزه عندما يبعدها عن وجهه) </a:t>
            </a:r>
            <a:r>
              <a:rPr b="1" lang="ar-SA" sz="2400" spc="-1" strike="noStrike">
                <a:solidFill>
                  <a:srgbClr val="000000"/>
                </a:solidFill>
                <a:latin typeface="Century Schoolbook"/>
                <a:cs typeface="Times New Roman"/>
              </a:rPr>
              <a:t>وكانت المعززات التي استخدمت في البداية انواعا مختلفة من الطعام والشراب يحبها الطفل.</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3"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مربع نص 1"/>
          <p:cNvSpPr/>
          <p:nvPr/>
        </p:nvSpPr>
        <p:spPr>
          <a:xfrm>
            <a:off x="1619280" y="189000"/>
            <a:ext cx="7273800" cy="740916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بعد ذلك ابتدأ الباحثون باستخدام نظارات ذات عدسات شمسيه </a:t>
            </a:r>
            <a:r>
              <a:rPr b="1" lang="ar-SA" sz="2400" spc="-1" strike="noStrike">
                <a:solidFill>
                  <a:srgbClr val="0070c0"/>
                </a:solidFill>
                <a:latin typeface="Century Schoolbook"/>
                <a:ea typeface="Times New Roman"/>
              </a:rPr>
              <a:t>(غير ظبيه )</a:t>
            </a:r>
            <a:r>
              <a:rPr b="1" lang="ar-SA" sz="2400" spc="-1" strike="noStrike">
                <a:solidFill>
                  <a:srgbClr val="000000"/>
                </a:solidFill>
                <a:latin typeface="Century Schoolbook"/>
                <a:ea typeface="Times New Roman"/>
              </a:rPr>
              <a:t> وفي المرحلة الأخيرة فقظ استخدموا النظارة الطبية التي وصفا الاطباء </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واثناء فتره المعالجة اكتشفت الباحثون ان المعززات المستخدمة </a:t>
            </a:r>
            <a:r>
              <a:rPr b="1" lang="ar-SA" sz="2400" spc="-1" strike="noStrike">
                <a:solidFill>
                  <a:srgbClr val="0070c0"/>
                </a:solidFill>
                <a:latin typeface="Century Schoolbook"/>
                <a:ea typeface="Times New Roman"/>
              </a:rPr>
              <a:t>( الطعام والشراب )</a:t>
            </a:r>
            <a:r>
              <a:rPr b="1" lang="ar-SA" sz="2400" spc="-1" strike="noStrike">
                <a:solidFill>
                  <a:srgbClr val="000000"/>
                </a:solidFill>
                <a:latin typeface="Century Schoolbook"/>
                <a:ea typeface="Times New Roman"/>
              </a:rPr>
              <a:t> بدأت تفتقد فعاليتها ولذلك انتقلوا مباشره الي استخدام نشاطات مختلفة يحبها الطفل كمعززات بديله وكانت النشاطات متوفرة للطفل مادامت النظارة قريبه من عينه او علي يمينه وبمجرد رفعها عن عينه كان الطفل يحرم من فرصه الاستمرار .</a:t>
            </a: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cs typeface="Times New Roman"/>
              </a:rPr>
              <a:t>بالنشاط لقد كان هذا الاجراء فعالا جدا اذ عمل علي تحيق الاهداف المنشودة في فتره زمنيه قصيره نسبيا ولقد توقف الباحثون عن معالجه الطفل عندما اتضح لهم انه اصبح يلبس النظارة قرابيه </a:t>
            </a:r>
            <a:r>
              <a:rPr b="1" lang="ar-SA" sz="2400" spc="-1" strike="noStrike">
                <a:solidFill>
                  <a:srgbClr val="ff0000"/>
                </a:solidFill>
                <a:latin typeface="Century Schoolbook"/>
                <a:ea typeface="Times New Roman"/>
              </a:rPr>
              <a:t>12</a:t>
            </a:r>
            <a:r>
              <a:rPr b="1" lang="ar-SA" sz="2400" spc="-1" strike="noStrike">
                <a:solidFill>
                  <a:srgbClr val="ff0000"/>
                </a:solidFill>
                <a:latin typeface="Century Schoolbook"/>
                <a:ea typeface="Times New Roman"/>
              </a:rPr>
              <a:t> ساعه في اليوم الواحد</a:t>
            </a:r>
            <a:endParaRPr b="0" lang="en-US" sz="2400" spc="-1" strike="noStrike">
              <a:solidFill>
                <a:srgbClr val="000000"/>
              </a:solidFill>
              <a:latin typeface="Century Schoolbook"/>
            </a:endParaRPr>
          </a:p>
        </p:txBody>
      </p:sp>
      <p:sp>
        <p:nvSpPr>
          <p:cNvPr id="385"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مربع نص 1"/>
          <p:cNvSpPr/>
          <p:nvPr/>
        </p:nvSpPr>
        <p:spPr>
          <a:xfrm>
            <a:off x="2195640" y="1844640"/>
            <a:ext cx="6337080" cy="35067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800" spc="-1" strike="noStrike" u="sng">
                <a:solidFill>
                  <a:srgbClr val="5fa326"/>
                </a:solidFill>
                <a:uFillTx/>
                <a:latin typeface="Century Schoolbook"/>
                <a:cs typeface="Times New Roman"/>
              </a:rPr>
              <a:t>الاطفاء</a:t>
            </a:r>
            <a:endParaRPr b="0" lang="en-US" sz="8800" spc="-1" strike="noStrike">
              <a:solidFill>
                <a:srgbClr val="000000"/>
              </a:solidFill>
              <a:latin typeface="Century Schoolbook"/>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u="sng">
                <a:solidFill>
                  <a:srgbClr val="5fa326"/>
                </a:solidFill>
                <a:uFillTx/>
                <a:latin typeface="Century Schoolbook"/>
              </a:rPr>
              <a:t>extinction</a:t>
            </a:r>
            <a:endParaRPr b="0" lang="en-US" sz="88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7"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مربع نص 1"/>
          <p:cNvSpPr/>
          <p:nvPr/>
        </p:nvSpPr>
        <p:spPr>
          <a:xfrm>
            <a:off x="1979640" y="765000"/>
            <a:ext cx="6480000" cy="558036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تعريف:</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ذا كان السلوك الذي يعزز يقوي ويستمر فالسلوك الذي لا يعزز يضعف وقد يتوقف نهائيا بعد فتره زمنية معينة وهذا الافتراض الذي يستند اليه اجراء تقليل السلوك المسمى </a:t>
            </a:r>
            <a:r>
              <a:rPr b="1" lang="ar-SA" sz="2400" spc="-1" strike="noStrike">
                <a:solidFill>
                  <a:srgbClr val="0070c0"/>
                </a:solidFill>
                <a:latin typeface="Century Schoolbook"/>
                <a:ea typeface="Times New Roman"/>
              </a:rPr>
              <a:t>( التجاهل المنظم او الاطفاء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Century Schoolbook"/>
                <a:cs typeface="Times New Roman"/>
              </a:rPr>
              <a:t>فالأطفاء لا يشمل علي استخدام المثيرات البغيضة لتقليل السلوك غير المقبول , ولكنه يشتمل علي ايقاف او الغاء المعززات التي كانت تتبع السلوك غير المقبول في الماضي  والتي كانت تحافظ علي استمراريته . </a:t>
            </a:r>
            <a:endParaRPr b="0" lang="en-US" sz="2400" spc="-1" strike="noStrike">
              <a:solidFill>
                <a:srgbClr val="000000"/>
              </a:solidFill>
              <a:latin typeface="Century Schoolbook"/>
            </a:endParaRPr>
          </a:p>
        </p:txBody>
      </p:sp>
      <p:sp>
        <p:nvSpPr>
          <p:cNvPr id="389"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مربع نص 1"/>
          <p:cNvSpPr/>
          <p:nvPr/>
        </p:nvSpPr>
        <p:spPr>
          <a:xfrm>
            <a:off x="1116000" y="55440"/>
            <a:ext cx="7589880" cy="8812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كيفية استخدام الاطفاء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Schoolbook"/>
                <a:ea typeface="Times New Roman"/>
              </a:rPr>
              <a:t>- قد يتخيل للقاري ان من السهل استخدام الاطفاء</a:t>
            </a:r>
            <a:endParaRPr b="0" lang="en-US" sz="20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entury Schoolbook"/>
                <a:ea typeface="Times New Roman"/>
              </a:rPr>
              <a:t>- لكن في الحقيقة من الصعب تحديد جميع المعززات التي تحافظ علي استمرارية السلوك  وضبطها  ودون ذلك لن يكون الاطفاء فعالا وهذه الصعوبة تتم مواجهتها خاصه اذا كان السلوك المستهدف يخضع لجدول متقطع فالمعالج في هده الحالة قد لا تتوفر له الفرص لملاحظه سلوك الفرد بما فيه الكفاية ليحدد معززاته</a:t>
            </a:r>
            <a:endParaRPr b="0" lang="en-US" sz="20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جب تحديد معززات الفرد وذلك يتم من خلال الملاحظة  المباشرة  وبالطبع قد يكون هناك اكثر من معزز واحد لذا علينا تحديد كل المعززات من اجل ايقافها جمعيا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ن استخدام اجراءات تعديل السلوك بشكل منظم ذوي اهمية قصوي لنجاحها وهذا المبدأ يكتسب اهميه خاصه عند استخدام الاطفاء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جب تحديد المواقف التي سيحدث فيها الاطفاء ويجب توضيح ذلك جيدا للفرد قبل البدء بتطبيق الاجراء</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لاطفاء حتي لو استخدام بمفرده اجراء فعال لتقليل السلوك ويكون فعال اكثر اذا عملنا علي تعزيز السلوك المقبولة في الوقت نفسه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جب التأكد من ان كل من يهمهم الامر ( المعلمين , الوالدين ) سيساهمون في انجاح هذا الاجراء </a:t>
            </a:r>
            <a:endParaRPr b="0" lang="en-US" sz="2400" spc="-1" strike="noStrike">
              <a:solidFill>
                <a:srgbClr val="000000"/>
              </a:solidFill>
              <a:latin typeface="Century Schoolbook"/>
            </a:endParaRPr>
          </a:p>
        </p:txBody>
      </p:sp>
      <p:sp>
        <p:nvSpPr>
          <p:cNvPr id="391"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2" name="مربع نص 1"/>
          <p:cNvGrpSpPr/>
          <p:nvPr/>
        </p:nvGrpSpPr>
        <p:grpSpPr>
          <a:xfrm>
            <a:off x="2286000" y="476280"/>
            <a:ext cx="6388200" cy="5653440"/>
            <a:chOff x="2286000" y="476280"/>
            <a:chExt cx="6388200" cy="5653440"/>
          </a:xfrm>
        </p:grpSpPr>
        <p:pic>
          <p:nvPicPr>
            <p:cNvPr id="393" name="مربع نص 1" descr=""/>
            <p:cNvPicPr/>
            <p:nvPr/>
          </p:nvPicPr>
          <p:blipFill>
            <a:blip r:embed="rId1"/>
            <a:stretch/>
          </p:blipFill>
          <p:spPr>
            <a:xfrm>
              <a:off x="2286000" y="476280"/>
              <a:ext cx="6388200" cy="4400640"/>
            </a:xfrm>
            <a:prstGeom prst="rect">
              <a:avLst/>
            </a:prstGeom>
            <a:ln w="0">
              <a:noFill/>
            </a:ln>
          </p:spPr>
        </p:pic>
        <p:sp>
          <p:nvSpPr>
            <p:cNvPr id="394" name=""/>
            <p:cNvSpPr/>
            <p:nvPr/>
          </p:nvSpPr>
          <p:spPr>
            <a:xfrm>
              <a:off x="2484360" y="549360"/>
              <a:ext cx="604836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entury Schoolbook"/>
                  <a:cs typeface="Times New Roman"/>
                </a:rPr>
                <a:t>الاستخدام الفعال للاطفاء يستلزم الانباه الي الخصائص التالي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برغم من ان الاطفاء اجراء تقليل الا ان السلوك يقوي تقليديا في البداية بدلا من ان يضعف</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ودي الي ظهور استجابات انفعالية مختلفة في البداية ( كالعدوان او الغضب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لاطفاء لا يعمل علي ايقاف السلوك فورا بل ان توقف السلوك غالبا ما يكون تدريجيا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في بعض الاحيان قد يظهر السلوك من جديد بعد اختفائه وهده الظاهرة تسمي بالاستعادة التلقائية </a:t>
              </a:r>
              <a:endParaRPr b="0" lang="en-US" sz="2400" spc="-1" strike="noStrike">
                <a:solidFill>
                  <a:srgbClr val="000000"/>
                </a:solidFill>
                <a:latin typeface="Century Schoolbook"/>
              </a:endParaRPr>
            </a:p>
          </p:txBody>
        </p:sp>
      </p:grpSp>
      <p:sp>
        <p:nvSpPr>
          <p:cNvPr id="395"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مربع نص 1"/>
          <p:cNvSpPr/>
          <p:nvPr/>
        </p:nvSpPr>
        <p:spPr>
          <a:xfrm>
            <a:off x="1476360" y="260280"/>
            <a:ext cx="741672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دراسه توضيحيه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قام علماء بمعالجه طفله متخلفة عقليا في التاسعة من عمرها كانت تتقيا يوميا علي نفسها في غرفه الصف وكانت هذه الطفلة قد عولجت بالأدوية دون فأئده قبل بدأيه هذه الدراسة وقبل البدء رسميا بالمعالجة حاول الباحثون تحليل سلوك الطفلة ( أي التعرف الي المتغيرات ذات العلاقة بالتقيؤ )  فتبين ان المعلمة كانت ترسلها الي البيت اذا تقيأت علي ملابسها ولاحظوا ايضا ان مساعدات المعلمة كن يطمئن الطفلة و ينظفن ملابسها ويعبرون لها عن الحنان والعطف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ولهذا انطلق الباحثون في معالجتهم من افتراض ان المعزز الذي يعمل علي استمرار هذه المشكلة يتمثل في طمأنه مساعدات المعلمة للطفلة وتعبيرهن عن الحنان, وارسالها الي البيت فالبيت قد يكون اكثر قد يكون اكثر تعزيزا للطفلة من غرفه الصف لأسباب عديده .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لهذا افترض الباحثون ان التيقوا في الحالة هو سلوك إجرائي ( ارادي )تقوم به الطفلة لتخطي باهتمام المعلمة ومساعداتها ولتخرج من المدرسة وتذهب الي بيته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p:txBody>
      </p:sp>
      <p:sp>
        <p:nvSpPr>
          <p:cNvPr id="397"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مربع نص 1"/>
          <p:cNvSpPr/>
          <p:nvPr/>
        </p:nvSpPr>
        <p:spPr>
          <a:xfrm>
            <a:off x="1476360" y="260280"/>
            <a:ext cx="741672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دراسه توضيحيه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لهذا افترض الباحثون ان التيقوا في الحالة هو سلوك إجرائي ( ارادي )تقوم به الطفلة لتخطي باهتمام المعلمة ومساعداتها ولتخرج من المدرسة وتذهب الي بيتها .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وبناء علي ذلك طلب الباحثون من المعلمة ومساعدتها ولتخرج من المدرسة وتذهب الي بيته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وبناء علي ذلك طلب الباحثون من المعلمة تجاهل الطفلة كاملا عندما تتقيا وابقاءها في غرفه الصف حتي لو تقيات علي ملابسه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لقد تقيأت الطفلة </a:t>
            </a:r>
            <a:r>
              <a:rPr b="0" lang="ar-SA" sz="2400" spc="-1" strike="noStrike">
                <a:solidFill>
                  <a:srgbClr val="000000"/>
                </a:solidFill>
                <a:latin typeface="Century Schoolbook"/>
                <a:ea typeface="Times New Roman"/>
              </a:rPr>
              <a:t>78</a:t>
            </a:r>
            <a:r>
              <a:rPr b="0" lang="ar-SA" sz="2400" spc="-1" strike="noStrike">
                <a:solidFill>
                  <a:srgbClr val="000000"/>
                </a:solidFill>
                <a:latin typeface="Century Schoolbook"/>
                <a:ea typeface="Times New Roman"/>
              </a:rPr>
              <a:t> مره  في التسعة والعشرين يوما الاولي من استخدام الاطفاء وفي اليوم الثلاثين أبتدات اثار الإطفاء تظهر اذا لم تتقيا الطفلة في ذلك اليوم ولم يحدث بعد ذلك ان تقيأت مره طوال فتره المتابعة والتي استمرت اكثر من خمسين يوما</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p:txBody>
      </p:sp>
      <p:sp>
        <p:nvSpPr>
          <p:cNvPr id="399"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مربع نص 1"/>
          <p:cNvSpPr/>
          <p:nvPr/>
        </p:nvSpPr>
        <p:spPr>
          <a:xfrm>
            <a:off x="2843280" y="765000"/>
            <a:ext cx="5616360" cy="338580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محاور المحاضرة:</a:t>
            </a:r>
            <a:endParaRPr b="0" lang="en-US" sz="2400" spc="-1" strike="noStrike">
              <a:solidFill>
                <a:srgbClr val="000000"/>
              </a:solidFill>
              <a:latin typeface="Century Schoolbook"/>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لتشكيل.</a:t>
            </a:r>
            <a:endParaRPr b="0" lang="en-US" sz="2400" spc="-1" strike="noStrike">
              <a:solidFill>
                <a:srgbClr val="000000"/>
              </a:solidFill>
              <a:latin typeface="Century Schoolbook"/>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ea typeface="Times New Roman"/>
              </a:rPr>
              <a:t> الاطفاء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المرجع:</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لخطيب , جمال  (</a:t>
            </a:r>
            <a:r>
              <a:rPr b="0" lang="ar-SA" sz="2400" spc="-1" strike="noStrike">
                <a:solidFill>
                  <a:srgbClr val="000000"/>
                </a:solidFill>
                <a:latin typeface="Century Schoolbook"/>
                <a:ea typeface="Times New Roman"/>
              </a:rPr>
              <a:t>1990</a:t>
            </a:r>
            <a:r>
              <a:rPr b="0" lang="ar-SA" sz="2400" spc="-1" strike="noStrike">
                <a:solidFill>
                  <a:srgbClr val="000000"/>
                </a:solidFill>
                <a:latin typeface="Century Schoolbook"/>
                <a:ea typeface="Times New Roman"/>
              </a:rPr>
              <a:t>). ”تعديل السلوك القوانين والاجراءات“</a:t>
            </a:r>
            <a:endParaRPr b="0" lang="en-US" sz="2400" spc="-1" strike="noStrike">
              <a:solidFill>
                <a:srgbClr val="000000"/>
              </a:solidFill>
              <a:latin typeface="Century Schoolbook"/>
            </a:endParaRPr>
          </a:p>
        </p:txBody>
      </p:sp>
      <p:sp>
        <p:nvSpPr>
          <p:cNvPr id="361"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مربع نص 1"/>
          <p:cNvGrpSpPr/>
          <p:nvPr/>
        </p:nvGrpSpPr>
        <p:grpSpPr>
          <a:xfrm>
            <a:off x="2266920" y="512640"/>
            <a:ext cx="6400800" cy="6348600"/>
            <a:chOff x="2266920" y="512640"/>
            <a:chExt cx="6400800" cy="6348600"/>
          </a:xfrm>
        </p:grpSpPr>
        <p:pic>
          <p:nvPicPr>
            <p:cNvPr id="363" name="مربع نص 1" descr=""/>
            <p:cNvPicPr/>
            <p:nvPr/>
          </p:nvPicPr>
          <p:blipFill>
            <a:blip r:embed="rId1"/>
            <a:stretch/>
          </p:blipFill>
          <p:spPr>
            <a:xfrm>
              <a:off x="2266920" y="512640"/>
              <a:ext cx="6400800" cy="5381640"/>
            </a:xfrm>
            <a:prstGeom prst="rect">
              <a:avLst/>
            </a:prstGeom>
            <a:ln w="0">
              <a:noFill/>
            </a:ln>
          </p:spPr>
        </p:pic>
        <p:sp>
          <p:nvSpPr>
            <p:cNvPr id="364" name=""/>
            <p:cNvSpPr/>
            <p:nvPr/>
          </p:nvSpPr>
          <p:spPr>
            <a:xfrm>
              <a:off x="2484360" y="549360"/>
              <a:ext cx="6048360" cy="631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باستطاعتنا تقويه السلوك المرغوب من خلال التشجيع ولكننا بالطبع لا نستطيع تعزيز السلوك الا بعد تأديته .  </a:t>
              </a: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ما اذا كان الفرد لا يستطيع تأدية السلوك فكيف سأنفعل ؟</a:t>
              </a: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 </a:t>
              </a: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ن ذلك قد يعني الانتظار مدة طويلة جدا دون ان يحدث السلوك. </a:t>
              </a: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just"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ولهذا علينا البحث عن اجراء نستطيع من خلاله اضافه سلوكيات جديدة الي ذخيره الفرد السلوكي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sp>
        <p:nvSpPr>
          <p:cNvPr id="365"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6" name="مربع نص 1"/>
          <p:cNvGrpSpPr/>
          <p:nvPr/>
        </p:nvGrpSpPr>
        <p:grpSpPr>
          <a:xfrm>
            <a:off x="2419200" y="512640"/>
            <a:ext cx="6286680" cy="4154040"/>
            <a:chOff x="2419200" y="512640"/>
            <a:chExt cx="6286680" cy="4154040"/>
          </a:xfrm>
        </p:grpSpPr>
        <p:pic>
          <p:nvPicPr>
            <p:cNvPr id="367" name="مربع نص 1" descr=""/>
            <p:cNvPicPr/>
            <p:nvPr/>
          </p:nvPicPr>
          <p:blipFill>
            <a:blip r:embed="rId1"/>
            <a:stretch/>
          </p:blipFill>
          <p:spPr>
            <a:xfrm>
              <a:off x="2419200" y="512640"/>
              <a:ext cx="6286680" cy="3535560"/>
            </a:xfrm>
            <a:prstGeom prst="rect">
              <a:avLst/>
            </a:prstGeom>
            <a:ln w="0">
              <a:noFill/>
            </a:ln>
          </p:spPr>
        </p:pic>
        <p:sp>
          <p:nvSpPr>
            <p:cNvPr id="368" name=""/>
            <p:cNvSpPr/>
            <p:nvPr/>
          </p:nvSpPr>
          <p:spPr>
            <a:xfrm>
              <a:off x="2484360" y="549360"/>
              <a:ext cx="6048360" cy="411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entury Schoolbook"/>
                  <a:cs typeface="Times New Roman"/>
                </a:rPr>
                <a:t>الاجراء الذي يجعلنا قادرين علي تحقيق ذلك الهدف هو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Century Schoolbook"/>
                  <a:cs typeface="Times New Roman"/>
                </a:rPr>
                <a:t>التشكيل</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Century Schoolbook"/>
                  <a:cs typeface="Times New Roman"/>
                </a:rPr>
                <a:t>السلوكيات التي نتعلم منها التشكيل :</a:t>
              </a:r>
              <a:endParaRPr b="0" lang="en-US" sz="2400" spc="-1" strike="noStrike">
                <a:solidFill>
                  <a:srgbClr val="000000"/>
                </a:solidFill>
                <a:latin typeface="Century Schoolbook"/>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لقراءة والكتابة والتحدث وقيادة السيارة والالعاب الرياضية .</a:t>
              </a:r>
              <a:endParaRPr b="0" lang="en-US" sz="2400" spc="-1" strike="noStrike">
                <a:solidFill>
                  <a:srgbClr val="000000"/>
                </a:solidFill>
                <a:latin typeface="Century Schoolbook"/>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مهارات الحياته اليومية , العناية بالذات , المهارات الاجتماعية والمهنية والحركية  ومهارة الاتصال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sp>
        <p:nvSpPr>
          <p:cNvPr id="369"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مربع نص 1"/>
          <p:cNvSpPr/>
          <p:nvPr/>
        </p:nvSpPr>
        <p:spPr>
          <a:xfrm>
            <a:off x="2411280" y="404640"/>
            <a:ext cx="6193080" cy="448308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يعرف التشكيل:</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لاجراء الذي يشمل علي تعزيز الايجابي المنظم للاستجابات التي تقترب شيئا فشيئا من السلوك النهائي بهدف احداث سلوك لا يوجد حالي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التشكيل : لا يعني خلق سلوكيات جديدة من لاشي فبالرغم من ان السلوك المستهدف ليس موجودا لدي الفرد الا انه غالبا ما يكون لديه سلوكيات قريبه منه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مربع نص 1"/>
          <p:cNvSpPr/>
          <p:nvPr/>
        </p:nvSpPr>
        <p:spPr>
          <a:xfrm>
            <a:off x="1476360" y="404640"/>
            <a:ext cx="7128000" cy="631188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مفاتيح النجاح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تمثل في كون التعزيز متوقفا علي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تغير السلوك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تعزيزه تدريجيا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يكون السلوك الطفل باتجاه السلوك النهائي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تجاهله ( عدم تعزيزه ) عندما ينحرف عن السلوك النهائي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cs typeface="Times New Roman"/>
              </a:rPr>
              <a:t>مثال : اذا كان نزيد تعليم الطفل كيف يرسم دائرة فأننا نستطيع تعزيزه عندم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1</a:t>
            </a:r>
            <a:r>
              <a:rPr b="1" lang="ar-SA" sz="2400" spc="-1" strike="noStrike">
                <a:solidFill>
                  <a:srgbClr val="000000"/>
                </a:solidFill>
                <a:latin typeface="Century Schoolbook"/>
                <a:ea typeface="Times New Roman"/>
              </a:rPr>
              <a:t>-يحمل قلما وورقه في البداية</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2</a:t>
            </a:r>
            <a:r>
              <a:rPr b="1" lang="ar-SA" sz="2400" spc="-1" strike="noStrike">
                <a:solidFill>
                  <a:srgbClr val="000000"/>
                </a:solidFill>
                <a:latin typeface="Century Schoolbook"/>
                <a:ea typeface="Times New Roman"/>
              </a:rPr>
              <a:t>- بعد ذلك نعززه عندما أي خط</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entury Schoolbook"/>
                <a:ea typeface="Times New Roman"/>
              </a:rPr>
              <a:t>3</a:t>
            </a:r>
            <a:r>
              <a:rPr b="1" lang="ar-SA" sz="2400" spc="-1" strike="noStrike">
                <a:solidFill>
                  <a:srgbClr val="000000"/>
                </a:solidFill>
                <a:latin typeface="Century Schoolbook"/>
                <a:ea typeface="Times New Roman"/>
              </a:rPr>
              <a:t>-وبعدها نعززه فقط عندما يقترب الخط الذي يرسمه اكثر فاكثر من شكل الدائر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مربع نص 1"/>
          <p:cNvSpPr/>
          <p:nvPr/>
        </p:nvSpPr>
        <p:spPr>
          <a:xfrm>
            <a:off x="1835280" y="260280"/>
            <a:ext cx="6840360" cy="7043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لقد اوضحت الدراسات العديد من الخطوات لستخدام اسلوب التشكيل بغعالية :</a:t>
            </a:r>
            <a:endParaRPr b="0" lang="en-US" sz="2400" spc="-1" strike="noStrike">
              <a:solidFill>
                <a:srgbClr val="000000"/>
              </a:solidFill>
              <a:latin typeface="Century Schoolbook"/>
            </a:endParaRPr>
          </a:p>
          <a:p>
            <a:pPr algn="r" rtl="1">
              <a:buClr>
                <a:srgbClr val="ff0000"/>
              </a:buClr>
              <a:buFont typeface="Century Schoolboo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cs typeface="Times New Roman"/>
              </a:rPr>
              <a:t>تحديد وتعريف السلوك النهائي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لخطوه الاولي في التشكيل هو تحديد السلوك النهائي الذي يراد الوصول اليه وتعريفه بدقة وموضوعية علي شكل هدف سلوكي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entury Schoolbook"/>
                <a:ea typeface="Times New Roman"/>
              </a:rPr>
              <a:t>2</a:t>
            </a:r>
            <a:r>
              <a:rPr b="1" lang="ar-SA" sz="2400" spc="-1" strike="noStrike">
                <a:solidFill>
                  <a:srgbClr val="ff0000"/>
                </a:solidFill>
                <a:latin typeface="Century Schoolbook"/>
                <a:ea typeface="Times New Roman"/>
              </a:rPr>
              <a:t>-تحديد وتعريف السلوك المدخلي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نحتاج ان نعرف من اين نبدا . </a:t>
            </a:r>
            <a:endParaRPr b="0" lang="en-US" sz="2400" spc="-1" strike="noStrike">
              <a:solidFill>
                <a:srgbClr val="000000"/>
              </a:solidFill>
              <a:latin typeface="Century Schoolbook"/>
            </a:endParaRPr>
          </a:p>
          <a:p>
            <a:pPr algn="r" rtl="1">
              <a:buClr>
                <a:srgbClr val="435fa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435faa"/>
                </a:solidFill>
                <a:uFillTx/>
                <a:latin typeface="Century Schoolbook"/>
                <a:cs typeface="Times New Roman"/>
              </a:rPr>
              <a:t>تحديد نقطة البداية او السلوك المدخلي : </a:t>
            </a:r>
            <a:r>
              <a:rPr b="0" lang="ar-SA" sz="2400" spc="-1" strike="noStrike">
                <a:solidFill>
                  <a:srgbClr val="000000"/>
                </a:solidFill>
                <a:latin typeface="Century Schoolbook"/>
                <a:cs typeface="Times New Roman"/>
              </a:rPr>
              <a:t>اختيار استجابة فريبه من السلوك المرغوب لتعزيزها وتقويتها بهدف صياغه السلوك النهائي منها .</a:t>
            </a:r>
            <a:endParaRPr b="0" lang="en-US" sz="2400" spc="-1" strike="noStrike">
              <a:solidFill>
                <a:srgbClr val="000000"/>
              </a:solidFill>
              <a:latin typeface="Century Schoolbook"/>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يمكن تحديد السلوك المدخلي  من خلال  الملاحظة المباشرة للفرد لعدة ايام قبل البدء بعملية التشكيل لتحديد ما يستطيع عمله .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35faa"/>
                </a:solidFill>
                <a:latin typeface="Century Schoolbook"/>
                <a:cs typeface="Times New Roman"/>
              </a:rPr>
              <a:t>يجب ان يتصف السلوك المدخلي بصفتين :</a:t>
            </a:r>
            <a:endParaRPr b="0" lang="en-US" sz="2400" spc="-1" strike="noStrike">
              <a:solidFill>
                <a:srgbClr val="000000"/>
              </a:solidFill>
              <a:latin typeface="Century Schoolbook"/>
            </a:endParaRPr>
          </a:p>
          <a:p>
            <a:pPr algn="r" rtl="1">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ن يتحدث بشكل متكرر ( نسبة حدوثه عالية )</a:t>
            </a:r>
            <a:endParaRPr b="0" lang="en-US" sz="2400" spc="-1" strike="noStrike">
              <a:solidFill>
                <a:srgbClr val="000000"/>
              </a:solidFill>
              <a:latin typeface="Century Schoolbook"/>
            </a:endParaRPr>
          </a:p>
          <a:p>
            <a:pPr algn="r" rtl="1">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ن يكون قريبا من السلوك النهائي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مربع نص 1"/>
          <p:cNvSpPr/>
          <p:nvPr/>
        </p:nvSpPr>
        <p:spPr>
          <a:xfrm>
            <a:off x="2095560" y="189000"/>
            <a:ext cx="669600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35faa"/>
                </a:solidFill>
                <a:latin typeface="Century Schoolbook"/>
                <a:ea typeface="Times New Roman"/>
              </a:rPr>
              <a:t>3</a:t>
            </a:r>
            <a:r>
              <a:rPr b="1" lang="ar-SA" sz="2400" spc="-1" strike="noStrike">
                <a:solidFill>
                  <a:srgbClr val="435faa"/>
                </a:solidFill>
                <a:latin typeface="Century Schoolbook"/>
                <a:ea typeface="Times New Roman"/>
              </a:rPr>
              <a:t>.اختيار معززات فعال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عملية التشكيل تتطلب من الفرد تغيير سلوكه بشكل متواصل ليصبح قريبا اكثر من السلوك النهائي . لهذا لابدا من المحافظة علي درجة عالية من الدافعية لديه , وهذا يستلزم اخيار المعززات المناسبة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35faa"/>
                </a:solidFill>
                <a:latin typeface="Century Schoolbook"/>
                <a:ea typeface="Times New Roman"/>
              </a:rPr>
              <a:t>4</a:t>
            </a:r>
            <a:r>
              <a:rPr b="1" lang="ar-SA" sz="2400" spc="-1" strike="noStrike">
                <a:solidFill>
                  <a:srgbClr val="435faa"/>
                </a:solidFill>
                <a:latin typeface="Century Schoolbook"/>
                <a:ea typeface="Times New Roman"/>
              </a:rPr>
              <a:t>.الاستمرارية في تعزيزات السلوك المدخلي أي ان يصبح معدل حدوثه مرتفعا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يعد اختيار المعززات المناسبة يجب العمل علي تعزيز السلوك المدخلي بشكل متواصل فتعزيز السلوك المدخلي سيزيد من احتمالية حدوث تغير بسيط فيه مما سيجعل اكثر شبها بالسلوك النهائي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435faa"/>
                </a:solidFill>
                <a:latin typeface="Century Schoolbook"/>
                <a:ea typeface="Times New Roman"/>
              </a:rPr>
              <a:t>5</a:t>
            </a:r>
            <a:r>
              <a:rPr b="1" lang="ar-SA" sz="2400" spc="-1" strike="noStrike">
                <a:solidFill>
                  <a:srgbClr val="435faa"/>
                </a:solidFill>
                <a:latin typeface="Century Schoolbook"/>
                <a:ea typeface="Times New Roman"/>
              </a:rPr>
              <a:t>- الاتنتقال تدريجيا من مستوي اداء الي مستوي اخر .</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لمبدأ العام الذي يجب لتباعه في تحديد المدة  اللازمة للانتقال من خطوه الي خطوه اخري هو العمل علي تعزيز الاداء ثلاث مرات الي خمس مرات قبل الانتقال الي المستوي التالي </a:t>
            </a:r>
            <a:endParaRPr b="0" lang="en-US" sz="2400" spc="-1" strike="noStrike">
              <a:solidFill>
                <a:srgbClr val="000000"/>
              </a:solidFill>
              <a:latin typeface="Century Schoolbook"/>
            </a:endParaRPr>
          </a:p>
        </p:txBody>
      </p:sp>
      <p:sp>
        <p:nvSpPr>
          <p:cNvPr id="377"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مربع نص 1"/>
          <p:cNvSpPr/>
          <p:nvPr/>
        </p:nvSpPr>
        <p:spPr>
          <a:xfrm>
            <a:off x="2050920" y="620640"/>
            <a:ext cx="6408720" cy="6728040"/>
          </a:xfrm>
          <a:prstGeom prst="rect">
            <a:avLst/>
          </a:prstGeom>
          <a:solidFill>
            <a:srgbClr val="ffffff"/>
          </a:solidFill>
          <a:ln w="25560">
            <a:solidFill>
              <a:srgbClr val="7fd13b"/>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5fa326"/>
                </a:solidFill>
                <a:uFillTx/>
                <a:latin typeface="Century Schoolbook"/>
                <a:cs typeface="Times New Roman"/>
              </a:rPr>
              <a:t>دراسة توضحية:</a:t>
            </a: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ستخدم ولف التشكيل لمعاجة طفل في الثلاثة من عمره </a:t>
            </a:r>
            <a:endParaRPr b="0" lang="en-US" sz="2400" spc="-1" strike="noStrike">
              <a:solidFill>
                <a:srgbClr val="000000"/>
              </a:solidFill>
              <a:latin typeface="Century Schoolbook"/>
            </a:endParaRPr>
          </a:p>
          <a:p>
            <a:pPr algn="r" rtl="1">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كان يعني من الساد المعروف  بتعميم عدسة العين</a:t>
            </a:r>
            <a:endParaRPr b="0" lang="en-US" sz="2400" spc="-1" strike="noStrike">
              <a:solidFill>
                <a:srgbClr val="000000"/>
              </a:solidFill>
              <a:latin typeface="Century Schoolbook"/>
            </a:endParaRPr>
          </a:p>
          <a:p>
            <a:pPr algn="r" rtl="1">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عندما بلغ الثانية اجريت له عملية جراحية , يتواجب عليه لبس النظارة  الطبية ولقد باءت كل محاولات اهله والاطباء لاقناعه بلبس النظارة بالفشل . وعندما بلغ الثالثة من عمره قال اخصائيون ان الطفل سيفقد بصره اذا هو يلبس النظارة </a:t>
            </a:r>
            <a:endParaRPr b="0" lang="en-US" sz="2400" spc="-1" strike="noStrike">
              <a:solidFill>
                <a:srgbClr val="000000"/>
              </a:solidFill>
              <a:latin typeface="Century Schoolbook"/>
            </a:endParaRPr>
          </a:p>
          <a:p>
            <a:pPr algn="r" rtl="1">
              <a:buClr>
                <a:srgbClr val="000000"/>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entury Schoolbook"/>
                <a:cs typeface="Times New Roman"/>
              </a:rPr>
              <a:t>استخدام علاج التشكيل من اجل مساعدة الطفل علي لبس النظارة الطبية</a:t>
            </a:r>
            <a:endParaRPr b="0" lang="en-US" sz="2400" spc="-1" strike="noStrike">
              <a:solidFill>
                <a:srgbClr val="000000"/>
              </a:solidFill>
              <a:latin typeface="Century Schoolbook"/>
            </a:endParaRPr>
          </a:p>
          <a:p>
            <a:pPr algn="r" rtl="1">
              <a:buClr>
                <a:srgbClr val="435fa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5faa"/>
                </a:solidFill>
                <a:latin typeface="Century Schoolbook"/>
                <a:cs typeface="Times New Roman"/>
              </a:rPr>
              <a:t>الخطوة الاولي  تحديد هدف السلوكي : وهو لبس النظارة</a:t>
            </a:r>
            <a:endParaRPr b="0" lang="en-US" sz="2400" spc="-1" strike="noStrike">
              <a:solidFill>
                <a:srgbClr val="000000"/>
              </a:solidFill>
              <a:latin typeface="Century Schoolbook"/>
            </a:endParaRPr>
          </a:p>
          <a:p>
            <a:pPr algn="r" rtl="1">
              <a:buClr>
                <a:srgbClr val="435fa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435faa"/>
                </a:solidFill>
                <a:latin typeface="Century Schoolbook"/>
                <a:cs typeface="Times New Roman"/>
              </a:rPr>
              <a:t>الخطوة الثانية : وضع عدد كبير جدا من النظارات في غرفة المعالجة وقاموا بتعزيز الطفل عند حمله لها او اقترابه منها بدون زجاج</a:t>
            </a:r>
            <a:endParaRPr b="0" lang="en-US" sz="2400" spc="-1" strike="noStrike">
              <a:solidFill>
                <a:srgbClr val="000000"/>
              </a:solidFill>
              <a:latin typeface="Century Schoolbook"/>
            </a:endParaRPr>
          </a:p>
          <a:p>
            <a:pPr algn="r" rtl="1">
              <a:buClr>
                <a:srgbClr val="435faa"/>
              </a:buClr>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9" name="عنصر نائب للتذييل 2"/>
          <p:cNvSpPr/>
          <p:nvPr/>
        </p:nvSpPr>
        <p:spPr>
          <a:xfrm rot="5400000">
            <a:off x="7076520" y="4181400"/>
            <a:ext cx="3657600" cy="384120"/>
          </a:xfrm>
          <a:prstGeom prst="rect">
            <a:avLst/>
          </a:prstGeom>
          <a:noFill/>
          <a:ln w="0">
            <a:noFill/>
          </a:ln>
        </p:spPr>
        <p:style>
          <a:lnRef idx="0"/>
          <a:fillRef idx="0"/>
          <a:effectRef idx="0"/>
          <a:fontRef idx="minor"/>
        </p:style>
        <p:txBody>
          <a:bodyPr lIns="90000" rIns="90000" tIns="46800" bIns="46800" anchor="ctr">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4e5b6f"/>
                </a:solidFill>
                <a:latin typeface="Century Schoolbook"/>
                <a:cs typeface="Times New Roman"/>
              </a:rPr>
              <a:t>أ.نجلاء محمد القاسم . محاضر قسم السياسات التربويه ورياض الأطفال</a:t>
            </a:r>
            <a:endParaRPr b="0" lang="en-US" sz="1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8T11:15:38Z</dcterms:created>
  <dc:creator>user1</dc:creator>
  <dc:description/>
  <dc:language>en-US</dc:language>
  <cp:lastModifiedBy>Mac</cp:lastModifiedBy>
  <dcterms:modified xsi:type="dcterms:W3CDTF">2014-12-07T20:59:44Z</dcterms:modified>
  <cp:revision>52</cp:revision>
  <dc:subject/>
  <dc:title>الشريحة 1</dc:title>
</cp:coreProperties>
</file>