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B07-86D9-42D3-B4E3-53D2A98F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9ED-A8AC-47A4-B6D3-E1DB3F72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0516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032-7668-400C-8A05-7446D6D8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3004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40288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3004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40288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4DB-1F74-4B73-809A-5633850E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982E-60B8-4E30-BAE7-393E0660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2947-06B1-4AA5-81D2-4AF282DB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5C68-B9B3-4015-9AC4-A0D99527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30AB-ECDF-4FAD-90EA-9B59CD48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CD16-391A-4CAF-B7EB-B333EFB5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7313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4DF0-4B4F-4445-BBC4-412B4811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AF8D-21F7-4370-B2F2-4F91223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E67-500D-4712-9FE2-8384D5E6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0516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381B-1770-4197-B9E2-DC439727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3936-968B-4183-841D-0FE5C8C0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6631-A5BC-4889-AB2A-051BAD36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20516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133A-A320-4381-9003-13E20E60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93004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40288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93004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40288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4AE4-DC35-4197-BD06-CDAD8D6A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FC4-B07C-49D5-AC60-E5684372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A39-4D45-415B-9EF0-D872E67C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A66-E003-4078-B732-EE0DCBFB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7313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1BB-E319-40F0-881E-CB3E9304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472-AAC3-41CC-932B-E651BDBA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0516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C81-DE44-43B1-A641-91380470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F43-B953-47B7-AD96-80342838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-720"/>
            <a:ext cx="6705720" cy="4800600"/>
          </a:xfrm>
          <a:prstGeom prst="rtTriangle">
            <a:avLst/>
          </a:prstGeom>
          <a:gradFill rotWithShape="0">
            <a:gsLst>
              <a:gs pos="0">
                <a:srgbClr val="540054"/>
              </a:gs>
              <a:gs pos="100000">
                <a:srgbClr val="26002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21208800">
            <a:off x="7238520" y="2590920"/>
            <a:ext cx="774720" cy="384804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21208800">
            <a:off x="6641640" y="2209680"/>
            <a:ext cx="774720" cy="384840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21208800">
            <a:off x="7860960" y="2438280"/>
            <a:ext cx="774720" cy="384840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E7E9-3D29-4D94-BAAC-F6FF263D7CB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467480" y="5029200"/>
            <a:ext cx="1476360" cy="1676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032520" y="0"/>
            <a:ext cx="2185920" cy="2514600"/>
          </a:xfrm>
          <a:prstGeom prst="ellipse">
            <a:avLst/>
          </a:prstGeom>
          <a:gradFill rotWithShape="0">
            <a:gsLst>
              <a:gs pos="0">
                <a:srgbClr val="260026"/>
              </a:gs>
              <a:gs pos="100000">
                <a:srgbClr val="540054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23240" y="152280"/>
            <a:ext cx="2120760" cy="2438640"/>
          </a:xfrm>
          <a:prstGeom prst="ellipse">
            <a:avLst/>
          </a:prstGeom>
          <a:gradFill rotWithShape="0">
            <a:gsLst>
              <a:gs pos="0">
                <a:srgbClr val="260026"/>
              </a:gs>
              <a:gs pos="100000">
                <a:srgbClr val="540054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642000" y="152280"/>
            <a:ext cx="1987560" cy="2667240"/>
          </a:xfrm>
          <a:prstGeom prst="ellipse">
            <a:avLst/>
          </a:prstGeom>
          <a:gradFill rotWithShape="0">
            <a:gsLst>
              <a:gs pos="0">
                <a:srgbClr val="260026"/>
              </a:gs>
              <a:gs pos="100000">
                <a:srgbClr val="5400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cc99ff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c99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12" name=""/>
          <p:cNvSpPr/>
          <p:nvPr/>
        </p:nvSpPr>
        <p:spPr>
          <a:xfrm>
            <a:off x="380880" y="762120"/>
            <a:ext cx="7315200" cy="152280"/>
          </a:xfrm>
          <a:prstGeom prst="rect">
            <a:avLst/>
          </a:prstGeom>
          <a:solidFill>
            <a:srgbClr val="540054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001a"/>
            </a:gs>
            <a:gs pos="100000">
              <a:srgbClr val="66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499A-43C2-40AA-B8EE-05CF29F607E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1143000" y="-1143000"/>
            <a:ext cx="6858000" cy="9144000"/>
          </a:xfrm>
          <a:prstGeom prst="rtTriangle">
            <a:avLst/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762120"/>
            <a:ext cx="7848720" cy="1600200"/>
          </a:xfrm>
          <a:prstGeom prst="rect">
            <a:avLst/>
          </a:prstGeom>
          <a:solidFill>
            <a:srgbClr val="3e003e"/>
          </a:solid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208800">
            <a:off x="7238520" y="2590920"/>
            <a:ext cx="774720" cy="384804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1208800">
            <a:off x="6641640" y="2209680"/>
            <a:ext cx="774720" cy="384840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1208800">
            <a:off x="7860960" y="2438280"/>
            <a:ext cx="774720" cy="384840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038480"/>
            <a:ext cx="6324480" cy="1752840"/>
          </a:xfrm>
          <a:prstGeom prst="rect">
            <a:avLst/>
          </a:prstGeom>
          <a:solidFill>
            <a:srgbClr val="3e003e"/>
          </a:solid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32520" y="0"/>
            <a:ext cx="2185920" cy="2514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3240" y="152280"/>
            <a:ext cx="2120760" cy="2438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42000" y="152280"/>
            <a:ext cx="1987560" cy="2667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6781680" y="380880"/>
            <a:ext cx="1738440" cy="1974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4"/>
          <p:cNvSpPr>
            <a:spLocks noGrp="1"/>
          </p:cNvSpPr>
          <p:nvPr>
            <p:ph type="title"/>
          </p:nvPr>
        </p:nvSpPr>
        <p:spPr>
          <a:xfrm>
            <a:off x="457200" y="764640"/>
            <a:ext cx="5562720" cy="14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e6ff"/>
                </a:solidFill>
                <a:latin typeface="ACaslon Bold"/>
              </a:rPr>
              <a:t>Click to edit the title text format</a:t>
            </a:r>
            <a:endParaRPr b="1" lang="en-US" sz="40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ACaslon Bold"/>
              </a:rPr>
              <a:t>Click to edit the outline text format</a:t>
            </a: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cc99ff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1e6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d1e6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1e6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d1e6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cc99ff"/>
              </a:buClr>
              <a:buSzPct val="60000"/>
              <a:buFont typeface="Wingdings" charset="2"/>
              <a:buChar char="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1e6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d1e6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1e6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d1e6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1e6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001a"/>
            </a:gs>
            <a:gs pos="100000">
              <a:srgbClr val="66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56390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Caslon Bold"/>
              </a:rPr>
              <a:t>The ABC’s of </a:t>
            </a:r>
            <a:br>
              <a:rPr sz="3600"/>
            </a:br>
            <a:r>
              <a:rPr b="1" lang="en-US" sz="3600" spc="-1" strike="noStrike">
                <a:solidFill>
                  <a:srgbClr val="d1e6ff"/>
                </a:solidFill>
                <a:latin typeface="ACaslon Bold"/>
              </a:rPr>
              <a:t>Pediatric Physical Therapy</a:t>
            </a:r>
            <a:endParaRPr b="1" lang="en-US" sz="36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2880" y="4038120"/>
            <a:ext cx="62532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ACaslon Bold"/>
              </a:rPr>
              <a:t>The Section on Pediatrics</a:t>
            </a: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ACaslon Bold"/>
              </a:rPr>
              <a:t>American Physical Therapy Association</a:t>
            </a: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31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Starting a child in Pediatric Physical Therapy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31376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First, an interview is completed to identify the child’s needs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Next, an examination &amp; evaluation is completed of the child in the context of his/her daily routines &amp; activities.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The Physical Therapy Evaluation asseses the child’s: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6960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Mobilit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Muscle and joint function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trength and enduranc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ardiopulmonary statu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osture and balanc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Oral motor skills &amp; feed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ensory &amp; neuromotor developmen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Use of assistive technolog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Pediatric Physical Therapy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Includes collaboration &amp; coach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Occurs in natural learning environments, such a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Hom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hild care center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reschools &amp; school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Job sit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Hospitals &amp; Clinics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7619760" cy="25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hildren also may receive Pediatric Physical Therapy in hospitals &amp; clinics when the child is receiving care for related medical conditions or during acute care episodes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Is Your Child Entitled to Services?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ll children ages birth to 21 eligible for: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35480" indent="-28296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arly intervention or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35480" indent="-28296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pecial education &amp; related servic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35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re entitled to Pediatric PT through </a:t>
            </a:r>
            <a:r>
              <a:rPr b="0" i="1" lang="en-US" sz="2900" spc="-1" strike="noStrike">
                <a:solidFill>
                  <a:srgbClr val="d1e6ff"/>
                </a:solidFill>
                <a:latin typeface="Verdana"/>
              </a:rPr>
              <a:t>IDEA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35480" indent="-28296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Federal Legislation: Public Law 105-17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35480" indent="-28296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d1e6ff"/>
                </a:solidFill>
                <a:latin typeface="Verdana"/>
              </a:rPr>
              <a:t>The Individuals with Disabilities Education Ac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Additional Federal Legislation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1e6ff"/>
                </a:solidFill>
                <a:latin typeface="Verdana"/>
              </a:rPr>
              <a:t>The Rehabilitation Act, Section 504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Requires provision of reasonable accommodations, including PT, for persons with disabiliti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1e6ff"/>
                </a:solidFill>
                <a:latin typeface="Verdana"/>
              </a:rPr>
              <a:t>The Americans with Disabilities Ac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rotects rights of all individuals with disabiliti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31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Evidence-Based Practice (EBP) &amp; Pediatric Physical Therapy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31376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BP” is the integration of research findings, clinical expertise, &amp; values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ediatric Physical Therapists and Assistants use EBP in order to collaborate with families, health care providers &amp; educators to provide best practice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313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Evidence-Based Practice supports the use of therapy interventions, such as: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313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Developmental activiti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trengthen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Movement and mobilit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Tone managemen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Motor learn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Balance &amp; coordination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Recreation, play and leisur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4" dur="1" fill="hold"/>
                                  <p:tgtEl>
                                    <p:spTgt spid="13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EBP &amp; Interventions (continued):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daptation of daily care &amp; routin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quipment design, fabrication &amp; fitt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Orthotics and prosthetic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Burn and wound car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ardiopulmonary enduranc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afety and prevention program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Use of assistive technolog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3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Licensing of Physical Therapists and Assistants?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3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Each State has laws governing licensure and practice of physical therapy.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All physical therapists and assistants are graduates of an accredited university. Today, that degree is a graduate degree for physical therapists and an associate degree for assistants.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Pediatric Physical Therapists have specialty training in &amp; a desire to work with children and families.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2" dur="1" fill="hold"/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Pediatric Physical Therapists and Assistants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3137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e6ff"/>
                </a:solidFill>
                <a:latin typeface="Verdana"/>
              </a:rPr>
              <a:t>Highly educated, clinically trained professionals</a:t>
            </a:r>
            <a:endParaRPr b="0" lang="en-US" sz="32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e6ff"/>
                </a:solidFill>
                <a:latin typeface="Verdana"/>
              </a:rPr>
              <a:t>Work with individuals birth through adulthood with movement dysfunction</a:t>
            </a:r>
            <a:endParaRPr b="0" lang="en-US" sz="32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e6ff"/>
                </a:solidFill>
                <a:latin typeface="Verdana"/>
              </a:rPr>
              <a:t>Strong desire &amp; unique talent for working with children &amp; families</a:t>
            </a:r>
            <a:endParaRPr b="0" lang="en-US" sz="32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90680" y="2060640"/>
            <a:ext cx="130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cc99ff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If you have questions or need more information contact: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The Section on Pediatric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merican Physical Therapy Assoc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1111 North Fairfax Stree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lexandria, VA 22314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1-800-999-2782, ext. 3254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http://www.pediatricapta.or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The Goal of </a:t>
            </a:r>
            <a:br>
              <a:rPr sz="3600"/>
            </a:b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Pediatric Physical Therapy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31376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e6ff"/>
                </a:solidFill>
                <a:latin typeface="Verdana"/>
              </a:rPr>
              <a:t>Help children reach their maximal functional level of independence</a:t>
            </a:r>
            <a:endParaRPr b="0" lang="en-US" sz="36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Pediatric Physical Therapy: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31376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romotes independenc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Increases participation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Facilitates motor development &amp; function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Improves strength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nhances learning opportuniti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ases caregiv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romotes health &amp; wellnes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360" y="5331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Increased Participation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31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ediatric Physical Therapists and Assistants promote increased participation in daily activities &amp; routines in the: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Hom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choo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ommunit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6360" y="3049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The Critical Role of the Family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31376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arents and families have the primary role in children's development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ediatric Physical Therapists and Assistants collaborate with the family to implement individualized programs for each child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6360" y="3049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Family Support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The child’s family is supported by the Pediatric Physical Therapist and Assistant through: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oordination of servic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dvocac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ssistance with enhancing development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Enhancing Development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376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ediatric Physical Therapists and Assistants assist the family with enhancing the child’s development through: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ositioning during daily routines and activiti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dapting toys for pla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xpanding mobility option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Using equipment effectivel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Family Support 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1376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Pediatric Physical Therapists and Assistants also: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Teach families about safety in the home and community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Provide information on the child’s physical and health care needs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Assist the child &amp; family with transitioning from early childhood to school, and into adult life 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9:42:08Z</dcterms:created>
  <dc:creator>Jeb Burton</dc:creator>
  <dc:description/>
  <dc:language>en-US</dc:language>
  <cp:lastModifiedBy> </cp:lastModifiedBy>
  <dcterms:modified xsi:type="dcterms:W3CDTF">2007-02-19T21:47:19Z</dcterms:modified>
  <cp:revision>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