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51C-2F0E-4768-9989-4BFF3CB7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594B-980F-4E70-9DAC-E6D41B0C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05160" y="405468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A11-C077-4607-B59D-1090AC51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30040" y="19051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402880" y="19051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30040" y="405468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402880" y="405468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8DD-16CF-46C5-8A35-E10F10630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AA24-D498-4C9F-A510-CBC5584D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ACaslon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FE97-CFFD-414C-93F4-C334B224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7320-CFF3-4356-B68E-341FBB14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D989-1F46-454B-A151-B5E6D317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489C-1CAC-4B30-9E6A-460EDE74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380880" y="76320"/>
            <a:ext cx="7313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d1e6ff"/>
              </a:solidFill>
              <a:latin typeface="ACaslo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CAA1-5110-440A-8B89-8E72AD9C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A38A-7036-4D3B-B05E-7BF44E1E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ACaslon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5DD-D9F6-408D-9A79-AB613225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05160" y="405468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F8DF-C04A-49F5-A658-46165C18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3301-DD3D-4E2E-A1D6-38FA0E6C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EA3A-B5DE-4F17-81A7-1B7451F7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205160" y="405468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C2BE-A4A2-487F-A0C3-298BCB67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930040" y="19051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402880" y="19051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930040" y="405468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402880" y="405468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F52D-4530-4ECA-9209-8460C534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FD8C-DB67-46B9-BA56-A035D787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48D-7F36-4CCB-9555-DA51EB80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666E-976F-4647-A758-A00EC915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80880" y="76320"/>
            <a:ext cx="7313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d1e6ff"/>
              </a:solidFill>
              <a:latin typeface="ACaslon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3CA4-6D2E-4948-BD23-BFB9D181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72E-C0A5-44BA-9F04-BC4A17D0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05160" y="405468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698-3792-41D8-8094-D28CEA6C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05160" y="190512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5F0-400C-4A79-98C5-F8C29355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-720"/>
            <a:ext cx="6705720" cy="4800600"/>
          </a:xfrm>
          <a:prstGeom prst="rtTriangle">
            <a:avLst/>
          </a:prstGeom>
          <a:gradFill rotWithShape="0">
            <a:gsLst>
              <a:gs pos="0">
                <a:srgbClr val="540054"/>
              </a:gs>
              <a:gs pos="100000">
                <a:srgbClr val="26002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21208800">
            <a:off x="7238520" y="2590920"/>
            <a:ext cx="774720" cy="3848040"/>
          </a:xfrm>
          <a:custGeom>
            <a:avLst/>
            <a:gdLst/>
            <a:ahLst/>
            <a:rect l="l" t="t" r="r" b="b"/>
            <a:pathLst>
              <a:path w="488" h="2424">
                <a:moveTo>
                  <a:pt x="456" y="0"/>
                </a:moveTo>
                <a:cubicBezTo>
                  <a:pt x="360" y="80"/>
                  <a:pt x="264" y="160"/>
                  <a:pt x="264" y="384"/>
                </a:cubicBezTo>
                <a:cubicBezTo>
                  <a:pt x="264" y="608"/>
                  <a:pt x="488" y="1032"/>
                  <a:pt x="456" y="1344"/>
                </a:cubicBezTo>
                <a:cubicBezTo>
                  <a:pt x="424" y="1656"/>
                  <a:pt x="144" y="2088"/>
                  <a:pt x="72" y="2256"/>
                </a:cubicBezTo>
                <a:cubicBezTo>
                  <a:pt x="0" y="2424"/>
                  <a:pt x="12" y="2388"/>
                  <a:pt x="24" y="2352"/>
                </a:cubicBezTo>
              </a:path>
            </a:pathLst>
          </a:custGeom>
          <a:noFill/>
          <a:ln w="38160">
            <a:solidFill>
              <a:srgbClr val="3e00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21208800">
            <a:off x="6641640" y="2209680"/>
            <a:ext cx="774720" cy="3848400"/>
          </a:xfrm>
          <a:custGeom>
            <a:avLst/>
            <a:gdLst/>
            <a:ahLst/>
            <a:rect l="l" t="t" r="r" b="b"/>
            <a:pathLst>
              <a:path w="488" h="2424">
                <a:moveTo>
                  <a:pt x="456" y="0"/>
                </a:moveTo>
                <a:cubicBezTo>
                  <a:pt x="360" y="80"/>
                  <a:pt x="264" y="160"/>
                  <a:pt x="264" y="384"/>
                </a:cubicBezTo>
                <a:cubicBezTo>
                  <a:pt x="264" y="608"/>
                  <a:pt x="488" y="1032"/>
                  <a:pt x="456" y="1344"/>
                </a:cubicBezTo>
                <a:cubicBezTo>
                  <a:pt x="424" y="1656"/>
                  <a:pt x="144" y="2088"/>
                  <a:pt x="72" y="2256"/>
                </a:cubicBezTo>
                <a:cubicBezTo>
                  <a:pt x="0" y="2424"/>
                  <a:pt x="12" y="2388"/>
                  <a:pt x="24" y="2352"/>
                </a:cubicBezTo>
              </a:path>
            </a:pathLst>
          </a:custGeom>
          <a:noFill/>
          <a:ln w="38160">
            <a:solidFill>
              <a:srgbClr val="3e00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21208800">
            <a:off x="7860960" y="2438280"/>
            <a:ext cx="774720" cy="3848400"/>
          </a:xfrm>
          <a:custGeom>
            <a:avLst/>
            <a:gdLst/>
            <a:ahLst/>
            <a:rect l="l" t="t" r="r" b="b"/>
            <a:pathLst>
              <a:path w="488" h="2424">
                <a:moveTo>
                  <a:pt x="456" y="0"/>
                </a:moveTo>
                <a:cubicBezTo>
                  <a:pt x="360" y="80"/>
                  <a:pt x="264" y="160"/>
                  <a:pt x="264" y="384"/>
                </a:cubicBezTo>
                <a:cubicBezTo>
                  <a:pt x="264" y="608"/>
                  <a:pt x="488" y="1032"/>
                  <a:pt x="456" y="1344"/>
                </a:cubicBezTo>
                <a:cubicBezTo>
                  <a:pt x="424" y="1656"/>
                  <a:pt x="144" y="2088"/>
                  <a:pt x="72" y="2256"/>
                </a:cubicBezTo>
                <a:cubicBezTo>
                  <a:pt x="0" y="2424"/>
                  <a:pt x="12" y="2388"/>
                  <a:pt x="24" y="2352"/>
                </a:cubicBezTo>
              </a:path>
            </a:pathLst>
          </a:custGeom>
          <a:noFill/>
          <a:ln w="38160">
            <a:solidFill>
              <a:srgbClr val="3e00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6BA9-72DE-4D0C-BE3F-CC870C0A542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467480" y="5029200"/>
            <a:ext cx="1476360" cy="1676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032520" y="0"/>
            <a:ext cx="2185920" cy="2514600"/>
          </a:xfrm>
          <a:prstGeom prst="ellipse">
            <a:avLst/>
          </a:prstGeom>
          <a:gradFill rotWithShape="0">
            <a:gsLst>
              <a:gs pos="0">
                <a:srgbClr val="260026"/>
              </a:gs>
              <a:gs pos="100000">
                <a:srgbClr val="540054">
                  <a:alpha val="7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23240" y="152280"/>
            <a:ext cx="2120760" cy="2438640"/>
          </a:xfrm>
          <a:prstGeom prst="ellipse">
            <a:avLst/>
          </a:prstGeom>
          <a:gradFill rotWithShape="0">
            <a:gsLst>
              <a:gs pos="0">
                <a:srgbClr val="260026"/>
              </a:gs>
              <a:gs pos="100000">
                <a:srgbClr val="540054">
                  <a:alpha val="7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6642000" y="152280"/>
            <a:ext cx="1987560" cy="2667240"/>
          </a:xfrm>
          <a:prstGeom prst="ellipse">
            <a:avLst/>
          </a:prstGeom>
          <a:gradFill rotWithShape="0">
            <a:gsLst>
              <a:gs pos="0">
                <a:srgbClr val="260026"/>
              </a:gs>
              <a:gs pos="100000">
                <a:srgbClr val="54005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905120"/>
            <a:ext cx="73137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cc99ff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c99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12" name=""/>
          <p:cNvSpPr/>
          <p:nvPr/>
        </p:nvSpPr>
        <p:spPr>
          <a:xfrm>
            <a:off x="380880" y="762120"/>
            <a:ext cx="7315200" cy="152280"/>
          </a:xfrm>
          <a:prstGeom prst="rect">
            <a:avLst/>
          </a:prstGeom>
          <a:solidFill>
            <a:srgbClr val="540054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380880" y="763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001a"/>
            </a:gs>
            <a:gs pos="100000">
              <a:srgbClr val="66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821D-C198-450F-883A-F16DAC800EC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1143000" y="-1143000"/>
            <a:ext cx="6858000" cy="9144000"/>
          </a:xfrm>
          <a:prstGeom prst="rtTriangle">
            <a:avLst/>
          </a:prstGeom>
          <a:gradFill rotWithShape="0">
            <a:gsLst>
              <a:gs pos="0">
                <a:srgbClr val="660066"/>
              </a:gs>
              <a:gs pos="100000">
                <a:srgbClr val="2f00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762120"/>
            <a:ext cx="7848720" cy="1600200"/>
          </a:xfrm>
          <a:prstGeom prst="rect">
            <a:avLst/>
          </a:prstGeom>
          <a:solidFill>
            <a:srgbClr val="3e003e"/>
          </a:solidFill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1208800">
            <a:off x="7238520" y="2590920"/>
            <a:ext cx="774720" cy="3848040"/>
          </a:xfrm>
          <a:custGeom>
            <a:avLst/>
            <a:gdLst/>
            <a:ahLst/>
            <a:rect l="l" t="t" r="r" b="b"/>
            <a:pathLst>
              <a:path w="488" h="2424">
                <a:moveTo>
                  <a:pt x="456" y="0"/>
                </a:moveTo>
                <a:cubicBezTo>
                  <a:pt x="360" y="80"/>
                  <a:pt x="264" y="160"/>
                  <a:pt x="264" y="384"/>
                </a:cubicBezTo>
                <a:cubicBezTo>
                  <a:pt x="264" y="608"/>
                  <a:pt x="488" y="1032"/>
                  <a:pt x="456" y="1344"/>
                </a:cubicBezTo>
                <a:cubicBezTo>
                  <a:pt x="424" y="1656"/>
                  <a:pt x="144" y="2088"/>
                  <a:pt x="72" y="2256"/>
                </a:cubicBezTo>
                <a:cubicBezTo>
                  <a:pt x="0" y="2424"/>
                  <a:pt x="12" y="2388"/>
                  <a:pt x="24" y="2352"/>
                </a:cubicBezTo>
              </a:path>
            </a:pathLst>
          </a:custGeom>
          <a:noFill/>
          <a:ln w="38160">
            <a:solidFill>
              <a:srgbClr val="3e00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1208800">
            <a:off x="6641640" y="2209680"/>
            <a:ext cx="774720" cy="3848400"/>
          </a:xfrm>
          <a:custGeom>
            <a:avLst/>
            <a:gdLst/>
            <a:ahLst/>
            <a:rect l="l" t="t" r="r" b="b"/>
            <a:pathLst>
              <a:path w="488" h="2424">
                <a:moveTo>
                  <a:pt x="456" y="0"/>
                </a:moveTo>
                <a:cubicBezTo>
                  <a:pt x="360" y="80"/>
                  <a:pt x="264" y="160"/>
                  <a:pt x="264" y="384"/>
                </a:cubicBezTo>
                <a:cubicBezTo>
                  <a:pt x="264" y="608"/>
                  <a:pt x="488" y="1032"/>
                  <a:pt x="456" y="1344"/>
                </a:cubicBezTo>
                <a:cubicBezTo>
                  <a:pt x="424" y="1656"/>
                  <a:pt x="144" y="2088"/>
                  <a:pt x="72" y="2256"/>
                </a:cubicBezTo>
                <a:cubicBezTo>
                  <a:pt x="0" y="2424"/>
                  <a:pt x="12" y="2388"/>
                  <a:pt x="24" y="2352"/>
                </a:cubicBezTo>
              </a:path>
            </a:pathLst>
          </a:custGeom>
          <a:noFill/>
          <a:ln w="38160">
            <a:solidFill>
              <a:srgbClr val="3e00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1208800">
            <a:off x="7860960" y="2438280"/>
            <a:ext cx="774720" cy="3848400"/>
          </a:xfrm>
          <a:custGeom>
            <a:avLst/>
            <a:gdLst/>
            <a:ahLst/>
            <a:rect l="l" t="t" r="r" b="b"/>
            <a:pathLst>
              <a:path w="488" h="2424">
                <a:moveTo>
                  <a:pt x="456" y="0"/>
                </a:moveTo>
                <a:cubicBezTo>
                  <a:pt x="360" y="80"/>
                  <a:pt x="264" y="160"/>
                  <a:pt x="264" y="384"/>
                </a:cubicBezTo>
                <a:cubicBezTo>
                  <a:pt x="264" y="608"/>
                  <a:pt x="488" y="1032"/>
                  <a:pt x="456" y="1344"/>
                </a:cubicBezTo>
                <a:cubicBezTo>
                  <a:pt x="424" y="1656"/>
                  <a:pt x="144" y="2088"/>
                  <a:pt x="72" y="2256"/>
                </a:cubicBezTo>
                <a:cubicBezTo>
                  <a:pt x="0" y="2424"/>
                  <a:pt x="12" y="2388"/>
                  <a:pt x="24" y="2352"/>
                </a:cubicBezTo>
              </a:path>
            </a:pathLst>
          </a:custGeom>
          <a:noFill/>
          <a:ln w="38160">
            <a:solidFill>
              <a:srgbClr val="3e00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038480"/>
            <a:ext cx="6324480" cy="1752840"/>
          </a:xfrm>
          <a:prstGeom prst="rect">
            <a:avLst/>
          </a:prstGeom>
          <a:solidFill>
            <a:srgbClr val="3e003e"/>
          </a:solidFill>
          <a:ln w="381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32520" y="0"/>
            <a:ext cx="2185920" cy="2514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23240" y="152280"/>
            <a:ext cx="2120760" cy="2438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42000" y="152280"/>
            <a:ext cx="1987560" cy="2667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6781680" y="380880"/>
            <a:ext cx="1738440" cy="19749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4"/>
          <p:cNvSpPr>
            <a:spLocks noGrp="1"/>
          </p:cNvSpPr>
          <p:nvPr>
            <p:ph type="title"/>
          </p:nvPr>
        </p:nvSpPr>
        <p:spPr>
          <a:xfrm>
            <a:off x="457200" y="764640"/>
            <a:ext cx="5562720" cy="144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1e6ff"/>
                </a:solidFill>
                <a:latin typeface="ACaslon Bold"/>
              </a:rPr>
              <a:t>Click to edit the title text format</a:t>
            </a:r>
            <a:endParaRPr b="1" lang="en-US" sz="4000" spc="-1" strike="noStrike">
              <a:solidFill>
                <a:srgbClr val="d1e6ff"/>
              </a:solidFill>
              <a:latin typeface="ACaslon Bold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ACaslon Bold"/>
              </a:rPr>
              <a:t>Click to edit the outline text format</a:t>
            </a:r>
            <a:endParaRPr b="0" lang="en-US" sz="2900" spc="-1" strike="noStrike">
              <a:solidFill>
                <a:srgbClr val="d1e6ff"/>
              </a:solidFill>
              <a:latin typeface="ACaslon Bold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6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d1e6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cc99ff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1e6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d1e6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1e6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d1e6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cc99ff"/>
              </a:buClr>
              <a:buSzPct val="60000"/>
              <a:buFont typeface="Wingdings" charset="2"/>
              <a:buChar char="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1e6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d1e6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1e6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d1e6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1e6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a001a"/>
            </a:gs>
            <a:gs pos="100000">
              <a:srgbClr val="66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56390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Caslon Bold"/>
              </a:rPr>
              <a:t>The ABC’s of </a:t>
            </a:r>
            <a:br>
              <a:rPr sz="3600"/>
            </a:br>
            <a:r>
              <a:rPr b="1" lang="en-US" sz="3600" spc="-1" strike="noStrike">
                <a:solidFill>
                  <a:srgbClr val="d1e6ff"/>
                </a:solidFill>
                <a:latin typeface="ACaslon Bold"/>
              </a:rPr>
              <a:t>Pediatric Physical Therapy</a:t>
            </a:r>
            <a:endParaRPr b="1" lang="en-US" sz="3600" spc="-1" strike="noStrike">
              <a:solidFill>
                <a:srgbClr val="d1e6ff"/>
              </a:solidFill>
              <a:latin typeface="ACaslon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2880" y="4038120"/>
            <a:ext cx="6253200" cy="175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ACaslon Bold"/>
              </a:rPr>
              <a:t>The Section on Pediatrics</a:t>
            </a:r>
            <a:endParaRPr b="0" lang="en-US" sz="2900" spc="-1" strike="noStrike">
              <a:solidFill>
                <a:srgbClr val="d1e6ff"/>
              </a:solidFill>
              <a:latin typeface="ACaslon Bold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ACaslon Bold"/>
              </a:rPr>
              <a:t>American Physical Therapy Association</a:t>
            </a:r>
            <a:endParaRPr b="0" lang="en-US" sz="2900" spc="-1" strike="noStrike">
              <a:solidFill>
                <a:srgbClr val="d1e6ff"/>
              </a:solidFill>
              <a:latin typeface="ACaslon Bold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ACaslon 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313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Starting a child in Pediatric Physical Therapy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31376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First, an interview is completed to identify the child’s needs 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Next, an examination &amp; evaluation is completed of the child in the context of his/her daily routines &amp; activities. 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The Physical Therapy Evaluation asseses the child’s: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69608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Mobility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Muscle and joint function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trength and endurance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Cardiopulmonary statu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osture and balance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Oral motor skills &amp; feeding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ensory &amp; neuromotor development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Use of assistive technology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Pediatric Physical Therapy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15328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Includes collaboration &amp; coaching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Occurs in natural learning environments, such a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Home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Child care center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reschools &amp; school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Job sit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Hospitals &amp; Clinics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7619760" cy="25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Children also may receive Pediatric Physical Therapy in hospitals &amp; clinics when the child is receiving care for related medical conditions or during acute care episodes.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Is Your Child Entitled to Services?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All children ages birth to 21 eligible for: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35480" indent="-28296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Early intervention or 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35480" indent="-28296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pecial education &amp; related servic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35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are entitled to Pediatric PT through </a:t>
            </a:r>
            <a:r>
              <a:rPr b="0" i="1" lang="en-US" sz="2900" spc="-1" strike="noStrike">
                <a:solidFill>
                  <a:srgbClr val="d1e6ff"/>
                </a:solidFill>
                <a:latin typeface="Verdana"/>
              </a:rPr>
              <a:t>IDEA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35480" indent="-28296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Federal Legislation: Public Law 105-17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35480" indent="-28296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d1e6ff"/>
                </a:solidFill>
                <a:latin typeface="Verdana"/>
              </a:rPr>
              <a:t>The Individuals with Disabilities Education Act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Additional Federal Legislation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84872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1e6ff"/>
                </a:solidFill>
                <a:latin typeface="Verdana"/>
              </a:rPr>
              <a:t>The Rehabilitation Act, Section 504 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Requires provision of reasonable accommodations, including PT, for persons with disabiliti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1e6ff"/>
                </a:solidFill>
                <a:latin typeface="Verdana"/>
              </a:rPr>
              <a:t>The Americans with Disabilities Act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rotects rights of all individuals with disabiliti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313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Evidence-Based Practice (EBP) &amp; Pediatric Physical Therapy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31376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“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EBP” is the integration of research findings, clinical expertise, &amp; values.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ediatric Physical Therapists and Assistants use EBP in order to collaborate with families, health care providers &amp; educators to provide best practice.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313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Evidence-Based Practice supports the use of therapy interventions, such as: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3137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Developmental activiti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trengthening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Movement and mobility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Tone management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Motor learning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Balance &amp; coordination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Recreation, play and leisure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4" dur="1" fill="hold"/>
                                  <p:tgtEl>
                                    <p:spTgt spid="13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6476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EBP &amp; Interventions (continued):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Adaptation of daily care &amp; routin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Equipment design, fabrication &amp; fitting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Orthotics and prosthetic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Burn and wound care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Cardiopulmonary endurance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afety and prevention program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Use of assistive technology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5" dur="1" fill="hold"/>
                                  <p:tgtEl>
                                    <p:spTgt spid="13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Licensing of Physical Therapists and Assistants?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37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6ff"/>
                </a:solidFill>
                <a:latin typeface="Verdana"/>
              </a:rPr>
              <a:t>Each State has laws governing licensure and practice of physical therapy.</a:t>
            </a:r>
            <a:endParaRPr b="0" lang="en-US" sz="25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6ff"/>
                </a:solidFill>
                <a:latin typeface="Verdana"/>
              </a:rPr>
              <a:t>All physical therapists and assistants are graduates of an accredited university. Today, that degree is a graduate degree for physical therapists and an associate degree for assistants.</a:t>
            </a:r>
            <a:endParaRPr b="0" lang="en-US" sz="25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6ff"/>
                </a:solidFill>
                <a:latin typeface="Verdana"/>
              </a:rPr>
              <a:t>Pediatric Physical Therapists have specialty training in &amp; a desire to work with children and families.</a:t>
            </a:r>
            <a:endParaRPr b="0" lang="en-US" sz="25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2" dur="1" fill="hold"/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Pediatric Physical Therapists and Assistants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31376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e6ff"/>
                </a:solidFill>
                <a:latin typeface="Verdana"/>
              </a:rPr>
              <a:t>Highly educated, clinically trained professionals</a:t>
            </a:r>
            <a:endParaRPr b="0" lang="en-US" sz="32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e6ff"/>
                </a:solidFill>
                <a:latin typeface="Verdana"/>
              </a:rPr>
              <a:t>Work with individuals birth through adulthood with movement dysfunction</a:t>
            </a:r>
            <a:endParaRPr b="0" lang="en-US" sz="32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e6ff"/>
                </a:solidFill>
                <a:latin typeface="Verdana"/>
              </a:rPr>
              <a:t>Strong desire &amp; unique talent for working with children &amp; families</a:t>
            </a:r>
            <a:endParaRPr b="0" lang="en-US" sz="3200" spc="-1" strike="noStrike">
              <a:solidFill>
                <a:srgbClr val="d1e6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90680" y="2060640"/>
            <a:ext cx="1306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cc99ff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If you have questions or need more information contact: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The Section on Pediatric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American Physical Therapy Assoc.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1111 North Fairfax Street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Alexandria, VA 22314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1-800-999-2782, ext. 3254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http://www.pediatricapta.org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The Goal of </a:t>
            </a:r>
            <a:br>
              <a:rPr sz="3600"/>
            </a:b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Pediatric Physical Therapy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31376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e6ff"/>
                </a:solidFill>
                <a:latin typeface="Verdana"/>
              </a:rPr>
              <a:t>Help children reach their maximal functional level of independence</a:t>
            </a:r>
            <a:endParaRPr b="0" lang="en-US" sz="36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Pediatric Physical Therapy: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31376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romotes independence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2200" indent="-32220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Increases participation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2200" indent="-32220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Facilitates motor development &amp; function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2200" indent="-32220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Improves strength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2200" indent="-32220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Enhances learning opportuniti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2200" indent="-32220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Eases caregiving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22200" indent="-32220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romotes health &amp; wellnes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360" y="533160"/>
            <a:ext cx="7313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Increased Participation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313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ediatric Physical Therapists and Assistants promote increased participation in daily activities &amp; routines in the: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Home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School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Community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6360" y="3049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The Critical Role of the Family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731376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arents and families have the primary role in children's development.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ediatric Physical Therapists and Assistants collaborate with the family to implement individualized programs for each child.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6360" y="304920"/>
            <a:ext cx="731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Family Support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3137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The child’s family is supported by the Pediatric Physical Therapist and Assistant through: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Coordination of servic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Advocacy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Assistance with enhancing development 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Enhancing Development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1376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ediatric Physical Therapists and Assistants assist the family with enhancing the child’s development through: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Positioning during daily routines and activitie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Adapting toys for play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Expanding mobility options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d1e6ff"/>
                </a:solidFill>
                <a:latin typeface="Verdana"/>
              </a:rPr>
              <a:t>Using equipment effectively</a:t>
            </a:r>
            <a:endParaRPr b="0" lang="en-US" sz="29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31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e6ff"/>
                </a:solidFill>
                <a:latin typeface="Arial"/>
              </a:rPr>
              <a:t>Family Support </a:t>
            </a:r>
            <a:endParaRPr b="1" lang="en-US" sz="3600" spc="-1" strike="noStrike">
              <a:solidFill>
                <a:srgbClr val="d1e6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1376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6ff"/>
                </a:solidFill>
                <a:latin typeface="Verdana"/>
              </a:rPr>
              <a:t>Pediatric Physical Therapists and Assistants also:</a:t>
            </a:r>
            <a:endParaRPr b="0" lang="en-US" sz="25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6ff"/>
                </a:solidFill>
                <a:latin typeface="Verdana"/>
              </a:rPr>
              <a:t>Teach families about safety in the home and community</a:t>
            </a:r>
            <a:endParaRPr b="0" lang="en-US" sz="25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6ff"/>
                </a:solidFill>
                <a:latin typeface="Verdana"/>
              </a:rPr>
              <a:t>Provide information on the child’s physical and health care needs</a:t>
            </a:r>
            <a:endParaRPr b="0" lang="en-US" sz="2500" spc="-1" strike="noStrike">
              <a:solidFill>
                <a:srgbClr val="d1e6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1e6ff"/>
                </a:solidFill>
                <a:latin typeface="Verdana"/>
              </a:rPr>
              <a:t>Assist the child &amp; family with transitioning from early childhood to school, and into adult life </a:t>
            </a:r>
            <a:endParaRPr b="0" lang="en-US" sz="2500" spc="-1" strike="noStrike">
              <a:solidFill>
                <a:srgbClr val="d1e6ff"/>
              </a:solidFill>
              <a:latin typeface="Verdana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9:42:08Z</dcterms:created>
  <dc:creator>Jeb Burton</dc:creator>
  <dc:description/>
  <dc:language>en-US</dc:language>
  <cp:lastModifiedBy> </cp:lastModifiedBy>
  <dcterms:modified xsi:type="dcterms:W3CDTF">2007-02-19T21:47:19Z</dcterms:modified>
  <cp:revision>5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