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53.png" ContentType="image/png"/>
  <Override PartName="/ppt/media/image15.wmf" ContentType="image/x-wmf"/>
  <Override PartName="/ppt/media/image41.jpeg" ContentType="image/jpeg"/>
  <Override PartName="/ppt/media/image1.jpeg" ContentType="image/jpeg"/>
  <Override PartName="/ppt/media/image50.wmf" ContentType="image/x-wmf"/>
  <Override PartName="/ppt/media/image3.jpeg" ContentType="image/jpeg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31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52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9.wmf" ContentType="image/x-wmf"/>
  <Override PartName="/ppt/media/image3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7F42-72DA-4091-984E-78A4B6E6AA9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B1E9-A84E-4132-B111-0A9BD0D8FCB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08A7-506C-4A32-87D9-516991CC82B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6C9F-806F-42F9-AA0D-0760E8032AD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E1C2-0FAC-4EDF-92A4-8542C3D49E7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9097-7185-4181-AAB2-7539E2C9EA0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9F69-4DEF-4568-9F84-620B2B0127F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A94B-CA14-4B26-8353-3A5436D5B4A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F5DC-414E-4174-B03E-65D0E36FE05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0DE6-70B5-4A17-A940-BE63E3918B2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2FB3-E82B-40D6-9DCD-90D546782BF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8434-C803-4693-B918-BDB98F940AC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6FD6-4062-418C-A09C-E173AE3A3AA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DB26-EDDB-4466-8994-E7E85F087A5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27A6-614E-4ECF-B929-231C6FF8837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F15A-97A1-4660-99C8-3BE9BF46840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48FB-5C7F-4D85-A7A9-46B864DC831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43E7-92E1-445B-8942-3A2C01C2E35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4AC2-B4DC-49F2-B77B-28C38BE4657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4EE8-F5D3-47A9-AD55-970E315D86B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563C-0502-4A1F-A77F-33E60235F76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80A6-AEB7-4DBD-A9C3-043545EFA63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A68D-DFDF-471A-A1A9-B609BEAEC1E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6148-F145-4596-8D5A-F2B41F094FA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CF83-D411-4B43-B5E6-9981355D937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4BC1-F3B0-47B3-88B1-D129EECF05D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3C9D-C051-4CE8-A9B3-05A7A3DEAAC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5150-0FE4-4811-AE0F-C8366105B99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63A0-502C-4325-AB7E-C7AD992725E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2F3A-6262-48C9-9194-80BD279FFDC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FEC0-1D6F-48B3-8561-D6592FE4B43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1B13-773B-4252-97CB-353470A1A18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48B8-FFF0-400C-8B77-29AFE3897F2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CDE2-E730-4B7C-B4F6-3506B278676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1905-EE88-4F42-9C4C-ECC788B7D6F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9C4C-931F-49AC-86D5-ED39B836C3A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A336-0377-4440-B343-1E4ADE8BE7A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8FA9-F230-48F8-B133-DB5413D6E23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044C-57AA-48AE-B790-CD88C51E6A7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C06D-C5AE-4B17-A034-92D60929418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B37A-CF8F-43CE-9F50-287C2BA3A3D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E41D-DA01-4D8B-B572-384D2DD36C0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D156-EC83-4D22-B5C8-37012CA5023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1B7D-8782-41B2-8995-4A40BD21E8F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C26D-F65B-402F-B612-E08B251419B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4A2D-DCDA-40F3-8CCA-9191EBF387A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FDF7-3FE9-4A7E-BF2B-0A50AA54E16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FEA0-605B-4F3B-9C87-381A408EED7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DE0E-C5E6-476F-AA68-DC3093B2FB5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228600" y="146160"/>
            <a:ext cx="236232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2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per Saddle River, NJ 07458. •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533520" y="914400"/>
            <a:ext cx="8153280" cy="5486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28600" y="146160"/>
            <a:ext cx="236232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per Saddle River, NJ 07458. •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5790960" cy="4705200"/>
          </a:xfrm>
          <a:prstGeom prst="rect">
            <a:avLst/>
          </a:prstGeom>
          <a:ln w="0">
            <a:noFill/>
          </a:ln>
        </p:spPr>
      </p:pic>
      <p:sp>
        <p:nvSpPr>
          <p:cNvPr id="99" name="WordArt 10"/>
          <p:cNvSpPr txBox="1"/>
          <p:nvPr/>
        </p:nvSpPr>
        <p:spPr>
          <a:xfrm>
            <a:off x="5029200" y="5257800"/>
            <a:ext cx="2057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hapter 11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"/>
          <p:cNvSpPr/>
          <p:nvPr/>
        </p:nvSpPr>
        <p:spPr>
          <a:xfrm>
            <a:off x="1066680" y="1295280"/>
            <a:ext cx="39625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21932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 generator (altern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4" descr=""/>
          <p:cNvPicPr/>
          <p:nvPr/>
        </p:nvPicPr>
        <p:blipFill>
          <a:blip r:embed="rId2"/>
          <a:stretch/>
        </p:blipFill>
        <p:spPr>
          <a:xfrm>
            <a:off x="1371600" y="3084480"/>
            <a:ext cx="6477120" cy="31179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3"/>
          <p:cNvSpPr/>
          <p:nvPr/>
        </p:nvSpPr>
        <p:spPr>
          <a:xfrm>
            <a:off x="114300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ncreasing the number of poles, the number of cycles per revolution is increased. A four-pole generator will produce two complete cycles in each r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609480" y="914400"/>
            <a:ext cx="8153640" cy="533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762120" y="1143000"/>
            <a:ext cx="312408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762120" y="11430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 gen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7" descr="fg09_03400"/>
          <p:cNvPicPr/>
          <p:nvPr/>
        </p:nvPicPr>
        <p:blipFill>
          <a:blip r:embed="rId2"/>
          <a:stretch/>
        </p:blipFill>
        <p:spPr>
          <a:xfrm>
            <a:off x="3962520" y="1295280"/>
            <a:ext cx="4192560" cy="3357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8"/>
          <p:cNvSpPr/>
          <p:nvPr/>
        </p:nvSpPr>
        <p:spPr>
          <a:xfrm>
            <a:off x="1295280" y="2286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2952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295280" y="3962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level (amplitu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1296360" y="441972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 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3809880" y="4572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OS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13"/>
          <p:cNvGrpSpPr/>
          <p:nvPr/>
        </p:nvGrpSpPr>
        <p:grpSpPr>
          <a:xfrm>
            <a:off x="3048120" y="1755720"/>
            <a:ext cx="3816360" cy="1596960"/>
            <a:chOff x="3048120" y="1755720"/>
            <a:chExt cx="3816360" cy="1596960"/>
          </a:xfrm>
        </p:grpSpPr>
        <p:sp>
          <p:nvSpPr>
            <p:cNvPr id="267" name="Line 14"/>
            <p:cNvSpPr/>
            <p:nvPr/>
          </p:nvSpPr>
          <p:spPr>
            <a:xfrm flipV="1">
              <a:off x="3048120" y="2057400"/>
              <a:ext cx="25146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Oval 15"/>
            <p:cNvSpPr/>
            <p:nvPr/>
          </p:nvSpPr>
          <p:spPr>
            <a:xfrm rot="326400">
              <a:off x="5329080" y="1827000"/>
              <a:ext cx="152424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Line 16"/>
          <p:cNvSpPr/>
          <p:nvPr/>
        </p:nvSpPr>
        <p:spPr>
          <a:xfrm flipV="1">
            <a:off x="4419720" y="2514600"/>
            <a:ext cx="27432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133720" y="3124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2133720" y="3505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19"/>
          <p:cNvGrpSpPr/>
          <p:nvPr/>
        </p:nvGrpSpPr>
        <p:grpSpPr>
          <a:xfrm>
            <a:off x="3048120" y="2514240"/>
            <a:ext cx="1600200" cy="1219320"/>
            <a:chOff x="3048120" y="2514240"/>
            <a:chExt cx="1600200" cy="1219320"/>
          </a:xfrm>
        </p:grpSpPr>
        <p:sp>
          <p:nvSpPr>
            <p:cNvPr id="273" name="Line 20"/>
            <p:cNvSpPr/>
            <p:nvPr/>
          </p:nvSpPr>
          <p:spPr>
            <a:xfrm flipV="1">
              <a:off x="3048120" y="2514240"/>
              <a:ext cx="12952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1"/>
            <p:cNvSpPr/>
            <p:nvPr/>
          </p:nvSpPr>
          <p:spPr>
            <a:xfrm flipV="1">
              <a:off x="3048120" y="2590560"/>
              <a:ext cx="1600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Text Box 22"/>
          <p:cNvSpPr/>
          <p:nvPr/>
        </p:nvSpPr>
        <p:spPr>
          <a:xfrm>
            <a:off x="6629400" y="4267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ty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913680" y="190512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 contr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24"/>
          <p:cNvGrpSpPr/>
          <p:nvPr/>
        </p:nvGrpSpPr>
        <p:grpSpPr>
          <a:xfrm>
            <a:off x="3657600" y="1905120"/>
            <a:ext cx="3809880" cy="609480"/>
            <a:chOff x="3657600" y="1905120"/>
            <a:chExt cx="3809880" cy="609480"/>
          </a:xfrm>
        </p:grpSpPr>
        <p:sp>
          <p:nvSpPr>
            <p:cNvPr id="278" name="Oval 25"/>
            <p:cNvSpPr/>
            <p:nvPr/>
          </p:nvSpPr>
          <p:spPr>
            <a:xfrm>
              <a:off x="6858000" y="1905120"/>
              <a:ext cx="60948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6"/>
            <p:cNvSpPr/>
            <p:nvPr/>
          </p:nvSpPr>
          <p:spPr>
            <a:xfrm flipV="1">
              <a:off x="3657600" y="2133720"/>
              <a:ext cx="3276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Text Box 27"/>
          <p:cNvSpPr/>
          <p:nvPr/>
        </p:nvSpPr>
        <p:spPr>
          <a:xfrm>
            <a:off x="7086600" y="3581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28"/>
          <p:cNvGrpSpPr/>
          <p:nvPr/>
        </p:nvGrpSpPr>
        <p:grpSpPr>
          <a:xfrm>
            <a:off x="6008400" y="2457360"/>
            <a:ext cx="1242360" cy="1123920"/>
            <a:chOff x="6008400" y="2457360"/>
            <a:chExt cx="1242360" cy="1123920"/>
          </a:xfrm>
        </p:grpSpPr>
        <p:sp>
          <p:nvSpPr>
            <p:cNvPr id="282" name="Line 29"/>
            <p:cNvSpPr/>
            <p:nvPr/>
          </p:nvSpPr>
          <p:spPr>
            <a:xfrm flipH="1" flipV="1">
              <a:off x="6781680" y="2819520"/>
              <a:ext cx="457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30"/>
            <p:cNvSpPr/>
            <p:nvPr/>
          </p:nvSpPr>
          <p:spPr>
            <a:xfrm rot="327000">
              <a:off x="6019920" y="2514240"/>
              <a:ext cx="12189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Text Box 31"/>
          <p:cNvSpPr/>
          <p:nvPr/>
        </p:nvSpPr>
        <p:spPr>
          <a:xfrm>
            <a:off x="4725000" y="8380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2"/>
          <p:cNvSpPr/>
          <p:nvPr/>
        </p:nvSpPr>
        <p:spPr>
          <a:xfrm flipH="1">
            <a:off x="4800240" y="12193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33"/>
          <p:cNvGrpSpPr/>
          <p:nvPr/>
        </p:nvGrpSpPr>
        <p:grpSpPr>
          <a:xfrm>
            <a:off x="685800" y="5029200"/>
            <a:ext cx="7696080" cy="1143000"/>
            <a:chOff x="685800" y="5029200"/>
            <a:chExt cx="7696080" cy="1143000"/>
          </a:xfrm>
        </p:grpSpPr>
        <p:sp>
          <p:nvSpPr>
            <p:cNvPr id="287" name="Rectangle 34"/>
            <p:cNvSpPr/>
            <p:nvPr/>
          </p:nvSpPr>
          <p:spPr>
            <a:xfrm>
              <a:off x="685800" y="5029200"/>
              <a:ext cx="7696080" cy="1143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8" name="Object 35"/>
            <p:cNvGraphicFramePr/>
            <p:nvPr/>
          </p:nvGraphicFramePr>
          <p:xfrm>
            <a:off x="914400" y="5105520"/>
            <a:ext cx="7315200" cy="102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Object 3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14400" y="5105520"/>
                      <a:ext cx="7315200" cy="102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0" name="Line 37"/>
          <p:cNvSpPr/>
          <p:nvPr/>
        </p:nvSpPr>
        <p:spPr>
          <a:xfrm flipV="1">
            <a:off x="2590920" y="2437920"/>
            <a:ext cx="419076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39"/>
          <p:cNvGrpSpPr/>
          <p:nvPr/>
        </p:nvGrpSpPr>
        <p:grpSpPr>
          <a:xfrm>
            <a:off x="5105520" y="2209680"/>
            <a:ext cx="1371600" cy="2438280"/>
            <a:chOff x="5105520" y="2209680"/>
            <a:chExt cx="1371600" cy="2438280"/>
          </a:xfrm>
        </p:grpSpPr>
        <p:sp>
          <p:nvSpPr>
            <p:cNvPr id="292" name="Line 40"/>
            <p:cNvSpPr/>
            <p:nvPr/>
          </p:nvSpPr>
          <p:spPr>
            <a:xfrm flipV="1">
              <a:off x="510552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41"/>
            <p:cNvSpPr/>
            <p:nvPr/>
          </p:nvSpPr>
          <p:spPr>
            <a:xfrm flipV="1">
              <a:off x="5486400" y="2209680"/>
              <a:ext cx="763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486040" y="2209320"/>
            <a:ext cx="1371600" cy="2133720"/>
            <a:chOff x="5486040" y="2209320"/>
            <a:chExt cx="1371600" cy="2133720"/>
          </a:xfrm>
        </p:grpSpPr>
        <p:sp>
          <p:nvSpPr>
            <p:cNvPr id="295" name="Line 43"/>
            <p:cNvSpPr/>
            <p:nvPr/>
          </p:nvSpPr>
          <p:spPr>
            <a:xfrm flipH="1" flipV="1">
              <a:off x="6171840" y="2361960"/>
              <a:ext cx="6858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44"/>
            <p:cNvSpPr/>
            <p:nvPr/>
          </p:nvSpPr>
          <p:spPr>
            <a:xfrm flipH="1" flipV="1">
              <a:off x="5486040" y="2209320"/>
              <a:ext cx="12193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6" dur="1" fill="hold"/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1066680" y="1295280"/>
            <a:ext cx="57150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21932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e wave voltage and curren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1219320" y="2057400"/>
            <a:ext cx="7086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everal ways to specify the voltage of a sinusoidal voltage waveform. The amplitude of a sine wave is also called the peak value, abbreviated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 voltage wave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WordArt 26"/>
          <p:cNvSpPr txBox="1"/>
          <p:nvPr/>
        </p:nvSpPr>
        <p:spPr>
          <a:xfrm>
            <a:off x="990720" y="3657600"/>
            <a:ext cx="114300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301" name="Object 27"/>
          <p:cNvGraphicFramePr/>
          <p:nvPr/>
        </p:nvGraphicFramePr>
        <p:xfrm>
          <a:off x="4191120" y="3352680"/>
          <a:ext cx="4327560" cy="265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3352680"/>
                    <a:ext cx="43275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Text Box 28"/>
          <p:cNvSpPr/>
          <p:nvPr/>
        </p:nvSpPr>
        <p:spPr>
          <a:xfrm>
            <a:off x="1219320" y="41911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ak voltage of this waveform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9"/>
          <p:cNvSpPr/>
          <p:nvPr/>
        </p:nvSpPr>
        <p:spPr>
          <a:xfrm>
            <a:off x="3352680" y="4572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32"/>
          <p:cNvGrpSpPr/>
          <p:nvPr/>
        </p:nvGrpSpPr>
        <p:grpSpPr>
          <a:xfrm>
            <a:off x="5257800" y="3476520"/>
            <a:ext cx="762120" cy="1219320"/>
            <a:chOff x="5257800" y="3476520"/>
            <a:chExt cx="762120" cy="1219320"/>
          </a:xfrm>
        </p:grpSpPr>
        <p:sp>
          <p:nvSpPr>
            <p:cNvPr id="306" name="Line 33"/>
            <p:cNvSpPr/>
            <p:nvPr/>
          </p:nvSpPr>
          <p:spPr>
            <a:xfrm>
              <a:off x="5477040" y="3476520"/>
              <a:ext cx="144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34"/>
            <p:cNvSpPr/>
            <p:nvPr/>
          </p:nvSpPr>
          <p:spPr>
            <a:xfrm>
              <a:off x="5257800" y="3952800"/>
              <a:ext cx="533520" cy="39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35"/>
            <p:cNvSpPr/>
            <p:nvPr/>
          </p:nvSpPr>
          <p:spPr>
            <a:xfrm>
              <a:off x="5257800" y="38862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Object 2"/>
          <p:cNvGraphicFramePr/>
          <p:nvPr/>
        </p:nvGraphicFramePr>
        <p:xfrm>
          <a:off x="4191120" y="3352680"/>
          <a:ext cx="4327560" cy="265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3352680"/>
                    <a:ext cx="43275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Text Box 3"/>
          <p:cNvSpPr/>
          <p:nvPr/>
        </p:nvSpPr>
        <p:spPr>
          <a:xfrm>
            <a:off x="1219320" y="20574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oltage of a sine wave can also be specified as either the peak-to-peak or the rms value. The peak-to-peak is twice the peak value. The rms value is 0.707 times the peak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1066680" y="1295280"/>
            <a:ext cx="57150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21932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e wave voltage and curren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WordArt 6"/>
          <p:cNvSpPr txBox="1"/>
          <p:nvPr/>
        </p:nvSpPr>
        <p:spPr>
          <a:xfrm>
            <a:off x="838080" y="3581280"/>
            <a:ext cx="114300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219320" y="38862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ak-to-peak voltag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2482920" y="4267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0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219320" y="48006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ms voltag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515960" y="5165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4.1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2"/>
          <p:cNvSpPr/>
          <p:nvPr/>
        </p:nvSpPr>
        <p:spPr>
          <a:xfrm flipH="1">
            <a:off x="5447880" y="3451320"/>
            <a:ext cx="9720" cy="246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3"/>
          <p:cNvSpPr/>
          <p:nvPr/>
        </p:nvSpPr>
        <p:spPr>
          <a:xfrm>
            <a:off x="47242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5181480" y="4556160"/>
            <a:ext cx="685800" cy="390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5181480" y="448956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16"/>
          <p:cNvGrpSpPr/>
          <p:nvPr/>
        </p:nvGrpSpPr>
        <p:grpSpPr>
          <a:xfrm>
            <a:off x="4648320" y="3854520"/>
            <a:ext cx="3276360" cy="847800"/>
            <a:chOff x="4648320" y="3854520"/>
            <a:chExt cx="3276360" cy="847800"/>
          </a:xfrm>
        </p:grpSpPr>
        <p:sp>
          <p:nvSpPr>
            <p:cNvPr id="324" name="Line 17"/>
            <p:cNvSpPr/>
            <p:nvPr/>
          </p:nvSpPr>
          <p:spPr>
            <a:xfrm>
              <a:off x="4648320" y="385452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8"/>
            <p:cNvSpPr/>
            <p:nvPr/>
          </p:nvSpPr>
          <p:spPr>
            <a:xfrm>
              <a:off x="6934320" y="3854520"/>
              <a:ext cx="0" cy="84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19"/>
            <p:cNvSpPr/>
            <p:nvPr/>
          </p:nvSpPr>
          <p:spPr>
            <a:xfrm>
              <a:off x="6629400" y="4137120"/>
              <a:ext cx="685800" cy="403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20"/>
            <p:cNvSpPr/>
            <p:nvPr/>
          </p:nvSpPr>
          <p:spPr>
            <a:xfrm>
              <a:off x="6610320" y="408636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Object 2"/>
          <p:cNvGraphicFramePr/>
          <p:nvPr/>
        </p:nvGraphicFramePr>
        <p:xfrm>
          <a:off x="4191120" y="3352680"/>
          <a:ext cx="4327560" cy="265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3352680"/>
                    <a:ext cx="43275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Text Box 3"/>
          <p:cNvSpPr/>
          <p:nvPr/>
        </p:nvSpPr>
        <p:spPr>
          <a:xfrm>
            <a:off x="1219320" y="20574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ome purposes, the average value (actually the half-wave average) is used to specify the voltage or current. By definition, the average value is as 0.637 times the peak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066680" y="1295280"/>
            <a:ext cx="57150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21932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e wave voltage and curren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WordArt 6"/>
          <p:cNvSpPr txBox="1"/>
          <p:nvPr/>
        </p:nvSpPr>
        <p:spPr>
          <a:xfrm>
            <a:off x="838080" y="3689280"/>
            <a:ext cx="114300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219320" y="39942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erage value for the sinusoidal voltag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1585800" y="47037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.7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26"/>
          <p:cNvGrpSpPr/>
          <p:nvPr/>
        </p:nvGrpSpPr>
        <p:grpSpPr>
          <a:xfrm>
            <a:off x="4648320" y="3886200"/>
            <a:ext cx="3276360" cy="771480"/>
            <a:chOff x="4648320" y="3886200"/>
            <a:chExt cx="3276360" cy="771480"/>
          </a:xfrm>
        </p:grpSpPr>
        <p:sp>
          <p:nvSpPr>
            <p:cNvPr id="337" name="Line 22"/>
            <p:cNvSpPr/>
            <p:nvPr/>
          </p:nvSpPr>
          <p:spPr>
            <a:xfrm>
              <a:off x="4648320" y="388620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3"/>
            <p:cNvSpPr/>
            <p:nvPr/>
          </p:nvSpPr>
          <p:spPr>
            <a:xfrm>
              <a:off x="6934320" y="388620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24"/>
            <p:cNvSpPr/>
            <p:nvPr/>
          </p:nvSpPr>
          <p:spPr>
            <a:xfrm>
              <a:off x="6629400" y="4089240"/>
              <a:ext cx="685800" cy="403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25"/>
            <p:cNvSpPr/>
            <p:nvPr/>
          </p:nvSpPr>
          <p:spPr>
            <a:xfrm>
              <a:off x="6610320" y="40384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4"/>
          <p:cNvSpPr/>
          <p:nvPr/>
        </p:nvSpPr>
        <p:spPr>
          <a:xfrm>
            <a:off x="1143000" y="1828800"/>
            <a:ext cx="722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ular measurements can be made in degrees 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r radians. The radian (rad) is the angle that is formed when the arc is equal to the radius of a circle. There are 3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ians in one complete r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1066680" y="1295280"/>
            <a:ext cx="35816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219320" y="1295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gula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1143000" y="3395520"/>
          <a:ext cx="2819520" cy="254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395520"/>
                    <a:ext cx="281952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8"/>
          <p:cNvGraphicFramePr/>
          <p:nvPr/>
        </p:nvGraphicFramePr>
        <p:xfrm>
          <a:off x="4343400" y="3373560"/>
          <a:ext cx="3886200" cy="264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3373560"/>
                    <a:ext cx="388620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1158840" y="1905120"/>
            <a:ext cx="722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there are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ians in one complete revolution and 3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revolution, the conversion between radians and degrees is easy to write. To find the number of radians, given the number of degre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5"/>
          <p:cNvGrpSpPr/>
          <p:nvPr/>
        </p:nvGrpSpPr>
        <p:grpSpPr>
          <a:xfrm>
            <a:off x="2057400" y="3581280"/>
            <a:ext cx="2286000" cy="609840"/>
            <a:chOff x="2057400" y="3581280"/>
            <a:chExt cx="2286000" cy="609840"/>
          </a:xfrm>
        </p:grpSpPr>
        <p:sp>
          <p:nvSpPr>
            <p:cNvPr id="350" name="Rectangle 6"/>
            <p:cNvSpPr/>
            <p:nvPr/>
          </p:nvSpPr>
          <p:spPr>
            <a:xfrm>
              <a:off x="2057400" y="3581280"/>
              <a:ext cx="228600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1" name="Object 7"/>
            <p:cNvGraphicFramePr/>
            <p:nvPr/>
          </p:nvGraphicFramePr>
          <p:xfrm>
            <a:off x="2133720" y="3581280"/>
            <a:ext cx="2133360" cy="59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33720" y="3581280"/>
                      <a:ext cx="2133360" cy="59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53" name="Group 8"/>
          <p:cNvGrpSpPr/>
          <p:nvPr/>
        </p:nvGrpSpPr>
        <p:grpSpPr>
          <a:xfrm>
            <a:off x="2057400" y="4952880"/>
            <a:ext cx="2286000" cy="609840"/>
            <a:chOff x="2057400" y="4952880"/>
            <a:chExt cx="2286000" cy="609840"/>
          </a:xfrm>
        </p:grpSpPr>
        <p:sp>
          <p:nvSpPr>
            <p:cNvPr id="354" name="Rectangle 9"/>
            <p:cNvSpPr/>
            <p:nvPr/>
          </p:nvSpPr>
          <p:spPr>
            <a:xfrm>
              <a:off x="2057400" y="4952880"/>
              <a:ext cx="228600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Object 10"/>
            <p:cNvGraphicFramePr/>
            <p:nvPr/>
          </p:nvGraphicFramePr>
          <p:xfrm>
            <a:off x="2209680" y="4952880"/>
            <a:ext cx="1805040" cy="601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56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09680" y="4952880"/>
                      <a:ext cx="1805040" cy="6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7" name="Text Box 11"/>
          <p:cNvSpPr/>
          <p:nvPr/>
        </p:nvSpPr>
        <p:spPr>
          <a:xfrm>
            <a:off x="1295280" y="4343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number of degrees, given the radi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1066680" y="1295280"/>
            <a:ext cx="35816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1219320" y="1295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gula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4"/>
          <p:cNvSpPr/>
          <p:nvPr/>
        </p:nvSpPr>
        <p:spPr>
          <a:xfrm>
            <a:off x="1219320" y="20574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aneous values of a wave are shown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equation for the instantaneous volta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a sine wav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1066680" y="1295280"/>
            <a:ext cx="32004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1219320" y="1295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e wave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37160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WordArt 8"/>
          <p:cNvSpPr txBox="1"/>
          <p:nvPr/>
        </p:nvSpPr>
        <p:spPr>
          <a:xfrm>
            <a:off x="790560" y="4863960"/>
            <a:ext cx="111456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1981080" y="52578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eak voltage is 25 V, the instantaneous voltage at 50 degree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Group 10"/>
          <p:cNvGrpSpPr/>
          <p:nvPr/>
        </p:nvGrpSpPr>
        <p:grpSpPr>
          <a:xfrm>
            <a:off x="2514600" y="3048120"/>
            <a:ext cx="2209680" cy="533160"/>
            <a:chOff x="2514600" y="3048120"/>
            <a:chExt cx="2209680" cy="533160"/>
          </a:xfrm>
        </p:grpSpPr>
        <p:sp>
          <p:nvSpPr>
            <p:cNvPr id="367" name="Rectangle 11"/>
            <p:cNvSpPr/>
            <p:nvPr/>
          </p:nvSpPr>
          <p:spPr>
            <a:xfrm>
              <a:off x="2514600" y="3048120"/>
              <a:ext cx="220968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8" name="Object 12"/>
            <p:cNvGraphicFramePr/>
            <p:nvPr/>
          </p:nvGraphicFramePr>
          <p:xfrm>
            <a:off x="2743200" y="3068640"/>
            <a:ext cx="1819440" cy="510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Object 1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43200" y="3068640"/>
                      <a:ext cx="1819440" cy="51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70" name="Text Box 13"/>
          <p:cNvSpPr/>
          <p:nvPr/>
        </p:nvSpPr>
        <p:spPr>
          <a:xfrm>
            <a:off x="2057400" y="39625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2057400" y="434340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5"/>
          <p:cNvSpPr/>
          <p:nvPr/>
        </p:nvSpPr>
        <p:spPr>
          <a:xfrm>
            <a:off x="2819520" y="3962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274320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 in rad or deg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4952880" y="5613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.2 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685800" y="3276720"/>
            <a:ext cx="7696080" cy="243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066680" y="1295280"/>
            <a:ext cx="32004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219320" y="1295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e wave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Object 7"/>
          <p:cNvGraphicFramePr/>
          <p:nvPr/>
        </p:nvGraphicFramePr>
        <p:xfrm>
          <a:off x="838080" y="3276720"/>
          <a:ext cx="7693200" cy="22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276720"/>
                    <a:ext cx="76932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Text Box 8"/>
          <p:cNvSpPr/>
          <p:nvPr/>
        </p:nvSpPr>
        <p:spPr>
          <a:xfrm>
            <a:off x="1066680" y="19051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lot of the example in the previous slide (peak at 25 V) is shown. The instantaneous voltage at 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19.2 V as previously calcu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4572000" y="304812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2"/>
          <p:cNvSpPr/>
          <p:nvPr/>
        </p:nvSpPr>
        <p:spPr>
          <a:xfrm>
            <a:off x="2514600" y="4038480"/>
            <a:ext cx="24382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1066680" y="1295280"/>
            <a:ext cx="19814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1219320" y="1295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ase sh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13716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2133720" y="4952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3"/>
          <p:cNvSpPr/>
          <p:nvPr/>
        </p:nvSpPr>
        <p:spPr>
          <a:xfrm>
            <a:off x="2743200" y="4952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9"/>
          <p:cNvSpPr/>
          <p:nvPr/>
        </p:nvSpPr>
        <p:spPr>
          <a:xfrm>
            <a:off x="1143000" y="198108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ase of a sine wave is an angular measurement that specifies the position of a sine wave relative to a reference. To show that a sine wave is shifted to the left or right of this reference, a term is added to the equation given previou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20"/>
              <p:cNvSpPr txBox="1"/>
              <p:nvPr/>
            </p:nvSpPr>
            <p:spPr>
              <a:xfrm>
                <a:off x="2700360" y="4138560"/>
                <a:ext cx="208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±</m:t>
                        </m:r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5" descr=""/>
          <p:cNvPicPr/>
          <p:nvPr/>
        </p:nvPicPr>
        <p:blipFill>
          <a:blip r:embed="rId2"/>
          <a:stretch/>
        </p:blipFill>
        <p:spPr>
          <a:xfrm>
            <a:off x="3581280" y="2743200"/>
            <a:ext cx="5070600" cy="3460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6"/>
          <p:cNvSpPr/>
          <p:nvPr/>
        </p:nvSpPr>
        <p:spPr>
          <a:xfrm>
            <a:off x="990720" y="1905120"/>
            <a:ext cx="7238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nusoidal waveform (sine wave) is the fundamental alternating current (ac) and alternating voltage wave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1219320" y="1371600"/>
            <a:ext cx="20574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1295280" y="1371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e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1066680" y="3809880"/>
            <a:ext cx="3429000" cy="1410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sine waves are named from the mathematical function with the same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85800" y="2209680"/>
            <a:ext cx="8001000" cy="3962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1066680" y="1295280"/>
            <a:ext cx="20574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1219320" y="12952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ase sh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7"/>
          <p:cNvGraphicFramePr/>
          <p:nvPr/>
        </p:nvGraphicFramePr>
        <p:xfrm>
          <a:off x="1143000" y="2362320"/>
          <a:ext cx="720396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362320"/>
                    <a:ext cx="720396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8"/>
          <p:cNvGrpSpPr/>
          <p:nvPr/>
        </p:nvGrpSpPr>
        <p:grpSpPr>
          <a:xfrm>
            <a:off x="1905120" y="4876920"/>
            <a:ext cx="4495320" cy="825480"/>
            <a:chOff x="1905120" y="4876920"/>
            <a:chExt cx="4495320" cy="825480"/>
          </a:xfrm>
        </p:grpSpPr>
        <p:sp>
          <p:nvSpPr>
            <p:cNvPr id="396" name="Text Box 9"/>
            <p:cNvSpPr/>
            <p:nvPr/>
          </p:nvSpPr>
          <p:spPr>
            <a:xfrm>
              <a:off x="2679840" y="4876920"/>
              <a:ext cx="3720600" cy="825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tice that a lagging sine wave is below the axis at 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0"/>
            <p:cNvSpPr/>
            <p:nvPr/>
          </p:nvSpPr>
          <p:spPr>
            <a:xfrm flipH="1" flipV="1">
              <a:off x="1905120" y="4876920"/>
              <a:ext cx="774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 Box 11"/>
          <p:cNvSpPr/>
          <p:nvPr/>
        </p:nvSpPr>
        <p:spPr>
          <a:xfrm>
            <a:off x="3429000" y="12952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wave that lags the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4611240" y="3200400"/>
            <a:ext cx="27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30 V sin (</a:t>
            </a:r>
            <a:r>
              <a:rPr b="0" i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45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3"/>
          <p:cNvSpPr/>
          <p:nvPr/>
        </p:nvSpPr>
        <p:spPr>
          <a:xfrm flipH="1">
            <a:off x="5029200" y="3581280"/>
            <a:ext cx="38088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14"/>
          <p:cNvGrpSpPr/>
          <p:nvPr/>
        </p:nvGrpSpPr>
        <p:grpSpPr>
          <a:xfrm>
            <a:off x="6326280" y="1752480"/>
            <a:ext cx="2741400" cy="1600200"/>
            <a:chOff x="6326280" y="1752480"/>
            <a:chExt cx="2741400" cy="1600200"/>
          </a:xfrm>
        </p:grpSpPr>
        <p:sp>
          <p:nvSpPr>
            <p:cNvPr id="402" name="Text Box 15"/>
            <p:cNvSpPr/>
            <p:nvPr/>
          </p:nvSpPr>
          <p:spPr>
            <a:xfrm>
              <a:off x="6326280" y="1752480"/>
              <a:ext cx="2741400" cy="1191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the equation has a negative phase sh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 flipH="1">
              <a:off x="6705360" y="297180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685800" y="2209680"/>
            <a:ext cx="8001000" cy="3962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1066680" y="1295280"/>
            <a:ext cx="20574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1219320" y="12952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ase sh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Object 7"/>
          <p:cNvGraphicFramePr/>
          <p:nvPr/>
        </p:nvGraphicFramePr>
        <p:xfrm>
          <a:off x="1066680" y="2432160"/>
          <a:ext cx="6877080" cy="37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432160"/>
                    <a:ext cx="687708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9" name="Group 8"/>
          <p:cNvGrpSpPr/>
          <p:nvPr/>
        </p:nvGrpSpPr>
        <p:grpSpPr>
          <a:xfrm>
            <a:off x="2438280" y="2057400"/>
            <a:ext cx="5790960" cy="1371600"/>
            <a:chOff x="2438280" y="2057400"/>
            <a:chExt cx="5790960" cy="1371600"/>
          </a:xfrm>
        </p:grpSpPr>
        <p:sp>
          <p:nvSpPr>
            <p:cNvPr id="410" name="Text Box 9"/>
            <p:cNvSpPr/>
            <p:nvPr/>
          </p:nvSpPr>
          <p:spPr>
            <a:xfrm>
              <a:off x="4571640" y="2057400"/>
              <a:ext cx="3657600" cy="825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tice that a leading sine wave is above the axis at 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0"/>
            <p:cNvSpPr/>
            <p:nvPr/>
          </p:nvSpPr>
          <p:spPr>
            <a:xfrm flipH="1">
              <a:off x="2438280" y="2514600"/>
              <a:ext cx="21333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Text Box 11"/>
          <p:cNvSpPr/>
          <p:nvPr/>
        </p:nvSpPr>
        <p:spPr>
          <a:xfrm>
            <a:off x="3429000" y="12952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wave that leads the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3861360" y="3276720"/>
            <a:ext cx="283104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30 V sin (</a:t>
            </a:r>
            <a:r>
              <a:rPr b="0" i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+ 45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 flipH="1">
            <a:off x="4114440" y="3657600"/>
            <a:ext cx="57780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14"/>
          <p:cNvGrpSpPr/>
          <p:nvPr/>
        </p:nvGrpSpPr>
        <p:grpSpPr>
          <a:xfrm>
            <a:off x="2895480" y="3558960"/>
            <a:ext cx="2971800" cy="2204280"/>
            <a:chOff x="2895480" y="3558960"/>
            <a:chExt cx="2971800" cy="2204280"/>
          </a:xfrm>
        </p:grpSpPr>
        <p:sp>
          <p:nvSpPr>
            <p:cNvPr id="416" name="Text Box 15"/>
            <p:cNvSpPr/>
            <p:nvPr/>
          </p:nvSpPr>
          <p:spPr>
            <a:xfrm>
              <a:off x="2895480" y="4572000"/>
              <a:ext cx="2741760" cy="1191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the equation has a positive phase sh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6"/>
            <p:cNvSpPr/>
            <p:nvPr/>
          </p:nvSpPr>
          <p:spPr>
            <a:xfrm flipV="1">
              <a:off x="5257800" y="3558960"/>
              <a:ext cx="6094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Object 4"/>
          <p:cNvGraphicFramePr/>
          <p:nvPr/>
        </p:nvGraphicFramePr>
        <p:xfrm>
          <a:off x="1295280" y="3352680"/>
          <a:ext cx="5283360" cy="22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352680"/>
                    <a:ext cx="5283360" cy="22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Text Box 5"/>
          <p:cNvSpPr/>
          <p:nvPr/>
        </p:nvSpPr>
        <p:spPr>
          <a:xfrm>
            <a:off x="1158840" y="1981080"/>
            <a:ext cx="722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ne wave can be represented as the projection of a vector rotating at a constant rate. This rotating vector is called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1066680" y="1295280"/>
            <a:ext cx="1600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1219320" y="129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a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Group 8"/>
          <p:cNvGrpSpPr/>
          <p:nvPr/>
        </p:nvGrpSpPr>
        <p:grpSpPr>
          <a:xfrm>
            <a:off x="2666880" y="4438800"/>
            <a:ext cx="1420920" cy="75960"/>
            <a:chOff x="2666880" y="4438800"/>
            <a:chExt cx="1420920" cy="75960"/>
          </a:xfrm>
        </p:grpSpPr>
        <p:sp>
          <p:nvSpPr>
            <p:cNvPr id="424" name="Line 9"/>
            <p:cNvSpPr/>
            <p:nvPr/>
          </p:nvSpPr>
          <p:spPr>
            <a:xfrm>
              <a:off x="2666880" y="44766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10"/>
            <p:cNvSpPr/>
            <p:nvPr/>
          </p:nvSpPr>
          <p:spPr>
            <a:xfrm>
              <a:off x="4013280" y="4438800"/>
              <a:ext cx="74520" cy="75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1"/>
          <p:cNvGrpSpPr/>
          <p:nvPr/>
        </p:nvGrpSpPr>
        <p:grpSpPr>
          <a:xfrm>
            <a:off x="2663280" y="3847680"/>
            <a:ext cx="1691280" cy="637560"/>
            <a:chOff x="2663280" y="3847680"/>
            <a:chExt cx="1691280" cy="637560"/>
          </a:xfrm>
        </p:grpSpPr>
        <p:sp>
          <p:nvSpPr>
            <p:cNvPr id="427" name="Line 12"/>
            <p:cNvSpPr/>
            <p:nvPr/>
          </p:nvSpPr>
          <p:spPr>
            <a:xfrm flipV="1">
              <a:off x="2663280" y="3847680"/>
              <a:ext cx="655560" cy="63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Oval 13"/>
            <p:cNvSpPr/>
            <p:nvPr/>
          </p:nvSpPr>
          <p:spPr>
            <a:xfrm>
              <a:off x="4280040" y="3867120"/>
              <a:ext cx="74520" cy="76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Group 14"/>
          <p:cNvGrpSpPr/>
          <p:nvPr/>
        </p:nvGrpSpPr>
        <p:grpSpPr>
          <a:xfrm>
            <a:off x="2666880" y="3537000"/>
            <a:ext cx="2006640" cy="958680"/>
            <a:chOff x="2666880" y="3537000"/>
            <a:chExt cx="2006640" cy="958680"/>
          </a:xfrm>
        </p:grpSpPr>
        <p:sp>
          <p:nvSpPr>
            <p:cNvPr id="430" name="Line 15"/>
            <p:cNvSpPr/>
            <p:nvPr/>
          </p:nvSpPr>
          <p:spPr>
            <a:xfrm flipV="1">
              <a:off x="2666880" y="3581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16"/>
            <p:cNvSpPr/>
            <p:nvPr/>
          </p:nvSpPr>
          <p:spPr>
            <a:xfrm>
              <a:off x="4597560" y="3537000"/>
              <a:ext cx="75960" cy="76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17"/>
          <p:cNvGrpSpPr/>
          <p:nvPr/>
        </p:nvGrpSpPr>
        <p:grpSpPr>
          <a:xfrm>
            <a:off x="1981080" y="3850920"/>
            <a:ext cx="3021120" cy="614880"/>
            <a:chOff x="1981080" y="3850920"/>
            <a:chExt cx="3021120" cy="614880"/>
          </a:xfrm>
        </p:grpSpPr>
        <p:sp>
          <p:nvSpPr>
            <p:cNvPr id="433" name="Line 18"/>
            <p:cNvSpPr/>
            <p:nvPr/>
          </p:nvSpPr>
          <p:spPr>
            <a:xfrm flipH="1" flipV="1">
              <a:off x="1981080" y="3850920"/>
              <a:ext cx="676800" cy="61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19"/>
            <p:cNvSpPr/>
            <p:nvPr/>
          </p:nvSpPr>
          <p:spPr>
            <a:xfrm>
              <a:off x="4927680" y="3873600"/>
              <a:ext cx="74520" cy="75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Group 20"/>
          <p:cNvGrpSpPr/>
          <p:nvPr/>
        </p:nvGrpSpPr>
        <p:grpSpPr>
          <a:xfrm>
            <a:off x="1733400" y="4438800"/>
            <a:ext cx="3522960" cy="75960"/>
            <a:chOff x="1733400" y="4438800"/>
            <a:chExt cx="3522960" cy="75960"/>
          </a:xfrm>
        </p:grpSpPr>
        <p:sp>
          <p:nvSpPr>
            <p:cNvPr id="436" name="Line 21"/>
            <p:cNvSpPr/>
            <p:nvPr/>
          </p:nvSpPr>
          <p:spPr>
            <a:xfrm flipH="1">
              <a:off x="1733400" y="448308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22"/>
            <p:cNvSpPr/>
            <p:nvPr/>
          </p:nvSpPr>
          <p:spPr>
            <a:xfrm>
              <a:off x="5181480" y="4438800"/>
              <a:ext cx="74880" cy="75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Group 23"/>
          <p:cNvGrpSpPr/>
          <p:nvPr/>
        </p:nvGrpSpPr>
        <p:grpSpPr>
          <a:xfrm>
            <a:off x="1981080" y="4493880"/>
            <a:ext cx="3541680" cy="614880"/>
            <a:chOff x="1981080" y="4493880"/>
            <a:chExt cx="3541680" cy="614880"/>
          </a:xfrm>
        </p:grpSpPr>
        <p:sp>
          <p:nvSpPr>
            <p:cNvPr id="439" name="Line 24"/>
            <p:cNvSpPr/>
            <p:nvPr/>
          </p:nvSpPr>
          <p:spPr>
            <a:xfrm flipH="1">
              <a:off x="1981080" y="4493880"/>
              <a:ext cx="676800" cy="61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25"/>
            <p:cNvSpPr/>
            <p:nvPr/>
          </p:nvSpPr>
          <p:spPr>
            <a:xfrm flipV="1">
              <a:off x="5448240" y="5010120"/>
              <a:ext cx="74520" cy="76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Group 26"/>
          <p:cNvGrpSpPr/>
          <p:nvPr/>
        </p:nvGrpSpPr>
        <p:grpSpPr>
          <a:xfrm>
            <a:off x="2666880" y="4464000"/>
            <a:ext cx="3200400" cy="959040"/>
            <a:chOff x="2666880" y="4464000"/>
            <a:chExt cx="3200400" cy="959040"/>
          </a:xfrm>
        </p:grpSpPr>
        <p:sp>
          <p:nvSpPr>
            <p:cNvPr id="442" name="Line 27"/>
            <p:cNvSpPr/>
            <p:nvPr/>
          </p:nvSpPr>
          <p:spPr>
            <a:xfrm>
              <a:off x="2666880" y="44640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28"/>
            <p:cNvSpPr/>
            <p:nvPr/>
          </p:nvSpPr>
          <p:spPr>
            <a:xfrm flipV="1">
              <a:off x="5791320" y="5346720"/>
              <a:ext cx="75960" cy="76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9"/>
          <p:cNvGrpSpPr/>
          <p:nvPr/>
        </p:nvGrpSpPr>
        <p:grpSpPr>
          <a:xfrm>
            <a:off x="2663280" y="4474440"/>
            <a:ext cx="3532680" cy="637920"/>
            <a:chOff x="2663280" y="4474440"/>
            <a:chExt cx="3532680" cy="637920"/>
          </a:xfrm>
        </p:grpSpPr>
        <p:sp>
          <p:nvSpPr>
            <p:cNvPr id="445" name="Line 30"/>
            <p:cNvSpPr/>
            <p:nvPr/>
          </p:nvSpPr>
          <p:spPr>
            <a:xfrm>
              <a:off x="2663280" y="4474440"/>
              <a:ext cx="655200" cy="63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31"/>
            <p:cNvSpPr/>
            <p:nvPr/>
          </p:nvSpPr>
          <p:spPr>
            <a:xfrm flipV="1">
              <a:off x="6121440" y="5010120"/>
              <a:ext cx="74520" cy="76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32"/>
          <p:cNvGrpSpPr/>
          <p:nvPr/>
        </p:nvGrpSpPr>
        <p:grpSpPr>
          <a:xfrm>
            <a:off x="2660760" y="4438440"/>
            <a:ext cx="3789360" cy="75960"/>
            <a:chOff x="2660760" y="4438440"/>
            <a:chExt cx="3789360" cy="75960"/>
          </a:xfrm>
        </p:grpSpPr>
        <p:sp>
          <p:nvSpPr>
            <p:cNvPr id="448" name="Oval 33"/>
            <p:cNvSpPr/>
            <p:nvPr/>
          </p:nvSpPr>
          <p:spPr>
            <a:xfrm flipV="1">
              <a:off x="6375240" y="4438080"/>
              <a:ext cx="74880" cy="75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>
              <a:off x="2660760" y="44766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5257800" y="5029200"/>
            <a:ext cx="2895480" cy="9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1066680" y="1905120"/>
            <a:ext cx="72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ors allow ac calculations to use basic trigonometry. The sine function in trigonometry is the ratio of the opposite side of a right triangle to the adjacent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Object 4"/>
          <p:cNvGraphicFramePr/>
          <p:nvPr/>
        </p:nvGraphicFramePr>
        <p:xfrm>
          <a:off x="1066680" y="3335400"/>
          <a:ext cx="5639040" cy="25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3335400"/>
                    <a:ext cx="563904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Object 5"/>
          <p:cNvGraphicFramePr/>
          <p:nvPr/>
        </p:nvGraphicFramePr>
        <p:xfrm>
          <a:off x="5410080" y="5181480"/>
          <a:ext cx="2565360" cy="68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5181480"/>
                    <a:ext cx="256536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6"/>
          <p:cNvSpPr/>
          <p:nvPr/>
        </p:nvSpPr>
        <p:spPr>
          <a:xfrm>
            <a:off x="1066680" y="1295280"/>
            <a:ext cx="1600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1219320" y="129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a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3"/>
          <p:cNvSpPr/>
          <p:nvPr/>
        </p:nvSpPr>
        <p:spPr>
          <a:xfrm>
            <a:off x="1066680" y="1905120"/>
            <a:ext cx="72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sition of a phasor at any instant can be expressed as a positive angle, measured counterclockwise from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as a negative angle equal to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1066680" y="1295280"/>
            <a:ext cx="1600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1219320" y="129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a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1" name="Object 8"/>
          <p:cNvGraphicFramePr/>
          <p:nvPr/>
        </p:nvGraphicFramePr>
        <p:xfrm>
          <a:off x="1657440" y="3505320"/>
          <a:ext cx="2658960" cy="256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3505320"/>
                    <a:ext cx="2658960" cy="25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10"/>
          <p:cNvGraphicFramePr/>
          <p:nvPr/>
        </p:nvGraphicFramePr>
        <p:xfrm>
          <a:off x="2125800" y="3948120"/>
          <a:ext cx="1706400" cy="163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5800" y="3948120"/>
                    <a:ext cx="170640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5" name="Group 28"/>
          <p:cNvGrpSpPr/>
          <p:nvPr/>
        </p:nvGrpSpPr>
        <p:grpSpPr>
          <a:xfrm>
            <a:off x="3504960" y="3306600"/>
            <a:ext cx="3962520" cy="685800"/>
            <a:chOff x="3504960" y="3306600"/>
            <a:chExt cx="3962520" cy="685800"/>
          </a:xfrm>
        </p:grpSpPr>
        <p:sp>
          <p:nvSpPr>
            <p:cNvPr id="466" name="Text Box 13"/>
            <p:cNvSpPr/>
            <p:nvPr/>
          </p:nvSpPr>
          <p:spPr>
            <a:xfrm>
              <a:off x="4572000" y="330660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ve angle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>
              <a:off x="3504960" y="3611520"/>
              <a:ext cx="106668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8" name="Object 22"/>
          <p:cNvGraphicFramePr/>
          <p:nvPr/>
        </p:nvGraphicFramePr>
        <p:xfrm>
          <a:off x="3637080" y="4780080"/>
          <a:ext cx="187200" cy="40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9" name="Object 2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37080" y="4780080"/>
                    <a:ext cx="187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0" name="Group 29"/>
          <p:cNvGrpSpPr/>
          <p:nvPr/>
        </p:nvGrpSpPr>
        <p:grpSpPr>
          <a:xfrm>
            <a:off x="3809520" y="4525920"/>
            <a:ext cx="4572360" cy="459720"/>
            <a:chOff x="3809520" y="4525920"/>
            <a:chExt cx="4572360" cy="459720"/>
          </a:xfrm>
        </p:grpSpPr>
        <p:sp>
          <p:nvSpPr>
            <p:cNvPr id="471" name="Text Box 15"/>
            <p:cNvSpPr/>
            <p:nvPr/>
          </p:nvSpPr>
          <p:spPr>
            <a:xfrm>
              <a:off x="4572000" y="452592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gative angle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6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26"/>
            <p:cNvSpPr/>
            <p:nvPr/>
          </p:nvSpPr>
          <p:spPr>
            <a:xfrm flipH="1">
              <a:off x="3809520" y="4830840"/>
              <a:ext cx="762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Text Box 27"/>
          <p:cNvSpPr/>
          <p:nvPr/>
        </p:nvSpPr>
        <p:spPr>
          <a:xfrm>
            <a:off x="4191120" y="5334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1066680" y="1295280"/>
            <a:ext cx="44960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121932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gular velocity of a pha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1066680" y="213372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phasor rotates through 3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dians, one complete cycle is traced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locity of rotation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ular velo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3276720" y="3352680"/>
            <a:ext cx="12952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1066680" y="43434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stantaneous voltage at any point in time is given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3200400" y="4867200"/>
            <a:ext cx="2362320" cy="510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1066680" y="388620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te that this angular velocity is expressed in radians per secon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4" descr=""/>
          <p:cNvPicPr/>
          <p:nvPr/>
        </p:nvPicPr>
        <p:blipFill>
          <a:blip r:embed="rId2"/>
          <a:stretch/>
        </p:blipFill>
        <p:spPr>
          <a:xfrm>
            <a:off x="1600200" y="3048120"/>
            <a:ext cx="5897520" cy="311940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5"/>
          <p:cNvSpPr/>
          <p:nvPr/>
        </p:nvSpPr>
        <p:spPr>
          <a:xfrm>
            <a:off x="1219320" y="19051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ly dc and ac voltages are together in a waveform. They can be added algebraically, to produce a composite waveform of an ac voltage “riding” on a dc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1066680" y="1295280"/>
            <a:ext cx="51818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1219320" y="12952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erimposed dc and ac vol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4"/>
          <p:cNvSpPr/>
          <p:nvPr/>
        </p:nvSpPr>
        <p:spPr>
          <a:xfrm>
            <a:off x="685800" y="1905120"/>
            <a:ext cx="8001000" cy="426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1066680" y="1295280"/>
            <a:ext cx="2743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1219320" y="1295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ls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8" name="Object 7"/>
          <p:cNvGraphicFramePr/>
          <p:nvPr/>
        </p:nvGraphicFramePr>
        <p:xfrm>
          <a:off x="1143000" y="2590920"/>
          <a:ext cx="7010280" cy="24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590920"/>
                    <a:ext cx="7010280" cy="24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Text Box 8"/>
          <p:cNvSpPr/>
          <p:nvPr/>
        </p:nvSpPr>
        <p:spPr>
          <a:xfrm>
            <a:off x="3733920" y="1981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4"/>
          <p:cNvSpPr/>
          <p:nvPr/>
        </p:nvSpPr>
        <p:spPr>
          <a:xfrm>
            <a:off x="685800" y="1905120"/>
            <a:ext cx="8001000" cy="426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1066680" y="1295280"/>
            <a:ext cx="2743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1219320" y="1295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ls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320040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Object 8"/>
          <p:cNvGraphicFramePr/>
          <p:nvPr/>
        </p:nvGraphicFramePr>
        <p:xfrm>
          <a:off x="1143000" y="2514600"/>
          <a:ext cx="6850080" cy="22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514600"/>
                    <a:ext cx="685008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9"/>
          <p:cNvSpPr/>
          <p:nvPr/>
        </p:nvSpPr>
        <p:spPr>
          <a:xfrm>
            <a:off x="1295280" y="48769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rise and fall times are measured between the 10% and 90% levels whereas pulse width is measured at the 50%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1066680" y="1295280"/>
            <a:ext cx="47246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1143000" y="12952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iangular and sawtooth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1295280" y="19810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ngular and sawtooth waveforms are formed by voltage or current ramps (linear increase/decre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4876920" y="304812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ngular waveforms have positive-going and negative-going ramps of equal slo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4876920" y="426708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awtooth waveform consists of two ramps, one of much longer duration than the other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Object 19"/>
          <p:cNvGraphicFramePr/>
          <p:nvPr/>
        </p:nvGraphicFramePr>
        <p:xfrm>
          <a:off x="1549440" y="3435480"/>
          <a:ext cx="3075120" cy="58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4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9440" y="3435480"/>
                    <a:ext cx="30751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Object 21"/>
          <p:cNvGraphicFramePr/>
          <p:nvPr/>
        </p:nvGraphicFramePr>
        <p:xfrm>
          <a:off x="1549440" y="4545000"/>
          <a:ext cx="3093840" cy="73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6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49440" y="4545000"/>
                    <a:ext cx="309384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BG1987"/>
          <p:cNvPicPr/>
          <p:nvPr/>
        </p:nvPicPr>
        <p:blipFill>
          <a:blip r:embed="rId2"/>
          <a:stretch/>
        </p:blipFill>
        <p:spPr>
          <a:xfrm>
            <a:off x="609480" y="990720"/>
            <a:ext cx="8153640" cy="5387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1143000" y="1219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ave is a disturbance. Unlike water waves, electrical waves cannot be seen directly but they have similar characteristics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iodic waves can be constructed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 wa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why sine waves are fundam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1066680" y="1295280"/>
            <a:ext cx="19814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1143000" y="1295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rm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1295280" y="19810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epetitive non-sinusoidal waveforms are composed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damental frequ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epetition rate of the waveform)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monic frequenc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1295280" y="32004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dd harmon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requencies that are odd multiples of the fundamental frequ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2"/>
          <p:cNvSpPr/>
          <p:nvPr/>
        </p:nvSpPr>
        <p:spPr>
          <a:xfrm>
            <a:off x="1295280" y="41148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 harmon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requencies that are even multiples of the fundamental frequ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1066680" y="1295280"/>
            <a:ext cx="19814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1143000" y="1295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rm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7" descr=""/>
          <p:cNvPicPr/>
          <p:nvPr/>
        </p:nvPicPr>
        <p:blipFill>
          <a:blip r:embed="rId2"/>
          <a:stretch/>
        </p:blipFill>
        <p:spPr>
          <a:xfrm>
            <a:off x="901800" y="3228840"/>
            <a:ext cx="7556400" cy="215136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8"/>
          <p:cNvSpPr/>
          <p:nvPr/>
        </p:nvSpPr>
        <p:spPr>
          <a:xfrm>
            <a:off x="1143000" y="2057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quare wave is composed only of the fundamental frequency and odd harmonics (of the proper amplitud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Object 15"/>
          <p:cNvGraphicFramePr/>
          <p:nvPr/>
        </p:nvGraphicFramePr>
        <p:xfrm>
          <a:off x="1752480" y="2133720"/>
          <a:ext cx="5286600" cy="39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133720"/>
                    <a:ext cx="528660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16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1066680" y="1295280"/>
            <a:ext cx="23623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8"/>
          <p:cNvSpPr/>
          <p:nvPr/>
        </p:nvSpPr>
        <p:spPr>
          <a:xfrm>
            <a:off x="1219320" y="1295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cillo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9"/>
          <p:cNvSpPr/>
          <p:nvPr/>
        </p:nvSpPr>
        <p:spPr>
          <a:xfrm>
            <a:off x="3809880" y="1295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scilloscope is divided into four main s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Object 20"/>
          <p:cNvGraphicFramePr/>
          <p:nvPr/>
        </p:nvGraphicFramePr>
        <p:xfrm>
          <a:off x="533520" y="533520"/>
          <a:ext cx="7022880" cy="394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3" name="Object 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533520"/>
                    <a:ext cx="702288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21"/>
          <p:cNvGraphicFramePr/>
          <p:nvPr/>
        </p:nvGraphicFramePr>
        <p:xfrm>
          <a:off x="457200" y="3046320"/>
          <a:ext cx="7315200" cy="327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5" name="Object 2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6320"/>
                    <a:ext cx="731520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22"/>
          <p:cNvGraphicFramePr/>
          <p:nvPr/>
        </p:nvGraphicFramePr>
        <p:xfrm>
          <a:off x="4952880" y="533520"/>
          <a:ext cx="3400560" cy="3233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7" name="Object 2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533520"/>
                    <a:ext cx="3400560" cy="32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23"/>
          <p:cNvGraphicFramePr/>
          <p:nvPr/>
        </p:nvGraphicFramePr>
        <p:xfrm>
          <a:off x="4952880" y="2133720"/>
          <a:ext cx="3463920" cy="4038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29" name="Object 2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52880" y="2133720"/>
                    <a:ext cx="34639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1" dur="1" fill="hold"/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1"/>
          <p:cNvSpPr/>
          <p:nvPr/>
        </p:nvSpPr>
        <p:spPr>
          <a:xfrm>
            <a:off x="25560" y="50760"/>
            <a:ext cx="9118440" cy="6807240"/>
          </a:xfrm>
          <a:prstGeom prst="rect">
            <a:avLst/>
          </a:prstGeom>
          <a:solidFill>
            <a:srgbClr val="dddddd"/>
          </a:solidFill>
          <a:ln w="76320">
            <a:solidFill>
              <a:srgbClr val="d1a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Object 14"/>
          <p:cNvGraphicFramePr/>
          <p:nvPr/>
        </p:nvGraphicFramePr>
        <p:xfrm>
          <a:off x="380880" y="228600"/>
          <a:ext cx="8229600" cy="615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2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82296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pper Saddle River, NJ 07458. •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1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12"/>
          <p:cNvSpPr/>
          <p:nvPr/>
        </p:nvSpPr>
        <p:spPr>
          <a:xfrm>
            <a:off x="1066680" y="1295280"/>
            <a:ext cx="23623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1219320" y="1295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scillo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Object 14"/>
          <p:cNvGraphicFramePr/>
          <p:nvPr/>
        </p:nvGraphicFramePr>
        <p:xfrm>
          <a:off x="228600" y="1981080"/>
          <a:ext cx="8532720" cy="42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853272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0" name="Group 15"/>
          <p:cNvGrpSpPr/>
          <p:nvPr/>
        </p:nvGrpSpPr>
        <p:grpSpPr>
          <a:xfrm>
            <a:off x="228600" y="1447920"/>
            <a:ext cx="8532720" cy="4811760"/>
            <a:chOff x="228600" y="1447920"/>
            <a:chExt cx="8532720" cy="4811760"/>
          </a:xfrm>
        </p:grpSpPr>
        <p:graphicFrame>
          <p:nvGraphicFramePr>
            <p:cNvPr id="541" name="Object 16"/>
            <p:cNvGraphicFramePr/>
            <p:nvPr/>
          </p:nvGraphicFramePr>
          <p:xfrm>
            <a:off x="228600" y="1981080"/>
            <a:ext cx="8532720" cy="4278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2" name="Object 1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8600" y="1981080"/>
                      <a:ext cx="8532720" cy="427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3" name="Text Box 17"/>
            <p:cNvSpPr/>
            <p:nvPr/>
          </p:nvSpPr>
          <p:spPr>
            <a:xfrm>
              <a:off x="5333400" y="1447920"/>
              <a:ext cx="11653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t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Group 18"/>
          <p:cNvGrpSpPr/>
          <p:nvPr/>
        </p:nvGrpSpPr>
        <p:grpSpPr>
          <a:xfrm>
            <a:off x="228600" y="1447920"/>
            <a:ext cx="8532720" cy="4817880"/>
            <a:chOff x="228600" y="1447920"/>
            <a:chExt cx="8532720" cy="4817880"/>
          </a:xfrm>
        </p:grpSpPr>
        <p:graphicFrame>
          <p:nvGraphicFramePr>
            <p:cNvPr id="545" name="Object 19"/>
            <p:cNvGraphicFramePr/>
            <p:nvPr/>
          </p:nvGraphicFramePr>
          <p:xfrm>
            <a:off x="228600" y="1981080"/>
            <a:ext cx="8532720" cy="4284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46" name="Object 19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8600" y="1981080"/>
                      <a:ext cx="8532720" cy="428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7" name="Text Box 20"/>
            <p:cNvSpPr/>
            <p:nvPr/>
          </p:nvSpPr>
          <p:spPr>
            <a:xfrm>
              <a:off x="6400440" y="1447920"/>
              <a:ext cx="14868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rizo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Group 21"/>
          <p:cNvGrpSpPr/>
          <p:nvPr/>
        </p:nvGrpSpPr>
        <p:grpSpPr>
          <a:xfrm>
            <a:off x="228600" y="1447920"/>
            <a:ext cx="8531280" cy="4817880"/>
            <a:chOff x="228600" y="1447920"/>
            <a:chExt cx="8531280" cy="4817880"/>
          </a:xfrm>
        </p:grpSpPr>
        <p:graphicFrame>
          <p:nvGraphicFramePr>
            <p:cNvPr id="549" name="Object 22"/>
            <p:cNvGraphicFramePr/>
            <p:nvPr/>
          </p:nvGraphicFramePr>
          <p:xfrm>
            <a:off x="228600" y="1981080"/>
            <a:ext cx="8531280" cy="4284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50" name="Object 2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28600" y="1981080"/>
                      <a:ext cx="8531280" cy="428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1" name="Text Box 23"/>
            <p:cNvSpPr/>
            <p:nvPr/>
          </p:nvSpPr>
          <p:spPr>
            <a:xfrm>
              <a:off x="7391520" y="1447920"/>
              <a:ext cx="12952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g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24"/>
          <p:cNvGrpSpPr/>
          <p:nvPr/>
        </p:nvGrpSpPr>
        <p:grpSpPr>
          <a:xfrm>
            <a:off x="228600" y="1447920"/>
            <a:ext cx="8616960" cy="4852800"/>
            <a:chOff x="228600" y="1447920"/>
            <a:chExt cx="8616960" cy="4852800"/>
          </a:xfrm>
        </p:grpSpPr>
        <p:graphicFrame>
          <p:nvGraphicFramePr>
            <p:cNvPr id="553" name="Object 25"/>
            <p:cNvGraphicFramePr/>
            <p:nvPr/>
          </p:nvGraphicFramePr>
          <p:xfrm>
            <a:off x="228600" y="1981080"/>
            <a:ext cx="8616960" cy="43196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54" name="Object 25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8600" y="1981080"/>
                      <a:ext cx="8616960" cy="431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5" name="Text Box 26"/>
            <p:cNvSpPr/>
            <p:nvPr/>
          </p:nvSpPr>
          <p:spPr>
            <a:xfrm>
              <a:off x="3734640" y="1447920"/>
              <a:ext cx="11300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pl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5" dur="1" fill="hold"/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10"/>
          <p:cNvSpPr/>
          <p:nvPr/>
        </p:nvSpPr>
        <p:spPr>
          <a:xfrm>
            <a:off x="228600" y="1308240"/>
            <a:ext cx="236232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ine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lternating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eriod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requency (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er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2590920" y="253044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that reverses direction in response to a change in source voltage pol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2"/>
          <p:cNvSpPr/>
          <p:nvPr/>
        </p:nvSpPr>
        <p:spPr>
          <a:xfrm>
            <a:off x="2590920" y="34290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ime interval for one complete cycle of a periodic wavefo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2581200" y="12286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e of waveform that follows a cyclic sinusoidal pattern defined by the formul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2743200" y="457200"/>
            <a:ext cx="39625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ected 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2590920" y="435924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asure of the rate of change of a periodic function; the number of cycles completed in 1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6"/>
          <p:cNvSpPr/>
          <p:nvPr/>
        </p:nvSpPr>
        <p:spPr>
          <a:xfrm>
            <a:off x="2590920" y="5334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 of frequency. One hertz equals one cycle per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590400" y="990720"/>
            <a:ext cx="8172720" cy="5276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3"/>
          <p:cNvSpPr/>
          <p:nvPr/>
        </p:nvSpPr>
        <p:spPr>
          <a:xfrm>
            <a:off x="380880" y="1384200"/>
            <a:ext cx="2362320" cy="41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stantaneous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ea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eak-to-pea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ms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2743200" y="225756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oltage or current value of a waveform at its maximum positive or negative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2743200" y="32004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oltage or current value of a waveform measured from its minimum to its maximum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2752560" y="133344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oltage or current value of a waveform at a given instant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2743200" y="457200"/>
            <a:ext cx="39625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ected 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2743200" y="44956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lue of a sinusoidal voltage that indicates its heating effect, also known as effective value. It is equal to 0.707 times the peak value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nds for root mean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590400" y="990720"/>
            <a:ext cx="8172720" cy="527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3"/>
          <p:cNvSpPr/>
          <p:nvPr/>
        </p:nvSpPr>
        <p:spPr>
          <a:xfrm>
            <a:off x="304920" y="1384200"/>
            <a:ext cx="198108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a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ha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arm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2286000" y="32004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ximum value of a voltage or cur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2286000" y="38419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e of waveform that consists of two equal and opposite steps in voltage or current separated by a time inter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2286000" y="133344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nit of angular measurement. There are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ians in one complete 3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2743200" y="457200"/>
            <a:ext cx="39625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ed 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2286000" y="50608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requencies contained in a composite waveform, which are integer multiples of the pulse repetition frequenc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2286000" y="22860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presentation of a sine wave in terms of its magnitude (amplitude) and direction (phase ang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590400" y="990720"/>
            <a:ext cx="8172720" cy="527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99072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 North America, the frequency of ac utility voltage is 60 Hz. The perio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8.3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6.7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60 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60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990720" y="19051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 amplitude of a sine wave is measu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t the maximum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between the minimum and maximum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t the mid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nywhere on the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914400" y="205740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 waves are characterized by the amplitude and period.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plit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maximum value of a voltage or current;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time interval for one complete cyc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1219320" y="1371600"/>
            <a:ext cx="21333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295280" y="1371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e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16"/>
          <p:cNvSpPr txBox="1"/>
          <p:nvPr/>
        </p:nvSpPr>
        <p:spPr>
          <a:xfrm>
            <a:off x="990720" y="3352680"/>
            <a:ext cx="121896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14" name="Object 17"/>
          <p:cNvGraphicFramePr/>
          <p:nvPr/>
        </p:nvGraphicFramePr>
        <p:xfrm>
          <a:off x="4191120" y="3352680"/>
          <a:ext cx="4327560" cy="265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3352680"/>
                    <a:ext cx="43275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18"/>
          <p:cNvSpPr/>
          <p:nvPr/>
        </p:nvSpPr>
        <p:spPr>
          <a:xfrm>
            <a:off x="1219320" y="37339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mplitud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f this sine w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1539720" y="4441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1219320" y="4952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iod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89548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0.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22"/>
          <p:cNvGrpSpPr/>
          <p:nvPr/>
        </p:nvGrpSpPr>
        <p:grpSpPr>
          <a:xfrm>
            <a:off x="5257800" y="3476520"/>
            <a:ext cx="762120" cy="1219320"/>
            <a:chOff x="5257800" y="3476520"/>
            <a:chExt cx="762120" cy="1219320"/>
          </a:xfrm>
        </p:grpSpPr>
        <p:sp>
          <p:nvSpPr>
            <p:cNvPr id="121" name="Line 23"/>
            <p:cNvSpPr/>
            <p:nvPr/>
          </p:nvSpPr>
          <p:spPr>
            <a:xfrm>
              <a:off x="5477040" y="3476520"/>
              <a:ext cx="144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24"/>
            <p:cNvSpPr/>
            <p:nvPr/>
          </p:nvSpPr>
          <p:spPr>
            <a:xfrm>
              <a:off x="5257800" y="3952800"/>
              <a:ext cx="533520" cy="39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25"/>
            <p:cNvSpPr/>
            <p:nvPr/>
          </p:nvSpPr>
          <p:spPr>
            <a:xfrm>
              <a:off x="525780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34"/>
          <p:cNvGrpSpPr/>
          <p:nvPr/>
        </p:nvGrpSpPr>
        <p:grpSpPr>
          <a:xfrm>
            <a:off x="4699080" y="4667400"/>
            <a:ext cx="3225600" cy="1507320"/>
            <a:chOff x="4699080" y="4667400"/>
            <a:chExt cx="3225600" cy="1507320"/>
          </a:xfrm>
        </p:grpSpPr>
        <p:sp>
          <p:nvSpPr>
            <p:cNvPr id="125" name="Line 28"/>
            <p:cNvSpPr/>
            <p:nvPr/>
          </p:nvSpPr>
          <p:spPr>
            <a:xfrm>
              <a:off x="4699080" y="596268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9"/>
            <p:cNvSpPr/>
            <p:nvPr/>
          </p:nvSpPr>
          <p:spPr>
            <a:xfrm>
              <a:off x="7924680" y="466740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30"/>
            <p:cNvSpPr/>
            <p:nvPr/>
          </p:nvSpPr>
          <p:spPr>
            <a:xfrm>
              <a:off x="5334120" y="59626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32"/>
            <p:cNvSpPr/>
            <p:nvPr/>
          </p:nvSpPr>
          <p:spPr>
            <a:xfrm>
              <a:off x="5791320" y="5715000"/>
              <a:ext cx="38088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990720" y="182880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n example of an equation for a waveform that lags the referen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V sin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 V sin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.0 V sin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 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914400" y="1905120"/>
            <a:ext cx="73152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n the equ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the let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nds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ea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verag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rms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instantaneous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914400" y="1905120"/>
            <a:ext cx="73152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The time base of an oscilloscope is determined by the setting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vertical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orizontal contr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rigg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762120" y="198108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 sawtooth waveform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equal positive and negative going r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two ramps - one much longer than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two equal 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two unequal 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914400" y="2057400"/>
            <a:ext cx="7010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The number of radians in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914400" y="2057400"/>
            <a:ext cx="7162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For the waveform shown, the same power would be delivered to a load with a dc voltag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21.2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37.8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42.4 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60.0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3" name="Object 7"/>
          <p:cNvGraphicFramePr/>
          <p:nvPr/>
        </p:nvGraphicFramePr>
        <p:xfrm>
          <a:off x="3505320" y="2892600"/>
          <a:ext cx="4724280" cy="28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892600"/>
                    <a:ext cx="472428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914400" y="1981080"/>
            <a:ext cx="7315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 square wave consist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the fundamental and odd harm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the fundamental and even harm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the fundamental and all harm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only the fund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6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914400" y="1752480"/>
            <a:ext cx="7620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A control on the oscilloscope that is used to set the desired number of cycles of a wave on the display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volts per divi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ime per divi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rigger leve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orizontal posi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3200400" y="1981080"/>
            <a:ext cx="2819520" cy="3429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3657600" y="2057400"/>
            <a:ext cx="1828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4800600" y="2590920"/>
            <a:ext cx="1752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371600" y="19810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iod of a sine wave can be measured between any two corresponding points on the wave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219320" y="1371600"/>
            <a:ext cx="21333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295280" y="1371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e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7"/>
          <p:cNvGraphicFramePr/>
          <p:nvPr/>
        </p:nvGraphicFramePr>
        <p:xfrm>
          <a:off x="1600200" y="3124080"/>
          <a:ext cx="6004080" cy="22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124080"/>
                    <a:ext cx="600408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Group 14"/>
          <p:cNvGrpSpPr/>
          <p:nvPr/>
        </p:nvGrpSpPr>
        <p:grpSpPr>
          <a:xfrm>
            <a:off x="1812960" y="2819520"/>
            <a:ext cx="2813040" cy="1608120"/>
            <a:chOff x="1812960" y="2819520"/>
            <a:chExt cx="2813040" cy="1608120"/>
          </a:xfrm>
        </p:grpSpPr>
        <p:sp>
          <p:nvSpPr>
            <p:cNvPr id="136" name="Line 9"/>
            <p:cNvSpPr/>
            <p:nvPr/>
          </p:nvSpPr>
          <p:spPr>
            <a:xfrm flipV="1">
              <a:off x="1812960" y="29718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 flipV="1">
              <a:off x="4626000" y="29797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3048120" y="2819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 flipH="1">
              <a:off x="1828440" y="3048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3505320" y="3048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15"/>
          <p:cNvGrpSpPr/>
          <p:nvPr/>
        </p:nvGrpSpPr>
        <p:grpSpPr>
          <a:xfrm>
            <a:off x="2063880" y="2819520"/>
            <a:ext cx="2813040" cy="1608120"/>
            <a:chOff x="2063880" y="2819520"/>
            <a:chExt cx="2813040" cy="1608120"/>
          </a:xfrm>
        </p:grpSpPr>
        <p:sp>
          <p:nvSpPr>
            <p:cNvPr id="142" name="Line 16"/>
            <p:cNvSpPr/>
            <p:nvPr/>
          </p:nvSpPr>
          <p:spPr>
            <a:xfrm flipV="1">
              <a:off x="2063880" y="29718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7"/>
            <p:cNvSpPr/>
            <p:nvPr/>
          </p:nvSpPr>
          <p:spPr>
            <a:xfrm flipV="1">
              <a:off x="4876920" y="29797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8"/>
            <p:cNvSpPr/>
            <p:nvPr/>
          </p:nvSpPr>
          <p:spPr>
            <a:xfrm>
              <a:off x="3299040" y="2819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 flipH="1">
              <a:off x="2079360" y="3048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3756240" y="3048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27"/>
          <p:cNvGrpSpPr/>
          <p:nvPr/>
        </p:nvGrpSpPr>
        <p:grpSpPr>
          <a:xfrm>
            <a:off x="2506680" y="2819520"/>
            <a:ext cx="2813040" cy="1608120"/>
            <a:chOff x="2506680" y="2819520"/>
            <a:chExt cx="2813040" cy="1608120"/>
          </a:xfrm>
        </p:grpSpPr>
        <p:sp>
          <p:nvSpPr>
            <p:cNvPr id="148" name="Line 28"/>
            <p:cNvSpPr/>
            <p:nvPr/>
          </p:nvSpPr>
          <p:spPr>
            <a:xfrm flipV="1">
              <a:off x="2506680" y="29718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29"/>
            <p:cNvSpPr/>
            <p:nvPr/>
          </p:nvSpPr>
          <p:spPr>
            <a:xfrm flipV="1">
              <a:off x="5319720" y="29797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30"/>
            <p:cNvSpPr/>
            <p:nvPr/>
          </p:nvSpPr>
          <p:spPr>
            <a:xfrm>
              <a:off x="3741840" y="2819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1"/>
            <p:cNvSpPr/>
            <p:nvPr/>
          </p:nvSpPr>
          <p:spPr>
            <a:xfrm flipH="1">
              <a:off x="2522160" y="3048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32"/>
            <p:cNvSpPr/>
            <p:nvPr/>
          </p:nvSpPr>
          <p:spPr>
            <a:xfrm>
              <a:off x="4199040" y="3048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33"/>
          <p:cNvGrpSpPr/>
          <p:nvPr/>
        </p:nvGrpSpPr>
        <p:grpSpPr>
          <a:xfrm>
            <a:off x="2978280" y="2819520"/>
            <a:ext cx="2813040" cy="1608120"/>
            <a:chOff x="2978280" y="2819520"/>
            <a:chExt cx="2813040" cy="1608120"/>
          </a:xfrm>
        </p:grpSpPr>
        <p:sp>
          <p:nvSpPr>
            <p:cNvPr id="154" name="Line 34"/>
            <p:cNvSpPr/>
            <p:nvPr/>
          </p:nvSpPr>
          <p:spPr>
            <a:xfrm flipV="1">
              <a:off x="2978280" y="29718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35"/>
            <p:cNvSpPr/>
            <p:nvPr/>
          </p:nvSpPr>
          <p:spPr>
            <a:xfrm flipV="1">
              <a:off x="5791320" y="29797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36"/>
            <p:cNvSpPr/>
            <p:nvPr/>
          </p:nvSpPr>
          <p:spPr>
            <a:xfrm>
              <a:off x="4213440" y="2819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37"/>
            <p:cNvSpPr/>
            <p:nvPr/>
          </p:nvSpPr>
          <p:spPr>
            <a:xfrm flipH="1">
              <a:off x="2993760" y="3048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38"/>
            <p:cNvSpPr/>
            <p:nvPr/>
          </p:nvSpPr>
          <p:spPr>
            <a:xfrm>
              <a:off x="4670640" y="3048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5"/>
          <p:cNvGrpSpPr/>
          <p:nvPr/>
        </p:nvGrpSpPr>
        <p:grpSpPr>
          <a:xfrm>
            <a:off x="3886200" y="3657600"/>
            <a:ext cx="2813040" cy="1608120"/>
            <a:chOff x="3886200" y="3657600"/>
            <a:chExt cx="2813040" cy="1608120"/>
          </a:xfrm>
        </p:grpSpPr>
        <p:sp>
          <p:nvSpPr>
            <p:cNvPr id="160" name="Line 46"/>
            <p:cNvSpPr/>
            <p:nvPr/>
          </p:nvSpPr>
          <p:spPr>
            <a:xfrm flipV="1">
              <a:off x="3886200" y="38098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7"/>
            <p:cNvSpPr/>
            <p:nvPr/>
          </p:nvSpPr>
          <p:spPr>
            <a:xfrm flipV="1">
              <a:off x="6699240" y="38178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48"/>
            <p:cNvSpPr/>
            <p:nvPr/>
          </p:nvSpPr>
          <p:spPr>
            <a:xfrm>
              <a:off x="5121360" y="3657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49"/>
            <p:cNvSpPr/>
            <p:nvPr/>
          </p:nvSpPr>
          <p:spPr>
            <a:xfrm flipH="1">
              <a:off x="3901680" y="38862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0"/>
            <p:cNvSpPr/>
            <p:nvPr/>
          </p:nvSpPr>
          <p:spPr>
            <a:xfrm>
              <a:off x="5578560" y="38862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51"/>
          <p:cNvGrpSpPr/>
          <p:nvPr/>
        </p:nvGrpSpPr>
        <p:grpSpPr>
          <a:xfrm>
            <a:off x="4610160" y="3657600"/>
            <a:ext cx="2813040" cy="1608120"/>
            <a:chOff x="4610160" y="3657600"/>
            <a:chExt cx="2813040" cy="1608120"/>
          </a:xfrm>
        </p:grpSpPr>
        <p:sp>
          <p:nvSpPr>
            <p:cNvPr id="166" name="Line 52"/>
            <p:cNvSpPr/>
            <p:nvPr/>
          </p:nvSpPr>
          <p:spPr>
            <a:xfrm flipV="1">
              <a:off x="4610160" y="38098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3"/>
            <p:cNvSpPr/>
            <p:nvPr/>
          </p:nvSpPr>
          <p:spPr>
            <a:xfrm flipV="1">
              <a:off x="7423200" y="38178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54"/>
            <p:cNvSpPr/>
            <p:nvPr/>
          </p:nvSpPr>
          <p:spPr>
            <a:xfrm>
              <a:off x="5845320" y="3657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5"/>
            <p:cNvSpPr/>
            <p:nvPr/>
          </p:nvSpPr>
          <p:spPr>
            <a:xfrm flipH="1">
              <a:off x="4625640" y="38862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6"/>
            <p:cNvSpPr/>
            <p:nvPr/>
          </p:nvSpPr>
          <p:spPr>
            <a:xfrm>
              <a:off x="6302520" y="38862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Text Box 57"/>
          <p:cNvSpPr/>
          <p:nvPr/>
        </p:nvSpPr>
        <p:spPr>
          <a:xfrm>
            <a:off x="1295280" y="52578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ontrast, the amplitude of a sine wave is only measured from the center to the maximum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286000" y="3170160"/>
            <a:ext cx="304920" cy="1067040"/>
            <a:chOff x="2286000" y="3170160"/>
            <a:chExt cx="304920" cy="1067040"/>
          </a:xfrm>
        </p:grpSpPr>
        <p:sp>
          <p:nvSpPr>
            <p:cNvPr id="173" name="Line 59"/>
            <p:cNvSpPr/>
            <p:nvPr/>
          </p:nvSpPr>
          <p:spPr>
            <a:xfrm flipV="1">
              <a:off x="2506680" y="31701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60"/>
            <p:cNvSpPr/>
            <p:nvPr/>
          </p:nvSpPr>
          <p:spPr>
            <a:xfrm>
              <a:off x="2506680" y="38559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58"/>
            <p:cNvSpPr/>
            <p:nvPr/>
          </p:nvSpPr>
          <p:spPr>
            <a:xfrm>
              <a:off x="2286000" y="3505320"/>
              <a:ext cx="3049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8"/>
          <p:cNvSpPr/>
          <p:nvPr/>
        </p:nvSpPr>
        <p:spPr>
          <a:xfrm>
            <a:off x="1668600" y="3848040"/>
            <a:ext cx="1066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1219320" y="1295280"/>
            <a:ext cx="175248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219320" y="1295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371600" y="19051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number of cycles that a sine wave completes in one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371600" y="26668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is measured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t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Hz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22"/>
          <p:cNvSpPr txBox="1"/>
          <p:nvPr/>
        </p:nvSpPr>
        <p:spPr>
          <a:xfrm>
            <a:off x="762120" y="3048120"/>
            <a:ext cx="121896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1349280" y="34732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3 cycles of a wave occur in one second, the frequency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24"/>
          <p:cNvGraphicFramePr/>
          <p:nvPr/>
        </p:nvGraphicFramePr>
        <p:xfrm>
          <a:off x="3543480" y="4068720"/>
          <a:ext cx="5295600" cy="21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43480" y="4068720"/>
                    <a:ext cx="529560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7" name="Group 29"/>
          <p:cNvGrpSpPr/>
          <p:nvPr/>
        </p:nvGrpSpPr>
        <p:grpSpPr>
          <a:xfrm>
            <a:off x="3635280" y="3930480"/>
            <a:ext cx="4267440" cy="459720"/>
            <a:chOff x="3635280" y="3930480"/>
            <a:chExt cx="4267440" cy="459720"/>
          </a:xfrm>
        </p:grpSpPr>
        <p:sp>
          <p:nvSpPr>
            <p:cNvPr id="188" name="Line 26"/>
            <p:cNvSpPr/>
            <p:nvPr/>
          </p:nvSpPr>
          <p:spPr>
            <a:xfrm>
              <a:off x="3635280" y="415908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27"/>
            <p:cNvSpPr/>
            <p:nvPr/>
          </p:nvSpPr>
          <p:spPr>
            <a:xfrm>
              <a:off x="5692680" y="3930480"/>
              <a:ext cx="76212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0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4267080" y="2819520"/>
            <a:ext cx="106704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600200" y="2819520"/>
            <a:ext cx="10666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143000" y="2057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riod and frequency are reciprocals of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1066680" y="1295280"/>
            <a:ext cx="35053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219320" y="12952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iod and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9"/>
          <p:cNvGraphicFramePr/>
          <p:nvPr/>
        </p:nvGraphicFramePr>
        <p:xfrm>
          <a:off x="1676520" y="2819520"/>
          <a:ext cx="833400" cy="72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819520"/>
                    <a:ext cx="8334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10"/>
          <p:cNvSpPr/>
          <p:nvPr/>
        </p:nvSpPr>
        <p:spPr>
          <a:xfrm>
            <a:off x="312408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Object 11"/>
          <p:cNvGraphicFramePr/>
          <p:nvPr/>
        </p:nvGraphicFramePr>
        <p:xfrm>
          <a:off x="4419720" y="2819520"/>
          <a:ext cx="757080" cy="76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2819520"/>
                    <a:ext cx="757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12"/>
          <p:cNvSpPr/>
          <p:nvPr/>
        </p:nvSpPr>
        <p:spPr>
          <a:xfrm>
            <a:off x="121932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if you know one, you can easily find the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WordArt 13"/>
          <p:cNvSpPr txBox="1"/>
          <p:nvPr/>
        </p:nvSpPr>
        <p:spPr>
          <a:xfrm>
            <a:off x="1066680" y="4648320"/>
            <a:ext cx="121932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438280" y="48006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eriod is 5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, the frequency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18"/>
          <p:cNvGrpSpPr/>
          <p:nvPr/>
        </p:nvGrpSpPr>
        <p:grpSpPr>
          <a:xfrm>
            <a:off x="1295280" y="4114800"/>
            <a:ext cx="7238880" cy="368280"/>
            <a:chOff x="1295280" y="4114800"/>
            <a:chExt cx="7238880" cy="368280"/>
          </a:xfrm>
        </p:grpSpPr>
        <p:sp>
          <p:nvSpPr>
            <p:cNvPr id="206" name="Rectangle 17"/>
            <p:cNvSpPr/>
            <p:nvPr/>
          </p:nvSpPr>
          <p:spPr>
            <a:xfrm>
              <a:off x="1866960" y="4197240"/>
              <a:ext cx="38088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6"/>
            <p:cNvSpPr/>
            <p:nvPr/>
          </p:nvSpPr>
          <p:spPr>
            <a:xfrm>
              <a:off x="1295280" y="4114800"/>
              <a:ext cx="723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The 1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key on your calculator is handy for converting betwee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8" name="Object 9"/>
          <p:cNvGraphicFramePr/>
          <p:nvPr/>
        </p:nvGraphicFramePr>
        <p:xfrm>
          <a:off x="2514600" y="5257800"/>
          <a:ext cx="1976400" cy="77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14600" y="5257800"/>
                    <a:ext cx="197640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495680" y="5410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143000" y="18288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usoidal voltages are produced by ac generators and electronic oscillato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066680" y="1295280"/>
            <a:ext cx="41911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219320" y="12952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usoidal voltage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066680" y="1295280"/>
            <a:ext cx="41148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1219320" y="1295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neration of a sine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Object 12"/>
          <p:cNvGraphicFramePr/>
          <p:nvPr/>
        </p:nvGraphicFramePr>
        <p:xfrm>
          <a:off x="990720" y="3436920"/>
          <a:ext cx="7073640" cy="204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436920"/>
                    <a:ext cx="707364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Group 13"/>
          <p:cNvGrpSpPr/>
          <p:nvPr/>
        </p:nvGrpSpPr>
        <p:grpSpPr>
          <a:xfrm>
            <a:off x="2197080" y="3659040"/>
            <a:ext cx="3822840" cy="1370160"/>
            <a:chOff x="2197080" y="3659040"/>
            <a:chExt cx="3822840" cy="1370160"/>
          </a:xfrm>
        </p:grpSpPr>
        <p:graphicFrame>
          <p:nvGraphicFramePr>
            <p:cNvPr id="221" name="Object 14"/>
            <p:cNvGraphicFramePr/>
            <p:nvPr/>
          </p:nvGraphicFramePr>
          <p:xfrm>
            <a:off x="2197080" y="3659040"/>
            <a:ext cx="1293840" cy="1370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2" name="Object 1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97080" y="3659040"/>
                      <a:ext cx="1293840" cy="13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Text Box 15"/>
            <p:cNvSpPr/>
            <p:nvPr/>
          </p:nvSpPr>
          <p:spPr>
            <a:xfrm>
              <a:off x="556272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16"/>
          <p:cNvGrpSpPr/>
          <p:nvPr/>
        </p:nvGrpSpPr>
        <p:grpSpPr>
          <a:xfrm>
            <a:off x="2185920" y="3646440"/>
            <a:ext cx="4367160" cy="1382760"/>
            <a:chOff x="2185920" y="3646440"/>
            <a:chExt cx="4367160" cy="1382760"/>
          </a:xfrm>
        </p:grpSpPr>
        <p:graphicFrame>
          <p:nvGraphicFramePr>
            <p:cNvPr id="225" name="Object 17"/>
            <p:cNvGraphicFramePr/>
            <p:nvPr/>
          </p:nvGraphicFramePr>
          <p:xfrm>
            <a:off x="2185920" y="3646440"/>
            <a:ext cx="1306440" cy="1382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6" name="Object 1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185920" y="3646440"/>
                      <a:ext cx="130644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7" name="Text Box 18"/>
            <p:cNvSpPr/>
            <p:nvPr/>
          </p:nvSpPr>
          <p:spPr>
            <a:xfrm>
              <a:off x="609588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2184480" y="3646440"/>
            <a:ext cx="4902120" cy="1382760"/>
            <a:chOff x="2184480" y="3646440"/>
            <a:chExt cx="4902120" cy="1382760"/>
          </a:xfrm>
        </p:grpSpPr>
        <p:graphicFrame>
          <p:nvGraphicFramePr>
            <p:cNvPr id="229" name="Object 20"/>
            <p:cNvGraphicFramePr/>
            <p:nvPr/>
          </p:nvGraphicFramePr>
          <p:xfrm>
            <a:off x="2184480" y="3646440"/>
            <a:ext cx="1305000" cy="1382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30" name="Object 2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84480" y="3646440"/>
                      <a:ext cx="130500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Text Box 21"/>
            <p:cNvSpPr/>
            <p:nvPr/>
          </p:nvSpPr>
          <p:spPr>
            <a:xfrm>
              <a:off x="66294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22"/>
          <p:cNvGrpSpPr/>
          <p:nvPr/>
        </p:nvGrpSpPr>
        <p:grpSpPr>
          <a:xfrm>
            <a:off x="2184480" y="3645000"/>
            <a:ext cx="5435640" cy="1384200"/>
            <a:chOff x="2184480" y="3645000"/>
            <a:chExt cx="5435640" cy="1384200"/>
          </a:xfrm>
        </p:grpSpPr>
        <p:graphicFrame>
          <p:nvGraphicFramePr>
            <p:cNvPr id="233" name="Object 23"/>
            <p:cNvGraphicFramePr/>
            <p:nvPr/>
          </p:nvGraphicFramePr>
          <p:xfrm>
            <a:off x="2184480" y="3645000"/>
            <a:ext cx="1306440" cy="1384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34" name="Object 23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184480" y="3645000"/>
                      <a:ext cx="1306440" cy="13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5" name="Text Box 24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Text Box 25"/>
          <p:cNvSpPr/>
          <p:nvPr/>
        </p:nvSpPr>
        <p:spPr>
          <a:xfrm>
            <a:off x="1143000" y="2590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conductor rotates in a constant magnetic field, a sinusoidal wave is generat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8"/>
          <p:cNvGrpSpPr/>
          <p:nvPr/>
        </p:nvGrpSpPr>
        <p:grpSpPr>
          <a:xfrm>
            <a:off x="4267080" y="4648320"/>
            <a:ext cx="4419720" cy="1511280"/>
            <a:chOff x="4267080" y="4648320"/>
            <a:chExt cx="4419720" cy="1511280"/>
          </a:xfrm>
        </p:grpSpPr>
        <p:sp>
          <p:nvSpPr>
            <p:cNvPr id="238" name="Text Box 26"/>
            <p:cNvSpPr/>
            <p:nvPr/>
          </p:nvSpPr>
          <p:spPr>
            <a:xfrm>
              <a:off x="4267080" y="5486400"/>
              <a:ext cx="44197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en the conductor is moving parallel with the lines of flux, no voltage is induced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7"/>
            <p:cNvSpPr/>
            <p:nvPr/>
          </p:nvSpPr>
          <p:spPr>
            <a:xfrm flipV="1">
              <a:off x="5334120" y="4648320"/>
              <a:ext cx="380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31"/>
          <p:cNvGrpSpPr/>
          <p:nvPr/>
        </p:nvGrpSpPr>
        <p:grpSpPr>
          <a:xfrm>
            <a:off x="3505320" y="4648320"/>
            <a:ext cx="5333760" cy="1541880"/>
            <a:chOff x="3505320" y="4648320"/>
            <a:chExt cx="5333760" cy="1541880"/>
          </a:xfrm>
        </p:grpSpPr>
        <p:sp>
          <p:nvSpPr>
            <p:cNvPr id="241" name="Text Box 29"/>
            <p:cNvSpPr/>
            <p:nvPr/>
          </p:nvSpPr>
          <p:spPr>
            <a:xfrm>
              <a:off x="3505320" y="5486400"/>
              <a:ext cx="5333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en the loop is moving perpendicular to the lines of flux, the maximum voltage is induce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0"/>
            <p:cNvSpPr/>
            <p:nvPr/>
          </p:nvSpPr>
          <p:spPr>
            <a:xfrm flipV="1">
              <a:off x="5867280" y="4648320"/>
              <a:ext cx="3812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3" name="Object 35"/>
          <p:cNvGraphicFramePr/>
          <p:nvPr/>
        </p:nvGraphicFramePr>
        <p:xfrm>
          <a:off x="2181240" y="3639960"/>
          <a:ext cx="1333440" cy="1414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4" name="Object 3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81240" y="3639960"/>
                    <a:ext cx="1333440" cy="14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5"/>
          <p:cNvSpPr/>
          <p:nvPr/>
        </p:nvSpPr>
        <p:spPr>
          <a:xfrm>
            <a:off x="1066680" y="190512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s convert rotational energy to electrical energy.  A stationary field alternator with a rotating armature is shown. The armature has an induced voltage, which is connected through slip rings and brushes to a load. The armature loops are wound on a magnetic core (not shown for simplicit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1066680" y="1295280"/>
            <a:ext cx="39625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21932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 generator (altern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Object 9"/>
          <p:cNvGraphicFramePr/>
          <p:nvPr/>
        </p:nvGraphicFramePr>
        <p:xfrm>
          <a:off x="3733920" y="3809880"/>
          <a:ext cx="4572000" cy="234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3809880"/>
                    <a:ext cx="45720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10"/>
          <p:cNvSpPr/>
          <p:nvPr/>
        </p:nvSpPr>
        <p:spPr>
          <a:xfrm>
            <a:off x="1066680" y="4114800"/>
            <a:ext cx="350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alternators may use a permanent magnet as shown here; other use field coils to produce the magnetic flux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Object 11"/>
          <p:cNvGraphicFramePr/>
          <p:nvPr/>
        </p:nvGraphicFramePr>
        <p:xfrm>
          <a:off x="5638680" y="3909960"/>
          <a:ext cx="1474920" cy="15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3909960"/>
                    <a:ext cx="147492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5:29:44Z</dcterms:created>
  <dc:creator>David  Buchla</dc:creator>
  <dc:description/>
  <dc:language>en-US</dc:language>
  <cp:lastModifiedBy>admin</cp:lastModifiedBy>
  <dcterms:modified xsi:type="dcterms:W3CDTF">2011-02-07T10:17:50Z</dcterms:modified>
  <cp:revision>166</cp:revision>
  <dc:subject/>
  <dc:title>PowerPoint Presentation</dc:title>
</cp:coreProperties>
</file>