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3.png" ContentType="image/png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3.jpeg" ContentType="image/jpeg"/>
  <Override PartName="/ppt/media/image28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31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52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D99-BEA2-4FC2-B2E0-9D9AFE4B94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674-AE6F-4B9D-B0FD-32460F96A7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EC68-F6BD-469F-B0E9-6276CD4F40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EAD-8A2D-4CEF-851D-B3BA8B7B39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64E-61DA-4F32-9781-8E37DABB0E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2773-CD13-49ED-9CC0-BDAD18D5F1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44D-BCEA-4761-BDFD-3AD5B5DE760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4799-CBF8-41C6-883C-B3EEEF8CA4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FC6E-2EE3-4144-B54C-E09F139B3E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BD6-9042-4792-BD6D-19A714E039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DC83-D5B2-4D4C-9E1D-2CE6856BD3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8B35-4BC4-4AB9-A3B3-29DD50602F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4C7-1ADD-48A5-A5C8-5A47A90CA3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DC8B-B0B1-417D-8EFD-F483450E442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19D5-7715-4BA7-B818-D6DB7FE509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6798-A106-4F5A-8166-D0C05A5469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618D-1B00-479C-8B51-6582245C78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BAF8-9583-4B30-8C3F-C928CEF1E2F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DE5-672D-471F-981F-63780202476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9CDA-A7C4-49BD-969B-72BAA5617D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63D3-E9FB-4BCF-9750-69C359AF26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3F39-E3B5-4309-9F07-2FBB1F687F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F47F-BBF9-4EBB-B250-53EB4486E4F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903A-802A-4C19-BCFF-C29C91893E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78A-3507-4953-9D6D-0493630891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DDF1-8EC3-4B20-B884-815F73D8C3C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743F-93F0-45C0-9E2D-83D8593F03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BE7-0BCA-4022-BA8D-5847A75BEF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7FD3-501C-4F6F-B426-4360C09AEF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53C2-DCCC-42C7-9653-4AA7891DC5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6DE6-A180-4FE4-AB64-6658BFEFD0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B83A-1508-45A6-824F-C63805A4D3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3AE4-4880-4109-908A-D17CB81ADB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2ED3-BF30-4EBE-8E6A-CCEF00C2D0D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1B2-D617-4DCE-B079-55BC6B6035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9D3C-BC5E-45DA-8AF3-97473B077B9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CC73-1690-4ED1-98F5-7FC9EC8468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C21B-5457-4A18-B22F-78AB5447950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8DCD-F38F-4A18-A201-B0832B7DD73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A128-A265-4AAE-BE13-FC5F200CD6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11E-557C-4656-B566-BDE5AF2C83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1A40-F486-4C2D-BEF4-90260695FF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74D-119E-44D3-81A5-B7CFC7A74E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141-469E-4C81-B6A1-8F38997795C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8C2-EA25-4B24-9300-9714449CB7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A910-C62C-4646-9088-9D337BD38B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207-75BE-43E1-AACB-EC5DB7B41B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2170-045A-49F6-AC6B-CE60F568E2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C66-491B-41FC-AF29-BC816EB193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5029200" y="525780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11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 generator (altern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2"/>
          <a:stretch/>
        </p:blipFill>
        <p:spPr>
          <a:xfrm>
            <a:off x="1371600" y="3084480"/>
            <a:ext cx="6477120" cy="31179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3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creasing the number of poles, the number of cycles per revolution is increased. A four-pole generator will produce two complete cycles in each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609480" y="914400"/>
            <a:ext cx="8153640" cy="533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762120" y="1143000"/>
            <a:ext cx="31240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762120" y="1143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 gen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7" descr="fg09_03400"/>
          <p:cNvPicPr/>
          <p:nvPr/>
        </p:nvPicPr>
        <p:blipFill>
          <a:blip r:embed="rId2"/>
          <a:stretch/>
        </p:blipFill>
        <p:spPr>
          <a:xfrm>
            <a:off x="3962520" y="1295280"/>
            <a:ext cx="4192560" cy="3357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295280" y="2286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2952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295280" y="3962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level (amplitu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296360" y="44197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380988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O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3048120" y="1755720"/>
            <a:ext cx="3816360" cy="1596960"/>
            <a:chOff x="3048120" y="1755720"/>
            <a:chExt cx="3816360" cy="1596960"/>
          </a:xfrm>
        </p:grpSpPr>
        <p:sp>
          <p:nvSpPr>
            <p:cNvPr id="267" name="Line 14"/>
            <p:cNvSpPr/>
            <p:nvPr/>
          </p:nvSpPr>
          <p:spPr>
            <a:xfrm flipV="1">
              <a:off x="3048120" y="2057400"/>
              <a:ext cx="25146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 rot="326400">
              <a:off x="5329080" y="1827000"/>
              <a:ext cx="15242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Line 16"/>
          <p:cNvSpPr/>
          <p:nvPr/>
        </p:nvSpPr>
        <p:spPr>
          <a:xfrm flipV="1">
            <a:off x="4419720" y="2514600"/>
            <a:ext cx="2743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133720" y="3124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2133720" y="35053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19"/>
          <p:cNvGrpSpPr/>
          <p:nvPr/>
        </p:nvGrpSpPr>
        <p:grpSpPr>
          <a:xfrm>
            <a:off x="3048120" y="2514240"/>
            <a:ext cx="1600200" cy="1219320"/>
            <a:chOff x="3048120" y="2514240"/>
            <a:chExt cx="1600200" cy="1219320"/>
          </a:xfrm>
        </p:grpSpPr>
        <p:sp>
          <p:nvSpPr>
            <p:cNvPr id="273" name="Line 20"/>
            <p:cNvSpPr/>
            <p:nvPr/>
          </p:nvSpPr>
          <p:spPr>
            <a:xfrm flipV="1">
              <a:off x="3048120" y="2514240"/>
              <a:ext cx="1295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1"/>
            <p:cNvSpPr/>
            <p:nvPr/>
          </p:nvSpPr>
          <p:spPr>
            <a:xfrm flipV="1">
              <a:off x="3048120" y="259056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 Box 22"/>
          <p:cNvSpPr/>
          <p:nvPr/>
        </p:nvSpPr>
        <p:spPr>
          <a:xfrm>
            <a:off x="6629400" y="4267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ty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913680" y="190512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4"/>
          <p:cNvGrpSpPr/>
          <p:nvPr/>
        </p:nvGrpSpPr>
        <p:grpSpPr>
          <a:xfrm>
            <a:off x="3657600" y="1905120"/>
            <a:ext cx="3809880" cy="609480"/>
            <a:chOff x="3657600" y="1905120"/>
            <a:chExt cx="3809880" cy="609480"/>
          </a:xfrm>
        </p:grpSpPr>
        <p:sp>
          <p:nvSpPr>
            <p:cNvPr id="278" name="Oval 25"/>
            <p:cNvSpPr/>
            <p:nvPr/>
          </p:nvSpPr>
          <p:spPr>
            <a:xfrm>
              <a:off x="6858000" y="1905120"/>
              <a:ext cx="6094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 flipV="1">
              <a:off x="3657600" y="2133720"/>
              <a:ext cx="3276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27"/>
          <p:cNvSpPr/>
          <p:nvPr/>
        </p:nvSpPr>
        <p:spPr>
          <a:xfrm>
            <a:off x="708660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28"/>
          <p:cNvGrpSpPr/>
          <p:nvPr/>
        </p:nvGrpSpPr>
        <p:grpSpPr>
          <a:xfrm>
            <a:off x="6008400" y="2457360"/>
            <a:ext cx="1242360" cy="1123920"/>
            <a:chOff x="6008400" y="2457360"/>
            <a:chExt cx="1242360" cy="1123920"/>
          </a:xfrm>
        </p:grpSpPr>
        <p:sp>
          <p:nvSpPr>
            <p:cNvPr id="282" name="Line 29"/>
            <p:cNvSpPr/>
            <p:nvPr/>
          </p:nvSpPr>
          <p:spPr>
            <a:xfrm flipH="1" flipV="1">
              <a:off x="6781680" y="28195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30"/>
            <p:cNvSpPr/>
            <p:nvPr/>
          </p:nvSpPr>
          <p:spPr>
            <a:xfrm rot="327000">
              <a:off x="6019920" y="2514240"/>
              <a:ext cx="12189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31"/>
          <p:cNvSpPr/>
          <p:nvPr/>
        </p:nvSpPr>
        <p:spPr>
          <a:xfrm>
            <a:off x="4725000" y="8380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 flipH="1">
            <a:off x="4800240" y="12193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33"/>
          <p:cNvGrpSpPr/>
          <p:nvPr/>
        </p:nvGrpSpPr>
        <p:grpSpPr>
          <a:xfrm>
            <a:off x="685800" y="5029200"/>
            <a:ext cx="7696080" cy="1143000"/>
            <a:chOff x="685800" y="5029200"/>
            <a:chExt cx="7696080" cy="1143000"/>
          </a:xfrm>
        </p:grpSpPr>
        <p:sp>
          <p:nvSpPr>
            <p:cNvPr id="287" name="Rectangle 34"/>
            <p:cNvSpPr/>
            <p:nvPr/>
          </p:nvSpPr>
          <p:spPr>
            <a:xfrm>
              <a:off x="685800" y="5029200"/>
              <a:ext cx="7696080" cy="1143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8" name="Object 35"/>
            <p:cNvGraphicFramePr/>
            <p:nvPr/>
          </p:nvGraphicFramePr>
          <p:xfrm>
            <a:off x="914400" y="5105520"/>
            <a:ext cx="7315200" cy="102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Object 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4400" y="5105520"/>
                      <a:ext cx="7315200" cy="10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0" name="Line 37"/>
          <p:cNvSpPr/>
          <p:nvPr/>
        </p:nvSpPr>
        <p:spPr>
          <a:xfrm flipV="1">
            <a:off x="2590920" y="2437920"/>
            <a:ext cx="41907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5105520" y="2209680"/>
            <a:ext cx="1371600" cy="2438280"/>
            <a:chOff x="5105520" y="2209680"/>
            <a:chExt cx="1371600" cy="2438280"/>
          </a:xfrm>
        </p:grpSpPr>
        <p:sp>
          <p:nvSpPr>
            <p:cNvPr id="292" name="Line 40"/>
            <p:cNvSpPr/>
            <p:nvPr/>
          </p:nvSpPr>
          <p:spPr>
            <a:xfrm flipV="1">
              <a:off x="510552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41"/>
            <p:cNvSpPr/>
            <p:nvPr/>
          </p:nvSpPr>
          <p:spPr>
            <a:xfrm flipV="1">
              <a:off x="5486400" y="2209680"/>
              <a:ext cx="763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486040" y="2209320"/>
            <a:ext cx="1371600" cy="2133720"/>
            <a:chOff x="5486040" y="2209320"/>
            <a:chExt cx="1371600" cy="2133720"/>
          </a:xfrm>
        </p:grpSpPr>
        <p:sp>
          <p:nvSpPr>
            <p:cNvPr id="295" name="Line 43"/>
            <p:cNvSpPr/>
            <p:nvPr/>
          </p:nvSpPr>
          <p:spPr>
            <a:xfrm flipH="1" flipV="1">
              <a:off x="6171840" y="2361960"/>
              <a:ext cx="6858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 flipH="1" flipV="1">
              <a:off x="5486040" y="2209320"/>
              <a:ext cx="12193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6" dur="1" fill="hold"/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1066680" y="1295280"/>
            <a:ext cx="5715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21932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voltage and curre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1219320" y="2057400"/>
            <a:ext cx="7086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everal ways to specify the voltage of a sinusoidal voltage waveform. The amplitude of a sine wave is also called the peak value, abbreviated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 voltage wave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26"/>
          <p:cNvSpPr txBox="1"/>
          <p:nvPr/>
        </p:nvSpPr>
        <p:spPr>
          <a:xfrm>
            <a:off x="990720" y="3657600"/>
            <a:ext cx="11430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301" name="Object 27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Text Box 28"/>
          <p:cNvSpPr/>
          <p:nvPr/>
        </p:nvSpPr>
        <p:spPr>
          <a:xfrm>
            <a:off x="1219320" y="41911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ak voltage of this waveform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9"/>
          <p:cNvSpPr/>
          <p:nvPr/>
        </p:nvSpPr>
        <p:spPr>
          <a:xfrm>
            <a:off x="3352680" y="4572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2"/>
          <p:cNvGrpSpPr/>
          <p:nvPr/>
        </p:nvGrpSpPr>
        <p:grpSpPr>
          <a:xfrm>
            <a:off x="5257800" y="3476520"/>
            <a:ext cx="762120" cy="1219320"/>
            <a:chOff x="5257800" y="3476520"/>
            <a:chExt cx="762120" cy="1219320"/>
          </a:xfrm>
        </p:grpSpPr>
        <p:sp>
          <p:nvSpPr>
            <p:cNvPr id="306" name="Line 33"/>
            <p:cNvSpPr/>
            <p:nvPr/>
          </p:nvSpPr>
          <p:spPr>
            <a:xfrm>
              <a:off x="5477040" y="3476520"/>
              <a:ext cx="1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34"/>
            <p:cNvSpPr/>
            <p:nvPr/>
          </p:nvSpPr>
          <p:spPr>
            <a:xfrm>
              <a:off x="5257800" y="3952800"/>
              <a:ext cx="533520" cy="39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35"/>
            <p:cNvSpPr/>
            <p:nvPr/>
          </p:nvSpPr>
          <p:spPr>
            <a:xfrm>
              <a:off x="5257800" y="388620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Object 2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3"/>
          <p:cNvSpPr/>
          <p:nvPr/>
        </p:nvSpPr>
        <p:spPr>
          <a:xfrm>
            <a:off x="1219320" y="2057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f a sine wave can also be specified as either the peak-to-peak or the rms value. The peak-to-peak is twice the peak value. The rms value is 0.707 times the peak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066680" y="1295280"/>
            <a:ext cx="5715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21932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voltage and curre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WordArt 6"/>
          <p:cNvSpPr txBox="1"/>
          <p:nvPr/>
        </p:nvSpPr>
        <p:spPr>
          <a:xfrm>
            <a:off x="838080" y="3581280"/>
            <a:ext cx="11430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19320" y="3886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ak-to-peak volta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2482920" y="4267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0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219320" y="4800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ms volta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515960" y="5165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4.1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2"/>
          <p:cNvSpPr/>
          <p:nvPr/>
        </p:nvSpPr>
        <p:spPr>
          <a:xfrm flipH="1">
            <a:off x="5447880" y="3451320"/>
            <a:ext cx="9720" cy="246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47242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5181480" y="4556160"/>
            <a:ext cx="685800" cy="390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5181480" y="448956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6"/>
          <p:cNvGrpSpPr/>
          <p:nvPr/>
        </p:nvGrpSpPr>
        <p:grpSpPr>
          <a:xfrm>
            <a:off x="4648320" y="3854520"/>
            <a:ext cx="3276360" cy="847800"/>
            <a:chOff x="4648320" y="3854520"/>
            <a:chExt cx="3276360" cy="847800"/>
          </a:xfrm>
        </p:grpSpPr>
        <p:sp>
          <p:nvSpPr>
            <p:cNvPr id="324" name="Line 17"/>
            <p:cNvSpPr/>
            <p:nvPr/>
          </p:nvSpPr>
          <p:spPr>
            <a:xfrm>
              <a:off x="4648320" y="385452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8"/>
            <p:cNvSpPr/>
            <p:nvPr/>
          </p:nvSpPr>
          <p:spPr>
            <a:xfrm>
              <a:off x="6934320" y="385452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9"/>
            <p:cNvSpPr/>
            <p:nvPr/>
          </p:nvSpPr>
          <p:spPr>
            <a:xfrm>
              <a:off x="6629400" y="4137120"/>
              <a:ext cx="685800" cy="403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0"/>
            <p:cNvSpPr/>
            <p:nvPr/>
          </p:nvSpPr>
          <p:spPr>
            <a:xfrm>
              <a:off x="6610320" y="408636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Object 2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3"/>
          <p:cNvSpPr/>
          <p:nvPr/>
        </p:nvSpPr>
        <p:spPr>
          <a:xfrm>
            <a:off x="1219320" y="20574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me purposes, the average value (actually the half-wave average) is used to specify the voltage or current. By definition, the average value is as 0.637 times the peak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066680" y="1295280"/>
            <a:ext cx="5715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21932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voltage and curre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838080" y="3689280"/>
            <a:ext cx="11430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219320" y="39942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value for the sinusoidal volta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585800" y="4703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.7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26"/>
          <p:cNvGrpSpPr/>
          <p:nvPr/>
        </p:nvGrpSpPr>
        <p:grpSpPr>
          <a:xfrm>
            <a:off x="4648320" y="3886200"/>
            <a:ext cx="3276360" cy="771480"/>
            <a:chOff x="4648320" y="3886200"/>
            <a:chExt cx="3276360" cy="771480"/>
          </a:xfrm>
        </p:grpSpPr>
        <p:sp>
          <p:nvSpPr>
            <p:cNvPr id="337" name="Line 22"/>
            <p:cNvSpPr/>
            <p:nvPr/>
          </p:nvSpPr>
          <p:spPr>
            <a:xfrm>
              <a:off x="4648320" y="3886200"/>
              <a:ext cx="32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3"/>
            <p:cNvSpPr/>
            <p:nvPr/>
          </p:nvSpPr>
          <p:spPr>
            <a:xfrm>
              <a:off x="6934320" y="388620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4"/>
            <p:cNvSpPr/>
            <p:nvPr/>
          </p:nvSpPr>
          <p:spPr>
            <a:xfrm>
              <a:off x="6629400" y="4089240"/>
              <a:ext cx="685800" cy="40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25"/>
            <p:cNvSpPr/>
            <p:nvPr/>
          </p:nvSpPr>
          <p:spPr>
            <a:xfrm>
              <a:off x="6610320" y="40384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1143000" y="1828800"/>
            <a:ext cx="722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ular measurements can be made in degrees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r radians. The radian (rad) is the angle that is formed when the arc is equal to the radius of a circle. There are 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s in one complete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066680" y="1295280"/>
            <a:ext cx="3581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121932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gula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143000" y="3395520"/>
          <a:ext cx="2819520" cy="254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395520"/>
                    <a:ext cx="281952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4343400" y="3373560"/>
          <a:ext cx="3886200" cy="264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3373560"/>
                    <a:ext cx="388620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158840" y="1905120"/>
            <a:ext cx="722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re are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s in one complete revolution and 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revolution, the conversion between radians and degrees is easy to write. To find the number of radians, given the number of degre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2057400" y="3581280"/>
            <a:ext cx="2286000" cy="609840"/>
            <a:chOff x="2057400" y="3581280"/>
            <a:chExt cx="2286000" cy="609840"/>
          </a:xfrm>
        </p:grpSpPr>
        <p:sp>
          <p:nvSpPr>
            <p:cNvPr id="350" name="Rectangle 6"/>
            <p:cNvSpPr/>
            <p:nvPr/>
          </p:nvSpPr>
          <p:spPr>
            <a:xfrm>
              <a:off x="2057400" y="3581280"/>
              <a:ext cx="22860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1" name="Object 7"/>
            <p:cNvGraphicFramePr/>
            <p:nvPr/>
          </p:nvGraphicFramePr>
          <p:xfrm>
            <a:off x="2133720" y="3581280"/>
            <a:ext cx="2133360" cy="59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3581280"/>
                      <a:ext cx="2133360" cy="5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3" name="Group 8"/>
          <p:cNvGrpSpPr/>
          <p:nvPr/>
        </p:nvGrpSpPr>
        <p:grpSpPr>
          <a:xfrm>
            <a:off x="2057400" y="4952880"/>
            <a:ext cx="2286000" cy="609840"/>
            <a:chOff x="2057400" y="4952880"/>
            <a:chExt cx="2286000" cy="609840"/>
          </a:xfrm>
        </p:grpSpPr>
        <p:sp>
          <p:nvSpPr>
            <p:cNvPr id="354" name="Rectangle 9"/>
            <p:cNvSpPr/>
            <p:nvPr/>
          </p:nvSpPr>
          <p:spPr>
            <a:xfrm>
              <a:off x="2057400" y="4952880"/>
              <a:ext cx="2286000" cy="60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Object 10"/>
            <p:cNvGraphicFramePr/>
            <p:nvPr/>
          </p:nvGraphicFramePr>
          <p:xfrm>
            <a:off x="2209680" y="4952880"/>
            <a:ext cx="1805040" cy="601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09680" y="4952880"/>
                      <a:ext cx="1805040" cy="6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Text Box 11"/>
          <p:cNvSpPr/>
          <p:nvPr/>
        </p:nvSpPr>
        <p:spPr>
          <a:xfrm>
            <a:off x="1295280" y="4343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ind the number of degrees, given the radi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1066680" y="1295280"/>
            <a:ext cx="3581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1219320" y="1295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gula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1219320" y="20574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aneous values of a wave are show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equation for the instantaneou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a sine wav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066680" y="1295280"/>
            <a:ext cx="3200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37160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WordArt 8"/>
          <p:cNvSpPr txBox="1"/>
          <p:nvPr/>
        </p:nvSpPr>
        <p:spPr>
          <a:xfrm>
            <a:off x="790560" y="4863960"/>
            <a:ext cx="11145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1981080" y="52578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eak voltage is 25 V, the instantaneous voltage at 50 degree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10"/>
          <p:cNvGrpSpPr/>
          <p:nvPr/>
        </p:nvGrpSpPr>
        <p:grpSpPr>
          <a:xfrm>
            <a:off x="2514600" y="3048120"/>
            <a:ext cx="2209680" cy="533160"/>
            <a:chOff x="2514600" y="3048120"/>
            <a:chExt cx="2209680" cy="533160"/>
          </a:xfrm>
        </p:grpSpPr>
        <p:sp>
          <p:nvSpPr>
            <p:cNvPr id="367" name="Rectangle 11"/>
            <p:cNvSpPr/>
            <p:nvPr/>
          </p:nvSpPr>
          <p:spPr>
            <a:xfrm>
              <a:off x="2514600" y="3048120"/>
              <a:ext cx="22096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8" name="Object 12"/>
            <p:cNvGraphicFramePr/>
            <p:nvPr/>
          </p:nvGraphicFramePr>
          <p:xfrm>
            <a:off x="2743200" y="3068640"/>
            <a:ext cx="1819440" cy="510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3068640"/>
                      <a:ext cx="1819440" cy="51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0" name="Text Box 13"/>
          <p:cNvSpPr/>
          <p:nvPr/>
        </p:nvSpPr>
        <p:spPr>
          <a:xfrm>
            <a:off x="2057400" y="39625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2057400" y="43434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281952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k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2743200" y="4343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in rad or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4952880" y="5613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.2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685800" y="3276720"/>
            <a:ext cx="7696080" cy="24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066680" y="1295280"/>
            <a:ext cx="3200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Object 7"/>
          <p:cNvGraphicFramePr/>
          <p:nvPr/>
        </p:nvGraphicFramePr>
        <p:xfrm>
          <a:off x="838080" y="3276720"/>
          <a:ext cx="7693200" cy="225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76720"/>
                    <a:ext cx="76932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Text Box 8"/>
          <p:cNvSpPr/>
          <p:nvPr/>
        </p:nvSpPr>
        <p:spPr>
          <a:xfrm>
            <a:off x="1066680" y="19051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ot of the example in the previous slide (peak at 25 V) is shown. The instantaneous voltage at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19.2 V as previously calc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2"/>
          <p:cNvSpPr/>
          <p:nvPr/>
        </p:nvSpPr>
        <p:spPr>
          <a:xfrm>
            <a:off x="2514600" y="4038480"/>
            <a:ext cx="24382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66680" y="1295280"/>
            <a:ext cx="19814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13716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2133720" y="4952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2743200" y="4952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1143000" y="19810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ase of a sine wave is an angular measurement that specifies the position of a sine wave relative to a reference. To show that a sine wave is shifted to the left or right of this reference, a term is added to the equation given previou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0"/>
              <p:cNvSpPr txBox="1"/>
              <p:nvPr/>
            </p:nvSpPr>
            <p:spPr>
              <a:xfrm>
                <a:off x="2700360" y="4138560"/>
                <a:ext cx="208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5070600" cy="3460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990720" y="1905120"/>
            <a:ext cx="7238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nusoidal waveform (sine wave) is the fundamental alternating current (ac) and alternating voltage wave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1219320" y="137160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295280" y="1371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066680" y="3809880"/>
            <a:ext cx="3429000" cy="141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sine waves are named from the mathematical function with the same sh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85800" y="2209680"/>
            <a:ext cx="8001000" cy="3962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1066680" y="129528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2193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7"/>
          <p:cNvGraphicFramePr/>
          <p:nvPr/>
        </p:nvGraphicFramePr>
        <p:xfrm>
          <a:off x="1143000" y="2362320"/>
          <a:ext cx="720396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362320"/>
                    <a:ext cx="720396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8"/>
          <p:cNvGrpSpPr/>
          <p:nvPr/>
        </p:nvGrpSpPr>
        <p:grpSpPr>
          <a:xfrm>
            <a:off x="1905120" y="4876920"/>
            <a:ext cx="4495320" cy="825480"/>
            <a:chOff x="1905120" y="4876920"/>
            <a:chExt cx="4495320" cy="825480"/>
          </a:xfrm>
        </p:grpSpPr>
        <p:sp>
          <p:nvSpPr>
            <p:cNvPr id="396" name="Text Box 9"/>
            <p:cNvSpPr/>
            <p:nvPr/>
          </p:nvSpPr>
          <p:spPr>
            <a:xfrm>
              <a:off x="2679840" y="4876920"/>
              <a:ext cx="3720600" cy="82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ice that a lagging sine wave is below the axis at 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10"/>
            <p:cNvSpPr/>
            <p:nvPr/>
          </p:nvSpPr>
          <p:spPr>
            <a:xfrm flipH="1" flipV="1">
              <a:off x="1905120" y="4876920"/>
              <a:ext cx="774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 Box 11"/>
          <p:cNvSpPr/>
          <p:nvPr/>
        </p:nvSpPr>
        <p:spPr>
          <a:xfrm>
            <a:off x="3429000" y="12952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wave that lags th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4611240" y="3200400"/>
            <a:ext cx="27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30 V sin 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45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3"/>
          <p:cNvSpPr/>
          <p:nvPr/>
        </p:nvSpPr>
        <p:spPr>
          <a:xfrm flipH="1">
            <a:off x="5029200" y="3581280"/>
            <a:ext cx="38088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14"/>
          <p:cNvGrpSpPr/>
          <p:nvPr/>
        </p:nvGrpSpPr>
        <p:grpSpPr>
          <a:xfrm>
            <a:off x="6326280" y="1752480"/>
            <a:ext cx="2741400" cy="1600200"/>
            <a:chOff x="6326280" y="1752480"/>
            <a:chExt cx="2741400" cy="1600200"/>
          </a:xfrm>
        </p:grpSpPr>
        <p:sp>
          <p:nvSpPr>
            <p:cNvPr id="402" name="Text Box 15"/>
            <p:cNvSpPr/>
            <p:nvPr/>
          </p:nvSpPr>
          <p:spPr>
            <a:xfrm>
              <a:off x="6326280" y="1752480"/>
              <a:ext cx="2741400" cy="119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the equation has a negative phase sh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>
              <a:off x="6705360" y="2971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685800" y="2209680"/>
            <a:ext cx="8001000" cy="3962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1066680" y="129528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2193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Object 7"/>
          <p:cNvGraphicFramePr/>
          <p:nvPr/>
        </p:nvGraphicFramePr>
        <p:xfrm>
          <a:off x="1066680" y="2432160"/>
          <a:ext cx="6877080" cy="37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432160"/>
                    <a:ext cx="687708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9" name="Group 8"/>
          <p:cNvGrpSpPr/>
          <p:nvPr/>
        </p:nvGrpSpPr>
        <p:grpSpPr>
          <a:xfrm>
            <a:off x="2438280" y="2057400"/>
            <a:ext cx="5790960" cy="1371600"/>
            <a:chOff x="2438280" y="2057400"/>
            <a:chExt cx="5790960" cy="1371600"/>
          </a:xfrm>
        </p:grpSpPr>
        <p:sp>
          <p:nvSpPr>
            <p:cNvPr id="410" name="Text Box 9"/>
            <p:cNvSpPr/>
            <p:nvPr/>
          </p:nvSpPr>
          <p:spPr>
            <a:xfrm>
              <a:off x="4571640" y="2057400"/>
              <a:ext cx="3657600" cy="825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tice that a leading sine wave is above the axis at 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>
              <a:off x="2438280" y="2514600"/>
              <a:ext cx="21333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11"/>
          <p:cNvSpPr/>
          <p:nvPr/>
        </p:nvSpPr>
        <p:spPr>
          <a:xfrm>
            <a:off x="3429000" y="12952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wave that leads th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3861360" y="3276720"/>
            <a:ext cx="283104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= 30 V sin (</a:t>
            </a:r>
            <a:r>
              <a:rPr b="0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+ 45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4114440" y="3657600"/>
            <a:ext cx="57780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14"/>
          <p:cNvGrpSpPr/>
          <p:nvPr/>
        </p:nvGrpSpPr>
        <p:grpSpPr>
          <a:xfrm>
            <a:off x="2895480" y="3558960"/>
            <a:ext cx="2971800" cy="2204280"/>
            <a:chOff x="2895480" y="3558960"/>
            <a:chExt cx="2971800" cy="2204280"/>
          </a:xfrm>
        </p:grpSpPr>
        <p:sp>
          <p:nvSpPr>
            <p:cNvPr id="416" name="Text Box 15"/>
            <p:cNvSpPr/>
            <p:nvPr/>
          </p:nvSpPr>
          <p:spPr>
            <a:xfrm>
              <a:off x="2895480" y="4572000"/>
              <a:ext cx="2741760" cy="1191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the equation has a positive phase shi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6"/>
            <p:cNvSpPr/>
            <p:nvPr/>
          </p:nvSpPr>
          <p:spPr>
            <a:xfrm flipV="1">
              <a:off x="5257800" y="3558960"/>
              <a:ext cx="609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4"/>
          <p:cNvGraphicFramePr/>
          <p:nvPr/>
        </p:nvGraphicFramePr>
        <p:xfrm>
          <a:off x="1295280" y="3352680"/>
          <a:ext cx="5283360" cy="22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352680"/>
                    <a:ext cx="5283360" cy="22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Text Box 5"/>
          <p:cNvSpPr/>
          <p:nvPr/>
        </p:nvSpPr>
        <p:spPr>
          <a:xfrm>
            <a:off x="1158840" y="1981080"/>
            <a:ext cx="722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ne wave can be represented as the projection of a vector rotating at a constant rate. This rotating vector is calle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066680" y="1295280"/>
            <a:ext cx="1600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12193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Group 8"/>
          <p:cNvGrpSpPr/>
          <p:nvPr/>
        </p:nvGrpSpPr>
        <p:grpSpPr>
          <a:xfrm>
            <a:off x="2666880" y="4438800"/>
            <a:ext cx="1420920" cy="75960"/>
            <a:chOff x="2666880" y="4438800"/>
            <a:chExt cx="1420920" cy="75960"/>
          </a:xfrm>
        </p:grpSpPr>
        <p:sp>
          <p:nvSpPr>
            <p:cNvPr id="424" name="Line 9"/>
            <p:cNvSpPr/>
            <p:nvPr/>
          </p:nvSpPr>
          <p:spPr>
            <a:xfrm>
              <a:off x="2666880" y="44766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4013280" y="4438800"/>
              <a:ext cx="7452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11"/>
          <p:cNvGrpSpPr/>
          <p:nvPr/>
        </p:nvGrpSpPr>
        <p:grpSpPr>
          <a:xfrm>
            <a:off x="2663280" y="3847680"/>
            <a:ext cx="1691280" cy="637560"/>
            <a:chOff x="2663280" y="3847680"/>
            <a:chExt cx="1691280" cy="637560"/>
          </a:xfrm>
        </p:grpSpPr>
        <p:sp>
          <p:nvSpPr>
            <p:cNvPr id="427" name="Line 12"/>
            <p:cNvSpPr/>
            <p:nvPr/>
          </p:nvSpPr>
          <p:spPr>
            <a:xfrm flipV="1">
              <a:off x="2663280" y="3847680"/>
              <a:ext cx="655560" cy="63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13"/>
            <p:cNvSpPr/>
            <p:nvPr/>
          </p:nvSpPr>
          <p:spPr>
            <a:xfrm>
              <a:off x="4280040" y="3867120"/>
              <a:ext cx="7452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14"/>
          <p:cNvGrpSpPr/>
          <p:nvPr/>
        </p:nvGrpSpPr>
        <p:grpSpPr>
          <a:xfrm>
            <a:off x="2666880" y="3537000"/>
            <a:ext cx="2006640" cy="958680"/>
            <a:chOff x="2666880" y="3537000"/>
            <a:chExt cx="2006640" cy="958680"/>
          </a:xfrm>
        </p:grpSpPr>
        <p:sp>
          <p:nvSpPr>
            <p:cNvPr id="430" name="Line 15"/>
            <p:cNvSpPr/>
            <p:nvPr/>
          </p:nvSpPr>
          <p:spPr>
            <a:xfrm flipV="1">
              <a:off x="2666880" y="3581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6"/>
            <p:cNvSpPr/>
            <p:nvPr/>
          </p:nvSpPr>
          <p:spPr>
            <a:xfrm>
              <a:off x="4597560" y="3537000"/>
              <a:ext cx="7596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7"/>
          <p:cNvGrpSpPr/>
          <p:nvPr/>
        </p:nvGrpSpPr>
        <p:grpSpPr>
          <a:xfrm>
            <a:off x="1981080" y="3850920"/>
            <a:ext cx="3021120" cy="614880"/>
            <a:chOff x="1981080" y="3850920"/>
            <a:chExt cx="3021120" cy="614880"/>
          </a:xfrm>
        </p:grpSpPr>
        <p:sp>
          <p:nvSpPr>
            <p:cNvPr id="433" name="Line 18"/>
            <p:cNvSpPr/>
            <p:nvPr/>
          </p:nvSpPr>
          <p:spPr>
            <a:xfrm flipH="1" flipV="1">
              <a:off x="1981080" y="3850920"/>
              <a:ext cx="676800" cy="61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19"/>
            <p:cNvSpPr/>
            <p:nvPr/>
          </p:nvSpPr>
          <p:spPr>
            <a:xfrm>
              <a:off x="4927680" y="3873600"/>
              <a:ext cx="7452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20"/>
          <p:cNvGrpSpPr/>
          <p:nvPr/>
        </p:nvGrpSpPr>
        <p:grpSpPr>
          <a:xfrm>
            <a:off x="1733400" y="4438800"/>
            <a:ext cx="3522960" cy="75960"/>
            <a:chOff x="1733400" y="4438800"/>
            <a:chExt cx="3522960" cy="75960"/>
          </a:xfrm>
        </p:grpSpPr>
        <p:sp>
          <p:nvSpPr>
            <p:cNvPr id="436" name="Line 21"/>
            <p:cNvSpPr/>
            <p:nvPr/>
          </p:nvSpPr>
          <p:spPr>
            <a:xfrm flipH="1">
              <a:off x="1733400" y="44830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2"/>
            <p:cNvSpPr/>
            <p:nvPr/>
          </p:nvSpPr>
          <p:spPr>
            <a:xfrm>
              <a:off x="5181480" y="4438800"/>
              <a:ext cx="7488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1981080" y="4493880"/>
            <a:ext cx="3541680" cy="614880"/>
            <a:chOff x="1981080" y="4493880"/>
            <a:chExt cx="3541680" cy="614880"/>
          </a:xfrm>
        </p:grpSpPr>
        <p:sp>
          <p:nvSpPr>
            <p:cNvPr id="439" name="Line 24"/>
            <p:cNvSpPr/>
            <p:nvPr/>
          </p:nvSpPr>
          <p:spPr>
            <a:xfrm flipH="1">
              <a:off x="1981080" y="4493880"/>
              <a:ext cx="676800" cy="61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25"/>
            <p:cNvSpPr/>
            <p:nvPr/>
          </p:nvSpPr>
          <p:spPr>
            <a:xfrm flipV="1">
              <a:off x="5448240" y="5010120"/>
              <a:ext cx="7452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26"/>
          <p:cNvGrpSpPr/>
          <p:nvPr/>
        </p:nvGrpSpPr>
        <p:grpSpPr>
          <a:xfrm>
            <a:off x="2666880" y="4464000"/>
            <a:ext cx="3200400" cy="959040"/>
            <a:chOff x="2666880" y="4464000"/>
            <a:chExt cx="3200400" cy="959040"/>
          </a:xfrm>
        </p:grpSpPr>
        <p:sp>
          <p:nvSpPr>
            <p:cNvPr id="442" name="Line 27"/>
            <p:cNvSpPr/>
            <p:nvPr/>
          </p:nvSpPr>
          <p:spPr>
            <a:xfrm>
              <a:off x="2666880" y="44640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28"/>
            <p:cNvSpPr/>
            <p:nvPr/>
          </p:nvSpPr>
          <p:spPr>
            <a:xfrm flipV="1">
              <a:off x="5791320" y="5346720"/>
              <a:ext cx="7596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9"/>
          <p:cNvGrpSpPr/>
          <p:nvPr/>
        </p:nvGrpSpPr>
        <p:grpSpPr>
          <a:xfrm>
            <a:off x="2663280" y="4474440"/>
            <a:ext cx="3532680" cy="637920"/>
            <a:chOff x="2663280" y="4474440"/>
            <a:chExt cx="3532680" cy="637920"/>
          </a:xfrm>
        </p:grpSpPr>
        <p:sp>
          <p:nvSpPr>
            <p:cNvPr id="445" name="Line 30"/>
            <p:cNvSpPr/>
            <p:nvPr/>
          </p:nvSpPr>
          <p:spPr>
            <a:xfrm>
              <a:off x="2663280" y="4474440"/>
              <a:ext cx="655200" cy="63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31"/>
            <p:cNvSpPr/>
            <p:nvPr/>
          </p:nvSpPr>
          <p:spPr>
            <a:xfrm flipV="1">
              <a:off x="6121440" y="5010120"/>
              <a:ext cx="74520" cy="763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32"/>
          <p:cNvGrpSpPr/>
          <p:nvPr/>
        </p:nvGrpSpPr>
        <p:grpSpPr>
          <a:xfrm>
            <a:off x="2660760" y="4438440"/>
            <a:ext cx="3789360" cy="75960"/>
            <a:chOff x="2660760" y="4438440"/>
            <a:chExt cx="3789360" cy="75960"/>
          </a:xfrm>
        </p:grpSpPr>
        <p:sp>
          <p:nvSpPr>
            <p:cNvPr id="448" name="Oval 33"/>
            <p:cNvSpPr/>
            <p:nvPr/>
          </p:nvSpPr>
          <p:spPr>
            <a:xfrm flipV="1">
              <a:off x="6375240" y="4438080"/>
              <a:ext cx="74880" cy="759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2660760" y="44766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5257800" y="5029200"/>
            <a:ext cx="289548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1066680" y="1905120"/>
            <a:ext cx="72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ors allow ac calculations to use basic trigonometry. The sine function in trigonometry is the ratio of the opposite side of a right triangle to the adjacen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Object 4"/>
          <p:cNvGraphicFramePr/>
          <p:nvPr/>
        </p:nvGraphicFramePr>
        <p:xfrm>
          <a:off x="1066680" y="3335400"/>
          <a:ext cx="5639040" cy="25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335400"/>
                    <a:ext cx="563904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5410080" y="5181480"/>
          <a:ext cx="2565360" cy="68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5181480"/>
                    <a:ext cx="25653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Rectangle 6"/>
          <p:cNvSpPr/>
          <p:nvPr/>
        </p:nvSpPr>
        <p:spPr>
          <a:xfrm>
            <a:off x="1066680" y="1295280"/>
            <a:ext cx="1600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12193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3"/>
          <p:cNvSpPr/>
          <p:nvPr/>
        </p:nvSpPr>
        <p:spPr>
          <a:xfrm>
            <a:off x="1066680" y="1905120"/>
            <a:ext cx="72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ition of a phasor at any instant can be expressed as a positive angle, measured counterclockwise from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s a negative angle equal to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1066680" y="1295280"/>
            <a:ext cx="1600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21932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a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Object 8"/>
          <p:cNvGraphicFramePr/>
          <p:nvPr/>
        </p:nvGraphicFramePr>
        <p:xfrm>
          <a:off x="1657440" y="3505320"/>
          <a:ext cx="2658960" cy="25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3505320"/>
                    <a:ext cx="2658960" cy="25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10"/>
          <p:cNvGraphicFramePr/>
          <p:nvPr/>
        </p:nvGraphicFramePr>
        <p:xfrm>
          <a:off x="2125800" y="3948120"/>
          <a:ext cx="1706400" cy="163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5800" y="3948120"/>
                    <a:ext cx="170640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Group 28"/>
          <p:cNvGrpSpPr/>
          <p:nvPr/>
        </p:nvGrpSpPr>
        <p:grpSpPr>
          <a:xfrm>
            <a:off x="3504960" y="3306600"/>
            <a:ext cx="3962520" cy="685800"/>
            <a:chOff x="3504960" y="3306600"/>
            <a:chExt cx="3962520" cy="685800"/>
          </a:xfrm>
        </p:grpSpPr>
        <p:sp>
          <p:nvSpPr>
            <p:cNvPr id="466" name="Text Box 13"/>
            <p:cNvSpPr/>
            <p:nvPr/>
          </p:nvSpPr>
          <p:spPr>
            <a:xfrm>
              <a:off x="4572000" y="330660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ve angl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>
              <a:off x="3504960" y="3611520"/>
              <a:ext cx="106668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8" name="Object 22"/>
          <p:cNvGraphicFramePr/>
          <p:nvPr/>
        </p:nvGraphicFramePr>
        <p:xfrm>
          <a:off x="3637080" y="4780080"/>
          <a:ext cx="187200" cy="40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9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7080" y="4780080"/>
                    <a:ext cx="187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Group 29"/>
          <p:cNvGrpSpPr/>
          <p:nvPr/>
        </p:nvGrpSpPr>
        <p:grpSpPr>
          <a:xfrm>
            <a:off x="3809520" y="4525920"/>
            <a:ext cx="4572360" cy="459720"/>
            <a:chOff x="3809520" y="4525920"/>
            <a:chExt cx="4572360" cy="459720"/>
          </a:xfrm>
        </p:grpSpPr>
        <p:sp>
          <p:nvSpPr>
            <p:cNvPr id="471" name="Text Box 15"/>
            <p:cNvSpPr/>
            <p:nvPr/>
          </p:nvSpPr>
          <p:spPr>
            <a:xfrm>
              <a:off x="4572000" y="452592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ative angle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6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26"/>
            <p:cNvSpPr/>
            <p:nvPr/>
          </p:nvSpPr>
          <p:spPr>
            <a:xfrm flipH="1">
              <a:off x="3809520" y="4830840"/>
              <a:ext cx="762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Text Box 27"/>
          <p:cNvSpPr/>
          <p:nvPr/>
        </p:nvSpPr>
        <p:spPr>
          <a:xfrm>
            <a:off x="419112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gular velocity of a pha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066680" y="213372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phasor rotates through 3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dians, one complete cycle is trace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locity of rotation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ular velo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3276720" y="3352680"/>
            <a:ext cx="12952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8"/>
          <p:cNvSpPr/>
          <p:nvPr/>
        </p:nvSpPr>
        <p:spPr>
          <a:xfrm>
            <a:off x="1066680" y="43434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antaneous voltage at any point in time is given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3200400" y="4867200"/>
            <a:ext cx="2362320" cy="51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066680" y="3886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te that this angular velocity is expressed in radians per secon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5897520" cy="311940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>
            <a:off x="1219320" y="1905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dc and ac voltages are together in a waveform. They can be added algebraically, to produce a composite waveform of an ac voltage “riding” on a dc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1066680" y="1295280"/>
            <a:ext cx="5181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1219320" y="12952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erimposed dc and ac vol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685800" y="1905120"/>
            <a:ext cx="8001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1219320" y="129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ls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8" name="Object 7"/>
          <p:cNvGraphicFramePr/>
          <p:nvPr/>
        </p:nvGraphicFramePr>
        <p:xfrm>
          <a:off x="1143000" y="2590920"/>
          <a:ext cx="7010280" cy="24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90920"/>
                    <a:ext cx="7010280" cy="24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ext Box 8"/>
          <p:cNvSpPr/>
          <p:nvPr/>
        </p:nvSpPr>
        <p:spPr>
          <a:xfrm>
            <a:off x="3733920" y="1981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685800" y="1905120"/>
            <a:ext cx="8001000" cy="4267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219320" y="1295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lse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7"/>
          <p:cNvSpPr/>
          <p:nvPr/>
        </p:nvSpPr>
        <p:spPr>
          <a:xfrm>
            <a:off x="3200400" y="1981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Object 8"/>
          <p:cNvGraphicFramePr/>
          <p:nvPr/>
        </p:nvGraphicFramePr>
        <p:xfrm>
          <a:off x="1143000" y="2514600"/>
          <a:ext cx="6850080" cy="22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514600"/>
                    <a:ext cx="6850080" cy="22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9"/>
          <p:cNvSpPr/>
          <p:nvPr/>
        </p:nvSpPr>
        <p:spPr>
          <a:xfrm>
            <a:off x="1295280" y="4876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rise and fall times are measured between the 10% and 90% levels whereas pulse width is measured at the 50%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1066680" y="1295280"/>
            <a:ext cx="4724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143000" y="12952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iangular and sawtooth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1295280" y="1981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angular and sawtooth waveforms are formed by voltage or current ramps (linear increase/decr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4876920" y="30481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ular waveforms have positive-going and negative-going ramps of equal sl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4876920" y="426708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wtooth waveform consists of two ramps, one of much longer duration than the other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19"/>
          <p:cNvGraphicFramePr/>
          <p:nvPr/>
        </p:nvGraphicFramePr>
        <p:xfrm>
          <a:off x="1549440" y="3435480"/>
          <a:ext cx="3075120" cy="5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4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9440" y="3435480"/>
                    <a:ext cx="30751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21"/>
          <p:cNvGraphicFramePr/>
          <p:nvPr/>
        </p:nvGraphicFramePr>
        <p:xfrm>
          <a:off x="1549440" y="4545000"/>
          <a:ext cx="3093840" cy="7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49440" y="4545000"/>
                    <a:ext cx="309384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BG1987"/>
          <p:cNvPicPr/>
          <p:nvPr/>
        </p:nvPicPr>
        <p:blipFill>
          <a:blip r:embed="rId2"/>
          <a:stretch/>
        </p:blipFill>
        <p:spPr>
          <a:xfrm>
            <a:off x="609480" y="990720"/>
            <a:ext cx="8153640" cy="5387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43000" y="121932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ve is a disturbance. Unlike water waves, electrical waves cannot be seen directly but they have similar characteristic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odic waves can be construct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 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why sine waves are fundam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1066680" y="1295280"/>
            <a:ext cx="19814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14300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295280" y="19810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epetitive non-sinusoidal waveforms are composed of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amental frequ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petition rate of the waveform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onic frequenc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1295280" y="32004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dd harmon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requencies that are odd multiples of the fundamental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1295280" y="41148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harmon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requencies that are even multiples of the fundamental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1066680" y="1295280"/>
            <a:ext cx="19814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114300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2"/>
          <a:stretch/>
        </p:blipFill>
        <p:spPr>
          <a:xfrm>
            <a:off x="901800" y="3228840"/>
            <a:ext cx="7556400" cy="215136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8"/>
          <p:cNvSpPr/>
          <p:nvPr/>
        </p:nvSpPr>
        <p:spPr>
          <a:xfrm>
            <a:off x="1143000" y="2057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quare wave is composed only of the fundamental frequency and odd harmonics (of the proper amplitud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Object 15"/>
          <p:cNvGraphicFramePr/>
          <p:nvPr/>
        </p:nvGraphicFramePr>
        <p:xfrm>
          <a:off x="1752480" y="2133720"/>
          <a:ext cx="5286600" cy="39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133720"/>
                    <a:ext cx="528660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1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1066680" y="1295280"/>
            <a:ext cx="2362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cillo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3809880" y="1295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scilloscope is divided into four main s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Object 20"/>
          <p:cNvGraphicFramePr/>
          <p:nvPr/>
        </p:nvGraphicFramePr>
        <p:xfrm>
          <a:off x="533520" y="533520"/>
          <a:ext cx="7022880" cy="394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3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533520"/>
                    <a:ext cx="702288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21"/>
          <p:cNvGraphicFramePr/>
          <p:nvPr/>
        </p:nvGraphicFramePr>
        <p:xfrm>
          <a:off x="457200" y="3046320"/>
          <a:ext cx="7315200" cy="327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5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6320"/>
                    <a:ext cx="731520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22"/>
          <p:cNvGraphicFramePr/>
          <p:nvPr/>
        </p:nvGraphicFramePr>
        <p:xfrm>
          <a:off x="4952880" y="533520"/>
          <a:ext cx="3400560" cy="3233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7" name="Object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52880" y="533520"/>
                    <a:ext cx="3400560" cy="32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23"/>
          <p:cNvGraphicFramePr/>
          <p:nvPr/>
        </p:nvGraphicFramePr>
        <p:xfrm>
          <a:off x="4952880" y="2133720"/>
          <a:ext cx="3463920" cy="4038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9" name="Object 2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52880" y="2133720"/>
                    <a:ext cx="3463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1" dur="1" fill="hold"/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1"/>
          <p:cNvSpPr/>
          <p:nvPr/>
        </p:nvSpPr>
        <p:spPr>
          <a:xfrm>
            <a:off x="25560" y="50760"/>
            <a:ext cx="9118440" cy="6807240"/>
          </a:xfrm>
          <a:prstGeom prst="rect">
            <a:avLst/>
          </a:prstGeom>
          <a:solidFill>
            <a:srgbClr val="dddddd"/>
          </a:solidFill>
          <a:ln w="76320">
            <a:solidFill>
              <a:srgbClr val="d1a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Object 14"/>
          <p:cNvGraphicFramePr/>
          <p:nvPr/>
        </p:nvGraphicFramePr>
        <p:xfrm>
          <a:off x="380880" y="228600"/>
          <a:ext cx="822960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2296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1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1066680" y="1295280"/>
            <a:ext cx="2362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1219320" y="1295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scillo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14"/>
          <p:cNvGraphicFramePr/>
          <p:nvPr/>
        </p:nvGraphicFramePr>
        <p:xfrm>
          <a:off x="228600" y="1981080"/>
          <a:ext cx="8532720" cy="42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53272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0" name="Group 15"/>
          <p:cNvGrpSpPr/>
          <p:nvPr/>
        </p:nvGrpSpPr>
        <p:grpSpPr>
          <a:xfrm>
            <a:off x="228600" y="1447920"/>
            <a:ext cx="8532720" cy="4811760"/>
            <a:chOff x="228600" y="1447920"/>
            <a:chExt cx="8532720" cy="4811760"/>
          </a:xfrm>
        </p:grpSpPr>
        <p:graphicFrame>
          <p:nvGraphicFramePr>
            <p:cNvPr id="541" name="Object 16"/>
            <p:cNvGraphicFramePr/>
            <p:nvPr/>
          </p:nvGraphicFramePr>
          <p:xfrm>
            <a:off x="228600" y="1981080"/>
            <a:ext cx="8532720" cy="427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2" name="Object 1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" y="1981080"/>
                      <a:ext cx="8532720" cy="427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3" name="Text Box 17"/>
            <p:cNvSpPr/>
            <p:nvPr/>
          </p:nvSpPr>
          <p:spPr>
            <a:xfrm>
              <a:off x="5333400" y="1447920"/>
              <a:ext cx="11653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8"/>
          <p:cNvGrpSpPr/>
          <p:nvPr/>
        </p:nvGrpSpPr>
        <p:grpSpPr>
          <a:xfrm>
            <a:off x="228600" y="1447920"/>
            <a:ext cx="8532720" cy="4817880"/>
            <a:chOff x="228600" y="1447920"/>
            <a:chExt cx="8532720" cy="4817880"/>
          </a:xfrm>
        </p:grpSpPr>
        <p:graphicFrame>
          <p:nvGraphicFramePr>
            <p:cNvPr id="545" name="Object 19"/>
            <p:cNvGraphicFramePr/>
            <p:nvPr/>
          </p:nvGraphicFramePr>
          <p:xfrm>
            <a:off x="228600" y="1981080"/>
            <a:ext cx="8532720" cy="4284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46" name="Object 19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1981080"/>
                      <a:ext cx="8532720" cy="42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7" name="Text Box 20"/>
            <p:cNvSpPr/>
            <p:nvPr/>
          </p:nvSpPr>
          <p:spPr>
            <a:xfrm>
              <a:off x="6400440" y="1447920"/>
              <a:ext cx="14868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Group 21"/>
          <p:cNvGrpSpPr/>
          <p:nvPr/>
        </p:nvGrpSpPr>
        <p:grpSpPr>
          <a:xfrm>
            <a:off x="228600" y="1447920"/>
            <a:ext cx="8531280" cy="4817880"/>
            <a:chOff x="228600" y="1447920"/>
            <a:chExt cx="8531280" cy="4817880"/>
          </a:xfrm>
        </p:grpSpPr>
        <p:graphicFrame>
          <p:nvGraphicFramePr>
            <p:cNvPr id="549" name="Object 22"/>
            <p:cNvGraphicFramePr/>
            <p:nvPr/>
          </p:nvGraphicFramePr>
          <p:xfrm>
            <a:off x="228600" y="1981080"/>
            <a:ext cx="8531280" cy="4284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50" name="Object 22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28600" y="1981080"/>
                      <a:ext cx="8531280" cy="42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1" name="Text Box 23"/>
            <p:cNvSpPr/>
            <p:nvPr/>
          </p:nvSpPr>
          <p:spPr>
            <a:xfrm>
              <a:off x="7391520" y="1447920"/>
              <a:ext cx="129528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228600" y="1447920"/>
            <a:ext cx="8616960" cy="4852800"/>
            <a:chOff x="228600" y="1447920"/>
            <a:chExt cx="8616960" cy="4852800"/>
          </a:xfrm>
        </p:grpSpPr>
        <p:graphicFrame>
          <p:nvGraphicFramePr>
            <p:cNvPr id="553" name="Object 25"/>
            <p:cNvGraphicFramePr/>
            <p:nvPr/>
          </p:nvGraphicFramePr>
          <p:xfrm>
            <a:off x="228600" y="1981080"/>
            <a:ext cx="8616960" cy="4319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54" name="Object 25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600" y="1981080"/>
                      <a:ext cx="8616960" cy="431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5" name="Text Box 26"/>
            <p:cNvSpPr/>
            <p:nvPr/>
          </p:nvSpPr>
          <p:spPr>
            <a:xfrm>
              <a:off x="3734640" y="1447920"/>
              <a:ext cx="1130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5" dur="1" fill="hold"/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0"/>
          <p:cNvSpPr/>
          <p:nvPr/>
        </p:nvSpPr>
        <p:spPr>
          <a:xfrm>
            <a:off x="228600" y="1308240"/>
            <a:ext cx="236232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i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lternating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riod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equency 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er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2590920" y="25304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that reverses direction in response to a change in source voltage pol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2590920" y="34290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ime interval for one complete cycle of a periodic wavefo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2581200" y="1228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e of waveform that follows a cyclic sinusoidal pattern defined by the formu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2590920" y="435924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the rate of change of a periodic function; the number of cycles completed in 1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6"/>
          <p:cNvSpPr/>
          <p:nvPr/>
        </p:nvSpPr>
        <p:spPr>
          <a:xfrm>
            <a:off x="2590920" y="5334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frequency. One hertz equals one cycle per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8172720" cy="5276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3"/>
          <p:cNvSpPr/>
          <p:nvPr/>
        </p:nvSpPr>
        <p:spPr>
          <a:xfrm>
            <a:off x="380880" y="1384200"/>
            <a:ext cx="2362320" cy="41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ntaneou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a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eak-to-pea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m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2743200" y="225756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r current value of a waveform at its maximum positive or negative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2743200" y="32004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r current value of a waveform measured from its minimum to its maximum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752560" y="133344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ltage or current value of a waveform at a given instant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2743200" y="44956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a sinusoidal voltage that indicates its heating effect, also known as effective value. It is equal to 0.707 times the peak value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s for root mean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8172720" cy="52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3"/>
          <p:cNvSpPr/>
          <p:nvPr/>
        </p:nvSpPr>
        <p:spPr>
          <a:xfrm>
            <a:off x="304920" y="1384200"/>
            <a:ext cx="198108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a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ha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286000" y="32004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ximum value of a voltage or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286000" y="3841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e of waveform that consists of two equal and opposite steps in voltage or current separated by a time interv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286000" y="133344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it of angular measurement. There are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dians in one complete 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2286000" y="50608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quencies contained in a composite waveform, which are integer multiples of the pulse repetition frequen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2286000" y="22860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presentation of a sine wave in terms of its magnitude (amplitude) and direction (phase ang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590400" y="990720"/>
            <a:ext cx="8172720" cy="52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99072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 North America, the frequency of ac utility voltage is 60 Hz. The perio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8.3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6.7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0 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6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99072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amplitude of a sine wave is 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t the maximum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between the minimum and maximum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t the mid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ywhere on th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914400" y="20574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 waves are characterized by the amplitude and period.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pl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aximum value of a voltage or current;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time interval for one complete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219320" y="137160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295280" y="1371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6"/>
          <p:cNvSpPr txBox="1"/>
          <p:nvPr/>
        </p:nvSpPr>
        <p:spPr>
          <a:xfrm>
            <a:off x="990720" y="3352680"/>
            <a:ext cx="12189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14" name="Object 17"/>
          <p:cNvGraphicFramePr/>
          <p:nvPr/>
        </p:nvGraphicFramePr>
        <p:xfrm>
          <a:off x="4191120" y="3352680"/>
          <a:ext cx="432756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3352680"/>
                    <a:ext cx="43275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18"/>
          <p:cNvSpPr/>
          <p:nvPr/>
        </p:nvSpPr>
        <p:spPr>
          <a:xfrm>
            <a:off x="1219320" y="37339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plitud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this sine wav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539720" y="4441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1219320" y="4952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289548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.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2"/>
          <p:cNvGrpSpPr/>
          <p:nvPr/>
        </p:nvGrpSpPr>
        <p:grpSpPr>
          <a:xfrm>
            <a:off x="5257800" y="3476520"/>
            <a:ext cx="762120" cy="1219320"/>
            <a:chOff x="5257800" y="3476520"/>
            <a:chExt cx="762120" cy="1219320"/>
          </a:xfrm>
        </p:grpSpPr>
        <p:sp>
          <p:nvSpPr>
            <p:cNvPr id="121" name="Line 23"/>
            <p:cNvSpPr/>
            <p:nvPr/>
          </p:nvSpPr>
          <p:spPr>
            <a:xfrm>
              <a:off x="5477040" y="3476520"/>
              <a:ext cx="144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5257800" y="3952800"/>
              <a:ext cx="533520" cy="390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5257800" y="3886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4699080" y="4667400"/>
            <a:ext cx="3225600" cy="1507320"/>
            <a:chOff x="4699080" y="4667400"/>
            <a:chExt cx="3225600" cy="1507320"/>
          </a:xfrm>
        </p:grpSpPr>
        <p:sp>
          <p:nvSpPr>
            <p:cNvPr id="125" name="Line 28"/>
            <p:cNvSpPr/>
            <p:nvPr/>
          </p:nvSpPr>
          <p:spPr>
            <a:xfrm>
              <a:off x="4699080" y="59626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29"/>
            <p:cNvSpPr/>
            <p:nvPr/>
          </p:nvSpPr>
          <p:spPr>
            <a:xfrm>
              <a:off x="7924680" y="466740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>
              <a:off x="5334120" y="59626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2"/>
            <p:cNvSpPr/>
            <p:nvPr/>
          </p:nvSpPr>
          <p:spPr>
            <a:xfrm>
              <a:off x="5791320" y="5715000"/>
              <a:ext cx="38088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990720" y="182880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n example of an equation for a waveform that lags the refere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V sin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V sin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.0 V sin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7 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914400" y="1905120"/>
            <a:ext cx="73152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n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the let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nds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ea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verag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m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instantaneou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914400" y="1905120"/>
            <a:ext cx="73152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time base of an oscilloscope is determined by the setting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vertical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horizontal contr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igg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62120" y="198108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A sawtooth waveform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equal positive and negative going r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wo ramps - one much longer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two equ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two unequal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914400" y="205740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he number of radians in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914400" y="2057400"/>
            <a:ext cx="7162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or the waveform shown, the same power would be delivered to a load with a dc volta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1.2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37.8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2.4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60.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3505320" y="2892600"/>
          <a:ext cx="4724280" cy="28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892600"/>
                    <a:ext cx="472428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914400" y="198108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A square wave consist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the fundamental and odd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the fundamental and even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the fundamental and all harm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only the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6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914400" y="175248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A control on the oscilloscope that is used to set the desired number of cycles of a wave on the display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volts per divi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ime per divi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igger leve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orizontal posi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3200400" y="1981080"/>
            <a:ext cx="281952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365760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48006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371600" y="19810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od of a sine wave can be measured between any two corresponding points on the wave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219320" y="137160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371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e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7"/>
          <p:cNvGraphicFramePr/>
          <p:nvPr/>
        </p:nvGraphicFramePr>
        <p:xfrm>
          <a:off x="1600200" y="3124080"/>
          <a:ext cx="6004080" cy="22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124080"/>
                    <a:ext cx="600408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14"/>
          <p:cNvGrpSpPr/>
          <p:nvPr/>
        </p:nvGrpSpPr>
        <p:grpSpPr>
          <a:xfrm>
            <a:off x="1812960" y="2819520"/>
            <a:ext cx="2813040" cy="1608120"/>
            <a:chOff x="1812960" y="2819520"/>
            <a:chExt cx="2813040" cy="1608120"/>
          </a:xfrm>
        </p:grpSpPr>
        <p:sp>
          <p:nvSpPr>
            <p:cNvPr id="136" name="Line 9"/>
            <p:cNvSpPr/>
            <p:nvPr/>
          </p:nvSpPr>
          <p:spPr>
            <a:xfrm flipV="1">
              <a:off x="181296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 flipV="1">
              <a:off x="462600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04812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2"/>
            <p:cNvSpPr/>
            <p:nvPr/>
          </p:nvSpPr>
          <p:spPr>
            <a:xfrm flipH="1">
              <a:off x="182844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350532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5"/>
          <p:cNvGrpSpPr/>
          <p:nvPr/>
        </p:nvGrpSpPr>
        <p:grpSpPr>
          <a:xfrm>
            <a:off x="2063880" y="2819520"/>
            <a:ext cx="2813040" cy="1608120"/>
            <a:chOff x="2063880" y="2819520"/>
            <a:chExt cx="2813040" cy="1608120"/>
          </a:xfrm>
        </p:grpSpPr>
        <p:sp>
          <p:nvSpPr>
            <p:cNvPr id="142" name="Line 16"/>
            <p:cNvSpPr/>
            <p:nvPr/>
          </p:nvSpPr>
          <p:spPr>
            <a:xfrm flipV="1">
              <a:off x="206388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 flipV="1">
              <a:off x="487692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8"/>
            <p:cNvSpPr/>
            <p:nvPr/>
          </p:nvSpPr>
          <p:spPr>
            <a:xfrm>
              <a:off x="329904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 flipH="1">
              <a:off x="207936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375624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2506680" y="2819520"/>
            <a:ext cx="2813040" cy="1608120"/>
            <a:chOff x="2506680" y="2819520"/>
            <a:chExt cx="2813040" cy="1608120"/>
          </a:xfrm>
        </p:grpSpPr>
        <p:sp>
          <p:nvSpPr>
            <p:cNvPr id="148" name="Line 28"/>
            <p:cNvSpPr/>
            <p:nvPr/>
          </p:nvSpPr>
          <p:spPr>
            <a:xfrm flipV="1">
              <a:off x="250668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V="1">
              <a:off x="531972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0"/>
            <p:cNvSpPr/>
            <p:nvPr/>
          </p:nvSpPr>
          <p:spPr>
            <a:xfrm>
              <a:off x="374184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1"/>
            <p:cNvSpPr/>
            <p:nvPr/>
          </p:nvSpPr>
          <p:spPr>
            <a:xfrm flipH="1">
              <a:off x="252216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32"/>
            <p:cNvSpPr/>
            <p:nvPr/>
          </p:nvSpPr>
          <p:spPr>
            <a:xfrm>
              <a:off x="419904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33"/>
          <p:cNvGrpSpPr/>
          <p:nvPr/>
        </p:nvGrpSpPr>
        <p:grpSpPr>
          <a:xfrm>
            <a:off x="2978280" y="2819520"/>
            <a:ext cx="2813040" cy="1608120"/>
            <a:chOff x="2978280" y="2819520"/>
            <a:chExt cx="2813040" cy="1608120"/>
          </a:xfrm>
        </p:grpSpPr>
        <p:sp>
          <p:nvSpPr>
            <p:cNvPr id="154" name="Line 34"/>
            <p:cNvSpPr/>
            <p:nvPr/>
          </p:nvSpPr>
          <p:spPr>
            <a:xfrm flipV="1">
              <a:off x="2978280" y="2971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35"/>
            <p:cNvSpPr/>
            <p:nvPr/>
          </p:nvSpPr>
          <p:spPr>
            <a:xfrm flipV="1">
              <a:off x="5791320" y="29797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36"/>
            <p:cNvSpPr/>
            <p:nvPr/>
          </p:nvSpPr>
          <p:spPr>
            <a:xfrm>
              <a:off x="4213440" y="2819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7"/>
            <p:cNvSpPr/>
            <p:nvPr/>
          </p:nvSpPr>
          <p:spPr>
            <a:xfrm flipH="1">
              <a:off x="2993760" y="3048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467064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5"/>
          <p:cNvGrpSpPr/>
          <p:nvPr/>
        </p:nvGrpSpPr>
        <p:grpSpPr>
          <a:xfrm>
            <a:off x="3886200" y="3657600"/>
            <a:ext cx="2813040" cy="1608120"/>
            <a:chOff x="3886200" y="3657600"/>
            <a:chExt cx="2813040" cy="1608120"/>
          </a:xfrm>
        </p:grpSpPr>
        <p:sp>
          <p:nvSpPr>
            <p:cNvPr id="160" name="Line 46"/>
            <p:cNvSpPr/>
            <p:nvPr/>
          </p:nvSpPr>
          <p:spPr>
            <a:xfrm flipV="1">
              <a:off x="3886200" y="3809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7"/>
            <p:cNvSpPr/>
            <p:nvPr/>
          </p:nvSpPr>
          <p:spPr>
            <a:xfrm flipV="1">
              <a:off x="6699240" y="3817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48"/>
            <p:cNvSpPr/>
            <p:nvPr/>
          </p:nvSpPr>
          <p:spPr>
            <a:xfrm>
              <a:off x="512136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9"/>
            <p:cNvSpPr/>
            <p:nvPr/>
          </p:nvSpPr>
          <p:spPr>
            <a:xfrm flipH="1">
              <a:off x="3901680" y="3886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0"/>
            <p:cNvSpPr/>
            <p:nvPr/>
          </p:nvSpPr>
          <p:spPr>
            <a:xfrm>
              <a:off x="5578560" y="3886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51"/>
          <p:cNvGrpSpPr/>
          <p:nvPr/>
        </p:nvGrpSpPr>
        <p:grpSpPr>
          <a:xfrm>
            <a:off x="4610160" y="3657600"/>
            <a:ext cx="2813040" cy="1608120"/>
            <a:chOff x="4610160" y="3657600"/>
            <a:chExt cx="2813040" cy="1608120"/>
          </a:xfrm>
        </p:grpSpPr>
        <p:sp>
          <p:nvSpPr>
            <p:cNvPr id="166" name="Line 52"/>
            <p:cNvSpPr/>
            <p:nvPr/>
          </p:nvSpPr>
          <p:spPr>
            <a:xfrm flipV="1">
              <a:off x="4610160" y="38098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3"/>
            <p:cNvSpPr/>
            <p:nvPr/>
          </p:nvSpPr>
          <p:spPr>
            <a:xfrm flipV="1">
              <a:off x="7423200" y="38178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54"/>
            <p:cNvSpPr/>
            <p:nvPr/>
          </p:nvSpPr>
          <p:spPr>
            <a:xfrm>
              <a:off x="584532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5"/>
            <p:cNvSpPr/>
            <p:nvPr/>
          </p:nvSpPr>
          <p:spPr>
            <a:xfrm flipH="1">
              <a:off x="4625640" y="3886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6"/>
            <p:cNvSpPr/>
            <p:nvPr/>
          </p:nvSpPr>
          <p:spPr>
            <a:xfrm>
              <a:off x="6302520" y="38862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57"/>
          <p:cNvSpPr/>
          <p:nvPr/>
        </p:nvSpPr>
        <p:spPr>
          <a:xfrm>
            <a:off x="1295280" y="525780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ontrast, the amplitude of a sine wave is only measured from the center to the maximum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0" y="3170160"/>
            <a:ext cx="304920" cy="1067040"/>
            <a:chOff x="2286000" y="3170160"/>
            <a:chExt cx="304920" cy="1067040"/>
          </a:xfrm>
        </p:grpSpPr>
        <p:sp>
          <p:nvSpPr>
            <p:cNvPr id="173" name="Line 59"/>
            <p:cNvSpPr/>
            <p:nvPr/>
          </p:nvSpPr>
          <p:spPr>
            <a:xfrm flipV="1">
              <a:off x="2506680" y="3170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60"/>
            <p:cNvSpPr/>
            <p:nvPr/>
          </p:nvSpPr>
          <p:spPr>
            <a:xfrm>
              <a:off x="2506680" y="38559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58"/>
            <p:cNvSpPr/>
            <p:nvPr/>
          </p:nvSpPr>
          <p:spPr>
            <a:xfrm>
              <a:off x="2286000" y="3505320"/>
              <a:ext cx="3049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8"/>
          <p:cNvSpPr/>
          <p:nvPr/>
        </p:nvSpPr>
        <p:spPr>
          <a:xfrm>
            <a:off x="1668600" y="3848040"/>
            <a:ext cx="1066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219320" y="1295280"/>
            <a:ext cx="17524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219320" y="1295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371600" y="1905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number of cycles that a sine wave completes in one sec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371600" y="2666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is measur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t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Hz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22"/>
          <p:cNvSpPr txBox="1"/>
          <p:nvPr/>
        </p:nvSpPr>
        <p:spPr>
          <a:xfrm>
            <a:off x="762120" y="3048120"/>
            <a:ext cx="12189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1349280" y="34732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3 cycles of a wave occur in one second, the frequency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24"/>
          <p:cNvGraphicFramePr/>
          <p:nvPr/>
        </p:nvGraphicFramePr>
        <p:xfrm>
          <a:off x="3543480" y="4068720"/>
          <a:ext cx="529560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43480" y="4068720"/>
                    <a:ext cx="529560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29"/>
          <p:cNvGrpSpPr/>
          <p:nvPr/>
        </p:nvGrpSpPr>
        <p:grpSpPr>
          <a:xfrm>
            <a:off x="3635280" y="3930480"/>
            <a:ext cx="4267440" cy="459720"/>
            <a:chOff x="3635280" y="3930480"/>
            <a:chExt cx="4267440" cy="459720"/>
          </a:xfrm>
        </p:grpSpPr>
        <p:sp>
          <p:nvSpPr>
            <p:cNvPr id="188" name="Line 26"/>
            <p:cNvSpPr/>
            <p:nvPr/>
          </p:nvSpPr>
          <p:spPr>
            <a:xfrm>
              <a:off x="3635280" y="415908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5692680" y="3930480"/>
              <a:ext cx="7621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0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4267080" y="2819520"/>
            <a:ext cx="106704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00200" y="2819520"/>
            <a:ext cx="10666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3000" y="2057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iod and frequency are reciprocals of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19320" y="12952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riod and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9"/>
          <p:cNvGraphicFramePr/>
          <p:nvPr/>
        </p:nvGraphicFramePr>
        <p:xfrm>
          <a:off x="1676520" y="2819520"/>
          <a:ext cx="833400" cy="72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819520"/>
                    <a:ext cx="8334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"/>
          <p:cNvSpPr/>
          <p:nvPr/>
        </p:nvSpPr>
        <p:spPr>
          <a:xfrm>
            <a:off x="31240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11"/>
          <p:cNvGraphicFramePr/>
          <p:nvPr/>
        </p:nvGraphicFramePr>
        <p:xfrm>
          <a:off x="4419720" y="2819520"/>
          <a:ext cx="75708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2819520"/>
                    <a:ext cx="757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12"/>
          <p:cNvSpPr/>
          <p:nvPr/>
        </p:nvSpPr>
        <p:spPr>
          <a:xfrm>
            <a:off x="121932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if you know one, you can easily find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WordArt 13"/>
          <p:cNvSpPr txBox="1"/>
          <p:nvPr/>
        </p:nvSpPr>
        <p:spPr>
          <a:xfrm>
            <a:off x="1066680" y="4648320"/>
            <a:ext cx="121932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438280" y="4800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eriod is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, the frequenc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1295280" y="4114800"/>
            <a:ext cx="7238880" cy="368280"/>
            <a:chOff x="1295280" y="4114800"/>
            <a:chExt cx="7238880" cy="368280"/>
          </a:xfrm>
        </p:grpSpPr>
        <p:sp>
          <p:nvSpPr>
            <p:cNvPr id="206" name="Rectangle 17"/>
            <p:cNvSpPr/>
            <p:nvPr/>
          </p:nvSpPr>
          <p:spPr>
            <a:xfrm>
              <a:off x="1866960" y="4197240"/>
              <a:ext cx="38088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6"/>
            <p:cNvSpPr/>
            <p:nvPr/>
          </p:nvSpPr>
          <p:spPr>
            <a:xfrm>
              <a:off x="1295280" y="411480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The 1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key on your calculator is handy for converting betwee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Object 9"/>
          <p:cNvGraphicFramePr/>
          <p:nvPr/>
        </p:nvGraphicFramePr>
        <p:xfrm>
          <a:off x="2514600" y="5257800"/>
          <a:ext cx="1976400" cy="77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14600" y="5257800"/>
                    <a:ext cx="19764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495680" y="541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 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143000" y="18288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usoidal voltages are produced by ac generators and electronic oscillat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66680" y="1295280"/>
            <a:ext cx="4191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219320" y="1295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usoidal voltage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66680" y="1295280"/>
            <a:ext cx="41148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219320" y="1295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ation of a sin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12"/>
          <p:cNvGraphicFramePr/>
          <p:nvPr/>
        </p:nvGraphicFramePr>
        <p:xfrm>
          <a:off x="990720" y="3436920"/>
          <a:ext cx="7073640" cy="20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436920"/>
                    <a:ext cx="707364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Group 13"/>
          <p:cNvGrpSpPr/>
          <p:nvPr/>
        </p:nvGrpSpPr>
        <p:grpSpPr>
          <a:xfrm>
            <a:off x="2197080" y="3659040"/>
            <a:ext cx="3822840" cy="1370160"/>
            <a:chOff x="2197080" y="3659040"/>
            <a:chExt cx="3822840" cy="1370160"/>
          </a:xfrm>
        </p:grpSpPr>
        <p:graphicFrame>
          <p:nvGraphicFramePr>
            <p:cNvPr id="221" name="Object 14"/>
            <p:cNvGraphicFramePr/>
            <p:nvPr/>
          </p:nvGraphicFramePr>
          <p:xfrm>
            <a:off x="2197080" y="3659040"/>
            <a:ext cx="1293840" cy="1370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2" name="Object 1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97080" y="3659040"/>
                      <a:ext cx="1293840" cy="13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15"/>
            <p:cNvSpPr/>
            <p:nvPr/>
          </p:nvSpPr>
          <p:spPr>
            <a:xfrm>
              <a:off x="55627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6"/>
          <p:cNvGrpSpPr/>
          <p:nvPr/>
        </p:nvGrpSpPr>
        <p:grpSpPr>
          <a:xfrm>
            <a:off x="2185920" y="3646440"/>
            <a:ext cx="4367160" cy="1382760"/>
            <a:chOff x="2185920" y="3646440"/>
            <a:chExt cx="4367160" cy="1382760"/>
          </a:xfrm>
        </p:grpSpPr>
        <p:graphicFrame>
          <p:nvGraphicFramePr>
            <p:cNvPr id="225" name="Object 17"/>
            <p:cNvGraphicFramePr/>
            <p:nvPr/>
          </p:nvGraphicFramePr>
          <p:xfrm>
            <a:off x="2185920" y="3646440"/>
            <a:ext cx="1306440" cy="138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26" name="Object 1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185920" y="3646440"/>
                      <a:ext cx="130644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Text Box 18"/>
            <p:cNvSpPr/>
            <p:nvPr/>
          </p:nvSpPr>
          <p:spPr>
            <a:xfrm>
              <a:off x="609588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2184480" y="3646440"/>
            <a:ext cx="4902120" cy="1382760"/>
            <a:chOff x="2184480" y="3646440"/>
            <a:chExt cx="4902120" cy="1382760"/>
          </a:xfrm>
        </p:grpSpPr>
        <p:graphicFrame>
          <p:nvGraphicFramePr>
            <p:cNvPr id="229" name="Object 20"/>
            <p:cNvGraphicFramePr/>
            <p:nvPr/>
          </p:nvGraphicFramePr>
          <p:xfrm>
            <a:off x="2184480" y="3646440"/>
            <a:ext cx="1305000" cy="13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0" name="Object 20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84480" y="3646440"/>
                      <a:ext cx="130500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21"/>
            <p:cNvSpPr/>
            <p:nvPr/>
          </p:nvSpPr>
          <p:spPr>
            <a:xfrm>
              <a:off x="662940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2184480" y="3645000"/>
            <a:ext cx="5435640" cy="1384200"/>
            <a:chOff x="2184480" y="3645000"/>
            <a:chExt cx="5435640" cy="1384200"/>
          </a:xfrm>
        </p:grpSpPr>
        <p:graphicFrame>
          <p:nvGraphicFramePr>
            <p:cNvPr id="233" name="Object 23"/>
            <p:cNvGraphicFramePr/>
            <p:nvPr/>
          </p:nvGraphicFramePr>
          <p:xfrm>
            <a:off x="2184480" y="3645000"/>
            <a:ext cx="1306440" cy="1384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34" name="Object 2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184480" y="3645000"/>
                      <a:ext cx="1306440" cy="13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Text Box 24"/>
            <p:cNvSpPr/>
            <p:nvPr/>
          </p:nvSpPr>
          <p:spPr>
            <a:xfrm>
              <a:off x="7162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 Box 25"/>
          <p:cNvSpPr/>
          <p:nvPr/>
        </p:nvSpPr>
        <p:spPr>
          <a:xfrm>
            <a:off x="1143000" y="25909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onductor rotates in a constant magnetic field, a sinusoidal wave is generat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8"/>
          <p:cNvGrpSpPr/>
          <p:nvPr/>
        </p:nvGrpSpPr>
        <p:grpSpPr>
          <a:xfrm>
            <a:off x="4267080" y="4648320"/>
            <a:ext cx="4419720" cy="1511280"/>
            <a:chOff x="4267080" y="4648320"/>
            <a:chExt cx="4419720" cy="1511280"/>
          </a:xfrm>
        </p:grpSpPr>
        <p:sp>
          <p:nvSpPr>
            <p:cNvPr id="238" name="Text Box 26"/>
            <p:cNvSpPr/>
            <p:nvPr/>
          </p:nvSpPr>
          <p:spPr>
            <a:xfrm>
              <a:off x="4267080" y="5486400"/>
              <a:ext cx="4419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hen the conductor is moving parallel with the lines of flux, no voltage is induced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27"/>
            <p:cNvSpPr/>
            <p:nvPr/>
          </p:nvSpPr>
          <p:spPr>
            <a:xfrm flipV="1">
              <a:off x="5334120" y="4648320"/>
              <a:ext cx="380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31"/>
          <p:cNvGrpSpPr/>
          <p:nvPr/>
        </p:nvGrpSpPr>
        <p:grpSpPr>
          <a:xfrm>
            <a:off x="3505320" y="4648320"/>
            <a:ext cx="5333760" cy="1541880"/>
            <a:chOff x="3505320" y="4648320"/>
            <a:chExt cx="5333760" cy="1541880"/>
          </a:xfrm>
        </p:grpSpPr>
        <p:sp>
          <p:nvSpPr>
            <p:cNvPr id="241" name="Text Box 29"/>
            <p:cNvSpPr/>
            <p:nvPr/>
          </p:nvSpPr>
          <p:spPr>
            <a:xfrm>
              <a:off x="3505320" y="5486400"/>
              <a:ext cx="533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en the loop is moving perpendicular to the lines of flux, the maximum voltage is induce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30"/>
            <p:cNvSpPr/>
            <p:nvPr/>
          </p:nvSpPr>
          <p:spPr>
            <a:xfrm flipV="1">
              <a:off x="5867280" y="4648320"/>
              <a:ext cx="3812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3" name="Object 35"/>
          <p:cNvGraphicFramePr/>
          <p:nvPr/>
        </p:nvGraphicFramePr>
        <p:xfrm>
          <a:off x="2181240" y="3639960"/>
          <a:ext cx="1333440" cy="1414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4" name="Object 3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81240" y="3639960"/>
                    <a:ext cx="1333440" cy="14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1066680" y="190512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s convert rotational energy to electrical energy.  A stationary field alternator with a rotating armature is shown. The armature has an induced voltage, which is connected through slip rings and brushes to a load. The armature loops are wound on a magnetic core (not shown for simplicit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 generator (altern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Object 9"/>
          <p:cNvGraphicFramePr/>
          <p:nvPr/>
        </p:nvGraphicFramePr>
        <p:xfrm>
          <a:off x="3733920" y="3809880"/>
          <a:ext cx="457200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3809880"/>
                    <a:ext cx="45720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10"/>
          <p:cNvSpPr/>
          <p:nvPr/>
        </p:nvSpPr>
        <p:spPr>
          <a:xfrm>
            <a:off x="1066680" y="41148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lternators may use a permanent magnet as shown here; other use field coils to produce the magnetic flu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11"/>
          <p:cNvGraphicFramePr/>
          <p:nvPr/>
        </p:nvGraphicFramePr>
        <p:xfrm>
          <a:off x="5638680" y="3909960"/>
          <a:ext cx="1474920" cy="1500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3909960"/>
                    <a:ext cx="14749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admin</cp:lastModifiedBy>
  <dcterms:modified xsi:type="dcterms:W3CDTF">2011-02-07T10:17:50Z</dcterms:modified>
  <cp:revision>166</cp:revision>
  <dc:subject/>
  <dc:title>PowerPoint Presentation</dc:title>
</cp:coreProperties>
</file>