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4E9-0697-4D02-BDF5-634879BA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36E-DD73-4CAB-A939-0AFD1793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06F-D427-465C-9D57-0DEF6585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C17-EAE9-466A-B426-B4344110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0CFD-9335-4530-8CD7-AAD629B0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6C3E-CBF1-4A30-A9B1-84434689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46F0-BA4B-4850-8D96-5F7D8884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96F9-472E-4067-9A06-F472169F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C0B6-29A6-4B88-938F-7FE5935B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8E03-1F32-4A22-913D-803D7BBC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6B9B-0167-4B1D-9453-02CBD46D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8DC-FA10-4858-BDF2-09532198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AB44-16E1-4AC4-B7AE-D701FB9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8535-423C-4E58-920C-2EA0F051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F6E8-FEC9-4213-AA4C-78A226B7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041F-1309-41E1-9603-8A9E31D5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A831-6AD4-4486-A04E-6D98CE03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208-D30C-460D-A69F-F0EDD941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308-AD28-492F-BF3A-FF7A272D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DF9-FA6D-48BF-9759-59B4B08E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9AA-6C1E-40ED-8B1B-AE0908B6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900-E0D2-429E-93FD-19930D49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262-878C-4A2F-B196-32FCF98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BB8-AE76-4FAE-89DB-9AF39BC4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74C3-4F38-434C-97BE-AD73D1BA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AA30-A3C2-4C24-A530-DD61C1F5DF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685800" y="685800"/>
            <a:ext cx="8381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UTE NECROTISING PANCREATITIS:TREATMENT STRATEGY ACCORDING TO THE STATUS OF INFE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versity of Bern,Switzerlan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Annals of Surgery,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sented by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r.Abdulrahman Algarn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57200" y="2514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NP Pt,CT-guided (FNA) wi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S\CS was carried out if infection of necrosis was clinically suspec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80880" y="1143000"/>
            <a:ext cx="838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cations were :newly developed signs of metabolic disorders and deterioration of organ failures of lung, kidney ,or CV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09480" y="44956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ly increase of WBC or fever(&gt;38.5)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094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FU was carried ou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35months)after discharge 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&lt;.05 was considered signific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989280" y="2517840"/>
            <a:ext cx="71668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1" i="1" lang="en-US" sz="6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RESULTS </a:t>
            </a:r>
            <a:br>
              <a:rPr sz="44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4 patients were in the study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762120" y="1600200"/>
            <a:ext cx="7467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EP patients non had multiple organ failure,but in 12 pt (10%) single organ failure was diagnosed(1 renal,4 pul,3 CVS,4 metabolic disorder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066680" y="166356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mission in 7pt (6%)after 8.3 month for: recurrent acute panc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n=4),duodenal obs(n=1),and pseudocyst (n=1)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09480" y="22860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NP,single and multiple organ failure occurred in 32 and 30 pt ,respective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1219320" y="838080"/>
            <a:ext cx="6629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determine benefits of conservative versus surgical treatment in patients with necrotising pancreatit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09480" y="30481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pt with Sterile necrosis 56/57 pt were managed conservative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57200" y="990720"/>
            <a:ext cx="8305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low-up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the study period 11patients(19%) were readmitted to the hospital after a mean of 6.9 months for various pancreatitis-rela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57200" y="1600200"/>
            <a:ext cx="82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ication such as recurrent pancreatitis (n=4),pancreatic pseudocyst (n=4),duodenal obstruction(n=2), and splenic vein thrombosis (n=1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80880" y="152388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cted necrosi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all ,27of 28 patients (96%) were correctly diagnosed as having infected necr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762120" y="838080"/>
            <a:ext cx="8001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gical treatment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otal of 27 patients with infected necrosis underwent necrosectomy and subsequent continuous 1avage of the necrotic cavity by means of double-lumen drainage tubes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76320" y="22860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low-up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the study period 7patients (32%) were readmitted after a mean of 4 month for pancreatitis-related complications:persistent pancreatic fistula(n=3) ,recurre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ancreatitis (n=1), pancreatic pseudocyst (n=1), pancreatic abscess (n=1),and chronic pain(n=1)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857160"/>
            <a:ext cx="82296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demonstrates and confirms that conservative treatment of sterile necrosis using early antibiotics is safe and effectiv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7200" y="685800"/>
            <a:ext cx="83059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ction of pancreatic nec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s the most important risk facto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ibuting to death in severe acute pancreatitis ,and it is generally accepted that infecte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ncreatic necrosis should be managed surgically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80880" y="23623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evalence of pancreatic infection in NP could be lowered  if antibiotics were given ear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80880" y="2133720"/>
            <a:ext cx="838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antibiotics is successful in preventing infection ,surgery in NP might not be able to achieve a better goal than conservative treat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33520" y="1066680"/>
            <a:ext cx="8381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gery remains the gold standard in the treatment of infected pancreatic necrosis ,and debridement and continuous closed lavage was successful in 67% of the patients with infected necrosis 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57200" y="1828800"/>
            <a:ext cx="8381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aying surgery(more than 3 weeks) until  demarcation of pancreatic necrosis is also reported by other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80880" y="279360"/>
            <a:ext cx="853452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results support nonsurgical management , including early antibiotic treatment ,in patients with sterile pancreatic necrosis 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tients with infected necrosis still represent a high-risk group in severe acute pancreatitis ,and for them surgical treatment seems preferabl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362320" y="27781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04920" y="228600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contrast ,the management of sterile pancreatic necrosis with organ failure is controversi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990720"/>
            <a:ext cx="85345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Methods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tween Jan 1994 and June 1999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4 consecutive patients with acute panc were recruited prospectively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38080" y="1981080"/>
            <a:ext cx="7925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lusion criteria: elevation of amylase more than three times normal and typical clinical picture 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0880" y="144792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P was defined by contrast-enhanced CT and CRP (&gt;150mg/L)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 admission all patients were treated medical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80880" y="23623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nical severity staging of acute panc was carried out using the Ranson and APACHE II sco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57200" y="21337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tibiotic was given less than 24 hr after CT findings of necrosis in patients with NP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8:00:28Z</dcterms:created>
  <dc:creator>user</dc:creator>
  <dc:description/>
  <dc:language>en-US</dc:language>
  <cp:lastModifiedBy>dell</cp:lastModifiedBy>
  <dcterms:modified xsi:type="dcterms:W3CDTF">2009-03-06T15:40:04Z</dcterms:modified>
  <cp:revision>37</cp:revision>
  <dc:subject/>
  <dc:title>Follow-up during the study period 11patients(19%) were readmitted to the hospital after a mean of 6.9 months for various pancreatis-related complication such asrecurrent pancreatitis (n=4),pancreatis pseudocyst (n=4),duodenal opstruction(n=2), and splenic vei</dc:title>
</cp:coreProperties>
</file>