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5BB-5E85-4E21-9B2F-6DC7DBB0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E50-4459-417B-8130-091C9EEF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CB8-F860-4BFD-A996-7218B419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810-13BD-420A-B745-B906C1B2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9CA2-E321-4810-A64B-BE669665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6FA6-F42E-4DBB-AA8E-45BA9B3D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8D66-A134-47BC-B599-D60D8F7A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36FB-838D-4716-B1EF-E75E8D32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5ABF-A60C-4BBC-B80D-27799D6F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28A6-7B28-43A9-AD7E-B5454081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44D3-E023-4029-991F-3FF7E566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B27-90C1-4E19-A2EC-6872FD6C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9126-81F4-4734-9BE2-8D2D9136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BC35-FF0C-48F5-814D-EF9A9D7D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B649-1AE4-43EE-9416-AFB16F10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CDBB-695D-4451-9F60-A5579C0F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0115-6B4B-452B-BACA-4ACC5831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AE2-5AD6-4EA0-A5E5-4EA7700F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C73-0B0D-4909-82A8-E6722718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693-ACC3-4772-B584-2703B0B2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A64-C948-4A24-BD88-C17F2989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552-B014-4958-9612-C7BBF641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B73-86CC-4038-92EA-672B2FBB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F94-E867-4A37-8186-98F93BC7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81DB-7426-43B9-8837-80C31341B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16B-888A-40E7-86DC-21429937DD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685800" y="685800"/>
            <a:ext cx="8381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UTE NECROTISING PANCREATITIS:TREATMENT STRATEGY ACCORDING TO THE STATUS OF INFEC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versity of Bern,Switzerlan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Annals of Surgery,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sented by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r.Abdulrahman Algarn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57200" y="2514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NP Pt,CT-guided (FNA) wi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S\CS was carried out if infection of necrosis was clinically suspec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80880" y="1143000"/>
            <a:ext cx="838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cations were :newly developed signs of metabolic disorders and deterioration of organ failures of lung, kidney ,or CV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09480" y="449568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wly increase of WBC or fever(&gt;38.5)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094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FU was carried ou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35months)after discharge 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&lt;.05 was considered significa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989280" y="2517840"/>
            <a:ext cx="71668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</a:t>
            </a:r>
            <a:r>
              <a:rPr b="1" i="1" lang="en-US" sz="6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RESULTS </a:t>
            </a:r>
            <a:br>
              <a:rPr sz="44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4 patients were in the study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762120" y="1600200"/>
            <a:ext cx="7467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EP patients non had multiple organ failure,but in 12 pt (10%) single organ failure was diagnosed(1 renal,4 pul,3 CVS,4 metabolic disorder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066680" y="166356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dmission in 7pt (6%)after 8.3 month for: recurrent acute panc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n=4),duodenal obs(n=1),and pseudocyst (n=1)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09480" y="22860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NP,single and multiple organ failure occurred in 32 and 30 pt ,respective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1219320" y="838080"/>
            <a:ext cx="6629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determine benefits of conservative versus surgical treatment in patients with necrotising pancreatit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09480" y="30481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pt with Sterile necrosis 56/57 pt were managed conservative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57200" y="990720"/>
            <a:ext cx="8305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low-up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ring the study period 11patients(19%) were readmitted to the hospital after a mean of 6.9 months for various pancreatitis-rela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57200" y="1600200"/>
            <a:ext cx="822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ication such as recurrent pancreatitis (n=4),pancreatic pseudocyst (n=4),duodenal obstruction(n=2), and splenic vein thrombosis (n=1 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380880" y="152388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cted necrosi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all ,27of 28 patients (96%) were correctly diagnosed as having infected necr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762120" y="838080"/>
            <a:ext cx="8001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gical treatment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total of 27 patients with infected necrosis underwent necrosectomy and subsequent continuous 1avage of the necrotic cavity by means of double-lumen drainage tubes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76320" y="22860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low-up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ring the study period 7patients (32%) were readmitted after a mean of 4 month for pancreatitis-related complications:persistent pancreatic fistula(n=3) ,recurre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ancreatitis (n=1), pancreatic pseudocyst (n=1), pancreatic abscess (n=1),and chronic pain(n=1)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857160"/>
            <a:ext cx="82296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demonstrates and confirms that conservative treatment of sterile necrosis using early antibiotics is safe and effectiv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57200" y="685800"/>
            <a:ext cx="83059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ection of pancreatic necr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s the most important risk facto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ibuting to death in severe acute pancreatitis ,and it is generally accepted that infecte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ncreatic necrosis should be managed surgically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80880" y="23623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evalence of pancreatic infection in NP could be lowered  if antibiotics were given ear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380880" y="2133720"/>
            <a:ext cx="838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antibiotics is successful in preventing infection ,surgery in NP might not be able to achieve a better goal than conservative treat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33520" y="1066680"/>
            <a:ext cx="8381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gery remains the gold standard in the treatment of infected pancreatic necrosis ,and debridement and continuous closed lavage was successful in 67% of the patients with infected necrosis 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57200" y="1828800"/>
            <a:ext cx="8381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aying surgery(more than 3 weeks) until  demarcation of pancreatic necrosis is also reported by other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80880" y="279360"/>
            <a:ext cx="853452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results support nonsurgical management , including early antibiotic treatment ,in patients with sterile pancreatic necrosis 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tients with infected necrosis still represent a high-risk group in severe acute pancreatitis ,and for them surgical treatment seems preferabl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362320" y="277812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04920" y="228600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contrast ,the management of sterile pancreatic necrosis with organ failure is controversia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990720"/>
            <a:ext cx="85345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        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Methods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tween Jan 1994 and June 1999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4 consecutive patients with acute panc were recruited prospectively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838080" y="1981080"/>
            <a:ext cx="7925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lusion criteria: elevation of amylase more than three times normal and typical clinical picture 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0880" y="144792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P was defined by contrast-enhanced CT and CRP (&gt;150mg/L)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 admission all patients were treated medicall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80880" y="23623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nical severity staging of acute panc was carried out using the Ranson and APACHE II sco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57200" y="21337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tibiotic was given less than 24 hr after CT findings of necrosis in patients with NP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8:00:28Z</dcterms:created>
  <dc:creator>user</dc:creator>
  <dc:description/>
  <dc:language>en-US</dc:language>
  <cp:lastModifiedBy>dell</cp:lastModifiedBy>
  <dcterms:modified xsi:type="dcterms:W3CDTF">2009-03-06T15:40:04Z</dcterms:modified>
  <cp:revision>37</cp:revision>
  <dc:subject/>
  <dc:title>Follow-up during the study period 11patients(19%) were readmitted to the hospital after a mean of 6.9 months for various pancreatis-related complication such asrecurrent pancreatitis (n=4),pancreatis pseudocyst (n=4),duodenal opstruction(n=2), and splenic vei</dc:title>
</cp:coreProperties>
</file>