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8A9-74B9-499B-881E-70C2FE8D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957-7EE5-4961-8BBF-CB24096F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CC7-0980-4AC9-BB3B-B43F9EDA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61F-D17B-4DFE-9C35-31C5084A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CA1-5AB0-40E8-BD92-1A287C0B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21CE-F156-4769-90C5-39C6674F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E161-3A94-4EC6-8B8E-A5710A5A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322-33E8-4512-BB1D-D84B5109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9C3E-FF37-47AA-B725-83B03937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072B-A0EB-4A98-B3EA-537DFDFD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5DF5-C78B-48B5-B4BE-DF688FF6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19B-A50F-4F03-84F4-0F6519B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0733-E217-45C9-BB09-B5EFF5EC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D7AE-5F3E-47E6-8989-0972CED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C4A1-965E-4AB2-A59E-F8807204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C415-FCF2-447B-8A2B-1958FEBD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A6A4-5C03-484C-A56F-6815FF6E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B6B-8A5B-444F-8105-1BD98F27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F5E-F49A-46AE-B584-E3EB8480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2B8-F311-48B3-8343-5ED9595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E95-C032-4423-9C9A-4EC892B2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513-15FB-46BB-BA4A-1C94C83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C31-6327-4588-B9C3-359D3FE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4DC-4D18-4BBE-8718-8352838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A87F-6130-426B-88E0-E889E8797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A0F9-5FCC-4245-AD1C-3ED7A4BEA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-1705320"/>
            <a:ext cx="7467480" cy="490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           </a:t>
            </a: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ADHD&amp; </a:t>
            </a:r>
            <a:br>
              <a:rPr sz="4800"/>
            </a:b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    CO-morbidities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Fatima Al-Hai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&amp; Consul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and Adolescent Psychiat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7.  Sleep Disorder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ange of abnormality in sleep has been noticed in children with AD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such association has been noticed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8.  Mental Retardation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is associated with reduced verbal and performance intelli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ly, such association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.  Enuresis and Encopres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co-exist with AD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0. Tic Disorder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is common in chronic 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association will increase referral of children to psychiatric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1. Autistic Disorder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istic children frequently show hyper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active children may have features of aut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80640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2. Obsessive Compulsive Disorder (OCD)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rate of ADHD in juvenile OCD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presentation will complicate the course, assessment and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3.  Code V Diagnose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relation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buse of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4.  Co-morbid Subgrou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e AD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+ internalizing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+ externalizing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172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rates of co-morbidity are found in referred sample than in epidemiological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2/3 of elementary school age children with ADHD who were referred for clinical evaluation have at least one other psychiatric diagn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ren with ADHD report higher percentage of co-morbidity than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morbidity complicates course, prognosis, assessment and response to trea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.  Conduct Disorder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great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risk factors for such associ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.  Speech Problem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is strongly associated with a range of abnormality in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nature of that associ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3.  Learning Disabilitie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is specifically linked to reading underachievement in early and middle childh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explain this link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4.  Anxiety Disorder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izing disorders (both anxiety and depression can occur with AD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ren with ADHD and anxiety show greater improvement on combination of Methylphenidate and behavioral mod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 loading for anxiety and depression and adversity influence child ADHD-Internalizing  co-morbi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5.  Bipolar Affective Disorder (BAD)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ate, no longitudinal study has established a clear link between manic symptoms seen in association with ADHD in childhood and adult 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a with ADHD in childhood is associated with severe irritability, mixed state, multiple episodes, severe ADHD, frequent hospitalization, marked impairment and rapid cyc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ing mania in children with ADHD is difficul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why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6.  Cigarette Smoking (C.S.)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had both quantitative and qualitative impact on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significant association between C.S. in mothers during pregnancy and ADHD in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children with ADHD smo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pr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6.  Drug Abus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eaningful association between ADHD and alcohol or drug ab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ssociation is mediated primarily by other co-morbidities especially conduct disorder, mood and anxiety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ug abuse by peers is a risk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vidence that stimulant treatment of ADHD increases the risk for drug ab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n we prev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1:38:43Z</dcterms:created>
  <dc:creator>Jose Wendell Cuyos</dc:creator>
  <dc:description/>
  <dc:language>en-US</dc:language>
  <cp:lastModifiedBy>Mac</cp:lastModifiedBy>
  <dcterms:modified xsi:type="dcterms:W3CDTF">2013-11-09T10:02:15Z</dcterms:modified>
  <cp:revision>10</cp:revision>
  <dc:subject/>
  <dc:title>ADHD and Comorbidities</dc:title>
</cp:coreProperties>
</file>