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6B73-2CD0-47D7-A08F-4D2014BA0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EFB-4D70-4AB7-A1B2-F9D3DAB9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56FF-F1F3-44ED-BF30-FDADB369C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6DC4-2B6D-4EF0-8F20-DF441017B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5D63-D1A4-439A-85DA-B267B3E7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6E949-3724-4D0B-9763-4E81E439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EB738-BA76-4EE8-907A-4CD3F5A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3CE5-CEFA-4293-87BF-58270B7B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E502-B1BA-4948-8DE4-5D66F050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5965-35F1-45F9-BD32-D2F006A4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31E3-635B-4ED1-801A-A64BF591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068-6BAC-478C-9F82-1BC8EC6C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F051-45C9-4DFB-8857-AE420A8A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5448-CD5B-414C-A0E3-66ED5335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717C-ECC6-405A-94A1-B99B7D29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A97A-242A-4FF3-968D-E16D01BB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4678-DBF9-487A-BE60-A96572BF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B5B8-DFAE-427C-B076-A1173B51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6F3-68A2-4B3C-8D86-6B3B1B52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7CA-6D88-4AE9-A3C1-BE7B2228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403-5D12-49EE-B6E5-E7A17362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F8B2-6A24-4C47-9541-343C97E7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3B62-C18E-488B-98E4-3BE44C2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930-5B1B-4B36-9CFE-D78794BA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abitbetter\bamboo.gif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90F5B-DDEA-4F35-BCE6-0C75EF750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abitbetter\bamboo.gif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80B3-2E5A-4450-9B05-DE1F631C3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-1705320"/>
            <a:ext cx="7467480" cy="490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3300"/>
                </a:solidFill>
                <a:latin typeface="Arial Black"/>
              </a:rPr>
              <a:t>           </a:t>
            </a: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ADHD&amp; </a:t>
            </a:r>
            <a:br>
              <a:rPr sz="4800"/>
            </a:br>
            <a:r>
              <a:rPr b="1" lang="en-US" sz="4800" spc="-1" strike="noStrike">
                <a:solidFill>
                  <a:srgbClr val="003300"/>
                </a:solidFill>
                <a:latin typeface="Arial Black"/>
              </a:rPr>
              <a:t>    CO-morbidities</a:t>
            </a:r>
            <a:endParaRPr b="0" lang="en-US" sz="4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4568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. Fatima Al-Hai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&amp; Consul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and Adolescent Psychiatr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7.  Sleep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ange of abnormality in sleep has been noticed in children with AD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such association has been noticed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8.  Mental Retardation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associated with reduced verbal and performance intellig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ly, such association is ver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9.  Enuresis and Encopresi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th co-exist with 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0. Tic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common in chronic 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association will increase referral of children to psychiatric c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1. Autistic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istic children frequently show hyper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peractive children may have features of aut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80640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2. Obsessive Compulsive Disorder (OCD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rate of ADHD in juvenile OCD su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h presentation will complicate the course, assessment and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3.  Code V Diagnose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or rela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abuse of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ademic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upational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4.  Co-morbid Subgroup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e ADH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+ internaliz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+ externalizing dis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1172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Black"/>
              </a:rPr>
              <a:t>Introduction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rates of co-morbidity are found in referred sample than in epidemiological sam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out 2/3 of elementary school age children with ADHD who were referred for clinical evaluation have at least one other psychiatric diagn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with ADHD report higher percentage of co-morbidity than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morbidity complicates course, prognosis, assessment and response to treat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1.  Conduct Disorder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great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many risk factors for such associ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2.  Speech Problem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strongly associated with a range of abnormality in spee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nature of that associ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3.  Learning Disabilitie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is specifically linked to reading underachievement in early and middle childh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to explain this link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4.  Anxiety Disorder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izing disorders (both anxiety and depression can occur with ADH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ldren with ADHD and anxiety show greater improvement on combination of Methylphenidate and behavioral mod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loading for anxiety and depression and adversity influence child ADHD-Internalizing  co-morbid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5.  Bipolar Affective Disorder (BAD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date, no longitudinal study has established a clear link between manic symptoms seen in association with ADHD in childhood and adult B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ia with ADHD in childhood is associated with severe irritability, mixed state, multiple episodes, severe ADHD, frequent hospitalization, marked impairment and rapid cyc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nosing mania in children with ADHD is difficul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wh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.  Cigarette Smoking (C.S.)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HD had both quantitative and qualitative impact on C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significant association between C.S. in mothers during pregnancy and ADHD in their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children with ADHD smo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we pr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240" y="1233360"/>
            <a:ext cx="7467480" cy="51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6.  Drug Abuse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meaningful association between ADHD and alcohol or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ssociation is mediated primarily by other co-morbidities especially conduct disorder, mood and anxiety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ug abuse by peers is a risk fa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vidence that stimulant treatment of ADHD increases the risk for drug ab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an we preven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01:38:43Z</dcterms:created>
  <dc:creator>Jose Wendell Cuyos</dc:creator>
  <dc:description/>
  <dc:language>en-US</dc:language>
  <cp:lastModifiedBy>Mac</cp:lastModifiedBy>
  <dcterms:modified xsi:type="dcterms:W3CDTF">2013-11-09T10:02:15Z</dcterms:modified>
  <cp:revision>10</cp:revision>
  <dc:subject/>
  <dc:title>ADHD and Comorbidities</dc:title>
</cp:coreProperties>
</file>