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257-DBF3-4129-904D-3A2DCF50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558-6AEE-478D-A59B-A8B03D2C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38F-B284-4970-8BE5-D3697266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85B-14BB-4617-BBCB-096F226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7D6-FC45-40FC-90CD-02EA858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820-DF16-41C4-A6ED-533D81B9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031-A381-4394-ACEF-56D53110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DB5-0F3A-4A16-ADF4-A313E7B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028-F8E2-47E9-8B23-316E4A80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7C1-ECEF-4F1F-A8EB-79C4395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9AB-C373-4EB0-9A27-C1694F12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E7F-D5F3-4BBB-B19D-D61B05E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563-E5A7-48AA-9A25-F7BED6F698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cc"/>
                </a:solidFill>
                <a:latin typeface="Arial"/>
              </a:rPr>
              <a:t>ADH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Fatima Al-Hai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Professor, Child &amp; Adolescent Psychiat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K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Outcome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Mild  and pure forms have reasonably good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evere forms show poor scholastic achievement, anti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Behavior, increased risk for substance abuse, poor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ecords, and relationship difficu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rolongation of ADHD into adulthood is well descri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Development of Normal Atten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ewborn pay attention to certain kinds of stimuli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Movin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Intermittent 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ictures of huma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Developmental dimensions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i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Span of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Links with other cognitive skill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ADH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Defini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mbination of over activity, poorly modulated behavior with marked inattention, lack of persistent task involvement, restlessness, impulsive tendencies and a high degree of distractibility with an early onset and duration of  more than 6 month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Background Informa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K    0.5 – 1.0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S    3 – 5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Boys :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o  social class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KSA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!!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Clinical features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Hyper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mpuls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n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riend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oc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Comorbidity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ver 50% of  ADHD have comorbidity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ppositional/defiant disorder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nduct disorder  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epressive disorder 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Anxiety disorder  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rning disability  15-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anguage impairment   15-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ther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Etiology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Gene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Brain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eurochem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sych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arent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Early childhoo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nteraction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Assessment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r how long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amily issue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!!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h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Treatment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unseling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Environmental mani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rmal behavioral modifi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ietary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59:00Z</dcterms:created>
  <dc:creator>www.arabswell.com</dc:creator>
  <dc:description/>
  <dc:language>en-US</dc:language>
  <cp:lastModifiedBy>Mac</cp:lastModifiedBy>
  <dcterms:modified xsi:type="dcterms:W3CDTF">2013-11-09T10:02:44Z</dcterms:modified>
  <cp:revision>9</cp:revision>
  <dc:subject/>
  <dc:title>ADHD</dc:title>
</cp:coreProperties>
</file>