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29D6-3456-498D-A611-6F709463D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B49-116F-4FE7-8D64-C3BC4CDFC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3599-54D7-4195-AFA2-08081F20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DC32-51A0-4790-A03C-D25D5751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4358-B0F1-4458-928A-D6A0848D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770-A6C7-48BF-8CC6-F6B01F1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FFD7-B67F-4D5D-B2AB-2908ABD3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B431-5618-4395-88AC-37C8A79D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09BF-416B-466C-8DFB-170BA370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403-50CE-4A9C-A2DD-6566201B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A5F-190A-4258-9A7C-9319E6C4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30FF-90F8-4366-BBB6-5CB730E8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E8A2-9CC4-491E-BA1E-0434C1BCE0A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cc"/>
                </a:solidFill>
                <a:latin typeface="Arial"/>
              </a:rPr>
              <a:t>ADH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Fatima Al-Hai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Professor, Child &amp; Adolescent Psychiatr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a800"/>
                </a:solidFill>
                <a:latin typeface="Arial"/>
              </a:rPr>
              <a:t>KS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Outcome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Mild  and pure forms have reasonably good out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evere forms show poor scholastic achievement, anti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Behavior, increased risk for substance abuse, poor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ecords, and relationship difficul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rolongation of ADHD into adulthood is well descri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Development of Normal Attention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Newborn pay attention to certain kinds of stimuli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Movin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Intermittent t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ictures of human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Developmental dimensions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Expl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Dis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Span of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Links with other cognitive skills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cc"/>
                </a:solidFill>
                <a:latin typeface="Arial"/>
              </a:rPr>
              <a:t>ADH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Definition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ombination of over activity, poorly modulated behavior with marked inattention, lack of persistent task involvement, restlessness, impulsive tendencies and a high degree of distractibility with an early onset and duration of  more than 6 months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Background Information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UK    0.5 – 1.0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%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US    3 – 5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Boys : Gir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: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o  social class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KSA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!!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Clinical features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n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Hyper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mpuls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n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l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riend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oc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Comorbidity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ver 50% of  ADHD have comorbidity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ppositional/defiant disorder  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onduct disorder  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epressive disorder 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Anxiety disorder   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arning disability  15-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anguage impairment   15-7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Other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Etiology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Genetic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Brain dys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Neurochem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L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Temper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sychologic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Social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Parental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Early childhoo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Interactional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Assessment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What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When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Where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r how long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amily issues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!!!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h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Treatment</a:t>
            </a:r>
            <a:r>
              <a:rPr b="1" lang="en-US" sz="3200" spc="-1" strike="noStrike" u="sng">
                <a:solidFill>
                  <a:srgbClr val="00a8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Counseling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Environmental manip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Formal behavioral modifi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66cc"/>
                </a:solidFill>
                <a:latin typeface="Arial"/>
              </a:rPr>
              <a:t>Dietary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8:59:00Z</dcterms:created>
  <dc:creator>www.arabswell.com</dc:creator>
  <dc:description/>
  <dc:language>en-US</dc:language>
  <cp:lastModifiedBy>Mac</cp:lastModifiedBy>
  <dcterms:modified xsi:type="dcterms:W3CDTF">2013-11-09T10:02:44Z</dcterms:modified>
  <cp:revision>9</cp:revision>
  <dc:subject/>
  <dc:title>ADHD</dc:title>
</cp:coreProperties>
</file>