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A69-AEC9-48B4-8FD3-4B474123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33F-DEB4-4FB1-AF3D-419F92B0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F98-0249-48D4-8B88-D9CCA978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FF5-E492-4F4A-B5C0-B473ADCC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3FF1-FEC8-43F4-9C71-F335C73D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275-62B4-484D-983A-7A339E71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066C-D203-4559-A893-96DECA7A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623-7ADC-4F58-AC97-2D54D830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BAC-2A65-4026-A622-4772E983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C2A-8465-4576-9FBA-80458E4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894-47DE-4FFB-BAE6-F90B3AE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4AE-0D3B-4985-94EE-CBEE68B5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E3ED-2F1D-4677-8F4A-720E746933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Order Log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67E-8B79-4E00-94DC-BEE93F4359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Relation (Predicate)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predicate symbol is used to represent a relation in a universe of dis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en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lation(Term1, Term2,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either TRUE or FALSE depending on whether Relation holds of Term1, Term2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 write “Malek wrote Muata” in a universe of discourse of names and written wo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Wrote(Malek, Mu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sentence is true in the intended interpre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nothe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structor (CAP492, Souh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EE8-81A7-4DC7-AF92-2CFED3A71A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Function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 talk about the binary relation of pairs of  objec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or example, the Father relation might represent all  pairs of persons in father-daughter or father-son relationshi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Ali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ather(x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Refers to the father of variabl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DBB-3E80-4313-8713-970D742DF9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properties of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is not the same as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y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re is a person who loves everyone in the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y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Loves(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one in the world is loved by at least one pers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Quantifier duality: each can be expressed using the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IceCream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IceCr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Likes(x,Broccoli) ≡ ¬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x ¬Likes(x,Brocco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E31-B830-4CC4-BB76-64F83A46BC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Atom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Atomic sentence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predicate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Term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1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,...,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termn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1" i="1" lang="fr-FR" sz="32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ample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Brother(Ali , Moham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Greater(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, Length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3D7-8348-4814-BE9B-67BE2A8D0C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Complex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Complex sentences are made from atomic sentences using connectives and by applying quantif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0000"/>
                </a:solidFill>
                <a:uFillTx/>
                <a:latin typeface="Garamond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Ali,Mohamed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Garamond"/>
              </a:rPr>
              <a:t>Sibling(Mohamed,A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ater(1,2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less-or-equal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x,y Sibling(x,y) 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ibling(y,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033-506F-4BEA-A759-A4AB3C012F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While constant symbols, variables and connectives  are like propositional logic, “What are functions and predicate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language of logic is based on set theo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t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Relations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501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Fun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B3B7-C047-410B-B83C-8F137D5E28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Garamond"/>
              </a:rPr>
              <a:t>SETS: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The set of objects defines a “Universe of Discourse.” [Objects are represented by Constant Symbols.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9640" y="2852640"/>
            <a:ext cx="4114440" cy="2285640"/>
            <a:chOff x="539640" y="2852640"/>
            <a:chExt cx="4114440" cy="2285640"/>
          </a:xfrm>
        </p:grpSpPr>
        <p:sp>
          <p:nvSpPr>
            <p:cNvPr id="89" name=""/>
            <p:cNvSpPr/>
            <p:nvPr/>
          </p:nvSpPr>
          <p:spPr>
            <a:xfrm>
              <a:off x="539640" y="36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1580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580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15800" y="28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79160" y="38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79160" y="33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20120" y="30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97520" y="36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1760" y="40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83480" y="35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3480" y="40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796000" y="270828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Interpre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920160" y="5516640"/>
            <a:ext cx="10705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example, in this blocks world, the universe of discourse is {a,b,c,d,e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8ED-6782-4BC5-A299-BF40E53A0D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RELA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Def: A </a:t>
            </a:r>
            <a:r>
              <a:rPr b="1" lang="en-US" sz="2400" spc="-1" strike="noStrike">
                <a:solidFill>
                  <a:srgbClr val="990000"/>
                </a:solidFill>
                <a:latin typeface="Garamond"/>
              </a:rPr>
              <a:t>binary relation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is a set of ordered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xample:  Consider set of blocks {a,b,c,d,e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492360" y="2349360"/>
            <a:ext cx="4114440" cy="2285640"/>
            <a:chOff x="3492360" y="2349360"/>
            <a:chExt cx="4114440" cy="2285640"/>
          </a:xfrm>
        </p:grpSpPr>
        <p:sp>
          <p:nvSpPr>
            <p:cNvPr id="106" name=""/>
            <p:cNvSpPr/>
            <p:nvPr/>
          </p:nvSpPr>
          <p:spPr>
            <a:xfrm>
              <a:off x="3492360" y="316584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852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852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8520" y="23493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31880" y="332892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31880" y="283896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72840" y="2527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0240" y="3116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4480" y="357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6200" y="30837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36200" y="35737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68360" y="458136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on” re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= {&lt;a,b&gt;, &lt;b,c&gt;, &lt;d,e&gt;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dicate On(A,B) can be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interpre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: &lt;a,b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(A,B) is TRUE, but  On(A,C) and On(C,D) are FALSE in this interpre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8B6-5ED8-4E59-BCE7-B02924422B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 function is a binary relation such that no two distinct members have the same first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 other words, if F is a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and   &lt;x,z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F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 y=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f  &lt;x,y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x is an argument of F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value of F at x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y is the image of x  unde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(x) designates the object y such that y=F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FCA-9612-49D9-81D0-9179C1F8DB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Garamond"/>
              </a:rPr>
              <a:t>FUNCTIONS: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52293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16542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284720" y="1052640"/>
            <a:ext cx="4114440" cy="2285640"/>
            <a:chOff x="4284720" y="1052640"/>
            <a:chExt cx="4114440" cy="2285640"/>
          </a:xfrm>
        </p:grpSpPr>
        <p:sp>
          <p:nvSpPr>
            <p:cNvPr id="127" name=""/>
            <p:cNvSpPr/>
            <p:nvPr/>
          </p:nvSpPr>
          <p:spPr>
            <a:xfrm>
              <a:off x="4284720" y="1869120"/>
              <a:ext cx="4114440" cy="14691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6088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6088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60880" y="10526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24240" y="203220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24240" y="1542240"/>
              <a:ext cx="1086480" cy="489600"/>
            </a:xfrm>
            <a:prstGeom prst="diamond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65200" y="12312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2600" y="1819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36840" y="227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28560" y="17870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28560" y="227700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0" y="1628640"/>
            <a:ext cx="50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at = {&lt;c,b&gt;, &lt;b,a&gt;,&lt;e,d&gt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 (c)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b)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hat(d) is not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at(E) can be interpreted as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36572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4076640"/>
            <a:ext cx="82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00"/>
                </a:solidFill>
                <a:uFillTx/>
                <a:latin typeface="Garamond"/>
              </a:rPr>
              <a:t>Using FOL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D,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"/>
              </a:rPr>
              <a:t>On(A,Hat(C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600-F874-447E-99BF-088E74A81A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is compositional:  meaning of B1,1 ∧ P1,2 is derived from meaning of B1,1 and of P1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eaning in propositional logic is context-independent unlike natural language, where meaning depends o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positional logic has limited expressive power unlike natu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cannot say "pits cause breezes in adjacent squar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except by writing one sentence for each squ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79D-D21A-43D3-9A21-EFE5F2BD8D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yntax of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Atomic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 connective Sentenc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Quantifier variable,…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¬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Atomic Sentence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=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erm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erm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,…)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stan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Connectiv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⇔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∧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∨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Quantifi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nstant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Variabl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a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x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s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edicat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Before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hascolo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unction</a:t>
            </a:r>
            <a:r>
              <a:rPr b="1" lang="fr-FR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→ Mother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| Leftleg |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48428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6237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4C6-A89E-4F3E-8ECD-6324CB85AB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in FOL can be perform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ducing first-order inference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eneralized Modus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ackward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439-42C8-4A90-88A4-2FF01EBEE8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FOL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irst order inference can be done by converting the knowledge base to PL and using propositional in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Two 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univers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Replace variable by groun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How to convert existential quantif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</a:rPr>
              <a:t>Skolemization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DB3-4330-493B-BC90-523C187BBC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iven a sentenc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nd binding li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the result of applying the </a:t>
            </a:r>
            <a:r>
              <a:rPr b="1" lang="en-US" sz="3200" spc="-1" strike="noStrike">
                <a:solidFill>
                  <a:srgbClr val="990000"/>
                </a:solidFill>
                <a:latin typeface="Garamond"/>
              </a:rPr>
              <a:t>substitution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t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is denoted by Subst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Garamond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{x/Ali, y/Fatima}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bst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{x/Sam, y/Pam}, Likes(x,y)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= Likes(Ali, fati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D15-678B-4C94-9744-8F72D131DB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Universal instantiation (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ery instantiation of a universally qua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entence is entailed by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v 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Subst({v/g}, 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variable v and ground term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e.g., ∀x King(x) ∧ Greedy(x) ⇒ Evil(x) y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John) ∧ Greedy(John) ⇒ Evil(Joh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Richard) ∧ Greedy(Richard) ⇒ Evil(Rich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ing(Father(John)) ∧ Greedy(Father(John)) ⇒ Evil(Father(John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71628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C1A-ECD7-4D5D-9EF3-21866B8A94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990000"/>
                </a:solidFill>
                <a:latin typeface="Garamond"/>
              </a:rPr>
              <a:t>Existential instantiation (E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For any sentence α, variable v, and constant symbol k that does not appear elsewhere in the knowledge b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∃</a:t>
            </a:r>
            <a:r>
              <a:rPr b="0" i="1" lang="fr-FR" sz="28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bst({v/k}, 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.g., ∃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 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yie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row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∧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OnHead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,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ovide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1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s a new constant symbol, called a Skole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800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3640" y="386064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ECA-8F87-47B6-B68D-248E02C7A9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</a:rPr>
              <a:t>Reduction to propositional i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Suppose the KB contains just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Greedy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Brother(Richard,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Instantiating the universal sentence in all possible ways, we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John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Evil(Joh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King(Richard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Greedy(Richard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Evil(Rich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•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The new KB is proposition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591A-9652-4B42-8210-B1BB6ADC0F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Reduction to 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A ground sentence is entailed by a new KB i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ntailed by the original K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CLAI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ery FOL KB can be propositionalized so a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reserve entail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IDE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propositionalize KB and query, apply resolution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turn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PROBLEM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Garamond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with function symbols, there are infinitely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round terms, e.g.,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Father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5B1-ED55-48EE-932F-18C4DB93B7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nstead of translating the knowledge base to PL, we can make the inference rules work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or example,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x King(x)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Greedy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Evil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King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∀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y 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It is intuitively clear that we can sub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and obtain that Evil(Joh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D15-2ED5-404C-A3D9-9044EAEA78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U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e can make the inference if we can find a substitution such that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x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atch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(John)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nd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{x/John,y/John}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Unify(α ,β) = θ if Subst(θ, α) = Subst(θ, 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α                      β                           Sub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John,Jane)                              {x/Jan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 Knows(y,OJ)                                    {x/OJ,y/Joh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Knows(y,Mother(y))                   {y/John,x/Mother(John)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Knows(John,x)              Knows(x,OJ)                                        {fail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4508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437000"/>
            <a:ext cx="0" cy="206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2B8-F27B-4CF7-9864-B106F960B8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From propositional logic (PL) to First order logic (F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things we can s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men are mor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Man(x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⇒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t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body loves some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oves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aning of the word “abo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above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n(x,y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∨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(on(x,z)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(z,y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82F-E57E-4B9E-91CD-AF45212619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Generalized Modus Ponens (G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ppose that 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’) =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 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pi) for all i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1', p2', … , pn',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 p1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2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p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q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, q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1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p1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King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p2'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                  p2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Greedy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θ is {x/John,y/John}      q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ubst(θ, q) is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Evil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John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ll variables assumed universally qua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2708280"/>
            <a:ext cx="532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FCE-EC3B-442F-A366-DA52128A54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ll first-order 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Subst(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-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···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i="1" lang="fr-FR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here θ =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ify(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¬m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¬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1" lang="fr-FR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∨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 ,   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Rich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Unhappy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Ken</a:t>
            </a: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aramond"/>
              </a:rPr>
              <a:t>with θ </a:t>
            </a:r>
            <a:r>
              <a:rPr b="0" i="1" lang="fr-FR" sz="2000" spc="-1" strike="noStrike">
                <a:solidFill>
                  <a:srgbClr val="000000"/>
                </a:solidFill>
                <a:latin typeface="Garamond"/>
              </a:rPr>
              <a:t>= {x/Ken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pply resolution steps to 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CNF(KB 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Arial Unicode MS"/>
              </a:rPr>
              <a:t>∧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¬α</a:t>
            </a:r>
            <a:r>
              <a:rPr b="0" i="1" lang="fr-FR" sz="24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; complete for 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28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2708280"/>
            <a:ext cx="705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436572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0DB-2369-4E1A-8C26-8B254F139E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en a new fact P is added to the K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 each rule such that P unifies with a prem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f the other premises ar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n add the conclusion to the KB and continue ch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rward chaining is </a:t>
            </a:r>
            <a:r>
              <a:rPr b="0" lang="en-US" sz="3200" spc="-1" strike="noStrike">
                <a:solidFill>
                  <a:srgbClr val="990000"/>
                </a:solidFill>
                <a:latin typeface="Garamond"/>
              </a:rPr>
              <a:t>data-driven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.g., inferring properties and categories from per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8757-3016-4E5A-9A35-2ACE7FA02CB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</a:t>
            </a:r>
            <a:r>
              <a:rPr b="1" lang="fr-FR" sz="2000" spc="-1" strike="noStrike">
                <a:solidFill>
                  <a:srgbClr val="990000"/>
                </a:solidFill>
                <a:latin typeface="Garamond"/>
                <a:ea typeface="Times New Roman"/>
              </a:rPr>
              <a:t>Forward chaining example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y, z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x, y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y, z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aster(x, 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uffalo(Bob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lug(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ew facts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Bob,Pat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(Pat, Steve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aster (Bob, Ste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12360" y="58053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Buffalo(Bo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94400" y="580536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Pig (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211640" y="4652640"/>
            <a:ext cx="10080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4653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43720" y="4797360"/>
            <a:ext cx="10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y/Pa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635280" y="486900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97800" y="422100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 (Bob,P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049520" y="580536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Garamond"/>
              </a:rPr>
              <a:t>Slug(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156360" y="4724280"/>
            <a:ext cx="129528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4724280"/>
            <a:ext cx="5763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59680" y="4149720"/>
            <a:ext cx="239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Pat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2852640"/>
            <a:ext cx="100800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42880" y="227664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Garamond"/>
              </a:rPr>
              <a:t>Faster(Bob,Ste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822440" y="4960800"/>
            <a:ext cx="12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z/Stev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292360" y="2852640"/>
            <a:ext cx="8636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21400" y="350028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x/Bob, y/Pa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90760" y="350028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{y/Pat, z/Stev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612-BC2A-4365-ACA6-C97825E21E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Inference in First Orde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4. 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ackward chaining starts with a hypothesis and work backwards , according to the rules in the knowledge base until reaching confirmed findings or f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637000"/>
            <a:ext cx="4174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y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z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Faster (y,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a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Creeps(a) 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⇒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ug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ig(P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limy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eps(Ste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11640" y="2565360"/>
            <a:ext cx="4537080" cy="3470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B97C-01B2-44F9-809F-98A01D4641F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semantic network consists of entities and relations between the enti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Generally it is represented as a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26640" y="4076640"/>
            <a:ext cx="72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 bird is a kind of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Flying is the normal moving method of bi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n albatross is a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Albert is an albatross, and so is 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546-FF92-4D28-90D8-7069429D37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Semant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1160" y="306864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889280" y="3141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day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87240" y="2997360"/>
            <a:ext cx="5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89560" y="191628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64000" y="328464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131640" y="335772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003640" y="2276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6280" y="458964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lbat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87640" y="3428640"/>
            <a:ext cx="2016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9240" y="5805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Black and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834920" y="5084640"/>
            <a:ext cx="718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33560" y="609300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99560" y="580536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843280" y="5013000"/>
            <a:ext cx="433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1476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3348000" y="5013000"/>
            <a:ext cx="115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97880" y="50133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col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72680" y="537372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32880" y="5237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01040" y="3716280"/>
            <a:ext cx="54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i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07960" y="2708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Moving-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51520" y="2781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aramond"/>
              </a:rPr>
              <a:t>Active-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C98-00A3-4336-B23A-91C8A4D7A73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90000"/>
                </a:solidFill>
                <a:latin typeface="Garamond"/>
              </a:rPr>
              <a:t>Other knowledge representation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990000"/>
                </a:solidFill>
                <a:latin typeface="Garamond"/>
              </a:rPr>
              <a:t>2.   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 frame is a data structure whose components are called slo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Slots have names and accomodate information of various k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rame: B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_kind_of: an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Moving_method: f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Active_at:day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5D7-6A2E-4D94-B570-AB49F2BB38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Definition:</a:t>
            </a: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an ES is a program that behaves like an expert for some problem dom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Should be capable of explaining its decisions and the underlying reaso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Often, it is expected to be able to deal with uncertain and incomplet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Application domains: Medical diagnosis (MYCIN), locating equipment failur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2C7A-94B3-4394-A25E-9875573171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are designed to lve problems that require expert knowledge in a particular domain </a:t>
            </a:r>
            <a:r>
              <a:rPr b="1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→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possessing knowledge in some fo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S are known as knowledge based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pert systems have to have a friendly user interaction capability that will make the system’s reasoning transparent to the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DC7-EAA5-4AFC-9167-DBD9EE315D1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First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Whereas propositional logic assumes the world contains facts, first-order logic (like natural language) assumes the world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Objects: people, houses, numbers, color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Relations: red, round, prime, brother of, bigger than, part of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aramond"/>
              </a:rPr>
              <a:t>Functions: Sqrt, Plu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n expres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the Wumpus are smell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quares neighboring a pit are bree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514-EA28-42B7-AD0C-929CDB5684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structure of an ES includes three main modu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n inference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4292640"/>
            <a:ext cx="165708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19640" y="4292640"/>
            <a:ext cx="158400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I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</a:rPr>
              <a:t>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72360" y="4149720"/>
            <a:ext cx="1871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4869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48360" y="47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17080" y="4724280"/>
            <a:ext cx="61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98440" y="42210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386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5877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88360" y="3789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276360" y="378936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47080" y="5335560"/>
            <a:ext cx="94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AB53-E88C-4B12-816C-A63D671B70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Expert Systems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Garamond"/>
                <a:ea typeface="Times New Roman"/>
              </a:rPr>
              <a:t>Functions and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 knowledge base comprises the knowledge that is specific to the domain of application: simple facts, rules, constraints and possibly also methods, heuristics and ideas for solving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engine: designed to use actively the knowledge in the base deriving new knoweldge to help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User interface: caters for smooth communication between the user and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821-6EA8-415E-AF93-01EACFF6375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990000"/>
                </a:solidFill>
                <a:uFillTx/>
                <a:latin typeface="Garamond"/>
                <a:ea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FOL extends PL by adding new concepts such as sets, relations and functions and new primitives such as variables, equality and quantif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There exist sevaral alternatives to perform inference in F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Logic is not the only one alternative to represent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Inference algorithms depend on the way knowledge is re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Development of expert systems relies heavily on knoweldge representation and reaso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17A-BADC-4340-99C6-8E452E052BA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ser defin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Constant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i.e., the "individuals" in the world) e.g., Mary,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Func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individuals to individuals) e.g., father-of(Mary) = John, colorof(Sky) =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Predicate/relation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(mapping from individuals to truth values) e.g., greater(5,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green(apple), color(apple, Gre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9761-A493-497F-BACA-076AAD59F3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FOL supplies these prim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Variable symbol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. e.g., x,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nectives.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 Same as in PL: 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⇔,∧,∨, 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Equality 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 legitimate expression of predicate calculus is called a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well-formed formula (wff) o</a:t>
            </a: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r, simply,</a:t>
            </a:r>
            <a:r>
              <a:rPr b="1" lang="en-US" sz="4400" spc="-1" strike="noStrike">
                <a:solidFill>
                  <a:srgbClr val="bbe0e3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0000"/>
                </a:solidFill>
                <a:latin typeface="Garamond"/>
              </a:rPr>
              <a:t>a sent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BD4-7509-454F-9D6D-5E3F3AF2C0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Garamond"/>
              </a:rPr>
              <a:t>Quantifiers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: Univers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 and Existential (</a:t>
            </a: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∃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Allow us to express properties of collections of objects instead of enumerating objects by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Universal: “for all”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∀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             </a:t>
            </a:r>
            <a:r>
              <a:rPr b="0" lang="fr-FR" sz="3200" spc="-1" strike="noStrike">
                <a:solidFill>
                  <a:srgbClr val="000000"/>
                </a:solidFill>
                <a:latin typeface="Garamond"/>
              </a:rPr>
              <a:t>Existential: “there exist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∃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&lt;variables&gt; &lt;sentenc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552-D2BD-4D75-929B-514C3E4B23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onstan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A symbol, e.g. Wumpus, Al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Each constant symbol names exactly one object in a </a:t>
            </a:r>
            <a:r>
              <a:rPr b="1" lang="en-US" sz="3600" spc="-1" strike="noStrike">
                <a:solidFill>
                  <a:srgbClr val="990000"/>
                </a:solidFill>
                <a:latin typeface="Garamond"/>
              </a:rPr>
              <a:t>universe of discourse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, b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t all objects have symbol nam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ome objects have several symbol n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8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sually denoted with upper-case first let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2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3D97-C5CD-4084-942B-EE9DCB50A1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Garamond"/>
              </a:rPr>
              <a:t>Knowledge Representation &amp; Reas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0000"/>
                </a:solidFill>
                <a:latin typeface="Garamond"/>
                <a:ea typeface="Times New Roman"/>
              </a:rPr>
              <a:t>Syntax Order Logic: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ed to represent objects or properties of objects without explicitly naming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ually lower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51280" y="5013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680-5652-456A-ADC3-2692DCA6C1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5:45:51Z</dcterms:created>
  <dc:creator>Hichem</dc:creator>
  <dc:description/>
  <dc:language>en-US</dc:language>
  <cp:lastModifiedBy> </cp:lastModifiedBy>
  <dcterms:modified xsi:type="dcterms:W3CDTF">2009-03-22T05:56:00Z</dcterms:modified>
  <cp:revision>170</cp:revision>
  <dc:subject/>
  <dc:title>Game Playing: Adversarial Search  chapter 6</dc:title>
</cp:coreProperties>
</file>