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B5E8-1688-416E-9497-69941E0CD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FE73-C655-4EF7-AD13-72CE63575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43B7-5C16-4CD3-82B7-02A220375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33C7-E973-4DBF-9FE0-5807A7697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E77E-1EBD-4875-8E9B-F01724B2C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4720-29E8-4A31-A3E0-8B8E18436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81F2-055C-40BB-877D-683FFB293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6E1B-EC66-4A65-9563-6017BFF91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27CC-8CA5-4120-A3D4-2FD0C6600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B9E8-27FB-4F08-B382-81EE3E2E4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EC9B-6D1E-4EA8-A117-01382C73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A2BE-26C0-4A2A-BD82-60BFE15F3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90C7D-61DD-45E2-B0B9-E87B0D92371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Order Logic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8D64-94D9-4BBF-BE45-1D7E9EFA156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Syntax Order Logic: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Relation (Predicate) Symb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 predicate symbol is used to represent a relation in a universe of discour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he sent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Relation(Term1, Term2,…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is either TRUE or FALSE depending on whether Relation holds of Term1, Term2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o write “Malek wrote Muata” in a universe of discourse of names and written wor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Wrote(Malek, Mua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his sentence is true in the intended interpre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nother 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Instructor (CAP492, Souh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8AB8-0AE1-4CA9-B33B-620931BC305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-52992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Syntax Order Logic: Function symb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Functions talk about the binary relation of pairs of  objec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99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For example, the Father relation might represent all  pairs of persons in father-daughter or father-son relationship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99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6404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ather(Ali)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Refers to the father of 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6404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ather(x)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Refers to the father of variable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6B9D-37F3-408E-883A-DE23FAD6E12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Syntax Order Logic: properties of quantif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∀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x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∀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y is the same as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∀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y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∀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∃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x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∃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y is the same as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∃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y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∃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∃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x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∀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y is not the same as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∀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y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∃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x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∃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x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∀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y Loves(x,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There is a person who loves everyone in the worl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∀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y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∃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x Loves(x,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Everyone in the world is loved by at least one perso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Quantifier duality: each can be expressed using the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∀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x Likes(x,IceCream) ≡ ¬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∃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x ¬Likes(x,IceCre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∃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x Likes(x,Broccoli) ≡ ¬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∀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x ¬Likes(x,Broccol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4969-52B1-4FFC-AC66-C642C358058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Syntax Order Logic: Atomic sent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Garamond"/>
              </a:rPr>
              <a:t>Atomic sentence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 = </a:t>
            </a:r>
            <a:r>
              <a:rPr b="1" i="1" lang="fr-FR" sz="3200" spc="-1" strike="noStrike">
                <a:solidFill>
                  <a:srgbClr val="000000"/>
                </a:solidFill>
                <a:latin typeface="Garamond"/>
              </a:rPr>
              <a:t>predicate 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1" i="1" lang="fr-FR" sz="3200" spc="-1" strike="noStrike">
                <a:solidFill>
                  <a:srgbClr val="000000"/>
                </a:solidFill>
                <a:latin typeface="Garamond"/>
              </a:rPr>
              <a:t>term1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,...,</a:t>
            </a:r>
            <a:r>
              <a:rPr b="1" i="1" lang="fr-FR" sz="3200" spc="-1" strike="noStrike">
                <a:solidFill>
                  <a:srgbClr val="000000"/>
                </a:solidFill>
                <a:latin typeface="Garamond"/>
              </a:rPr>
              <a:t>termn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                              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or </a:t>
            </a:r>
            <a:r>
              <a:rPr b="1" i="1" lang="fr-FR" sz="3200" spc="-1" strike="noStrike">
                <a:solidFill>
                  <a:srgbClr val="000000"/>
                </a:solidFill>
                <a:latin typeface="Garamond"/>
              </a:rPr>
              <a:t>term1</a:t>
            </a:r>
            <a:r>
              <a:rPr b="0" i="1" lang="fr-FR" sz="3200" spc="-1" strike="noStrike">
                <a:solidFill>
                  <a:srgbClr val="000000"/>
                </a:solidFill>
                <a:latin typeface="Garamond"/>
              </a:rPr>
              <a:t> = </a:t>
            </a:r>
            <a:r>
              <a:rPr b="1" i="1" lang="fr-FR" sz="3200" spc="-1" strike="noStrike">
                <a:solidFill>
                  <a:srgbClr val="000000"/>
                </a:solidFill>
                <a:latin typeface="Garamond"/>
              </a:rPr>
              <a:t>term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Garamond"/>
              </a:rPr>
              <a:t>Term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 = </a:t>
            </a:r>
            <a:r>
              <a:rPr b="1" i="1" lang="fr-FR" sz="3200" spc="-1" strike="noStrike">
                <a:solidFill>
                  <a:srgbClr val="000000"/>
                </a:solidFill>
                <a:latin typeface="Garamond"/>
              </a:rPr>
              <a:t>function</a:t>
            </a:r>
            <a:r>
              <a:rPr b="0" i="1" lang="fr-FR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1" i="1" lang="fr-FR" sz="3200" spc="-1" strike="noStrike">
                <a:solidFill>
                  <a:srgbClr val="000000"/>
                </a:solidFill>
                <a:latin typeface="Garamond"/>
              </a:rPr>
              <a:t>term1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,...,</a:t>
            </a:r>
            <a:r>
              <a:rPr b="1" i="1" lang="fr-FR" sz="3200" spc="-1" strike="noStrike">
                <a:solidFill>
                  <a:srgbClr val="000000"/>
                </a:solidFill>
                <a:latin typeface="Garamond"/>
              </a:rPr>
              <a:t>termn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              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or </a:t>
            </a:r>
            <a:r>
              <a:rPr b="1" i="1" lang="fr-FR" sz="3200" spc="-1" strike="noStrike">
                <a:solidFill>
                  <a:srgbClr val="000000"/>
                </a:solidFill>
                <a:latin typeface="Garamond"/>
              </a:rPr>
              <a:t>constant</a:t>
            </a:r>
            <a:r>
              <a:rPr b="0" i="1" lang="fr-FR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or </a:t>
            </a:r>
            <a:r>
              <a:rPr b="1" i="1" lang="fr-FR" sz="3200" spc="-1" strike="noStrike">
                <a:solidFill>
                  <a:srgbClr val="000000"/>
                </a:solidFill>
                <a:latin typeface="Garamond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Example ter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Garamond"/>
              </a:rPr>
              <a:t>Brother(Ali , Moham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Garamond"/>
              </a:rPr>
              <a:t>Greater(Length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32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)</a:t>
            </a:r>
            <a:r>
              <a:rPr b="0" i="1" lang="fr-FR" sz="3200" spc="-1" strike="noStrike">
                <a:solidFill>
                  <a:srgbClr val="000000"/>
                </a:solidFill>
                <a:latin typeface="Garamond"/>
              </a:rPr>
              <a:t>, Length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3200" spc="-1" strike="noStrike">
                <a:solidFill>
                  <a:srgbClr val="000000"/>
                </a:solidFill>
                <a:latin typeface="Garamond"/>
              </a:rPr>
              <a:t>y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A488-A729-44EF-A36B-04BED3B4FF3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Syntax Order Logic: Complex sent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Complex sentences are made from atomic sentences using connectives and by applying quantifi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0000"/>
                </a:solidFill>
                <a:uFillTx/>
                <a:latin typeface="Garamond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Garamond"/>
              </a:rPr>
              <a:t>Sibling(Ali,Mohamed) </a:t>
            </a:r>
            <a:r>
              <a:rPr b="0" lang="fr-FR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⇒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fr-FR" sz="3200" spc="-1" strike="noStrike">
                <a:solidFill>
                  <a:srgbClr val="000000"/>
                </a:solidFill>
                <a:latin typeface="Garamond"/>
              </a:rPr>
              <a:t>Sibling(Mohamed,Al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greater(1,2) </a:t>
            </a:r>
            <a:r>
              <a:rPr b="0" lang="fr-FR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∨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 less-or-equal(1,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∀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x,y Sibling(x,y) </a:t>
            </a:r>
            <a:r>
              <a:rPr b="0" lang="fr-FR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⇒ 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Sibling(y,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EDD7-1F3C-4665-B99F-32488643461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 algn="just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Garamond"/>
              </a:rPr>
              <a:t>While constant symbols, variables and connectives  are like propositional logic, “What are functions and predicates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The language of logic is based on set theor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30960" indent="-501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Sets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30960" indent="-501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Relations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30960" indent="-501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Funct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E711-B468-44BC-B006-7E02353DE2D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990000"/>
                </a:solidFill>
                <a:uFillTx/>
                <a:latin typeface="Garamond"/>
              </a:rPr>
              <a:t>SETS: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The set of objects defines a “Universe of Discourse.” [Objects are represented by Constant Symbols.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539640" y="2852640"/>
            <a:ext cx="4114440" cy="2285640"/>
            <a:chOff x="539640" y="2852640"/>
            <a:chExt cx="4114440" cy="2285640"/>
          </a:xfrm>
        </p:grpSpPr>
        <p:sp>
          <p:nvSpPr>
            <p:cNvPr id="89" name=""/>
            <p:cNvSpPr/>
            <p:nvPr/>
          </p:nvSpPr>
          <p:spPr>
            <a:xfrm>
              <a:off x="539640" y="3669120"/>
              <a:ext cx="4114440" cy="14691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315800" y="3832200"/>
              <a:ext cx="1086480" cy="489600"/>
            </a:xfrm>
            <a:prstGeom prst="diamond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315800" y="3342240"/>
              <a:ext cx="1086480" cy="489600"/>
            </a:xfrm>
            <a:prstGeom prst="diamond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315800" y="2852640"/>
              <a:ext cx="1086480" cy="489600"/>
            </a:xfrm>
            <a:prstGeom prst="diamond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79160" y="3832200"/>
              <a:ext cx="1086480" cy="489600"/>
            </a:xfrm>
            <a:prstGeom prst="diamond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179160" y="3342240"/>
              <a:ext cx="1086480" cy="489600"/>
            </a:xfrm>
            <a:prstGeom prst="diamond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320120" y="30312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397520" y="36194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391760" y="4077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183480" y="35870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183480" y="40770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5796000" y="2708280"/>
            <a:ext cx="201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Interpre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-920160" y="5516640"/>
            <a:ext cx="10705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For example, in this blocks world, the universe of discourse is {a,b,c,d,e}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B3B0-084B-4E73-B8A0-B6B3C3EBC3C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0000"/>
                </a:solidFill>
                <a:uFillTx/>
                <a:latin typeface="Garamond"/>
              </a:rPr>
              <a:t>RELATIONS: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Def: A </a:t>
            </a:r>
            <a:r>
              <a:rPr b="1" lang="en-US" sz="2400" spc="-1" strike="noStrike">
                <a:solidFill>
                  <a:srgbClr val="990000"/>
                </a:solidFill>
                <a:latin typeface="Garamond"/>
              </a:rPr>
              <a:t>binary relation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is a set of ordered p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Example:  Consider set of blocks {a,b,c,d,e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492360" y="2349360"/>
            <a:ext cx="4114440" cy="2285640"/>
            <a:chOff x="3492360" y="2349360"/>
            <a:chExt cx="4114440" cy="2285640"/>
          </a:xfrm>
        </p:grpSpPr>
        <p:sp>
          <p:nvSpPr>
            <p:cNvPr id="106" name=""/>
            <p:cNvSpPr/>
            <p:nvPr/>
          </p:nvSpPr>
          <p:spPr>
            <a:xfrm>
              <a:off x="3492360" y="3165840"/>
              <a:ext cx="4114440" cy="14691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268520" y="3328920"/>
              <a:ext cx="1086480" cy="489600"/>
            </a:xfrm>
            <a:prstGeom prst="diamond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268520" y="2838960"/>
              <a:ext cx="1086480" cy="489600"/>
            </a:xfrm>
            <a:prstGeom prst="diamond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268520" y="2349360"/>
              <a:ext cx="1086480" cy="489600"/>
            </a:xfrm>
            <a:prstGeom prst="diamond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131880" y="3328920"/>
              <a:ext cx="1086480" cy="489600"/>
            </a:xfrm>
            <a:prstGeom prst="diamond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131880" y="2838960"/>
              <a:ext cx="1086480" cy="489600"/>
            </a:xfrm>
            <a:prstGeom prst="diamond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272840" y="252792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350240" y="31161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344480" y="3573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136200" y="30837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136200" y="357372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468360" y="4581360"/>
            <a:ext cx="806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“on” rel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= {&lt;a,b&gt;, &lt;b,c&gt;, &lt;d,e&gt;}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edicate On(A,B) can be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 interpret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s: &lt;a,b&gt;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(A,B) is TRUE, but  On(A,C) and On(C,D) are FALSE in this interpret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BC10-E092-4764-B45C-CF7106DC574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0000"/>
                </a:solidFill>
                <a:uFillTx/>
                <a:latin typeface="Garamond"/>
              </a:rPr>
              <a:t>FUNCTIONS: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1654200"/>
            <a:ext cx="8280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A function is a binary relation such that no two distinct members have the same first el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n other words, if F is a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Arial"/>
              </a:rPr>
              <a:t>&lt;x,y&g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Arial"/>
              </a:rPr>
              <a:t> F   and   &lt;x,z&g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Arial"/>
              </a:rPr>
              <a:t> F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Arial"/>
              </a:rPr>
              <a:t> y=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f  &lt;x,y&g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F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Arial"/>
              </a:rPr>
              <a:t>x is an argument of F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Arial"/>
              </a:rPr>
              <a:t>y is the value of F at x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Arial"/>
              </a:rPr>
              <a:t>y is the image of x  under 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(x) designates the object y such that y=F(X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F05D-4869-42A1-ACFC-B27F9B4A888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0000"/>
                </a:solidFill>
                <a:uFillTx/>
                <a:latin typeface="Garamond"/>
              </a:rPr>
              <a:t>FUNCTIONS: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24360" y="5229360"/>
            <a:ext cx="45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1654200"/>
            <a:ext cx="8280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284720" y="1052640"/>
            <a:ext cx="4114440" cy="2285640"/>
            <a:chOff x="4284720" y="1052640"/>
            <a:chExt cx="4114440" cy="2285640"/>
          </a:xfrm>
        </p:grpSpPr>
        <p:sp>
          <p:nvSpPr>
            <p:cNvPr id="127" name=""/>
            <p:cNvSpPr/>
            <p:nvPr/>
          </p:nvSpPr>
          <p:spPr>
            <a:xfrm>
              <a:off x="4284720" y="1869120"/>
              <a:ext cx="4114440" cy="14691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060880" y="2032200"/>
              <a:ext cx="1086480" cy="489600"/>
            </a:xfrm>
            <a:prstGeom prst="diamond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060880" y="1542240"/>
              <a:ext cx="1086480" cy="489600"/>
            </a:xfrm>
            <a:prstGeom prst="diamond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060880" y="1052640"/>
              <a:ext cx="1086480" cy="489600"/>
            </a:xfrm>
            <a:prstGeom prst="diamond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924240" y="2032200"/>
              <a:ext cx="1086480" cy="489600"/>
            </a:xfrm>
            <a:prstGeom prst="diamond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924240" y="1542240"/>
              <a:ext cx="1086480" cy="489600"/>
            </a:xfrm>
            <a:prstGeom prst="diamond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065200" y="12312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42600" y="18194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136840" y="2277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928560" y="17870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928560" y="22770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0" y="1628640"/>
            <a:ext cx="5075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hat = {&lt;c,b&gt;, &lt;b,a&gt;,&lt;e,d&gt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hat (c) =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hat(b) =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hat(d) is not defi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Hat(E) can be interpreted as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4000" y="436572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0920" y="4076640"/>
            <a:ext cx="820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 u="sng">
                <a:solidFill>
                  <a:srgbClr val="000000"/>
                </a:solidFill>
                <a:uFillTx/>
                <a:latin typeface="Garamond"/>
              </a:rPr>
              <a:t>Using FOL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Arial"/>
              </a:rPr>
              <a:t>On(A,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Arial"/>
              </a:rPr>
              <a:t>On(B,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Arial"/>
              </a:rPr>
              <a:t>On(D,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Arial"/>
              </a:rPr>
              <a:t>On(A,Hat(C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02B3-BF72-496B-A929-ACB465029CB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990000"/>
                </a:solidFill>
                <a:latin typeface="Garamond"/>
                <a:ea typeface="Times New Roman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Propositional logic is declar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Propositional logic is compositional:  meaning of B1,1 ∧ P1,2 is derived from meaning of B1,1 and of P1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Meaning in propositional logic is context-independent unlike natural language, where meaning depends on 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Propositional logic has limited expressive power unlike natural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e.g., cannot say "pits cause breezes in adjacent squares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(except by writing one sentence for each squ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12C8-F120-4137-B5C3-35A4209D1B4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Syntax of First Order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Sentence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→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Atomic Sent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|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sentence connective Sentence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|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Quantifier variable,… Sent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| </a:t>
            </a:r>
            <a:r>
              <a:rPr b="1" lang="fr-FR" sz="2000" spc="-1" strike="noStrike">
                <a:solidFill>
                  <a:srgbClr val="000000"/>
                </a:solidFill>
                <a:latin typeface="Garamond"/>
              </a:rPr>
              <a:t>¬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Sent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Atomic Sentence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→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Predicate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Term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…)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|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Term=Te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Term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→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Function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Term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,…)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|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Constant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|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Connective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→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⇔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|</a:t>
            </a:r>
            <a:r>
              <a:rPr b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 ∧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|</a:t>
            </a:r>
            <a:r>
              <a:rPr b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 ∨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|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Quantifier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→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∀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|</a:t>
            </a:r>
            <a:r>
              <a:rPr b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 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Constant</a:t>
            </a:r>
            <a:r>
              <a:rPr b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 </a:t>
            </a:r>
            <a:r>
              <a:rPr b="1" i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→ A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|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Variable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→ a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|</a:t>
            </a:r>
            <a:r>
              <a:rPr b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 x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|</a:t>
            </a:r>
            <a:r>
              <a:rPr b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 s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|</a:t>
            </a:r>
            <a:r>
              <a:rPr b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Predicate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→ Before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|</a:t>
            </a:r>
            <a:r>
              <a:rPr b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 hascolor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|</a:t>
            </a:r>
            <a:r>
              <a:rPr b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 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Function</a:t>
            </a:r>
            <a:r>
              <a:rPr b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→ Mother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| Leftleg |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5280" y="148428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5280" y="623736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28C5-F34F-4914-8A24-3BFC38F2603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Inference in First Order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Inference in FOL can be performed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Reducing first-order inference to propositional i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Un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Generalized Modus Pon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Re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Forward ch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Backward ch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7269-F7C5-4BB2-9956-44BAC17AD19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Inference in First Order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From FOL to 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First order inference can be done by converting the knowledge base to PL and using propositional infer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Two questions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Garamond"/>
              </a:rPr>
              <a:t>How to convert universal quantif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990000"/>
                </a:solidFill>
                <a:latin typeface="Garamond"/>
              </a:rPr>
              <a:t>Replace variable by ground te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Garamond"/>
              </a:rPr>
              <a:t>How to convert existential quantif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990000"/>
                </a:solidFill>
                <a:latin typeface="Garamond"/>
              </a:rPr>
              <a:t>Skolemization</a:t>
            </a:r>
            <a:r>
              <a:rPr b="1" lang="fr-FR" sz="3200" spc="-1" strike="noStrike">
                <a:solidFill>
                  <a:srgbClr val="99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F976-1845-4C87-9E95-975BD8D05F0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Inference in First Order Log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Substit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Given a sentence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and binding lis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, the result of applying the </a:t>
            </a:r>
            <a:r>
              <a:rPr b="1" lang="en-US" sz="3200" spc="-1" strike="noStrike">
                <a:solidFill>
                  <a:srgbClr val="990000"/>
                </a:solidFill>
                <a:latin typeface="Garamond"/>
              </a:rPr>
              <a:t>substitution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to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is denoted by Subst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Garamond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= {x/Ali, y/Fatima}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= Likes(x,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ubst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{x/Sam, y/Pam}, Likes(x,y)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= Likes(Ali, fatim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5B19-1B15-40D6-9CFC-E99105CE9A6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Inference in First Order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990000"/>
                </a:solidFill>
                <a:latin typeface="Garamond"/>
              </a:rPr>
              <a:t>Universal instantiation (U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Every instantiation of a universally qua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sentence is entailed by i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∀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v 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Subst({v/g}, α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for any variable v and ground term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e.g., ∀x King(x) ∧ Greedy(x) ⇒ Evil(x) yield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              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King(John) ∧ Greedy(John) ⇒ Evil(Joh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              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King(Richard) ∧ Greedy(Richard) ⇒ Evil(Richa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              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King(Father(John)) ∧ Greedy(Father(John)) ⇒ Evil(Father(John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3716280"/>
            <a:ext cx="273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FE6D-6810-469F-ACB0-C29E943ED89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48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Inference in First Order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990000"/>
                </a:solidFill>
                <a:latin typeface="Garamond"/>
              </a:rPr>
              <a:t>Existential instantiation (E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For any sentence α, variable v, and constant symbol k that does not appear elsewhere in the knowledge ba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∃</a:t>
            </a:r>
            <a:r>
              <a:rPr b="0" i="1" lang="fr-FR" sz="2800" spc="-1" strike="noStrike">
                <a:solidFill>
                  <a:srgbClr val="000000"/>
                </a:solidFill>
                <a:latin typeface="Garamond"/>
              </a:rPr>
              <a:t>v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Subst({v/k}, α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e.g., ∃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x Crown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) ∧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OnHead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x,John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) yiel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Crown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C1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) ∧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OnHead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C1,John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provided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C1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is a new constant symbol, called a Skolem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82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348000" y="3789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03640" y="3860640"/>
            <a:ext cx="27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5883-0A16-4863-AA0A-71C1A3F8E5A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Inference in First Order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90000"/>
                </a:solidFill>
                <a:latin typeface="Garamond"/>
              </a:rPr>
              <a:t>Reduction to propositional i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Suppose the KB contains just the follow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∀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x King(x) 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∧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Greedy(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Evil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               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King(Joh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               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Greedy(Joh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               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Brother(Richard,Joh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•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Instantiating the universal sentence in all possible ways, we ha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King(John) 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∧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Greedy(John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Evil(Joh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King(Richard) 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∧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Greedy(Richard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Evil(Richar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•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The new KB is proposition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9F2D-EDE8-4AB2-88BB-23878CA5A94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48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Inference in First Order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Reduction to 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 u="sng">
                <a:solidFill>
                  <a:srgbClr val="000000"/>
                </a:solidFill>
                <a:uFillTx/>
                <a:latin typeface="Garamond"/>
              </a:rPr>
              <a:t>CLAIM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Garamond"/>
              </a:rPr>
              <a:t>: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A ground sentence is entailed by a new KB if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                     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entailed by the original K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 u="sng">
                <a:solidFill>
                  <a:srgbClr val="000000"/>
                </a:solidFill>
                <a:uFillTx/>
                <a:latin typeface="Garamond"/>
              </a:rPr>
              <a:t>CLAIM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Garamond"/>
              </a:rPr>
              <a:t>: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Every FOL KB can be propositionalized so as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                      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preserve entail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 u="sng">
                <a:solidFill>
                  <a:srgbClr val="000000"/>
                </a:solidFill>
                <a:uFillTx/>
                <a:latin typeface="Garamond"/>
              </a:rPr>
              <a:t>IDEA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Garamond"/>
              </a:rPr>
              <a:t>: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propositionalize KB and query, apply resolution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                    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return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 u="sng">
                <a:solidFill>
                  <a:srgbClr val="000000"/>
                </a:solidFill>
                <a:uFillTx/>
                <a:latin typeface="Garamond"/>
              </a:rPr>
              <a:t>PROBLEM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Garamond"/>
              </a:rPr>
              <a:t>: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with function symbols, there are infinitely 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                     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ground terms, e.g.,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Father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Father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Father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John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)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AD77-3991-4FB3-8D00-2A355CE2256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Inference in First Order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Instead of translating the knowledge base to PL, we can make the inference rules work in F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For example, g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∀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x King(x) 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∧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Greedy(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Evil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King(Joh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∀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y Greedy(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It is intuitively clear that we can sub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{x/John,y/John} and obtain that Evil(Joh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96EF-F87E-42AE-8822-90BD379C93E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Inference in First Order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</a:rPr>
              <a:t>Un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We can make the inference if we can find a substitution such that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King(x)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and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Greedy(x)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match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King(John)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and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Greedy(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       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{x/John,y/John}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Unify(α ,β) = θ if Subst(θ, α) = Subst(θ, 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α                      β                           Sub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Knows(John,x)               Knows(John,Jane)                              {x/Jane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Knows(John,x)               Knows(y,OJ)                                    {x/OJ,y/John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Knows(John,x)         Knows(y,Mother(y))                   {y/John,x/Mother(John)}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Knows(John,x)              Knows(x,OJ)                                        {fail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411280" y="450864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64000" y="4437000"/>
            <a:ext cx="0" cy="206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7F49-96F1-42C4-91CB-B61892A299C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Garamond"/>
                <a:ea typeface="Times New Roman"/>
              </a:rPr>
              <a:t> </a:t>
            </a:r>
            <a:r>
              <a:rPr b="0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From propositional logic (PL) to First order logic (F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 of things we can sa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men are mort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∀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Man(x)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⇒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tal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rybody loves some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∀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∃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Loves(x, 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eaning of the word “abov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∀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∀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above(x,y)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⇔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on(x,y)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∨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∃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 (on(x,z)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ove(z,y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173E-1CEE-4628-B2E3-78117CDD0F1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Inference in First Order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</a:rPr>
              <a:t>Generalized Modus Ponens (GM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Suppose that Subst( θ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, pi’) =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Subst( θ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, pi) for all i t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p1', p2', … , pn',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 p1 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∧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p2 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∧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… 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∧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p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q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Subst(θ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, q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p1' is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King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John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)                p1 is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King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p2' is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Greedy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y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)                  p2 is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Greedy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θ is {x/John,y/John}      q is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Evil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Subst(θ, q) is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Evil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John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All variables assumed universally quantifi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908000" y="2708280"/>
            <a:ext cx="532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363C-6FDD-46C1-95EE-044D00FE9C8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Inference in First Order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0000"/>
                </a:solidFill>
                <a:latin typeface="Garamond"/>
              </a:rPr>
              <a:t>Re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Full first-order ver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fr-FR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∨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··· </a:t>
            </a:r>
            <a:r>
              <a:rPr b="1" lang="fr-FR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∨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l</a:t>
            </a:r>
            <a:r>
              <a:rPr b="0" i="1" lang="fr-FR" sz="16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,     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fr-FR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∨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··· </a:t>
            </a:r>
            <a:r>
              <a:rPr b="1" lang="fr-FR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∨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i="1" lang="fr-FR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Subst(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fr-FR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∨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··· </a:t>
            </a:r>
            <a:r>
              <a:rPr b="1" lang="fr-FR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∨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l</a:t>
            </a:r>
            <a:r>
              <a:rPr b="0" i="1" lang="fr-FR" sz="1600" spc="-1" strike="noStrike" baseline="-25000">
                <a:solidFill>
                  <a:srgbClr val="000000"/>
                </a:solidFill>
                <a:latin typeface="Arial"/>
              </a:rPr>
              <a:t>i-1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∨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l</a:t>
            </a:r>
            <a:r>
              <a:rPr b="0" i="1" lang="fr-FR" sz="16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∨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··· </a:t>
            </a:r>
            <a:r>
              <a:rPr b="1" lang="fr-FR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∨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l</a:t>
            </a:r>
            <a:r>
              <a:rPr b="0" i="1" lang="fr-FR" sz="16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∨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i="1" lang="fr-FR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∨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··· </a:t>
            </a:r>
            <a:r>
              <a:rPr b="1" lang="fr-FR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∨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fr-FR" sz="1600" spc="-1" strike="noStrike" baseline="-25000">
                <a:solidFill>
                  <a:srgbClr val="000000"/>
                </a:solidFill>
                <a:latin typeface="Arial"/>
              </a:rPr>
              <a:t>j-1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∨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i="1" lang="fr-FR" sz="1600" spc="-1" strike="noStrike" baseline="-25000">
                <a:solidFill>
                  <a:srgbClr val="000000"/>
                </a:solidFill>
                <a:latin typeface="Arial"/>
              </a:rPr>
              <a:t>j+1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∨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··· </a:t>
            </a:r>
            <a:r>
              <a:rPr b="1" lang="fr-FR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∨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i="1" lang="fr-FR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where θ = </a:t>
            </a:r>
            <a:r>
              <a:rPr b="0" i="1" lang="fr-FR" sz="2000" spc="-1" strike="noStrike">
                <a:solidFill>
                  <a:srgbClr val="000000"/>
                </a:solidFill>
                <a:latin typeface="Garamond"/>
              </a:rPr>
              <a:t>Unify( 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l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i="1" lang="fr-FR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¬m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fr-FR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¬</a:t>
            </a:r>
            <a:r>
              <a:rPr b="0" i="1" lang="fr-FR" sz="2000" spc="-1" strike="noStrike">
                <a:solidFill>
                  <a:srgbClr val="000000"/>
                </a:solidFill>
                <a:latin typeface="Garamond"/>
              </a:rPr>
              <a:t>Rich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) </a:t>
            </a:r>
            <a:r>
              <a:rPr b="1" lang="fr-FR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∨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Garamond"/>
              </a:rPr>
              <a:t>Unhappy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) ,    </a:t>
            </a:r>
            <a:r>
              <a:rPr b="0" i="1" lang="fr-FR" sz="2000" spc="-1" strike="noStrike">
                <a:solidFill>
                  <a:srgbClr val="000000"/>
                </a:solidFill>
                <a:latin typeface="Garamond"/>
              </a:rPr>
              <a:t>Rich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000" spc="-1" strike="noStrike">
                <a:solidFill>
                  <a:srgbClr val="000000"/>
                </a:solidFill>
                <a:latin typeface="Garamond"/>
              </a:rPr>
              <a:t>Ken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Garamond"/>
              </a:rPr>
              <a:t>Unhappy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000" spc="-1" strike="noStrike">
                <a:solidFill>
                  <a:srgbClr val="000000"/>
                </a:solidFill>
                <a:latin typeface="Garamond"/>
              </a:rPr>
              <a:t>Ken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with θ </a:t>
            </a:r>
            <a:r>
              <a:rPr b="0" i="1" lang="fr-FR" sz="2000" spc="-1" strike="noStrike">
                <a:solidFill>
                  <a:srgbClr val="000000"/>
                </a:solidFill>
                <a:latin typeface="Garamond"/>
              </a:rPr>
              <a:t>= {x/Ken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Apply resolution steps to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CNF(KB </a:t>
            </a:r>
            <a:r>
              <a:rPr b="1" lang="fr-FR" sz="32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∧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¬α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)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; complete for F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258920" y="2852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187280" y="2708280"/>
            <a:ext cx="705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8000" y="4365720"/>
            <a:ext cx="590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2096-97DC-4B36-A0D7-50B37C5A88D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0000"/>
                </a:solidFill>
                <a:latin typeface="Garamond"/>
                <a:ea typeface="Times New Roman"/>
              </a:rPr>
              <a:t>Inference in First Order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0000"/>
                </a:solidFill>
                <a:latin typeface="Garamond"/>
                <a:ea typeface="Times New Roman"/>
              </a:rPr>
              <a:t>4. Forward ch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hen a new fact P is added to the KB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r each rule such that P unifies with a prem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if the other premises are 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en add the conclusion to the KB and continue ch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rward chaining is </a:t>
            </a:r>
            <a:r>
              <a:rPr b="0" lang="en-US" sz="3200" spc="-1" strike="noStrike">
                <a:solidFill>
                  <a:srgbClr val="990000"/>
                </a:solidFill>
                <a:latin typeface="Garamond"/>
              </a:rPr>
              <a:t>data-driven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e.g., inferring properties and categories from percep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71AC-ED1E-4347-BCB5-198E59E203A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90000"/>
                </a:solidFill>
                <a:latin typeface="Garamond"/>
                <a:ea typeface="Times New Roman"/>
              </a:rPr>
              <a:t>Inference in First Order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90000"/>
                </a:solidFill>
                <a:latin typeface="Garamond"/>
                <a:ea typeface="Times New Roman"/>
              </a:rPr>
              <a:t>4. </a:t>
            </a:r>
            <a:r>
              <a:rPr b="1" lang="fr-FR" sz="2000" spc="-1" strike="noStrike">
                <a:solidFill>
                  <a:srgbClr val="990000"/>
                </a:solidFill>
                <a:latin typeface="Garamond"/>
                <a:ea typeface="Times New Roman"/>
              </a:rPr>
              <a:t>Forward chaining example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Ru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Buffalo(x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Pig(y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Faster(x, 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Pig(y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lug(z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Faster(y, z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aster(x, y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aster(y, z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Faster(x, 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F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Buffalo(Bob)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Pig(P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lug(Steve)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New facts</a:t>
            </a: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aster(Bob,Pat)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aster(Pat, Steve)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aster (Bob, Ste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312360" y="580536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Garamond"/>
              </a:rPr>
              <a:t>Buffalo(Bo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594400" y="5805360"/>
            <a:ext cx="126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Garamond"/>
              </a:rPr>
              <a:t>Pig (Pa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4211640" y="4652640"/>
            <a:ext cx="100800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219640" y="4653000"/>
            <a:ext cx="93672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43720" y="4797360"/>
            <a:ext cx="104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y/Pat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635280" y="4869000"/>
            <a:ext cx="108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{x/Bob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997800" y="4221000"/>
            <a:ext cx="22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Garamond"/>
              </a:rPr>
              <a:t>Faster (Bob,Pa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049520" y="5805360"/>
            <a:ext cx="163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Garamond"/>
              </a:rPr>
              <a:t>Slug(Ste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6156360" y="4724280"/>
            <a:ext cx="129528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451640" y="4724280"/>
            <a:ext cx="57636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259680" y="4149720"/>
            <a:ext cx="239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Garamond"/>
              </a:rPr>
              <a:t>Faster(Pat,Ste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156360" y="2852640"/>
            <a:ext cx="100800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042880" y="2276640"/>
            <a:ext cx="246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Garamond"/>
              </a:rPr>
              <a:t>Faster(Bob,Ste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822440" y="4960800"/>
            <a:ext cx="123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z/Stev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5292360" y="2852640"/>
            <a:ext cx="86364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21400" y="3500280"/>
            <a:ext cx="182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{x/Bob, y/Pat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890760" y="3500280"/>
            <a:ext cx="198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{y/Pat, z/Steve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A835-E5F2-4B5D-832B-84805A527F5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0000"/>
                </a:solidFill>
                <a:latin typeface="Garamond"/>
                <a:ea typeface="Times New Roman"/>
              </a:rPr>
              <a:t>Inference in First Order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0000"/>
                </a:solidFill>
                <a:latin typeface="Garamond"/>
                <a:ea typeface="Times New Roman"/>
              </a:rPr>
              <a:t>4. Backward ch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Backward chaining starts with a hypothesis and work backwards , according to the rules in the knowledge base until reaching confirmed findings or fa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8360" y="2637000"/>
            <a:ext cx="4174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ig(y)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∧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lug(z) 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⇒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Faster (y, 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limy(a)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∧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Creeps(a) 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⇒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lug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ig(P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limy(Ste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reeps(Ste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211640" y="2565360"/>
            <a:ext cx="4537080" cy="34704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7DC1-6A70-437D-85B3-C72B56E792B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90000"/>
                </a:solidFill>
                <a:latin typeface="Garamond"/>
              </a:rPr>
              <a:t>Other knowledge representation sche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</a:rPr>
              <a:t>Semantic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A semantic network consists of entities and relations between the entit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Generally it is represented as a grap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926640" y="4076640"/>
            <a:ext cx="7233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A bird is a kind of ani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Flying is the normal moving method of bi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An albatross is a bi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Albert is an albatross, and so is R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8057-FB47-4693-8FB8-FD5DC3A79F3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90000"/>
                </a:solidFill>
                <a:latin typeface="Garamond"/>
              </a:rPr>
              <a:t>Other knowledge representation sche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</a:rPr>
              <a:t>Semantic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01160" y="3068640"/>
            <a:ext cx="73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aramond"/>
              </a:rPr>
              <a:t>Bi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889280" y="314172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aramond"/>
              </a:rPr>
              <a:t>day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987240" y="2997360"/>
            <a:ext cx="51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aramond"/>
              </a:rPr>
              <a:t>f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489560" y="191628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ani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364000" y="328464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3131640" y="335772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5003640" y="227628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276280" y="4589640"/>
            <a:ext cx="137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aramond"/>
              </a:rPr>
              <a:t>albatr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2987640" y="3428640"/>
            <a:ext cx="201600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69240" y="580536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aramond"/>
              </a:rPr>
              <a:t>Black and wh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1834920" y="5084640"/>
            <a:ext cx="7189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833560" y="609300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Alb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399560" y="5805360"/>
            <a:ext cx="76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R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 flipV="1">
            <a:off x="2843280" y="5013000"/>
            <a:ext cx="43344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514760" y="5867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 flipV="1">
            <a:off x="3348000" y="5013000"/>
            <a:ext cx="115272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397880" y="5013360"/>
            <a:ext cx="101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aramond"/>
              </a:rPr>
              <a:t>col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172680" y="537372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aramond"/>
              </a:rPr>
              <a:t>i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232880" y="523728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aramond"/>
              </a:rPr>
              <a:t>i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101040" y="371628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aramond"/>
              </a:rPr>
              <a:t>i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07960" y="2708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aramond"/>
              </a:rPr>
              <a:t>Moving-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51520" y="2781360"/>
            <a:ext cx="13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aramond"/>
              </a:rPr>
              <a:t>Active-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90FA-AB70-4FA4-BE76-860E1147FBB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100000"/>
              </a:lnSpc>
              <a:spcBef>
                <a:spcPts val="901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90000"/>
                </a:solidFill>
                <a:latin typeface="Garamond"/>
              </a:rPr>
              <a:t>Other knowledge representation sche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</a:rPr>
              <a:t>2.    Fr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A frame is a data structure whose components are called slo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Slots have names and accomodate information of various ki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Frame: Bi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A_kind_of: ani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Moving_method: f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Active_at:day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FE8E-F427-4483-865B-955B68331B1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48280" indent="-548280">
              <a:lnSpc>
                <a:spcPct val="8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Expert Systems (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Garamond"/>
                <a:ea typeface="Times New Roman"/>
              </a:rPr>
              <a:t>Definition:</a:t>
            </a:r>
            <a:r>
              <a:rPr b="1" lang="fr-FR" sz="3200" spc="-1" strike="noStrike">
                <a:solidFill>
                  <a:srgbClr val="000000"/>
                </a:solidFill>
                <a:latin typeface="Garamond"/>
                <a:ea typeface="Times New Roman"/>
              </a:rPr>
              <a:t> an ES is a program that behaves like an expert for some problem dom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Garamond"/>
                <a:ea typeface="Times New Roman"/>
              </a:rPr>
              <a:t>Should be capable of explaining its decisions and the underlying reaso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Garamond"/>
                <a:ea typeface="Times New Roman"/>
              </a:rPr>
              <a:t>Often, it is expected to be able to deal with uncertain and incomplete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Garamond"/>
                <a:ea typeface="Times New Roman"/>
              </a:rPr>
              <a:t>Application domains: Medical diagnosis (MYCIN), locating equipment failur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1BE0-4A39-4574-9F70-413C61B3B2A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Expert Systems (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Garamond"/>
                <a:ea typeface="Times New Roman"/>
              </a:rPr>
              <a:t>Functions and struct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Expert systems are designed to lve problems that require expert knowledge in a particular domain </a:t>
            </a:r>
            <a:r>
              <a:rPr b="1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→ 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 possessing knowledge in some for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ES are known as knowledge based syst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Expert systems have to have a friendly user interaction capability that will make the system’s reasoning transparent to the us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44AA-3AF9-4409-BBF5-7A7DB6DCF90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First Order Log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Whereas propositional logic assumes the world contains facts, first-order logic (like natural language) assumes the world contai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Objects: people, houses, numbers, colors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Relations: red, round, prime, brother of, bigger than, part of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Functions: Sqrt, Plus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an express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quares neighboring the Wumpus are smell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quares neighboring a pit are breez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F4A0-D1B1-46D6-A745-2B7B7E9A265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Expert Systems (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Garamond"/>
                <a:ea typeface="Times New Roman"/>
              </a:rPr>
              <a:t>Functions and struct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The structure of an ES includes three main modul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A knowledge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An inference en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A user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4000" y="4292640"/>
            <a:ext cx="1657080" cy="10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Knowled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419640" y="4292640"/>
            <a:ext cx="158400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Infer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en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72360" y="4149720"/>
            <a:ext cx="187164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User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050920" y="48690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148360" y="4797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317080" y="4724280"/>
            <a:ext cx="61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398440" y="4221000"/>
            <a:ext cx="81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348000" y="3860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348000" y="587700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8388360" y="3789000"/>
            <a:ext cx="0" cy="20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3276360" y="3789360"/>
            <a:ext cx="511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347080" y="5335560"/>
            <a:ext cx="94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DE3E-B397-48FD-A7C9-D82480C8537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Expert Systems (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Garamond"/>
                <a:ea typeface="Times New Roman"/>
              </a:rPr>
              <a:t>Functions and struct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The knowledge base comprises the knowledge that is specific to the domain of application: simple facts, rules, constraints and possibly also methods, heuristics and ideas for solving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Inference engine: designed to use actively the knowledge in the base deriving new knoweldge to help decision ma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User interface: caters for smooth communication between the user and th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2928-1253-4D34-9839-E11FEA6752A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990000"/>
                </a:solidFill>
                <a:uFillTx/>
                <a:latin typeface="Garamond"/>
                <a:ea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FOL extends PL by adding new concepts such as sets, relations and functions and new primitives such as variables, equality and quantifi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There exist sevaral alternatives to perform inference in F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Logic is not the only one alternative to represent knowled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Inference algorithms depend on the way knowledge is represen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Development of expert systems relies heavily on knoweldge representation and reaso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9ADE-3D61-44B5-B46C-4D046DE5B2EB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Syntax Order Log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User defines these primitiv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Garamond"/>
              </a:rPr>
              <a:t>Constant symbols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 (i.e., the "individuals" in the world) e.g., Mary,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Garamond"/>
              </a:rPr>
              <a:t>Function symbols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 (mapping individuals to individuals) e.g., father-of(Mary) = John, colorof(Sky) = B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Garamond"/>
              </a:rPr>
              <a:t>Predicate/relation symbols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 (mapping from individuals to truth values) e.g., greater(5,3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green(apple), color(apple, Gre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FECE-743F-4185-8B6A-92429E12127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Syntax Order Log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FOL supplies these primitiv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Garamond"/>
              </a:rPr>
              <a:t>Variable symbols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. e.g., x,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Connectives.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Same as in PL: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⇔,∧,∨, 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Equality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Quantifiers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: Universal (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∀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) and Existential (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∃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just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A legitimate expression of predicate calculus is called a </a:t>
            </a:r>
            <a:r>
              <a:rPr b="0" lang="en-US" sz="4400" spc="-1" strike="noStrike">
                <a:solidFill>
                  <a:srgbClr val="990000"/>
                </a:solidFill>
                <a:latin typeface="Garamond"/>
              </a:rPr>
              <a:t>well-formed formula (wff) o</a:t>
            </a: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r, simply,</a:t>
            </a:r>
            <a:r>
              <a:rPr b="1" lang="en-US" sz="4400" spc="-1" strike="noStrike">
                <a:solidFill>
                  <a:srgbClr val="bbe0e3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990000"/>
                </a:solidFill>
                <a:latin typeface="Garamond"/>
              </a:rPr>
              <a:t>a sentenc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just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just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E4B2-39F0-45B8-B8D0-6A03477BABA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Syntax Order Log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Garamond"/>
              </a:rPr>
              <a:t>Quantifiers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: Universal (</a:t>
            </a:r>
            <a:r>
              <a:rPr b="0" lang="fr-FR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∀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) and Existential (</a:t>
            </a:r>
            <a:r>
              <a:rPr b="0" lang="fr-FR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∃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Allow us to express properties of collections of objects instead of enumerating objects by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             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Universal: “for all”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 ∀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&lt;variables&gt; &lt;sentenc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             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Existential: “there exists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∃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&lt;variables&gt; &lt;sentenc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CA23-CD31-484E-9F3C-6EDAE5CD736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Garamond"/>
                <a:ea typeface="Times New Roman"/>
              </a:rPr>
              <a:t>Syntax Order Logic: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Constant Symb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A symbol, e.g. Wumpus, Al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Each constant symbol names exactly one object in a </a:t>
            </a:r>
            <a:r>
              <a:rPr b="1" lang="en-US" sz="3600" spc="-1" strike="noStrike">
                <a:solidFill>
                  <a:srgbClr val="990000"/>
                </a:solidFill>
                <a:latin typeface="Garamond"/>
              </a:rPr>
              <a:t>universe of discourse</a:t>
            </a: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, bu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-474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not all objects have symbol nam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-474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ome objects have several symbol na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Usually denoted with upper-case first lett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9A4C-4E49-4602-AF62-C526FD9471C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Syntax Order Logic: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Used to represent objects or properties of objects without explicitly naming the o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Usually lower c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or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a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qu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E44F-6C60-4F75-831F-D56CFAC30D5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3T15:45:51Z</dcterms:created>
  <dc:creator>Hichem</dc:creator>
  <dc:description/>
  <dc:language>en-US</dc:language>
  <cp:lastModifiedBy> </cp:lastModifiedBy>
  <dcterms:modified xsi:type="dcterms:W3CDTF">2009-03-22T05:56:00Z</dcterms:modified>
  <cp:revision>170</cp:revision>
  <dc:subject/>
  <dc:title>Game Playing: Adversarial Search  chapter 6</dc:title>
</cp:coreProperties>
</file>