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DE6D-D4BE-468B-96B7-BA215424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B1F9-93B7-4EAE-AF5B-48CD1B81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7B3A-8AA5-4D6A-8833-3F8E50F1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26A1-EFA5-4553-8C61-365A0F18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92DC-156F-4B4E-BE5E-9FB99FB0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031C-7D4F-4F21-9420-C7BCA056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C16C-25E3-45A4-9E6B-9EA0ED9C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820D-D45F-43CE-A10B-6947DEF2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0BB6-98AD-425C-9515-8E8BB396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7FD2-8450-4E47-9BC4-60F653F8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83C9-8BD6-474A-B3DF-4201B8C2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6432-F171-4C6D-9B7E-F988AFB9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179A-6EF2-4691-B8BD-EF5DB82275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Order Log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77DC-3ECB-48EE-AA26-CC80B89E96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Relation (Predicate)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 predicate symbol is used to represent a relation in a universe of dis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sen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elation(Term1, Term2,…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s either TRUE or FALSE depending on whether Relation holds of Term1, Term2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o write “Malek wrote Muata” in a universe of discourse of names and written wor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Wrote(Malek, Mu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s sentence is true in the intended interpre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nothe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nstructor (CAP492, Souh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FFF8-4535-47FC-B6C0-CAC2B7C2E9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Function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Functions talk about the binary relation of pairs of  objec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For example, the Father relation might represent all  pairs of persons in father-daughter or father-son relationship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ather(Ali)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Refers to the father of 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ather(x)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Refers to the father of variabl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6A6C-ED6D-45B2-A3F8-E77EFE3993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properties of quant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is the same as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is the same as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is not the same as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Loves(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There is a person who loves everyone in the worl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y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 Loves(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Everyone in the world is loved by at least one pers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Quantifier duality: each can be expressed using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Likes(x,IceCream) ≡ ¬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 ¬Likes(x,IceCr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Likes(x,Broccoli) ≡ ¬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 ¬Likes(x,Brocco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D8C8-5791-4394-A35A-84AC3E03B0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Atomic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Atomic sentence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predicate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1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,...,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n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                  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or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1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Term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1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,...,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n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or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constant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or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Example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Brother(Ali , Moham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Greater(Length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, Length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FCBE-455E-4785-97D4-CC3B9887D1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Complex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Complex sentences are made from atomic sentences using connectives and by applying quantif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Garamond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Sibling(Ali,Mohamed) 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Sibling(Mohamed,A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greater(1,2) 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∨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less-or-equal(1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x,y Sibling(x,y) 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Sibling(y,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954D-2E09-4776-A75C-B3B0B14865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just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Garamond"/>
              </a:rPr>
              <a:t>While constant symbols, variables and connectives  are like propositional logic, “What are functions and predicates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 language of logic is based on set theo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et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Relation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Fun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EA33-5166-47BE-BBD4-DB10CE686A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Garamond"/>
              </a:rPr>
              <a:t>SETS: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he set of objects defines a “Universe of Discourse.” [Objects are represented by Constant Symbols.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39640" y="2852640"/>
            <a:ext cx="4114440" cy="2285640"/>
            <a:chOff x="539640" y="2852640"/>
            <a:chExt cx="4114440" cy="2285640"/>
          </a:xfrm>
        </p:grpSpPr>
        <p:sp>
          <p:nvSpPr>
            <p:cNvPr id="89" name=""/>
            <p:cNvSpPr/>
            <p:nvPr/>
          </p:nvSpPr>
          <p:spPr>
            <a:xfrm>
              <a:off x="539640" y="3669120"/>
              <a:ext cx="4114440" cy="14691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15800" y="383220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15800" y="33422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15800" y="28526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79160" y="383220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79160" y="33422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20120" y="30312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97520" y="3619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91760" y="407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83480" y="3587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83480" y="4077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796000" y="270828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nterpre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920160" y="5516640"/>
            <a:ext cx="10705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r example, in this blocks world, the universe of discourse is {a,b,c,d,e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276C-C999-41D4-B595-2426D7E667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Garamond"/>
              </a:rPr>
              <a:t>RELATIONS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Def: A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binary relatio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s a set of ordered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xample:  Consider set of blocks {a,b,c,d,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492360" y="2349360"/>
            <a:ext cx="4114440" cy="2285640"/>
            <a:chOff x="3492360" y="2349360"/>
            <a:chExt cx="4114440" cy="2285640"/>
          </a:xfrm>
        </p:grpSpPr>
        <p:sp>
          <p:nvSpPr>
            <p:cNvPr id="106" name=""/>
            <p:cNvSpPr/>
            <p:nvPr/>
          </p:nvSpPr>
          <p:spPr>
            <a:xfrm>
              <a:off x="3492360" y="3165840"/>
              <a:ext cx="4114440" cy="14691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68520" y="332892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68520" y="283896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68520" y="234936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31880" y="332892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31880" y="283896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72840" y="2527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50240" y="3116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4480" y="357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36200" y="3083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36200" y="35737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68360" y="458136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on” re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= {&lt;a,b&gt;, &lt;b,c&gt;, &lt;d,e&gt;}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edicate On(A,B) can be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interpre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: &lt;a,b&g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(A,B) is TRUE, but  On(A,C) and On(C,D) are FALSE in this interpre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6B33-2D81-41AA-A1B9-FB372039A5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Garamond"/>
              </a:rPr>
              <a:t>FUNCTIONS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1654200"/>
            <a:ext cx="828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 function is a binary relation such that no two distinct members have the same first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 other words, if F is a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&lt;x,y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 F   and   &lt;x,z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 F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 y=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 &lt;x,y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F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x is an argument of F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y is the value of F at x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y is the image of x  under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(x) designates the object y such that y=F(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8196-333F-4B8A-A4D3-FCCFCF5E30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Garamond"/>
              </a:rPr>
              <a:t>FUNCTIONS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522936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1654200"/>
            <a:ext cx="828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284720" y="1052640"/>
            <a:ext cx="4114440" cy="2285640"/>
            <a:chOff x="4284720" y="1052640"/>
            <a:chExt cx="4114440" cy="2285640"/>
          </a:xfrm>
        </p:grpSpPr>
        <p:sp>
          <p:nvSpPr>
            <p:cNvPr id="127" name=""/>
            <p:cNvSpPr/>
            <p:nvPr/>
          </p:nvSpPr>
          <p:spPr>
            <a:xfrm>
              <a:off x="4284720" y="1869120"/>
              <a:ext cx="4114440" cy="14691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60880" y="203220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60880" y="15422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60880" y="10526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24240" y="203220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24240" y="15422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65200" y="12312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42600" y="1819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36840" y="227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28560" y="1787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28560" y="2277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0" y="1628640"/>
            <a:ext cx="50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at = {&lt;c,b&gt;, &lt;b,a&gt;,&lt;e,d&gt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hat (c)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hat(b)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hat(d) is not def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at(E) can be interpreted as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436572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4076640"/>
            <a:ext cx="820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000000"/>
                </a:solidFill>
                <a:uFillTx/>
                <a:latin typeface="Garamond"/>
              </a:rPr>
              <a:t>Using FOL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On(A,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On(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On(D,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On(A,Hat(C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C004-E3CE-4203-A420-8A6192A764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opositional logic is decla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opositional logic is compositional:  meaning of B1,1 ∧ P1,2 is derived from meaning of B1,1 and of P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Meaning in propositional logic is context-independent unlike natural language, where meaning depends on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opositional logic has limited expressive power unlike natura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.g., cannot say "pits cause breezes in adjacent square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except by writing one sentence for each squ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353F-D711-4A60-89F0-057DB295AE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Syntax of First Orde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Atomic 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sentence connective Sentenc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Quantifier variable,… 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¬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Atomic Sentence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Predicate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Term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…)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erm=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erm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Term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,…)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Constant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|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Connective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⇔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∧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∨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Quantifier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∀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Constant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 A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Variabl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 a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x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s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Predicate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 Before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hascolor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Function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 Mother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Leftleg |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6237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07EE-98E8-47C0-99A8-86CD28B2E4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Inference in FOL can be perform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Reducing first-order inference to propositional 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Un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Generalized Modus Pon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Forward ch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Backward ch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2177-5026-4309-8C8B-0F41675C76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From FOL to 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First order inference can be done by converting the knowledge base to PL and using propositional in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Two question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How to convert universal quantif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</a:rPr>
              <a:t>Replace variable by ground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How to convert existential quantif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</a:rPr>
              <a:t>Skolemization</a:t>
            </a:r>
            <a:r>
              <a:rPr b="1" lang="fr-FR" sz="32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32B1-A1A3-4B10-8EA6-622F190EBD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ub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iven a sentence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d binding li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, the result of applying the </a:t>
            </a:r>
            <a:r>
              <a:rPr b="1" lang="en-US" sz="3200" spc="-1" strike="noStrike">
                <a:solidFill>
                  <a:srgbClr val="990000"/>
                </a:solidFill>
                <a:latin typeface="Garamond"/>
              </a:rPr>
              <a:t>substitution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to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is denoted by Subst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= {x/Ali, y/Fatima}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= Likes(x,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ubst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{x/Sam, y/Pam}, Likes(x,y)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= Likes(Ali, fati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6B7F-177F-4A91-B1C4-57137202A4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990000"/>
                </a:solidFill>
                <a:latin typeface="Garamond"/>
              </a:rPr>
              <a:t>Universal instantiation (U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Every instantiation of a universally qua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sentence is entailed by 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∀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v 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Subst({v/g}, 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for any variable v and ground term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e.g., ∀x King(x) ∧ Greedy(x) ⇒ Evil(x) yiel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ing(John) ∧ Greedy(John) ⇒ Evil(Joh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ing(Richard) ∧ Greedy(Richard) ⇒ Evil(Rich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ing(Father(John)) ∧ Greedy(Father(John)) ⇒ Evil(Father(John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371628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049D-618E-4738-8F6C-E7D6790638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990000"/>
                </a:solidFill>
                <a:latin typeface="Garamond"/>
              </a:rPr>
              <a:t>Existential instantiation (E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For any sentence α, variable v, and constant symbol k that does not appear elsewhere in the knowledge b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∃</a:t>
            </a:r>
            <a:r>
              <a:rPr b="0" i="1" lang="fr-FR" sz="2800" spc="-1" strike="noStrike">
                <a:solidFill>
                  <a:srgbClr val="000000"/>
                </a:solidFill>
                <a:latin typeface="Garamond"/>
              </a:rPr>
              <a:t>v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Subst({v/k}, 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.g., ∃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 Crow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∧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OnHead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,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yiel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row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1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∧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OnHead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1,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ovided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1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is a new constant symbol, called a Skolem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800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03640" y="386064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5B57-F4C9-4B15-9101-2F55DA27F6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</a:rPr>
              <a:t>Reduction to propositional 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Suppose the KB contains just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∀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King(x)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Greedy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Evil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King(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Greedy(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Brother(Richard,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Instantiating the universal sentence in all possible ways, we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King(John)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Greedy(John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Evil(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King(Richard)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Greedy(Richard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Evil(Rich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The new KB is proposition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4E4E-6366-406B-A913-B9E8ACEAB3E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Reduction to 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CLAIM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A ground sentence is entailed by a new KB if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ntailed by the original K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CLAIM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Every FOL KB can be propositionalized so a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eserve entai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IDE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propositionalize KB and query, apply resolution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return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PROBLEM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with function symbols, there are infinitely 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ground terms, e.g.,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Father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Father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Father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74B3-F859-42E8-9837-378D9229747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Instead of translating the knowledge base to PL, we can make the inference rules work in F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For example,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∀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x King(x)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Greedy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Evil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King(Joh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∀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y Greedy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It is intuitively clear that we can sub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{x/John,y/John} and obtain that Evil(Joh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1526-1B7B-426A-9895-165A17BF37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Un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We can make the inference if we can find a substitution such that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King(x)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nd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Greedy(x)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match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King(John)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nd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Greedy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{x/John,y/John}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Unify(α ,β) = θ if Subst(θ, α) = Subst(θ, 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α                      β                           Sub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nows(John,x)               Knows(John,Jane)                              {x/Jan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nows(John,x)               Knows(y,OJ)                                    {x/OJ,y/Joh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nows(John,x)         Knows(y,Mother(y))                   {y/John,x/Mother(John)}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nows(John,x)              Knows(x,OJ)                                        {fail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11280" y="4508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4437000"/>
            <a:ext cx="0" cy="20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627A-A506-46A3-86B8-A2F5940C0BB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From propositional logic (PL) to First order logic (F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things we can s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men are mort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∀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Man(x)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tal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body loves some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∀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Loves(x,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aning of the word “abo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∀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above(x,y)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⇔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n(x,y)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∨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(on(x,z)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ve(z,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A078-94B5-4E65-ADFB-9604D37FDD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Generalized Modus Ponens (G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uppose that Subst( θ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, pi’) =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ubst( θ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, pi) for all i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p1', p2', … , pn',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 p1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p2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…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p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q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ubst(θ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, q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1'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King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               p1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King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2'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Greedy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                 p2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Greedy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θ is {x/John,y/John}      q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Evil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ubst(θ, q)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Evil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ll variables assumed universally quant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2708280"/>
            <a:ext cx="53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00EF-4333-417C-AF6C-13CFE150B6E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Full first-order ver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,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Subst(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j-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where θ = 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Unify(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¬m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¬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Rich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Unhappy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) ,    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Rich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Ken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Unhappy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Ken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with θ 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= {x/Ke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pply resolution steps to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NF(KB </a:t>
            </a: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¬α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; complete for F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58920" y="28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87280" y="2708280"/>
            <a:ext cx="705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8000" y="436572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FE6A-33AD-4BFE-B970-2DB5E251D6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4. Forward ch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en a new fact P is added to the K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r each rule such that P unifies with a pre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f the other premises ar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n add the conclusion to the KB and continue ch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rward chaining is </a:t>
            </a:r>
            <a:r>
              <a:rPr b="0" lang="en-US" sz="3200" spc="-1" strike="noStrike">
                <a:solidFill>
                  <a:srgbClr val="990000"/>
                </a:solidFill>
                <a:latin typeface="Garamond"/>
              </a:rPr>
              <a:t>data-driven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.g., inferring properties and categories from per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A716-D86E-405E-8A1D-9661D98FDCD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Garamond"/>
                <a:ea typeface="Times New Roman"/>
              </a:rPr>
              <a:t>4. </a:t>
            </a:r>
            <a:r>
              <a:rPr b="1" lang="fr-FR" sz="2000" spc="-1" strike="noStrike">
                <a:solidFill>
                  <a:srgbClr val="990000"/>
                </a:solidFill>
                <a:latin typeface="Garamond"/>
                <a:ea typeface="Times New Roman"/>
              </a:rPr>
              <a:t>Forward chaining exampl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u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uffalo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ig(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Faster(x, 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ig(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lug(z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Faster(y, z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(x, 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(y, z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Faster(x, 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uffalo(Bob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ig(P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lug(Steve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w facts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(Bob,Pat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(Pat, Steve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 (Bob, Ste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12360" y="580536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Buffalo(Bo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94400" y="5805360"/>
            <a:ext cx="12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Pig (P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211640" y="4652640"/>
            <a:ext cx="1008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19640" y="465300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43720" y="479736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y/Pa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35280" y="486900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{x/Bob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97800" y="4221000"/>
            <a:ext cx="22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Faster (Bob,P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49520" y="5805360"/>
            <a:ext cx="16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Slug(Ste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156360" y="4724280"/>
            <a:ext cx="12952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1640" y="4724280"/>
            <a:ext cx="5763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59680" y="4149720"/>
            <a:ext cx="239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Faster(Pat,Ste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56360" y="2852640"/>
            <a:ext cx="100800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42880" y="227664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Faster(Bob,Ste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822440" y="4960800"/>
            <a:ext cx="123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z/Stev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292360" y="2852640"/>
            <a:ext cx="8636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21400" y="350028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{x/Bob, y/Pat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90760" y="3500280"/>
            <a:ext cx="19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{y/Pat, z/Stev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3F70-9437-44DB-B239-CDDAD94E17B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4. Backward ch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ackward chaining starts with a hypothesis and work backwards , according to the rules in the knowledge base until reaching confirmed findings or f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637000"/>
            <a:ext cx="4174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ig(y)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lug(z) 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⇒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Faster (y, 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limy(a)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Creeps(a) 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⇒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lug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ig(P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limy(Ste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reeps(Ste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211640" y="2565360"/>
            <a:ext cx="4537080" cy="3470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5C33-A00C-42FE-8C4E-8E5E3E7E728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Garamond"/>
              </a:rPr>
              <a:t>Other knowledge representation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Semantic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 semantic network consists of entities and relations between the ent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Generally it is represented as a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26640" y="4076640"/>
            <a:ext cx="723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A bird is a kind of 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Flying is the normal moving method of bi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An albatross is a b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Albert is an albatross, and so is 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D13E-91DA-4E06-814C-E16CC5EB28A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Garamond"/>
              </a:rPr>
              <a:t>Other knowledge representation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Semantic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01160" y="306864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B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89280" y="31417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day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87240" y="2997360"/>
            <a:ext cx="51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89560" y="19162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64000" y="328464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131640" y="3357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003640" y="2276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76280" y="458964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albatr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987640" y="3428640"/>
            <a:ext cx="2016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9240" y="5805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Black and 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1834920" y="5084640"/>
            <a:ext cx="718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33560" y="60930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l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99560" y="580536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2843280" y="5013000"/>
            <a:ext cx="4334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14760" y="586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3348000" y="5013000"/>
            <a:ext cx="1152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97880" y="501336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co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72680" y="537372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32880" y="523728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01040" y="371628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07960" y="2708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Moving-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51520" y="278136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Active-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EE8C-92D0-40D5-B603-34E51FF3930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Garamond"/>
              </a:rPr>
              <a:t>Other knowledge representation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2.   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 frame is a data structure whose components are called slo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lots have names and accomodate information of various ki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Frame: B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_kind_of: 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Moving_method: 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ctive_at:day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8DE5-0DDC-4AA7-A0F0-DE4B6A85487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xpert Systems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Definition:</a:t>
            </a: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 an ES is a program that behaves like an expert for some problem dom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Should be capable of explaining its decisions and the underlying reaso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Often, it is expected to be able to deal with uncertain and incomplet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Application domains: Medical diagnosis (MYCIN), locating equipment failur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4A5A-2A1A-4939-B606-B1E2C271B75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xpert Systems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Functions and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Expert systems are designed to lve problems that require expert knowledge in a particular domain </a:t>
            </a:r>
            <a:r>
              <a:rPr b="1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possessing knowledge in some for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ES are known as knowledge based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Expert systems have to have a friendly user interaction capability that will make the system’s reasoning transparent to the u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B58A-8D35-439E-BA6A-FFEF077049D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First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Whereas propositional logic assumes the world contains facts, first-order logic (like natural language) assumes the world cont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Objects: people, houses, numbers, color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Relations: red, round, prime, brother of, bigger than, part of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Functions: Sqrt, Plu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n express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quares neighboring the Wumpus are smell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quares neighboring a pit are breez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A400-9736-4422-843F-879E5DD445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xpert Systems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Functions and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The structure of an ES includes three main modu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 knowledg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n inference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 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292640"/>
            <a:ext cx="165708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19640" y="4292640"/>
            <a:ext cx="1584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In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72360" y="4149720"/>
            <a:ext cx="18716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50920" y="4869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48360" y="47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17080" y="4724280"/>
            <a:ext cx="61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398440" y="422100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48000" y="386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48000" y="5877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8388360" y="378900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276360" y="378936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47080" y="533556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0380-FE96-4E8A-8DDD-6F500BAE3B5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xpert Systems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Functions and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The knowledge base comprises the knowledge that is specific to the domain of application: simple facts, rules, constraints and possibly also methods, heuristics and ideas for solving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Inference engine: designed to use actively the knowledge in the base deriving new knoweldge to help decision ma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User interface: caters for smooth communication between the user and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766D-753E-4B0F-935D-9A0E317FD5B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990000"/>
                </a:solidFill>
                <a:uFillTx/>
                <a:latin typeface="Garamond"/>
                <a:ea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FOL extends PL by adding new concepts such as sets, relations and functions and new primitives such as variables, equality and quantifi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There exist sevaral alternatives to perform inference in F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Logic is not the only one alternative to represent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Inference algorithms depend on the way knowledge is repres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Development of expert systems relies heavily on knoweldge representation and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DCDC-6334-430D-B8B4-D1A2F4B7288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User defines these primi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Constant symbol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(i.e., the "individuals" in the world) e.g., Mary,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Function symbol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(mapping individuals to individuals) e.g., father-of(Mary) = John, colorof(Sky) =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Predicate/relation symbol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(mapping from individuals to truth values) e.g., greater(5,3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green(apple), color(apple, Gre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2750-9535-4A51-9A87-4C5E3D941A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FOL supplies these primi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Variable symbol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. e.g., x,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Connectives.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Same as in PL: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⇔,∧,∨, 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Equality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Quantifiers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: Universal (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) and Existential (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A legitimate expression of predicate calculus is called a </a:t>
            </a:r>
            <a:r>
              <a:rPr b="0" lang="en-US" sz="4400" spc="-1" strike="noStrike">
                <a:solidFill>
                  <a:srgbClr val="990000"/>
                </a:solidFill>
                <a:latin typeface="Garamond"/>
              </a:rPr>
              <a:t>well-formed formula (wff) o</a:t>
            </a: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r, simply,</a:t>
            </a:r>
            <a:r>
              <a:rPr b="1" lang="en-US" sz="4400" spc="-1" strike="noStrike">
                <a:solidFill>
                  <a:srgbClr val="bbe0e3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990000"/>
                </a:solidFill>
                <a:latin typeface="Garamond"/>
              </a:rPr>
              <a:t>a sente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4BA5-D6FB-4B34-9285-647526D025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Quantifier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: Universal (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 and Existential (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Allow us to express properties of collections of objects instead of enumerating objects by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Universal: “for all”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∀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&lt;variables&gt; &lt;sentenc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Existential: “there exist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∃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&lt;variables&gt; &lt;sentenc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5368-8DC2-43E1-8D7E-1A43478C14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onstant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A symbol, e.g. Wumpus, Al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Each constant symbol names exactly one object in a </a:t>
            </a:r>
            <a:r>
              <a:rPr b="1" lang="en-US" sz="3600" spc="-1" strike="noStrike">
                <a:solidFill>
                  <a:srgbClr val="990000"/>
                </a:solidFill>
                <a:latin typeface="Garamond"/>
              </a:rPr>
              <a:t>universe of discourse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, b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t all objects have symbol na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ome objects have several symbol n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Usually denoted with upper-case first let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5F96-A7E0-4265-8FF8-E60EA32322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sed to represent objects or properties of objects without explicitly naming the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sually lower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A928-28C4-473E-A8CF-8956F17295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15:45:51Z</dcterms:created>
  <dc:creator>Hichem</dc:creator>
  <dc:description/>
  <dc:language>en-US</dc:language>
  <cp:lastModifiedBy> </cp:lastModifiedBy>
  <dcterms:modified xsi:type="dcterms:W3CDTF">2009-03-22T05:56:00Z</dcterms:modified>
  <cp:revision>170</cp:revision>
  <dc:subject/>
  <dc:title>Game Playing: Adversarial Search  chapter 6</dc:title>
</cp:coreProperties>
</file>