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47C-87C1-4F6B-AA35-FAF44F10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FB0-1D06-4882-A24D-CC7666A1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69C-9261-446F-B9F1-59761A07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846-B9A7-4817-88E8-FC73FF79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EC4-2568-48F3-A50E-E839818E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315-AC09-4768-ABB2-E6E2032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4BA-9C65-4E5D-B9CE-0E47341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057-876E-4A24-ABFC-BCAE02AD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F47-21BC-4786-8B39-59DA768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651-5716-425A-A8C2-0A0496D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608-D2E1-4354-A612-6282C54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55F-D7EE-44A7-BD94-89C9513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406D-FF9B-4797-8F11-29EB8E4700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C84A-F2BA-4785-B47D-74A13A670C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7FA-3F25-44FC-B77D-1DE757E01A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DD89-2104-47E3-8303-05F43073C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079-56D6-4F02-B92B-26F2DB91A0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6E8B-FB11-4986-A751-92AE7F3BB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89C-15FF-4A7E-AEA7-B39DA1D72D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5F3-B03E-47B6-B45B-B39E13263F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48E-C04F-4F20-9C96-CF39F03B4F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105" name="Oval 6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6" name="Rectangle 17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825D-8219-44C9-9D7B-6D1856C33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23" name="Oval 6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4" name="AutoShape 7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34" name="Rectangle 19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EF7-1541-40AE-BAF5-9CCC790B58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1679-0D12-4A2C-A475-6C9A68EB3F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46" name="Oval 7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9" name="AutoShape 10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7" name="Rectangle 18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9A0F-990F-474F-9A00-21DF60BF21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7CE-6EBA-4BAD-B077-A2FFA5F393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C12-107F-40EC-A758-61A34DB40B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CFC5-8D52-45D5-A7A7-CC3671BAA5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FC28-398D-4913-9FB0-8B42F260FB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5EF5-D12A-44E4-B105-12D0DA803D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681-1876-4328-A4C7-CCB0511431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502-39A7-429A-AC23-130BABBECF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0BD1-F294-4EB7-BBCA-DA0B40E3A2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FAE5-BBE3-4F09-AF4E-85B569F5E9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EB2-DAC7-4415-AEBD-09FD854A5C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FE5-5DD1-45BB-96EA-D315158DEC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F39-6044-4AED-9791-D46D26B026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479F-310E-48FB-B715-DA8C5ED3C2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718-7D7C-414F-AC0C-8C8EAD281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82D8-091D-4292-A630-9DE2B5039D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2C8-0685-4E16-9E5D-3EEEE5EF21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⇒ Faster (y, z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⇒Slug(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44B-B1F8-40C1-BE36-D65B7BF582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F83D-FBC7-45BD-817F-A530D8A69B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" name="Line 11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" name="Line 20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" name="Line 22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4449-F14D-4645-96CB-DFBF8A7765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816-86DD-4E52-8361-920D9B6F95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ACC-E912-41F4-858A-E8E022DC5B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8EE-68BA-4347-9A4C-1D5DAE7291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7B2-F3A1-41BF-9076-06ACC216A9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" name="Line 19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" name="Line 20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B82-EA02-434D-A1E6-29B5F5BEFB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385-B2C8-425B-A560-6F888F8FD6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D06-EE25-47ED-B52D-208D6E1726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F98-348D-4CDB-A72B-47B7A81C2B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4E1A-0510-4325-86B2-B34698B3E0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C3F-63BE-49B8-B99E-D9C679E556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5677-24C6-4CF4-ACE0-4EDEB6B3B7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Dean Ship</cp:lastModifiedBy>
  <dcterms:modified xsi:type="dcterms:W3CDTF">2012-02-12T05:32:48Z</dcterms:modified>
  <cp:revision>170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