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41EB-DC2B-4881-A207-D0CD4BC3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384-1C23-453A-859E-1153BC56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7C1-CFC9-4B15-948F-9B715BD9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299-BF04-4723-89D0-4BC0ACF0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547-8F8F-4E3C-9909-90046FCF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BE5-BBC5-4BEA-8F93-3A36B4EB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E72-D6FE-40B1-AC73-217B0BF0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DED-0A53-4989-BDC8-B36A748A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085-AB14-441C-93F8-244A5AA5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F01-2AA0-4690-AEA9-6A68CF6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586-F354-4DED-96BD-1F80190D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735-87B0-4799-B7AE-6677B2DB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7429-4E95-4700-AE27-2661107F9D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A660-D40C-4536-A991-7CA196E5DD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Order Log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2BF0-A5EF-4EFA-83CF-DEF1769032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tion (Predicate)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predicate symbol is used to represent a relation in a universe of dis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en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lation(Term1, Term2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either TRUE or FALSE depending on whether Relation holds of Term1, Term2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 write “Malek wrote Muata” in a universe of discourse of names and written w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rote(Malek, Mu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sentence is true in the intended interpre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othe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structor (CAP492, Sou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C2E6-400A-4F96-8E04-A7C452E976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Function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 talk about the binary relation of pairs of  obj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or example, the Father relation might represent all  pairs of persons in father-daughter or father-son relationshi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Ali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x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variabl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4438-5AFE-40E1-A2A9-EA87A8AEB4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properties of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not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re is a person who loves everyone in the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one in the world is loved by at least one 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Quantifier duality: each can be expressed using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IceCream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IceCr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Broccoli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Brocco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FEF0-9168-42FF-94BE-F7245E0B25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Atom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Atomic sentenc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predicate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Term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ample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Brother(Ali , Moham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Greater(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, 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E8C5-16C7-436B-A639-527B11F58C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Complex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Complex sentences are made from atomic sentences using connectives and by applying quantif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Garamond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Ali,Mohamed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Mohamed,A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ater(1,2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less-or-equal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x,y Sibling(x,y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ibling(y,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BA73-D73F-43E2-B82A-928A88D9FC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While constant symbols, variables and connectives  are like propositional logic, “What are functions and predicat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language of logic is based on set the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t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lation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87E9-544F-4FD9-88E8-B05C4BCF5D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SETS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set of objects defines a “Universe of Discourse.” [Objects are represented by Constant Symbols.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539640" y="2852640"/>
            <a:ext cx="4114440" cy="2285640"/>
            <a:chOff x="539640" y="2852640"/>
            <a:chExt cx="4114440" cy="2285640"/>
          </a:xfrm>
        </p:grpSpPr>
        <p:sp>
          <p:nvSpPr>
            <p:cNvPr id="105" name="Oval 6"/>
            <p:cNvSpPr/>
            <p:nvPr/>
          </p:nvSpPr>
          <p:spPr>
            <a:xfrm>
              <a:off x="539640" y="36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6" name="AutoShape 7"/>
            <p:cNvSpPr/>
            <p:nvPr/>
          </p:nvSpPr>
          <p:spPr>
            <a:xfrm>
              <a:off x="131580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7" name="AutoShape 8"/>
            <p:cNvSpPr/>
            <p:nvPr/>
          </p:nvSpPr>
          <p:spPr>
            <a:xfrm>
              <a:off x="131580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8" name="AutoShape 9"/>
            <p:cNvSpPr/>
            <p:nvPr/>
          </p:nvSpPr>
          <p:spPr>
            <a:xfrm>
              <a:off x="1315800" y="28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09" name="AutoShape 10"/>
            <p:cNvSpPr/>
            <p:nvPr/>
          </p:nvSpPr>
          <p:spPr>
            <a:xfrm>
              <a:off x="317916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317916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1320120" y="30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1397520" y="36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1391760" y="40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3183480" y="35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3183480" y="40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16" name="Rectangle 17"/>
          <p:cNvSpPr/>
          <p:nvPr/>
        </p:nvSpPr>
        <p:spPr>
          <a:xfrm>
            <a:off x="5796000" y="270828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nterpretation: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-920160" y="5516640"/>
            <a:ext cx="10705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in this blocks world, the universe of discourse is {a,b,c,d,e}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A468-41F0-42AA-A361-886E47CF94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RELA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: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 set of ordered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ample:  Consider set of blocks {a,b,c,d,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3492360" y="2349360"/>
            <a:ext cx="4114440" cy="2285640"/>
            <a:chOff x="3492360" y="2349360"/>
            <a:chExt cx="4114440" cy="2285640"/>
          </a:xfrm>
        </p:grpSpPr>
        <p:sp>
          <p:nvSpPr>
            <p:cNvPr id="123" name="Oval 6"/>
            <p:cNvSpPr/>
            <p:nvPr/>
          </p:nvSpPr>
          <p:spPr>
            <a:xfrm>
              <a:off x="3492360" y="316584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4" name="AutoShape 7"/>
            <p:cNvSpPr/>
            <p:nvPr/>
          </p:nvSpPr>
          <p:spPr>
            <a:xfrm>
              <a:off x="426852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5" name="AutoShape 8"/>
            <p:cNvSpPr/>
            <p:nvPr/>
          </p:nvSpPr>
          <p:spPr>
            <a:xfrm>
              <a:off x="426852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>
              <a:off x="4268520" y="23493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7" name="AutoShape 10"/>
            <p:cNvSpPr/>
            <p:nvPr/>
          </p:nvSpPr>
          <p:spPr>
            <a:xfrm>
              <a:off x="613188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8" name="AutoShape 11"/>
            <p:cNvSpPr/>
            <p:nvPr/>
          </p:nvSpPr>
          <p:spPr>
            <a:xfrm>
              <a:off x="613188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29" name="Text Box 12"/>
            <p:cNvSpPr/>
            <p:nvPr/>
          </p:nvSpPr>
          <p:spPr>
            <a:xfrm>
              <a:off x="4272840" y="2527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0" name="Text Box 13"/>
            <p:cNvSpPr/>
            <p:nvPr/>
          </p:nvSpPr>
          <p:spPr>
            <a:xfrm>
              <a:off x="4350240" y="3116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1" name="Text Box 14"/>
            <p:cNvSpPr/>
            <p:nvPr/>
          </p:nvSpPr>
          <p:spPr>
            <a:xfrm>
              <a:off x="4344480" y="35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2" name="Text Box 15"/>
            <p:cNvSpPr/>
            <p:nvPr/>
          </p:nvSpPr>
          <p:spPr>
            <a:xfrm>
              <a:off x="6136200" y="308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33" name="Text Box 16"/>
            <p:cNvSpPr/>
            <p:nvPr/>
          </p:nvSpPr>
          <p:spPr>
            <a:xfrm>
              <a:off x="6136200" y="3573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34" name="Rectangle 19"/>
          <p:cNvSpPr/>
          <p:nvPr/>
        </p:nvSpPr>
        <p:spPr>
          <a:xfrm>
            <a:off x="468360" y="4581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on” relation: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= {&lt;a,b&gt;, &lt;b,c&gt;, &lt;d,e&gt;}.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dicate On(A,B) can be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interpr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: &lt;a,b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.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(A,B) is TRUE, but  On(A,C) and On(C,D) are FALSE in this interpretation.</a:t>
            </a: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9A73-A500-4532-86D6-A1BDC5D45D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function is a binary relation such that no two distinct members have the same first element.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other words, if F is a function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and   &lt;x,z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y=z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 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 :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x is an argument of F ;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value of F at x ;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image of x  under F.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(x) designates the object y such that y=F(X).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F169-B333-4B1E-AF8A-252EF006BA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924360" y="522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grpSp>
        <p:nvGrpSpPr>
          <p:cNvPr id="145" name="Group 6"/>
          <p:cNvGrpSpPr/>
          <p:nvPr/>
        </p:nvGrpSpPr>
        <p:grpSpPr>
          <a:xfrm>
            <a:off x="4284720" y="1052640"/>
            <a:ext cx="4114440" cy="2285640"/>
            <a:chOff x="4284720" y="1052640"/>
            <a:chExt cx="4114440" cy="2285640"/>
          </a:xfrm>
        </p:grpSpPr>
        <p:sp>
          <p:nvSpPr>
            <p:cNvPr id="146" name="Oval 7"/>
            <p:cNvSpPr/>
            <p:nvPr/>
          </p:nvSpPr>
          <p:spPr>
            <a:xfrm>
              <a:off x="4284720" y="18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>
              <a:off x="506088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8" name="AutoShape 9"/>
            <p:cNvSpPr/>
            <p:nvPr/>
          </p:nvSpPr>
          <p:spPr>
            <a:xfrm>
              <a:off x="506088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49" name="AutoShape 10"/>
            <p:cNvSpPr/>
            <p:nvPr/>
          </p:nvSpPr>
          <p:spPr>
            <a:xfrm>
              <a:off x="5060880" y="10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692424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692424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5065200" y="12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5142600" y="18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5136840" y="22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6928560" y="17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  <p:sp>
          <p:nvSpPr>
            <p:cNvPr id="156" name="Text Box 17"/>
            <p:cNvSpPr/>
            <p:nvPr/>
          </p:nvSpPr>
          <p:spPr>
            <a:xfrm>
              <a:off x="6928560" y="22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Garamond"/>
              </a:endParaRPr>
            </a:p>
          </p:txBody>
        </p:sp>
      </p:grpSp>
      <p:sp>
        <p:nvSpPr>
          <p:cNvPr id="157" name="Rectangle 18"/>
          <p:cNvSpPr/>
          <p:nvPr/>
        </p:nvSpPr>
        <p:spPr>
          <a:xfrm>
            <a:off x="0" y="1628640"/>
            <a:ext cx="50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t = {&lt;c,b&gt;, &lt;b,a&gt;,&lt;e,d&gt;}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 (c) = b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b) = a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d) is not defined.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t(E) can be interpreted as 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324000" y="4365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250920" y="4076640"/>
            <a:ext cx="82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Garamond"/>
              </a:rPr>
              <a:t>Using FO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B)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B,C)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D,E)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Hat(C))</a:t>
            </a:r>
            <a:endParaRPr b="0" lang="en-US" sz="28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4C99-BA1F-40B6-A193-F0E95640CD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compositional:  meaning of B1,1 ∧ P1,2 is derived from meaning of B1,1 and of P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eaning in propositional logic is context-independent unlike natural language, where meaning depends 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has limited expressive power unlike natu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cannot say "pits cause breezes in adjacent squar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except by writing one sentence for each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FC4B-7BB0-4FEC-971F-52D405F900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yntax of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Atomic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 connective 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Quantifier variable,…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¬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Atomic Sentence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=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nectiv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⇔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∧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∨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Quantifi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nstant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x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Befor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hascolo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Moth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Leftleg |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95280" y="6237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AFD8-6633-47AD-B10D-DD523672F9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in FOL can be perform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ducing first-order inference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eneralized Modus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ack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1247-BF12-40A2-AED1-F187A0AEB3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FOL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irst order inference can be done by converting the knowledge base to PL and using propositional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wo 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univers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Replace variable by groun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existenti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Skolemization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8283-84D0-48FB-9D4D-D5E5A9C779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iven a sentenc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binding li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result of applying the </a:t>
            </a: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t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is denoted by Subs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{x/Ali, y/Fatima}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bst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{x/Sam, y/Pam}, Likes(x,y)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Ali, fat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FB4A-9FB7-4E95-8E12-71F329750D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Universal instantiation (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 instantiation of a universally qua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entence is entailed by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v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ubst({v/g}, 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variable v and ground term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e.g., ∀x King(x) ∧ Greedy(x) ⇒ Evil(x) y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John) ∧ Greedy(John) ⇒ Evil(Joh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Richard) ∧ Greedy(Richard) ⇒ Evil(Rich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Father(John)) ∧ Greedy(Father(John)) ⇒ Evil(Father(Joh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3276720" y="371628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35F2-EC71-478C-9005-C160E128BB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Existential instantiation (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sentence α, variable v, and constant symbol k that does not appear elsewhere in the knowledge b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∃</a:t>
            </a:r>
            <a:r>
              <a:rPr b="0" i="1" lang="fr-FR" sz="28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bst({v/k}, 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∃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 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vide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s a new constant symbol, called a Skole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34800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203640" y="3860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54C4-900E-49E9-9244-0EE99F0581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</a:rPr>
              <a:t>Reduction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ppose the KB contains just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reedy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rother(Richard,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Instantiating the universal sentence in all possible ways,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Joh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Richard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Richard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il(Rich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 new KB is proposition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EC27-BB60-4A2F-8210-434C75841B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Reduction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A ground sentence is entailed by a new KB i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ntailed by the original K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ery FOL KB can be propositionalized so a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eserve entai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IDE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propositionalize KB and query, apply resolution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tur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PROBLE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with function symbols, there are infinitely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round terms, e.g.,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195E-C2EB-454F-88F5-E33BAB08D3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nstead of translating the knowledge base to PL, we can make the inference rules work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or example,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y 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t is intuitively clear that we can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and obtain that Evil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F5AC-7013-46EA-ACDB-5589681B17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e can make the inference if we can find a substitution such that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atch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y(α ,β) = θ if Subst(θ, α) = Subst(θ, 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α                      β                           Su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John,Jane)                              {x/Ja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y,OJ)                                    {x/OJ,y/Joh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Knows(y,Mother(y))                   {y/John,x/Mother(John)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Knows(x,OJ)                                        {fai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2411280" y="4508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5364000" y="4437000"/>
            <a:ext cx="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DD14-547C-4334-B596-23077F942E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propositional logic (PL) to First order logic (F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things we can s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n are mor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Man(x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t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body loves some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oves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ing of the word “ab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bove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n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(on(x,z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(z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F536-88EC-4C33-8BC8-9FC46CF3BE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Generalized Modus Ponens (G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ppose that 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’) =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) for all i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1', p2', … , pn',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p1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2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q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q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1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p1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2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  p2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θ is {x/John,y/John}      q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, q)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ll variables assumed universally qua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1908000" y="270828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11E1-1F1D-4C55-A0EE-89C158984E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ll first-order 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ubst(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here θ =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ify(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¬m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,   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ith θ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= {x/Ke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pply resolution steps to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NF(KB 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¬α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; complete for 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125892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1187280" y="270828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1908000" y="4365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2B0A-2AAD-4A54-AABA-EBD4BA94D7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n a new fact P is added to the K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each rule such that P unifies with a pre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f the other premise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n add the conclusion to the KB and continue ch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ward chaining is </a:t>
            </a: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data-driven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inferring properties and categories from per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9948-C717-4769-B2BF-5E7E437893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</a:t>
            </a: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Forward chaining examp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y, 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x, 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y, 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Bob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w facts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Bob,Pat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Pat, 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 (Bob, Ste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312360" y="58053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Buffalo(Bob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594400" y="580536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Pig (Pat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29" name="Line 8"/>
          <p:cNvSpPr/>
          <p:nvPr/>
        </p:nvSpPr>
        <p:spPr>
          <a:xfrm flipV="1">
            <a:off x="4211640" y="4652640"/>
            <a:ext cx="1008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219640" y="4653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5643720" y="4797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y/Pat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3635280" y="486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{x/Bob}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3997800" y="422100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 (Bob,Pat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7049520" y="580536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Slug(Steve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5" name="Line 14"/>
          <p:cNvSpPr/>
          <p:nvPr/>
        </p:nvSpPr>
        <p:spPr>
          <a:xfrm flipV="1">
            <a:off x="6156360" y="472428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7451640" y="4724280"/>
            <a:ext cx="576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6259680" y="414972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Pat,Steve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6156360" y="2852640"/>
            <a:ext cx="100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5042880" y="2276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Bob,Steve)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7822440" y="4960800"/>
            <a:ext cx="12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z/Steve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}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1" name="Line 21"/>
          <p:cNvSpPr/>
          <p:nvPr/>
        </p:nvSpPr>
        <p:spPr>
          <a:xfrm flipH="1">
            <a:off x="5292360" y="285264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3821400" y="35002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{x/Bob, y/Pat}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6890760" y="3500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{y/Pat, z/Steve}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BEE1-F3D9-4D25-B5D5-FF8EFED700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ckward chaining starts with a hypothesis and work backwards , according to the rules in the knowledge base until reaching confirmed findings or f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468360" y="2637000"/>
            <a:ext cx="417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y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z) ⇒ Faster (y, z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a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reeps(a) ⇒Slug(a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Steve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eps(Steve)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4537080" cy="347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3219-E7D2-402C-A853-5CAAB94D48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semantic network consists of entities and relations between the ent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enerally it is represented as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926640" y="4076640"/>
            <a:ext cx="72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 bird is a kind of anima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Flying is the normal moving method of bird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n albatross is a bird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lbert is an albatross, and so is Ross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3260-0DAC-491E-8D02-34E48709FF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4601160" y="306864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ird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889280" y="3141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daylight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987240" y="2997360"/>
            <a:ext cx="5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fly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489560" y="1916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nimal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5364000" y="3284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4" name="Line 11"/>
          <p:cNvSpPr/>
          <p:nvPr/>
        </p:nvSpPr>
        <p:spPr>
          <a:xfrm flipH="1">
            <a:off x="313164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5003640" y="2276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276280" y="458964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lbatros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7" name="Line 15"/>
          <p:cNvSpPr/>
          <p:nvPr/>
        </p:nvSpPr>
        <p:spPr>
          <a:xfrm flipV="1">
            <a:off x="2987640" y="3428640"/>
            <a:ext cx="2016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69240" y="58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lack and white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69" name="Line 17"/>
          <p:cNvSpPr/>
          <p:nvPr/>
        </p:nvSpPr>
        <p:spPr>
          <a:xfrm flipH="1">
            <a:off x="1834920" y="5084640"/>
            <a:ext cx="718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2833560" y="6093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lbert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4399560" y="580536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Ross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2" name="Line 20"/>
          <p:cNvSpPr/>
          <p:nvPr/>
        </p:nvSpPr>
        <p:spPr>
          <a:xfrm flipH="1" flipV="1">
            <a:off x="2843280" y="5013000"/>
            <a:ext cx="433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451476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4" name="Line 22"/>
          <p:cNvSpPr/>
          <p:nvPr/>
        </p:nvSpPr>
        <p:spPr>
          <a:xfrm flipH="1" flipV="1">
            <a:off x="3348000" y="5013000"/>
            <a:ext cx="11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5" name="Text Box 23"/>
          <p:cNvSpPr/>
          <p:nvPr/>
        </p:nvSpPr>
        <p:spPr>
          <a:xfrm>
            <a:off x="1397880" y="50133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colour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3172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4232880" y="5237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3101040" y="3716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5007960" y="2708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Moving-method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0" name="Text Box 29"/>
          <p:cNvSpPr/>
          <p:nvPr/>
        </p:nvSpPr>
        <p:spPr>
          <a:xfrm>
            <a:off x="3251520" y="2781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ctive-at</a:t>
            </a:r>
            <a:endParaRPr b="0" lang="en-US" sz="20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5A37-8EDB-4EAE-A7ED-E31BF3E288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2.   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frame is a data structure whose components are called s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lots have names and accomodate information of various k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rame: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_kind_of: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oving_method: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ctive_at:day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5831-FB57-4948-BD4E-269E52414F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Definition: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an ES is a program that behaves like an expert for some problem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Should be capable of explaining its decisions and the underlying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Often, it is expected to be able to deal with uncertain and incomplet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Application domains: Medical diagnosis (MYCIN), locating equipment failur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C5FE-E46F-44BD-BECE-9B7208EBCB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are designed to lve problems that require expert knowledge in a particular domain </a:t>
            </a:r>
            <a:r>
              <a:rPr b="1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possessing knowledge in some f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S are known as knowledge bas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have to have a friendly user interaction capability that will make the system’s reasoning transparent to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7A1F-E392-4583-B23B-CE4174393A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hereas propositional logic assumes the world contains facts, first-order logic (like natural language) assumes the world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Objects: people, houses, numbers, colo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lations: red, round, prime, brother of, bigger than, part of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nctions: Sqrt, Plu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expre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the Wumpus are smel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a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17A5-9334-41AA-810A-95CA6A6929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structure of an ES includes three main modu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n inferenc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324000" y="4292640"/>
            <a:ext cx="165708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Knowledge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bas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19640" y="4292640"/>
            <a:ext cx="1584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Inference 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engin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6372360" y="4149720"/>
            <a:ext cx="1871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User interface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0" name="Line 12"/>
          <p:cNvSpPr/>
          <p:nvPr/>
        </p:nvSpPr>
        <p:spPr>
          <a:xfrm>
            <a:off x="2050920" y="4869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5148360" y="47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8317080" y="472428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8398440" y="4221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user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334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3348000" y="587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6" name="Line 19"/>
          <p:cNvSpPr/>
          <p:nvPr/>
        </p:nvSpPr>
        <p:spPr>
          <a:xfrm flipV="1">
            <a:off x="8388360" y="3789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7" name="Line 20"/>
          <p:cNvSpPr/>
          <p:nvPr/>
        </p:nvSpPr>
        <p:spPr>
          <a:xfrm flipH="1">
            <a:off x="3276360" y="378936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5347080" y="533556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Shell</a:t>
            </a: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610D-2BF3-47B2-AA59-895AB4DE1F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knowledge base comprises the knowledge that is specific to the domain of application: simple facts, rules, constraints and possibly also methods, heuristics and ideas for solving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engine: designed to use actively the knowledge in the base deriving new knoweldge to help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r interface: caters for smooth communication between the user and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0F54-3624-4217-8ED1-5BC81BDADD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990000"/>
                </a:solidFill>
                <a:uFillTx/>
                <a:latin typeface="Garamond"/>
                <a:ea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FOL extends PL by adding new concepts such as sets, relations and functions and new primitives such as variables, equality and quantif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re exist sevaral alternatives to perform inference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 is not the only one alternative to represent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algorithms depend on the way knowledge is re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Development of expert systems relies heavily on knoweldge representation and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5DB8-5DE2-4763-936D-3CAEF6E91B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ser defin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Constant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i.e., the "individuals" in the world) e.g., Mary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Func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individuals to individuals) e.g., father-of(Mary) = John, colorof(Sky) =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Predicate/rela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from individuals to truth values) e.g., greater(5,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en(apple), color(apple,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A527-66E9-4C7F-96D1-949FE3176A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OL suppli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Variable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. e.g., x,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nectives.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Same as in PL: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,∧,∨, 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Equality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 legitimate expression of predicate calculus is called a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well-formed formula (wff) o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, simply,</a:t>
            </a:r>
            <a:r>
              <a:rPr b="1" lang="en-US" sz="4400" spc="-1" strike="noStrike">
                <a:solidFill>
                  <a:srgbClr val="bbe0e3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a sent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4752-8E67-4628-9309-C5B9E1CCC1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Allow us to express properties of collections of objects instead of enumerating objects b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niversal: “for all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∀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istential: “there exist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∃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B073-3065-40F3-A30D-DBD25FC710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onstan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 symbol, e.g. Wumpus, A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ch constant symbol names exactly one object in a </a:t>
            </a:r>
            <a:r>
              <a:rPr b="1" lang="en-US" sz="3600" spc="-1" strike="noStrike">
                <a:solidFill>
                  <a:srgbClr val="990000"/>
                </a:solidFill>
                <a:latin typeface="Garamond"/>
              </a:rPr>
              <a:t>universe of discourse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b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t all objects have symbol na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objects have several symbol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sually denoted with upper-case first l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3369-0873-4200-A9A0-A0C2969C40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ed to represent objects or properties of objects without explicitly naming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ually lower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Dean Ship</cp:lastModifiedBy>
  <dcterms:modified xsi:type="dcterms:W3CDTF">2012-02-12T05:32:48Z</dcterms:modified>
  <cp:revision>170</cp:revision>
  <dc:subject/>
  <dc:title>Game Playing: Adversarial Search  chapter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