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2A8D-3D38-4AB2-A7A7-48AD897AF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EB39-F9D3-4AA3-9595-E5C514A1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0131-8BDA-48B8-9C0D-04F7BE5E7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E9D2-9AA3-4A05-9925-D3463EE95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81B5-1FAB-4016-A770-73EEB72D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A11D-C239-43A8-B943-DD58340D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4A16-6761-4C3F-B681-3B82FE72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C2A1-C15B-4AF4-A9C1-9CA0C756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C0A0-CC99-49EE-A835-5EA30CD2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C4D6-AFE8-4025-B624-DCAF3704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DD29-2F4F-4433-91AD-CBB8D074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9B14-DFEB-42DC-995B-D18D1D51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EB23-AB70-4F97-AEE0-5B3C89A072F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6600"/>
                </a:solidFill>
                <a:latin typeface="Arial"/>
                <a:cs typeface="DecoType Thuluth"/>
              </a:rPr>
              <a:t>بسم الله الرحمن الرحي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((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وقل رب زدني علما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80880" y="228600"/>
            <a:ext cx="853452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ACS : Bowel Ede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304920" y="1752480"/>
            <a:ext cx="7467480" cy="47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dothelial Permeabilit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illary Hydrostatic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sma Oncotic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capillary Fluid Fl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enteric Lymphatic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ck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"/>
          <p:cNvSpPr/>
          <p:nvPr/>
        </p:nvSpPr>
        <p:spPr>
          <a:xfrm flipV="1">
            <a:off x="838080" y="1676160"/>
            <a:ext cx="0" cy="5331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5"/>
          <p:cNvSpPr/>
          <p:nvPr/>
        </p:nvSpPr>
        <p:spPr>
          <a:xfrm flipV="1">
            <a:off x="838080" y="236232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 flipV="1">
            <a:off x="838080" y="3657600"/>
            <a:ext cx="0" cy="5335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 flipV="1">
            <a:off x="914400" y="4876560"/>
            <a:ext cx="0" cy="5331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>
            <a:off x="838080" y="304812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Object 9"/>
          <p:cNvGraphicFramePr/>
          <p:nvPr/>
        </p:nvGraphicFramePr>
        <p:xfrm>
          <a:off x="6095880" y="3048120"/>
          <a:ext cx="2286000" cy="174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3048120"/>
                    <a:ext cx="2286000" cy="17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bdominal Compartment Syndr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-219240" y="-1214280"/>
            <a:ext cx="14078160" cy="8072280"/>
          </a:xfrm>
          <a:prstGeom prst="rect">
            <a:avLst/>
          </a:prstGeom>
          <a:ln w="0">
            <a:noFill/>
          </a:ln>
        </p:spPr>
      </p:pic>
      <p:sp>
        <p:nvSpPr>
          <p:cNvPr id="79" name="مستطيل 7"/>
          <p:cNvSpPr/>
          <p:nvPr/>
        </p:nvSpPr>
        <p:spPr>
          <a:xfrm>
            <a:off x="-214200" y="5572080"/>
            <a:ext cx="13716000" cy="128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مستطيل 8"/>
          <p:cNvSpPr/>
          <p:nvPr/>
        </p:nvSpPr>
        <p:spPr>
          <a:xfrm>
            <a:off x="-142920" y="-428760"/>
            <a:ext cx="13716000" cy="128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مستطيل 9"/>
          <p:cNvSpPr/>
          <p:nvPr/>
        </p:nvSpPr>
        <p:spPr>
          <a:xfrm>
            <a:off x="8429760" y="-357120"/>
            <a:ext cx="5143320" cy="700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مستطيل 10"/>
          <p:cNvSpPr/>
          <p:nvPr/>
        </p:nvSpPr>
        <p:spPr>
          <a:xfrm>
            <a:off x="-2286000" y="-357120"/>
            <a:ext cx="3571920" cy="700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c422"/>
                </a:solidFill>
                <a:latin typeface="Arial"/>
              </a:rPr>
              <a:t>Postinjury Damage Control : </a:t>
            </a:r>
            <a:br>
              <a:rPr sz="4000"/>
            </a:br>
            <a:r>
              <a:rPr b="1" lang="en-US" sz="4000" spc="-1" strike="noStrike">
                <a:solidFill>
                  <a:srgbClr val="e4c422"/>
                </a:solidFill>
                <a:latin typeface="Arial"/>
              </a:rPr>
              <a:t>ACS       M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2743200"/>
            <a:ext cx="746784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Book Antiqua"/>
              </a:rPr>
              <a:t>       </a:t>
            </a:r>
            <a:r>
              <a:rPr b="1" lang="en-US" sz="28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        </a:t>
            </a:r>
            <a:r>
              <a:rPr b="1" lang="en-US" sz="28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MOF              MORTALITY</a:t>
            </a:r>
            <a:r>
              <a:rPr b="1" lang="en-US" sz="2800" spc="-1" strike="noStrike">
                <a:solidFill>
                  <a:srgbClr val="333399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Raeburn et 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Am J Surg 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908000" y="3429000"/>
          <a:ext cx="6051600" cy="1676520"/>
        </p:xfrm>
        <a:graphic>
          <a:graphicData uri="http://schemas.openxmlformats.org/drawingml/2006/table">
            <a:tbl>
              <a:tblPr/>
              <a:tblGrid>
                <a:gridCol w="1619280"/>
                <a:gridCol w="2216160"/>
                <a:gridCol w="221616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4acf2f"/>
                          </a:solidFill>
                          <a:latin typeface="Arial"/>
                        </a:rPr>
                        <a:t>ACS</a:t>
                      </a:r>
                      <a:r>
                        <a:rPr b="1" lang="en-US" sz="3200" spc="-1" strike="noStrike">
                          <a:solidFill>
                            <a:srgbClr val="4acf2f"/>
                          </a:solidFill>
                          <a:latin typeface="Arial"/>
                        </a:rPr>
                        <a:t> +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4acf2f"/>
                          </a:solidFill>
                          <a:latin typeface="Arial"/>
                        </a:rPr>
                        <a:t>32</a:t>
                      </a:r>
                      <a:r>
                        <a:rPr b="1" lang="en-US" sz="3200" spc="-1" strike="noStrike">
                          <a:solidFill>
                            <a:srgbClr val="4acf2f"/>
                          </a:solidFill>
                          <a:latin typeface="Arial"/>
                        </a:rPr>
                        <a:t> 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4acf2f"/>
                          </a:solidFill>
                          <a:latin typeface="Arial"/>
                        </a:rPr>
                        <a:t>43</a:t>
                      </a:r>
                      <a:r>
                        <a:rPr b="1" lang="en-US" sz="3200" spc="-1" strike="noStrike">
                          <a:solidFill>
                            <a:srgbClr val="4acf2f"/>
                          </a:solidFill>
                          <a:latin typeface="Arial"/>
                        </a:rPr>
                        <a:t> 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CS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Line 18"/>
          <p:cNvSpPr/>
          <p:nvPr/>
        </p:nvSpPr>
        <p:spPr>
          <a:xfrm>
            <a:off x="4114800" y="1219320"/>
            <a:ext cx="762120" cy="0"/>
          </a:xfrm>
          <a:prstGeom prst="line">
            <a:avLst/>
          </a:prstGeom>
          <a:ln w="28440">
            <a:solidFill>
              <a:srgbClr val="e4c42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bdominal Compartment Syndr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99"/>
                </a:solidFill>
                <a:uFillTx/>
                <a:latin typeface="Broadway"/>
              </a:rPr>
              <a:t>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Relase of abdominal fascia &amp; keep it open</a:t>
            </a: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Temporary abd closure techniques</a:t>
            </a: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( </a:t>
            </a: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vaccum assisted or vaccum pack</a:t>
            </a: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If untreated , multiple system end-organ dysfunction or failure &amp; high mortality</a:t>
            </a: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bdominal Compartment Syndr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2124000" y="1413000"/>
            <a:ext cx="5256360" cy="50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bdominal Compartment Syndr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0 – 15 mmH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intain normovol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– 25 mmHg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pervolemic resusc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III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26 – 35 mmHg       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De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V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&gt;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5 mmHg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compression &amp;r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pl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4c422"/>
                </a:solidFill>
                <a:latin typeface="Arial"/>
              </a:rPr>
              <a:t>Summ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28600" y="1905120"/>
            <a:ext cx="8763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18288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Arial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Primary  vs.  Secondary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4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40000"/>
              </a:lnSpc>
              <a:spcBef>
                <a:spcPts val="1749"/>
              </a:spcBef>
              <a:buClr>
                <a:srgbClr val="66ff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  <a:ea typeface="Arial"/>
              </a:rPr>
              <a:t>Sx    :    Pulmonary and Re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40000"/>
              </a:lnSpc>
              <a:spcBef>
                <a:spcPts val="1749"/>
              </a:spcBef>
              <a:buClr>
                <a:srgbClr val="333399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40000"/>
              </a:lnSpc>
              <a:spcBef>
                <a:spcPts val="1749"/>
              </a:spcBef>
              <a:buClr>
                <a:srgbClr val="66ff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Dx    :    Bladder Pressure Moni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40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40000"/>
              </a:lnSpc>
              <a:spcBef>
                <a:spcPts val="1749"/>
              </a:spcBef>
              <a:buClr>
                <a:srgbClr val="66ff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Rx    :    Prompt Decom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40000"/>
              </a:lnSpc>
              <a:spcBef>
                <a:spcPts val="1749"/>
              </a:spcBef>
              <a:buClr>
                <a:srgbClr val="cc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40000"/>
              </a:lnSpc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evention  :   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57240" y="0"/>
            <a:ext cx="90867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1828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20070308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bdominal Compartment Syndr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Saad AL-Qahta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artment of Surg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ge of medicine, King Saud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bdominal Compartment Syndr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n IAP &gt; 20 mmHg this is c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tra-abdominal hypertens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t if IAP &gt;25-30 with at least one of the followings : compromised respiratory mechanisms &amp; ventilation, oliguria or anuria or increase in ICP ,this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bdominal Compartment Syndrom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bdominal Compartment Syndr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rm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AP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&lt;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10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rade: I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0 – 15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6 – 25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III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26 – 35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V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&gt;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5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bdominal Compartment Syndr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it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Surg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1-Tra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-post liver transpla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3-tight surgical closures or burn sc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4-others ; ruptured AAA, pancreatic &amp;intestinal  injury will increase risk of development of IAH &amp;A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Non-surg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bowel obstruction ,pancreatitis , mass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scites, peritonitis ,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bdominal Compartment Syndr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gressive abd diste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ased peak airway ventilato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liguria &amp;anu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racranial hyper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4"/>
          <p:cNvSpPr/>
          <p:nvPr/>
        </p:nvSpPr>
        <p:spPr>
          <a:xfrm>
            <a:off x="4211640" y="1916280"/>
            <a:ext cx="792000" cy="64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5"/>
          <p:cNvSpPr/>
          <p:nvPr/>
        </p:nvSpPr>
        <p:spPr>
          <a:xfrm>
            <a:off x="4356000" y="3213000"/>
            <a:ext cx="50328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4356000" y="4510080"/>
            <a:ext cx="50328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bdominal Compartment Syndr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9900"/>
                </a:solidFill>
                <a:uFillTx/>
                <a:latin typeface="Arial"/>
              </a:rPr>
              <a:t>CNS</a:t>
            </a: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99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ra thoracic pressure + central venous pressure           IC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elevated CVP &amp;ICP with hypotension            cerebral flow&amp;ischemi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9900"/>
                </a:solidFill>
                <a:uFillTx/>
                <a:latin typeface="Arial"/>
              </a:rPr>
              <a:t>CV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uction of CO ,Venous retu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povolem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 in PCWP , CV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V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4"/>
          <p:cNvSpPr/>
          <p:nvPr/>
        </p:nvSpPr>
        <p:spPr>
          <a:xfrm flipV="1">
            <a:off x="324000" y="177300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>
            <a:off x="6012000" y="1989000"/>
            <a:ext cx="360360" cy="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 flipV="1">
            <a:off x="6659640" y="177300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7"/>
          <p:cNvSpPr/>
          <p:nvPr/>
        </p:nvSpPr>
        <p:spPr>
          <a:xfrm>
            <a:off x="5075280" y="2276640"/>
            <a:ext cx="360360" cy="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8"/>
          <p:cNvSpPr/>
          <p:nvPr/>
        </p:nvSpPr>
        <p:spPr>
          <a:xfrm>
            <a:off x="5651640" y="213372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bdominal Compartment Syndr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Pulmo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 ITP, airway pressure, shunt frac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xia , hypercarb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ession of chest lead to : atelectasis, edema ,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Re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tion in UO, GF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….. Renal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bdominal Compartment Syndr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9900"/>
                </a:solidFill>
                <a:uFillTx/>
                <a:latin typeface="Arial"/>
              </a:rPr>
              <a:t>ABD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IAC &amp;SMA f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essionn of veins , venous HTN,  intestinal edema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. Hypoperfusion , bowel ischemia &amp; Lactic acido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4"/>
          <p:cNvSpPr/>
          <p:nvPr/>
        </p:nvSpPr>
        <p:spPr>
          <a:xfrm>
            <a:off x="468360" y="2708280"/>
            <a:ext cx="0" cy="433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10:45:07Z</dcterms:created>
  <dc:creator>USER</dc:creator>
  <dc:description/>
  <dc:language>en-US</dc:language>
  <cp:lastModifiedBy>Pc</cp:lastModifiedBy>
  <dcterms:modified xsi:type="dcterms:W3CDTF">2010-11-25T08:59:39Z</dcterms:modified>
  <cp:revision>15</cp:revision>
  <dc:subject/>
  <dc:title>Abdominal Compartment Syndrome</dc:title>
</cp:coreProperties>
</file>