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ABC-B12E-4C40-857D-1CAAB505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4DE-781D-409F-A114-6931A57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131-598E-4F99-B6D4-C622FFB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178-5C9E-40F7-8362-CB52BA9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9B50-0170-4D4B-9B1F-38EE8FF9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9B9-FDF0-4408-83D1-228DA9B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A61-AE1E-47E3-8F45-C63A895E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51F3-4FBA-42DB-8DAE-85320B8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786-F1F6-4A16-A445-CE4EF7A9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922-8402-451D-A7FD-47420020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85B1-4D50-4892-8C01-AEBF02D4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1C1-FDBA-43EE-A41E-B7F7C539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2C0F-F0EF-434A-8BCE-45C53DA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3FD-3AAF-4C52-8F4C-F8B3A6C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117-0A40-4C2F-A4A5-7DB14A1C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140-2B31-488A-9B1D-378713A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9C3D-4802-4359-BAA0-B3E0E3A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A85-5C22-49E2-935C-4046816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490-DB66-4BC1-9025-268D584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4C7-FDCD-415A-94C6-C0D5A3C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F10-09FE-4532-89D0-00ED52A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076-74D9-423A-8ACB-F2B9F48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B23-7497-4383-9DD5-E7126DF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FB3-809C-45E3-9FFD-7F7CCD9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F6E8-FE22-4797-8B18-C6B2A88A15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2296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8229600" cy="37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3E32-51A1-471B-B601-3CA05756CC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Prevention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ngineering could prevent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 were willing to learn and accept safe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rules could be established and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 from safety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or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/Bu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R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A fixed ratio between the number of employees in the workforce, and the amount that are killed or injured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st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The amount of time that an employee was unable to work due to an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 Injur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Ty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ex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276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Radiation/Cau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ing or Abr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Extreme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ustry Death R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ining or Quar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portation &amp; Public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s Injur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gs &amp;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rms &amp; Multiple 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Eyes, Head, &amp;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eck, Toes, and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Injur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 &amp; Alkalies, Soaps, Detergents &amp; Cleaning Compounds, an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, Molten Metals, Petroleum Asphalts, Steam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ve Strain and Soft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al Tunnel, Tendinit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ima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stimation method (Sim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os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ur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insur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lass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st Workdays with permanent Partial Disabilities, and Temporary total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atment By a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First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 Inj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ima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average uninsured costs then divide by the number of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8600" y="4191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uninsure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930240" y="466416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62320" y="47401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ac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88440" y="443556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average cost per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E’s of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0" y="266688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23200" y="312408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200400" y="365760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752480" y="472428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505320" y="4191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9051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Next Week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y to post to the discuss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fessional Associ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familiar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grated Approa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Hygiene Chemist and/or Engi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Control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Safety Engineer or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ciden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i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s of Accid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-relate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s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2651040"/>
            <a:ext cx="770256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tor Vehicl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72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plac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8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m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8.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2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ges Lo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7.7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cal Expen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3.7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urance Administr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8.4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erty Dam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6.8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e lo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 9.4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rect Losses for Work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2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al De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Vehicle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w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276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-related 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s vs. other Causes of Dea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, there are more deaths from:  heart disease, cancer and 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for those 37 and younger, accidents are the leading cause of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76520" y="4495680"/>
            <a:ext cx="5029200" cy="212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cident Causes for Ages 25 to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7,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c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,3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rt Dise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,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9:12:06Z</dcterms:created>
  <dc:creator>Ryan Schwiebert</dc:creator>
  <dc:description/>
  <dc:language>en-US</dc:language>
  <cp:lastModifiedBy>COMPUTER</cp:lastModifiedBy>
  <dcterms:modified xsi:type="dcterms:W3CDTF">2011-11-21T21:49:02Z</dcterms:modified>
  <cp:revision>52</cp:revision>
  <dc:subject/>
  <dc:title>Industrial Safety IT 335</dc:title>
</cp:coreProperties>
</file>