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1A0-5D7F-49EB-BD30-DF3F7BD2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494-572E-46C0-A88B-056179F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221-13D0-4932-94D1-6E19B16F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DF7-BF1C-426D-8E92-B2635C0E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4733-D3BC-40BF-8943-822E3714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A91-1939-49D9-A2EF-FF01554D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6A5B-C5FD-4220-B430-20768295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666-D13B-488D-9041-8EEB1AD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1A7D-4D9E-4A43-9381-67C73F3C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BAF4-904F-41E6-A8A0-8D9CD92C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B287-90CC-4D69-A397-0382D16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2F2-AF01-458B-98DD-81C9A3B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28A4-A924-4AC8-9AE0-CA5A122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4EE-505C-4A69-9216-2BDB749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9846-5DB9-4477-82DB-316234F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73F-F01B-4AC1-910B-7BDB52D4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236196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590720"/>
            <a:ext cx="263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41D-3F23-4F1A-936D-05AD6A1C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DDE-6633-46F7-AC57-C34CB892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582-6CDE-43F8-AB3A-33D987A6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FE5-8693-49A3-8EE5-136C81C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908-3936-4A7A-B88E-292A5EF5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E7E-62E9-4149-9D8D-6AFF7FD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59072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527-ABF2-4EAB-87E2-40BAE07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2361960"/>
            <a:ext cx="39909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590720"/>
            <a:ext cx="8178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32D-CA41-4E8B-9E7A-059D656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44C9-14FE-47A1-8A2B-8023217706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22960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8229600" cy="37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67D6-15E3-44DE-99B7-68CEA62826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Prevention Prog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ngineering could prevent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 were willing to learn and accept safe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rules could be established and en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 from safety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or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/Bu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R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A fixed ratio between the number of employees in the workforce, and the amount that are killed or injured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st Ti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The amount of time that an employee was unable to work due to an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 Injur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Ty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ex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276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Radiation/Cau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ing or Abr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ure to Extreme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ustry Death R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ining or Quar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portation &amp; Public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ts Injur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gs &amp;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rms &amp; Multiple Part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Eyes, Head, &amp;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eck, Toes, and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Injur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s &amp; Alkalies, Soaps, Detergents &amp; Cleaning Compounds, an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, Molten Metals, Petroleum Asphalts, Steam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ve Strain and Soft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al Tunnel, Tendinit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ima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stimation method (Sim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os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ur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insur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lass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st Workdays with permanent Partial Disabilities, and Temporary total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atment By a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First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 Inj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stima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average uninsured costs then divide by the number of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8600" y="4191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uninsure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930240" y="466416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62320" y="47401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acc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88440" y="443556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average cost per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E’s of Saf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0" y="266688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23200" y="312408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200400" y="365760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752480" y="4724280"/>
            <a:ext cx="2057400" cy="1676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505320" y="4191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9051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Next Week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y to post to the discuss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fessional Associ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familiar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grated Approa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Hygiene Chemist and/or Engi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Control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Safety Engineer or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ciden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i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s of Accid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-relate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s C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2651040"/>
            <a:ext cx="770256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tor Vehicl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72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plac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48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me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8.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2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ges Lo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37.7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cal Expen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3.7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urance Administr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8.4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erty Dam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6.8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e lo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 9.4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rect Losses for Work 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2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al Death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Vehicle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w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2760" y="2361960"/>
            <a:ext cx="401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-related 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idents vs. other Causes of Dea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, there are more deaths from:  heart disease, cancer and str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for those 37 and younger, accidents are the leading cause of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76520" y="4495680"/>
            <a:ext cx="5029200" cy="212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cident Causes for Ages 25 to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id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7,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c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,3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rt Dise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,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9:12:06Z</dcterms:created>
  <dc:creator>Ryan Schwiebert</dc:creator>
  <dc:description/>
  <dc:language>en-US</dc:language>
  <cp:lastModifiedBy>COMPUTER</cp:lastModifiedBy>
  <dcterms:modified xsi:type="dcterms:W3CDTF">2011-11-21T21:49:02Z</dcterms:modified>
  <cp:revision>52</cp:revision>
  <dc:subject/>
  <dc:title>Industrial Safety IT 335</dc:title>
</cp:coreProperties>
</file>